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wmf" ContentType="image/x-wmf"/>
  <Override PartName="/ppt/media/image5.jpeg" ContentType="image/jpeg"/>
  <Override PartName="/ppt/media/image18.wmf" ContentType="image/x-wmf"/>
  <Override PartName="/ppt/media/image4.png" ContentType="image/png"/>
  <Override PartName="/ppt/media/image23.png" ContentType="image/png"/>
  <Override PartName="/ppt/media/image22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316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508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8932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21440" y="106668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8932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321440" y="3773160"/>
            <a:ext cx="1839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85080" y="377316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85080" y="1066680"/>
            <a:ext cx="278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3160"/>
            <a:ext cx="5715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914400"/>
            <a:ext cx="861048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capa" descr=""/>
          <p:cNvPicPr/>
          <p:nvPr/>
        </p:nvPicPr>
        <p:blipFill>
          <a:blip r:embed="rId2"/>
          <a:stretch/>
        </p:blipFill>
        <p:spPr>
          <a:xfrm>
            <a:off x="7162920" y="6095880"/>
            <a:ext cx="1790640" cy="7621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8381880" y="347760"/>
            <a:ext cx="533520" cy="533160"/>
            <a:chOff x="8381880" y="347760"/>
            <a:chExt cx="533520" cy="533160"/>
          </a:xfrm>
        </p:grpSpPr>
        <p:sp>
          <p:nvSpPr>
            <p:cNvPr id="6" name=""/>
            <p:cNvSpPr/>
            <p:nvPr/>
          </p:nvSpPr>
          <p:spPr>
            <a:xfrm>
              <a:off x="8381880" y="34776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19120" y="429120"/>
              <a:ext cx="219600" cy="21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6.wmf"/><Relationship Id="rId4" Type="http://schemas.openxmlformats.org/officeDocument/2006/relationships/image" Target="../media/image1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capa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10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nto Base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068" name="altus04b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3124080" cy="4881600"/>
          </a:xfrm>
          <a:prstGeom prst="rect">
            <a:avLst/>
          </a:prstGeom>
          <a:ln w="0">
            <a:noFill/>
          </a:ln>
        </p:spPr>
      </p:pic>
      <p:grpSp>
        <p:nvGrpSpPr>
          <p:cNvPr id="2069" name=""/>
          <p:cNvGrpSpPr/>
          <p:nvPr/>
        </p:nvGrpSpPr>
        <p:grpSpPr>
          <a:xfrm>
            <a:off x="380880" y="2133720"/>
            <a:ext cx="6172200" cy="1523880"/>
            <a:chOff x="380880" y="2133720"/>
            <a:chExt cx="6172200" cy="1523880"/>
          </a:xfrm>
        </p:grpSpPr>
        <p:sp>
          <p:nvSpPr>
            <p:cNvPr id="2070" name=""/>
            <p:cNvSpPr/>
            <p:nvPr/>
          </p:nvSpPr>
          <p:spPr>
            <a:xfrm>
              <a:off x="380880" y="2133720"/>
              <a:ext cx="4953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Keyswitch with one code for each module typ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257800" y="2438280"/>
              <a:ext cx="129528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380880" y="990720"/>
            <a:ext cx="5943600" cy="1143000"/>
            <a:chOff x="380880" y="990720"/>
            <a:chExt cx="5943600" cy="1143000"/>
          </a:xfrm>
        </p:grpSpPr>
        <p:sp>
          <p:nvSpPr>
            <p:cNvPr id="2073" name=""/>
            <p:cNvSpPr/>
            <p:nvPr/>
          </p:nvSpPr>
          <p:spPr>
            <a:xfrm>
              <a:off x="5257800" y="1295280"/>
              <a:ext cx="106668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80" y="990720"/>
              <a:ext cx="4953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Hot-swap modules without disturbing field wir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80880" y="4114800"/>
            <a:ext cx="6248520" cy="762120"/>
            <a:chOff x="380880" y="4114800"/>
            <a:chExt cx="6248520" cy="762120"/>
          </a:xfrm>
        </p:grpSpPr>
        <p:sp>
          <p:nvSpPr>
            <p:cNvPr id="2076" name=""/>
            <p:cNvSpPr/>
            <p:nvPr/>
          </p:nvSpPr>
          <p:spPr>
            <a:xfrm>
              <a:off x="5257800" y="4419720"/>
              <a:ext cx="13716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0880" y="4114800"/>
              <a:ext cx="5029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Spring or barrier style termin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380880" y="3124080"/>
            <a:ext cx="6019920" cy="914400"/>
            <a:chOff x="380880" y="3124080"/>
            <a:chExt cx="6019920" cy="914400"/>
          </a:xfrm>
        </p:grpSpPr>
        <p:sp>
          <p:nvSpPr>
            <p:cNvPr id="2079" name=""/>
            <p:cNvSpPr/>
            <p:nvPr/>
          </p:nvSpPr>
          <p:spPr>
            <a:xfrm>
              <a:off x="380880" y="3124080"/>
              <a:ext cx="4892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Fuse option for any kind of mod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57800" y="3352680"/>
              <a:ext cx="114300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380880" y="4800600"/>
            <a:ext cx="6400800" cy="1279440"/>
            <a:chOff x="380880" y="4800600"/>
            <a:chExt cx="6400800" cy="1279440"/>
          </a:xfrm>
        </p:grpSpPr>
        <p:sp>
          <p:nvSpPr>
            <p:cNvPr id="2082" name=""/>
            <p:cNvSpPr/>
            <p:nvPr/>
          </p:nvSpPr>
          <p:spPr>
            <a:xfrm flipV="1">
              <a:off x="5334120" y="5104800"/>
              <a:ext cx="144756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0880" y="4800600"/>
              <a:ext cx="5029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Standard terminal ident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High connection density: 16 or 32 points in 1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5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GBL Bus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utomatic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identification and addressing of the modul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ny module can b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ot-swapp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2Mbaud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serial bus, I/O scan time 0,45 ms for 480 poi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nnect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30 modules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X 16 points = 480 poi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u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ardwar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implementation  with dedicated chip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1981080" y="4854600"/>
            <a:ext cx="1185840" cy="1011600"/>
            <a:chOff x="1981080" y="4854600"/>
            <a:chExt cx="1185840" cy="1011600"/>
          </a:xfrm>
        </p:grpSpPr>
        <p:grpSp>
          <p:nvGrpSpPr>
            <p:cNvPr id="2087" name=""/>
            <p:cNvGrpSpPr/>
            <p:nvPr/>
          </p:nvGrpSpPr>
          <p:grpSpPr>
            <a:xfrm>
              <a:off x="1981080" y="4854600"/>
              <a:ext cx="1180440" cy="1011600"/>
              <a:chOff x="1981080" y="4854600"/>
              <a:chExt cx="1180440" cy="1011600"/>
            </a:xfrm>
          </p:grpSpPr>
          <p:grpSp>
            <p:nvGrpSpPr>
              <p:cNvPr id="2088" name=""/>
              <p:cNvGrpSpPr/>
              <p:nvPr/>
            </p:nvGrpSpPr>
            <p:grpSpPr>
              <a:xfrm>
                <a:off x="1981080" y="4854600"/>
                <a:ext cx="1180440" cy="1011600"/>
                <a:chOff x="1981080" y="4854600"/>
                <a:chExt cx="1180440" cy="101160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1981080" y="48546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1981080" y="53604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1" name=""/>
              <p:cNvSpPr/>
              <p:nvPr/>
            </p:nvSpPr>
            <p:spPr>
              <a:xfrm>
                <a:off x="2157120" y="54655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157120" y="56149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157120" y="575460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4" name=""/>
            <p:cNvSpPr/>
            <p:nvPr/>
          </p:nvSpPr>
          <p:spPr>
            <a:xfrm flipV="1">
              <a:off x="1981080" y="493704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19520" y="495288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43200" y="502884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3157560" y="4854600"/>
            <a:ext cx="1185840" cy="1011600"/>
            <a:chOff x="3157560" y="4854600"/>
            <a:chExt cx="1185840" cy="1011600"/>
          </a:xfrm>
        </p:grpSpPr>
        <p:grpSp>
          <p:nvGrpSpPr>
            <p:cNvPr id="2098" name=""/>
            <p:cNvGrpSpPr/>
            <p:nvPr/>
          </p:nvGrpSpPr>
          <p:grpSpPr>
            <a:xfrm>
              <a:off x="3157560" y="4854600"/>
              <a:ext cx="1180440" cy="1011600"/>
              <a:chOff x="3157560" y="4854600"/>
              <a:chExt cx="1180440" cy="1011600"/>
            </a:xfrm>
          </p:grpSpPr>
          <p:grpSp>
            <p:nvGrpSpPr>
              <p:cNvPr id="2099" name=""/>
              <p:cNvGrpSpPr/>
              <p:nvPr/>
            </p:nvGrpSpPr>
            <p:grpSpPr>
              <a:xfrm>
                <a:off x="3157560" y="4854600"/>
                <a:ext cx="1180440" cy="1011600"/>
                <a:chOff x="3157560" y="4854600"/>
                <a:chExt cx="1180440" cy="1011600"/>
              </a:xfrm>
            </p:grpSpPr>
            <p:sp>
              <p:nvSpPr>
                <p:cNvPr id="2100" name=""/>
                <p:cNvSpPr/>
                <p:nvPr/>
              </p:nvSpPr>
              <p:spPr>
                <a:xfrm>
                  <a:off x="3157560" y="48546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157560" y="53604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2" name=""/>
              <p:cNvSpPr/>
              <p:nvPr/>
            </p:nvSpPr>
            <p:spPr>
              <a:xfrm>
                <a:off x="3333600" y="54655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333600" y="56149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333600" y="575460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 flipV="1">
              <a:off x="3157560" y="493704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996000" y="495288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19680" y="502884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4343400" y="4854600"/>
            <a:ext cx="1185840" cy="1011600"/>
            <a:chOff x="4343400" y="4854600"/>
            <a:chExt cx="1185840" cy="1011600"/>
          </a:xfrm>
        </p:grpSpPr>
        <p:grpSp>
          <p:nvGrpSpPr>
            <p:cNvPr id="2109" name=""/>
            <p:cNvGrpSpPr/>
            <p:nvPr/>
          </p:nvGrpSpPr>
          <p:grpSpPr>
            <a:xfrm>
              <a:off x="4343400" y="4854600"/>
              <a:ext cx="1180440" cy="1011600"/>
              <a:chOff x="4343400" y="4854600"/>
              <a:chExt cx="1180440" cy="1011600"/>
            </a:xfrm>
          </p:grpSpPr>
          <p:grpSp>
            <p:nvGrpSpPr>
              <p:cNvPr id="2110" name=""/>
              <p:cNvGrpSpPr/>
              <p:nvPr/>
            </p:nvGrpSpPr>
            <p:grpSpPr>
              <a:xfrm>
                <a:off x="4343400" y="4854600"/>
                <a:ext cx="1180440" cy="1011600"/>
                <a:chOff x="4343400" y="4854600"/>
                <a:chExt cx="1180440" cy="101160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4343400" y="48546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4343400" y="53604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4519440" y="54655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519440" y="56149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519440" y="575460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 flipV="1">
              <a:off x="4343400" y="493704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181840" y="495288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05520" y="502884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5486400" y="4854600"/>
            <a:ext cx="1185840" cy="1011600"/>
            <a:chOff x="5486400" y="4854600"/>
            <a:chExt cx="1185840" cy="1011600"/>
          </a:xfrm>
        </p:grpSpPr>
        <p:grpSp>
          <p:nvGrpSpPr>
            <p:cNvPr id="2120" name=""/>
            <p:cNvGrpSpPr/>
            <p:nvPr/>
          </p:nvGrpSpPr>
          <p:grpSpPr>
            <a:xfrm>
              <a:off x="5486400" y="4854600"/>
              <a:ext cx="1180440" cy="1011600"/>
              <a:chOff x="5486400" y="4854600"/>
              <a:chExt cx="1180440" cy="1011600"/>
            </a:xfrm>
          </p:grpSpPr>
          <p:grpSp>
            <p:nvGrpSpPr>
              <p:cNvPr id="2121" name=""/>
              <p:cNvGrpSpPr/>
              <p:nvPr/>
            </p:nvGrpSpPr>
            <p:grpSpPr>
              <a:xfrm>
                <a:off x="5486400" y="4854600"/>
                <a:ext cx="1180440" cy="1011600"/>
                <a:chOff x="5486400" y="4854600"/>
                <a:chExt cx="1180440" cy="101160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5486400" y="48546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486400" y="5360400"/>
                  <a:ext cx="1180440" cy="50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>
                <a:off x="5662440" y="54655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662440" y="561492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662440" y="5754600"/>
                <a:ext cx="84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7" name=""/>
            <p:cNvSpPr/>
            <p:nvPr/>
          </p:nvSpPr>
          <p:spPr>
            <a:xfrm flipV="1">
              <a:off x="5486400" y="4937040"/>
              <a:ext cx="1185840" cy="1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24840" y="4952880"/>
              <a:ext cx="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48520" y="5028840"/>
              <a:ext cx="23796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800280" y="4854600"/>
            <a:ext cx="1180080" cy="1011600"/>
            <a:chOff x="800280" y="4854600"/>
            <a:chExt cx="1180080" cy="1011600"/>
          </a:xfrm>
        </p:grpSpPr>
        <p:grpSp>
          <p:nvGrpSpPr>
            <p:cNvPr id="2131" name=""/>
            <p:cNvGrpSpPr/>
            <p:nvPr/>
          </p:nvGrpSpPr>
          <p:grpSpPr>
            <a:xfrm>
              <a:off x="800280" y="4854600"/>
              <a:ext cx="1180080" cy="1011600"/>
              <a:chOff x="800280" y="4854600"/>
              <a:chExt cx="1180080" cy="1011600"/>
            </a:xfrm>
          </p:grpSpPr>
          <p:sp>
            <p:nvSpPr>
              <p:cNvPr id="2132" name=""/>
              <p:cNvSpPr/>
              <p:nvPr/>
            </p:nvSpPr>
            <p:spPr>
              <a:xfrm>
                <a:off x="800280" y="4854600"/>
                <a:ext cx="1180080" cy="505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00280" y="5360400"/>
                <a:ext cx="1180080" cy="505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4" name=""/>
            <p:cNvSpPr/>
            <p:nvPr/>
          </p:nvSpPr>
          <p:spPr>
            <a:xfrm>
              <a:off x="968040" y="5583240"/>
              <a:ext cx="338040" cy="169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474560" y="5583240"/>
              <a:ext cx="337680" cy="169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604880" y="4956120"/>
              <a:ext cx="361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638000" y="49608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562040" y="5006880"/>
              <a:ext cx="23760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5105520" y="4419720"/>
            <a:ext cx="1600200" cy="274680"/>
            <a:chOff x="5105520" y="4419720"/>
            <a:chExt cx="1600200" cy="274680"/>
          </a:xfrm>
        </p:grpSpPr>
        <p:sp>
          <p:nvSpPr>
            <p:cNvPr id="2140" name=""/>
            <p:cNvSpPr/>
            <p:nvPr/>
          </p:nvSpPr>
          <p:spPr>
            <a:xfrm>
              <a:off x="5105520" y="4419720"/>
              <a:ext cx="160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115600" y="442476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25" y="107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65" y="107"/>
                  </a:lnTo>
                  <a:lnTo>
                    <a:pt x="133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11240" y="442476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7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05440" y="4424760"/>
              <a:ext cx="394200" cy="269640"/>
            </a:xfrm>
            <a:custGeom>
              <a:avLst/>
              <a:gdLst/>
              <a:ahLst/>
              <a:rect l="l" t="t" r="r" b="b"/>
              <a:pathLst>
                <a:path w="272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72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311520" y="4424760"/>
              <a:ext cx="38376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1981080" y="4419720"/>
            <a:ext cx="1524240" cy="274680"/>
            <a:chOff x="1981080" y="4419720"/>
            <a:chExt cx="1524240" cy="274680"/>
          </a:xfrm>
        </p:grpSpPr>
        <p:sp>
          <p:nvSpPr>
            <p:cNvPr id="2146" name=""/>
            <p:cNvSpPr/>
            <p:nvPr/>
          </p:nvSpPr>
          <p:spPr>
            <a:xfrm flipH="1">
              <a:off x="1981080" y="4419720"/>
              <a:ext cx="152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130200" y="442476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25" y="107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65" y="107"/>
                  </a:lnTo>
                  <a:lnTo>
                    <a:pt x="133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752920" y="442476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7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2367360" y="4424760"/>
              <a:ext cx="375480" cy="269640"/>
            </a:xfrm>
            <a:custGeom>
              <a:avLst/>
              <a:gdLst/>
              <a:ahLst/>
              <a:rect l="l" t="t" r="r" b="b"/>
              <a:pathLst>
                <a:path w="272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72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1990800" y="4424760"/>
              <a:ext cx="365400" cy="26964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217"/>
                  </a:moveTo>
                  <a:lnTo>
                    <a:pt x="132" y="107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07"/>
                  </a:lnTo>
                  <a:lnTo>
                    <a:pt x="14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3513960" y="43434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Mba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Assembling Advantage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154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55" name=""/>
          <p:cNvGrpSpPr/>
          <p:nvPr/>
        </p:nvGrpSpPr>
        <p:grpSpPr>
          <a:xfrm>
            <a:off x="7620120" y="2971800"/>
            <a:ext cx="685800" cy="685800"/>
            <a:chOff x="7620120" y="2971800"/>
            <a:chExt cx="685800" cy="685800"/>
          </a:xfrm>
        </p:grpSpPr>
        <p:sp>
          <p:nvSpPr>
            <p:cNvPr id="2156" name=""/>
            <p:cNvSpPr/>
            <p:nvPr/>
          </p:nvSpPr>
          <p:spPr>
            <a:xfrm>
              <a:off x="7620120" y="29718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925040" y="30765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arge quantities of wires between controller and terminal block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stly identifi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o many blocks per poin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mplex power supply wiring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ulky electrical projec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Old panel...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6180120" y="2743200"/>
            <a:ext cx="9828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6479640" y="2743200"/>
            <a:ext cx="68292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6777000" y="2743200"/>
            <a:ext cx="38592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6933960" y="2743200"/>
            <a:ext cx="2286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683320" y="3886200"/>
            <a:ext cx="69516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83320" y="3886200"/>
            <a:ext cx="99540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7571880" y="2743200"/>
            <a:ext cx="4788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620120" y="2743200"/>
            <a:ext cx="35064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924680" y="2743200"/>
            <a:ext cx="639720" cy="17287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924680" y="2743200"/>
            <a:ext cx="24444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7175160" y="2743200"/>
            <a:ext cx="444600" cy="1704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683320" y="3886200"/>
            <a:ext cx="169056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683320" y="3886200"/>
            <a:ext cx="268272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683320" y="3886200"/>
            <a:ext cx="2089080" cy="56196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5724360" y="3695400"/>
            <a:ext cx="0" cy="2286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568840" y="3390840"/>
            <a:ext cx="311400" cy="304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8e8e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 flipV="1">
            <a:off x="5715000" y="2742840"/>
            <a:ext cx="9360" cy="64764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15000" y="2743200"/>
            <a:ext cx="131760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999120" y="2895480"/>
            <a:ext cx="781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28020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51348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74676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97860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1341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52328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91064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1439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8453520" y="434340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155000" y="289548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543800" y="28954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48720" y="2895480"/>
            <a:ext cx="777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792468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038480" y="498924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038480" y="1307880"/>
            <a:ext cx="129564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114800" y="3310920"/>
            <a:ext cx="762120" cy="44820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wer supp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962520" y="4227480"/>
            <a:ext cx="152388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095880" y="4572000"/>
            <a:ext cx="2590920" cy="533520"/>
            <a:chOff x="6095880" y="4572000"/>
            <a:chExt cx="2590920" cy="533520"/>
          </a:xfrm>
        </p:grpSpPr>
        <p:grpSp>
          <p:nvGrpSpPr>
            <p:cNvPr id="2197" name=""/>
            <p:cNvGrpSpPr/>
            <p:nvPr/>
          </p:nvGrpSpPr>
          <p:grpSpPr>
            <a:xfrm>
              <a:off x="6095880" y="4572000"/>
              <a:ext cx="152640" cy="533520"/>
              <a:chOff x="6095880" y="4572000"/>
              <a:chExt cx="152640" cy="533520"/>
            </a:xfrm>
          </p:grpSpPr>
          <p:sp>
            <p:nvSpPr>
              <p:cNvPr id="2198" name=""/>
              <p:cNvSpPr/>
              <p:nvPr/>
            </p:nvSpPr>
            <p:spPr>
              <a:xfrm>
                <a:off x="60958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0958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1340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1340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6248520" y="4572000"/>
              <a:ext cx="152280" cy="533520"/>
              <a:chOff x="6248520" y="4572000"/>
              <a:chExt cx="152280" cy="533520"/>
            </a:xfrm>
          </p:grpSpPr>
          <p:sp>
            <p:nvSpPr>
              <p:cNvPr id="2203" name=""/>
              <p:cNvSpPr/>
              <p:nvPr/>
            </p:nvSpPr>
            <p:spPr>
              <a:xfrm>
                <a:off x="62485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62485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2863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2863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"/>
            <p:cNvGrpSpPr/>
            <p:nvPr/>
          </p:nvGrpSpPr>
          <p:grpSpPr>
            <a:xfrm>
              <a:off x="6400800" y="4572000"/>
              <a:ext cx="152280" cy="533520"/>
              <a:chOff x="6400800" y="4572000"/>
              <a:chExt cx="152280" cy="533520"/>
            </a:xfrm>
          </p:grpSpPr>
          <p:sp>
            <p:nvSpPr>
              <p:cNvPr id="2208" name=""/>
              <p:cNvSpPr/>
              <p:nvPr/>
            </p:nvSpPr>
            <p:spPr>
              <a:xfrm>
                <a:off x="64008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64008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386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386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6553080" y="4572000"/>
              <a:ext cx="152640" cy="533520"/>
              <a:chOff x="6553080" y="4572000"/>
              <a:chExt cx="152640" cy="533520"/>
            </a:xfrm>
          </p:grpSpPr>
          <p:sp>
            <p:nvSpPr>
              <p:cNvPr id="2213" name=""/>
              <p:cNvSpPr/>
              <p:nvPr/>
            </p:nvSpPr>
            <p:spPr>
              <a:xfrm>
                <a:off x="65530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65530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912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912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6705720" y="4572000"/>
              <a:ext cx="152280" cy="533520"/>
              <a:chOff x="6705720" y="4572000"/>
              <a:chExt cx="152280" cy="533520"/>
            </a:xfrm>
          </p:grpSpPr>
          <p:sp>
            <p:nvSpPr>
              <p:cNvPr id="2218" name=""/>
              <p:cNvSpPr/>
              <p:nvPr/>
            </p:nvSpPr>
            <p:spPr>
              <a:xfrm>
                <a:off x="67057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67057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7435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7435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6858000" y="4572000"/>
              <a:ext cx="152280" cy="533520"/>
              <a:chOff x="6858000" y="4572000"/>
              <a:chExt cx="152280" cy="533520"/>
            </a:xfrm>
          </p:grpSpPr>
          <p:sp>
            <p:nvSpPr>
              <p:cNvPr id="2223" name=""/>
              <p:cNvSpPr/>
              <p:nvPr/>
            </p:nvSpPr>
            <p:spPr>
              <a:xfrm>
                <a:off x="68580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8580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8958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8958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7010280" y="4572000"/>
              <a:ext cx="152640" cy="533520"/>
              <a:chOff x="7010280" y="4572000"/>
              <a:chExt cx="152640" cy="533520"/>
            </a:xfrm>
          </p:grpSpPr>
          <p:sp>
            <p:nvSpPr>
              <p:cNvPr id="2228" name=""/>
              <p:cNvSpPr/>
              <p:nvPr/>
            </p:nvSpPr>
            <p:spPr>
              <a:xfrm>
                <a:off x="70102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70102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0484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0484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7162920" y="4572000"/>
              <a:ext cx="152280" cy="533520"/>
              <a:chOff x="7162920" y="4572000"/>
              <a:chExt cx="152280" cy="533520"/>
            </a:xfrm>
          </p:grpSpPr>
          <p:sp>
            <p:nvSpPr>
              <p:cNvPr id="2233" name=""/>
              <p:cNvSpPr/>
              <p:nvPr/>
            </p:nvSpPr>
            <p:spPr>
              <a:xfrm>
                <a:off x="71629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71629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2007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2007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7315200" y="4572000"/>
              <a:ext cx="152280" cy="533520"/>
              <a:chOff x="7315200" y="4572000"/>
              <a:chExt cx="152280" cy="533520"/>
            </a:xfrm>
          </p:grpSpPr>
          <p:sp>
            <p:nvSpPr>
              <p:cNvPr id="2238" name=""/>
              <p:cNvSpPr/>
              <p:nvPr/>
            </p:nvSpPr>
            <p:spPr>
              <a:xfrm>
                <a:off x="73152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73152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3530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3530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7467480" y="4572000"/>
              <a:ext cx="152640" cy="533520"/>
              <a:chOff x="7467480" y="4572000"/>
              <a:chExt cx="152640" cy="533520"/>
            </a:xfrm>
          </p:grpSpPr>
          <p:sp>
            <p:nvSpPr>
              <p:cNvPr id="2243" name=""/>
              <p:cNvSpPr/>
              <p:nvPr/>
            </p:nvSpPr>
            <p:spPr>
              <a:xfrm>
                <a:off x="74674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74674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5056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5056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7772400" y="4572000"/>
              <a:ext cx="152280" cy="533520"/>
              <a:chOff x="7772400" y="4572000"/>
              <a:chExt cx="152280" cy="533520"/>
            </a:xfrm>
          </p:grpSpPr>
          <p:sp>
            <p:nvSpPr>
              <p:cNvPr id="2248" name=""/>
              <p:cNvSpPr/>
              <p:nvPr/>
            </p:nvSpPr>
            <p:spPr>
              <a:xfrm>
                <a:off x="77724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77724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102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102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7620120" y="4572000"/>
              <a:ext cx="152280" cy="533520"/>
              <a:chOff x="7620120" y="4572000"/>
              <a:chExt cx="152280" cy="533520"/>
            </a:xfrm>
          </p:grpSpPr>
          <p:sp>
            <p:nvSpPr>
              <p:cNvPr id="2253" name=""/>
              <p:cNvSpPr/>
              <p:nvPr/>
            </p:nvSpPr>
            <p:spPr>
              <a:xfrm>
                <a:off x="76201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76201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6579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6579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7924680" y="4572000"/>
              <a:ext cx="152640" cy="533520"/>
              <a:chOff x="7924680" y="4572000"/>
              <a:chExt cx="152640" cy="533520"/>
            </a:xfrm>
          </p:grpSpPr>
          <p:sp>
            <p:nvSpPr>
              <p:cNvPr id="2258" name=""/>
              <p:cNvSpPr/>
              <p:nvPr/>
            </p:nvSpPr>
            <p:spPr>
              <a:xfrm>
                <a:off x="79246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79246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628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628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8077320" y="4572000"/>
              <a:ext cx="152280" cy="533520"/>
              <a:chOff x="8077320" y="4572000"/>
              <a:chExt cx="152280" cy="533520"/>
            </a:xfrm>
          </p:grpSpPr>
          <p:sp>
            <p:nvSpPr>
              <p:cNvPr id="2263" name=""/>
              <p:cNvSpPr/>
              <p:nvPr/>
            </p:nvSpPr>
            <p:spPr>
              <a:xfrm>
                <a:off x="80773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80773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1151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1151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8229600" y="4572000"/>
              <a:ext cx="152280" cy="533520"/>
              <a:chOff x="8229600" y="4572000"/>
              <a:chExt cx="152280" cy="533520"/>
            </a:xfrm>
          </p:grpSpPr>
          <p:sp>
            <p:nvSpPr>
              <p:cNvPr id="2268" name=""/>
              <p:cNvSpPr/>
              <p:nvPr/>
            </p:nvSpPr>
            <p:spPr>
              <a:xfrm>
                <a:off x="822960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822960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826740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40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"/>
            <p:cNvGrpSpPr/>
            <p:nvPr/>
          </p:nvGrpSpPr>
          <p:grpSpPr>
            <a:xfrm>
              <a:off x="8381880" y="4572000"/>
              <a:ext cx="152640" cy="533520"/>
              <a:chOff x="8381880" y="4572000"/>
              <a:chExt cx="152640" cy="533520"/>
            </a:xfrm>
          </p:grpSpPr>
          <p:sp>
            <p:nvSpPr>
              <p:cNvPr id="2273" name=""/>
              <p:cNvSpPr/>
              <p:nvPr/>
            </p:nvSpPr>
            <p:spPr>
              <a:xfrm>
                <a:off x="8381880" y="4572000"/>
                <a:ext cx="15264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8381880" y="4876200"/>
                <a:ext cx="15264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420040" y="499104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420040" y="4610160"/>
                <a:ext cx="7632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8534520" y="4572000"/>
              <a:ext cx="152280" cy="533520"/>
              <a:chOff x="8534520" y="4572000"/>
              <a:chExt cx="152280" cy="533520"/>
            </a:xfrm>
          </p:grpSpPr>
          <p:sp>
            <p:nvSpPr>
              <p:cNvPr id="2278" name=""/>
              <p:cNvSpPr/>
              <p:nvPr/>
            </p:nvSpPr>
            <p:spPr>
              <a:xfrm>
                <a:off x="8534520" y="4572000"/>
                <a:ext cx="152280" cy="5335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8534520" y="4876200"/>
                <a:ext cx="152280" cy="75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572320" y="499104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72320" y="4610160"/>
                <a:ext cx="75960" cy="7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2" name=""/>
          <p:cNvSpPr/>
          <p:nvPr/>
        </p:nvSpPr>
        <p:spPr>
          <a:xfrm>
            <a:off x="61722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4771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0866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3915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6960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800100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830592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8610480" y="5257800"/>
            <a:ext cx="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4608360"/>
            <a:ext cx="18288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 bloc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267080" y="5444640"/>
            <a:ext cx="762120" cy="44820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eld wi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038480" y="383220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pply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3962520" y="2832120"/>
            <a:ext cx="152388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nel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762012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7086600" y="2895480"/>
            <a:ext cx="8568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038480" y="184140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pply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962520" y="2322360"/>
            <a:ext cx="13716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6553080" y="1523880"/>
            <a:ext cx="419040" cy="1142640"/>
            <a:chOff x="6553080" y="1523880"/>
            <a:chExt cx="419040" cy="1142640"/>
          </a:xfrm>
        </p:grpSpPr>
        <p:sp>
          <p:nvSpPr>
            <p:cNvPr id="2300" name=""/>
            <p:cNvSpPr/>
            <p:nvPr/>
          </p:nvSpPr>
          <p:spPr>
            <a:xfrm>
              <a:off x="6553080" y="1523880"/>
              <a:ext cx="419040" cy="1142640"/>
            </a:xfrm>
            <a:prstGeom prst="rect">
              <a:avLst/>
            </a:pr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57840" y="1866600"/>
              <a:ext cx="104400" cy="571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57840" y="16376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6858000" y="1523880"/>
            <a:ext cx="837360" cy="1142280"/>
            <a:chOff x="6858000" y="1523880"/>
            <a:chExt cx="837360" cy="1142280"/>
          </a:xfrm>
        </p:grpSpPr>
        <p:grpSp>
          <p:nvGrpSpPr>
            <p:cNvPr id="2304" name=""/>
            <p:cNvGrpSpPr/>
            <p:nvPr/>
          </p:nvGrpSpPr>
          <p:grpSpPr>
            <a:xfrm>
              <a:off x="6858000" y="1523880"/>
              <a:ext cx="208800" cy="1142280"/>
              <a:chOff x="6858000" y="1523880"/>
              <a:chExt cx="208800" cy="1142280"/>
            </a:xfrm>
          </p:grpSpPr>
          <p:sp>
            <p:nvSpPr>
              <p:cNvPr id="2305" name=""/>
              <p:cNvSpPr/>
              <p:nvPr/>
            </p:nvSpPr>
            <p:spPr>
              <a:xfrm>
                <a:off x="685800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6276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7067160" y="1523880"/>
              <a:ext cx="209160" cy="1142280"/>
              <a:chOff x="7067160" y="1523880"/>
              <a:chExt cx="209160" cy="1142280"/>
            </a:xfrm>
          </p:grpSpPr>
          <p:sp>
            <p:nvSpPr>
              <p:cNvPr id="2308" name=""/>
              <p:cNvSpPr/>
              <p:nvPr/>
            </p:nvSpPr>
            <p:spPr>
              <a:xfrm>
                <a:off x="7067160" y="1523880"/>
                <a:ext cx="20916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7192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7277040" y="1523880"/>
              <a:ext cx="208800" cy="1142280"/>
              <a:chOff x="7277040" y="1523880"/>
              <a:chExt cx="208800" cy="1142280"/>
            </a:xfrm>
          </p:grpSpPr>
          <p:sp>
            <p:nvSpPr>
              <p:cNvPr id="2311" name=""/>
              <p:cNvSpPr/>
              <p:nvPr/>
            </p:nvSpPr>
            <p:spPr>
              <a:xfrm>
                <a:off x="727704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8180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7486560" y="1523880"/>
              <a:ext cx="208800" cy="1142280"/>
              <a:chOff x="7486560" y="1523880"/>
              <a:chExt cx="208800" cy="1142280"/>
            </a:xfrm>
          </p:grpSpPr>
          <p:sp>
            <p:nvSpPr>
              <p:cNvPr id="2314" name=""/>
              <p:cNvSpPr/>
              <p:nvPr/>
            </p:nvSpPr>
            <p:spPr>
              <a:xfrm>
                <a:off x="748656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59132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6" name=""/>
          <p:cNvGrpSpPr/>
          <p:nvPr/>
        </p:nvGrpSpPr>
        <p:grpSpPr>
          <a:xfrm>
            <a:off x="7467480" y="1523880"/>
            <a:ext cx="837360" cy="1142280"/>
            <a:chOff x="7467480" y="1523880"/>
            <a:chExt cx="837360" cy="1142280"/>
          </a:xfrm>
        </p:grpSpPr>
        <p:grpSp>
          <p:nvGrpSpPr>
            <p:cNvPr id="2317" name=""/>
            <p:cNvGrpSpPr/>
            <p:nvPr/>
          </p:nvGrpSpPr>
          <p:grpSpPr>
            <a:xfrm>
              <a:off x="7467480" y="1523880"/>
              <a:ext cx="208800" cy="1142280"/>
              <a:chOff x="7467480" y="1523880"/>
              <a:chExt cx="208800" cy="1142280"/>
            </a:xfrm>
          </p:grpSpPr>
          <p:sp>
            <p:nvSpPr>
              <p:cNvPr id="2318" name=""/>
              <p:cNvSpPr/>
              <p:nvPr/>
            </p:nvSpPr>
            <p:spPr>
              <a:xfrm>
                <a:off x="746748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57224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7676640" y="1523880"/>
              <a:ext cx="209520" cy="1142280"/>
              <a:chOff x="7676640" y="1523880"/>
              <a:chExt cx="209520" cy="1142280"/>
            </a:xfrm>
          </p:grpSpPr>
          <p:sp>
            <p:nvSpPr>
              <p:cNvPr id="2321" name=""/>
              <p:cNvSpPr/>
              <p:nvPr/>
            </p:nvSpPr>
            <p:spPr>
              <a:xfrm>
                <a:off x="7676640" y="1523880"/>
                <a:ext cx="20952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78176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7886880" y="1523880"/>
              <a:ext cx="208800" cy="1142280"/>
              <a:chOff x="7886880" y="1523880"/>
              <a:chExt cx="208800" cy="1142280"/>
            </a:xfrm>
          </p:grpSpPr>
          <p:sp>
            <p:nvSpPr>
              <p:cNvPr id="2324" name=""/>
              <p:cNvSpPr/>
              <p:nvPr/>
            </p:nvSpPr>
            <p:spPr>
              <a:xfrm>
                <a:off x="788688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9164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8096040" y="1523880"/>
              <a:ext cx="208800" cy="1142280"/>
              <a:chOff x="8096040" y="1523880"/>
              <a:chExt cx="208800" cy="1142280"/>
            </a:xfrm>
          </p:grpSpPr>
          <p:sp>
            <p:nvSpPr>
              <p:cNvPr id="2327" name=""/>
              <p:cNvSpPr/>
              <p:nvPr/>
            </p:nvSpPr>
            <p:spPr>
              <a:xfrm>
                <a:off x="8096040" y="1523880"/>
                <a:ext cx="208800" cy="11422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200800" y="1904760"/>
                <a:ext cx="0" cy="66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... Ponto panel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I/O terminal blocks and associated panel wir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ane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reduc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ig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cost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reduction of materials: Panel, Terminal Blocks, Wir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abo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avings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in the project and electric panel assembl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ig assembling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im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reduction !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impler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mmission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8534520" y="2879640"/>
            <a:ext cx="311040" cy="304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a8a8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715000" y="1536120"/>
            <a:ext cx="1447920" cy="44820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int 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315200" y="1117080"/>
            <a:ext cx="762120" cy="44820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wer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858000" y="3184560"/>
            <a:ext cx="144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162920" y="3184560"/>
            <a:ext cx="144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467480" y="3184560"/>
            <a:ext cx="180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772400" y="3184560"/>
            <a:ext cx="144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8077320" y="3184560"/>
            <a:ext cx="1440" cy="685800"/>
          </a:xfrm>
          <a:prstGeom prst="line">
            <a:avLst/>
          </a:prstGeom>
          <a:ln w="1908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648320" y="3349440"/>
            <a:ext cx="114300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eld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6629400" y="2422440"/>
            <a:ext cx="1066320" cy="533520"/>
            <a:chOff x="6629400" y="2422440"/>
            <a:chExt cx="1066320" cy="533520"/>
          </a:xfrm>
        </p:grpSpPr>
        <p:grpSp>
          <p:nvGrpSpPr>
            <p:cNvPr id="2341" name=""/>
            <p:cNvGrpSpPr/>
            <p:nvPr/>
          </p:nvGrpSpPr>
          <p:grpSpPr>
            <a:xfrm>
              <a:off x="6629400" y="2422440"/>
              <a:ext cx="533160" cy="533520"/>
              <a:chOff x="6629400" y="2422440"/>
              <a:chExt cx="533160" cy="53352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6629400" y="2422440"/>
                <a:ext cx="533160" cy="533520"/>
                <a:chOff x="6629400" y="2422440"/>
                <a:chExt cx="533160" cy="53352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6629400" y="2422440"/>
                  <a:ext cx="533160" cy="30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6629400" y="2731320"/>
                  <a:ext cx="533160" cy="22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5" name=""/>
              <p:cNvGrpSpPr/>
              <p:nvPr/>
            </p:nvGrpSpPr>
            <p:grpSpPr>
              <a:xfrm>
                <a:off x="6629400" y="2422440"/>
                <a:ext cx="533160" cy="533520"/>
                <a:chOff x="6629400" y="2422440"/>
                <a:chExt cx="533160" cy="53352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6629400" y="2422440"/>
                  <a:ext cx="533160" cy="30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6629400" y="2731320"/>
                  <a:ext cx="533160" cy="22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8" name=""/>
              <p:cNvSpPr/>
              <p:nvPr/>
            </p:nvSpPr>
            <p:spPr>
              <a:xfrm>
                <a:off x="6677640" y="2450160"/>
                <a:ext cx="436320" cy="2527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7503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7989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8475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961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94440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99300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04160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677640" y="278748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677640" y="284364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677640" y="289980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7162560" y="2422440"/>
              <a:ext cx="533160" cy="533520"/>
              <a:chOff x="7162560" y="2422440"/>
              <a:chExt cx="533160" cy="533520"/>
            </a:xfrm>
          </p:grpSpPr>
          <p:grpSp>
            <p:nvGrpSpPr>
              <p:cNvPr id="2360" name=""/>
              <p:cNvGrpSpPr/>
              <p:nvPr/>
            </p:nvGrpSpPr>
            <p:grpSpPr>
              <a:xfrm>
                <a:off x="7162560" y="2422440"/>
                <a:ext cx="533160" cy="533520"/>
                <a:chOff x="7162560" y="2422440"/>
                <a:chExt cx="533160" cy="53352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7162560" y="2422440"/>
                  <a:ext cx="533160" cy="30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7162560" y="2731320"/>
                  <a:ext cx="533160" cy="22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3" name=""/>
              <p:cNvGrpSpPr/>
              <p:nvPr/>
            </p:nvGrpSpPr>
            <p:grpSpPr>
              <a:xfrm>
                <a:off x="7162560" y="2422440"/>
                <a:ext cx="533160" cy="533520"/>
                <a:chOff x="7162560" y="2422440"/>
                <a:chExt cx="533160" cy="533520"/>
              </a:xfrm>
            </p:grpSpPr>
            <p:sp>
              <p:nvSpPr>
                <p:cNvPr id="2364" name=""/>
                <p:cNvSpPr/>
                <p:nvPr/>
              </p:nvSpPr>
              <p:spPr>
                <a:xfrm>
                  <a:off x="7162560" y="2422440"/>
                  <a:ext cx="533160" cy="30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7162560" y="2731320"/>
                  <a:ext cx="533160" cy="22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6" name=""/>
              <p:cNvSpPr/>
              <p:nvPr/>
            </p:nvSpPr>
            <p:spPr>
              <a:xfrm>
                <a:off x="7210800" y="2450160"/>
                <a:ext cx="436320" cy="2527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28352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3212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8072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2932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775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5261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574760" y="2478240"/>
                <a:ext cx="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210800" y="278748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210800" y="284364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10800" y="289980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7" name=""/>
          <p:cNvGrpSpPr/>
          <p:nvPr/>
        </p:nvGrpSpPr>
        <p:grpSpPr>
          <a:xfrm>
            <a:off x="7696080" y="2422440"/>
            <a:ext cx="533520" cy="533520"/>
            <a:chOff x="7696080" y="2422440"/>
            <a:chExt cx="533520" cy="533520"/>
          </a:xfrm>
        </p:grpSpPr>
        <p:grpSp>
          <p:nvGrpSpPr>
            <p:cNvPr id="2378" name=""/>
            <p:cNvGrpSpPr/>
            <p:nvPr/>
          </p:nvGrpSpPr>
          <p:grpSpPr>
            <a:xfrm>
              <a:off x="7696080" y="2422440"/>
              <a:ext cx="533520" cy="533520"/>
              <a:chOff x="7696080" y="2422440"/>
              <a:chExt cx="533520" cy="533520"/>
            </a:xfrm>
          </p:grpSpPr>
          <p:sp>
            <p:nvSpPr>
              <p:cNvPr id="2379" name=""/>
              <p:cNvSpPr/>
              <p:nvPr/>
            </p:nvSpPr>
            <p:spPr>
              <a:xfrm>
                <a:off x="7696080" y="2422440"/>
                <a:ext cx="533520" cy="3088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696080" y="2731320"/>
                <a:ext cx="533520" cy="2246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7696080" y="2422440"/>
              <a:ext cx="533520" cy="533520"/>
              <a:chOff x="7696080" y="2422440"/>
              <a:chExt cx="533520" cy="533520"/>
            </a:xfrm>
          </p:grpSpPr>
          <p:sp>
            <p:nvSpPr>
              <p:cNvPr id="2382" name=""/>
              <p:cNvSpPr/>
              <p:nvPr/>
            </p:nvSpPr>
            <p:spPr>
              <a:xfrm>
                <a:off x="7696080" y="2422440"/>
                <a:ext cx="533520" cy="3088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696080" y="2731320"/>
                <a:ext cx="533520" cy="2246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7744320" y="2450160"/>
              <a:ext cx="436680" cy="25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81740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6564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1424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284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01144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05968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08280" y="2478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744320" y="2787480"/>
              <a:ext cx="4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744320" y="2843640"/>
              <a:ext cx="4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744320" y="2899800"/>
              <a:ext cx="4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6095880" y="2422440"/>
            <a:ext cx="533160" cy="533520"/>
            <a:chOff x="6095880" y="2422440"/>
            <a:chExt cx="533160" cy="533520"/>
          </a:xfrm>
        </p:grpSpPr>
        <p:grpSp>
          <p:nvGrpSpPr>
            <p:cNvPr id="2396" name=""/>
            <p:cNvGrpSpPr/>
            <p:nvPr/>
          </p:nvGrpSpPr>
          <p:grpSpPr>
            <a:xfrm>
              <a:off x="6095880" y="2422440"/>
              <a:ext cx="533160" cy="533520"/>
              <a:chOff x="6095880" y="2422440"/>
              <a:chExt cx="533160" cy="533520"/>
            </a:xfrm>
          </p:grpSpPr>
          <p:sp>
            <p:nvSpPr>
              <p:cNvPr id="2397" name=""/>
              <p:cNvSpPr/>
              <p:nvPr/>
            </p:nvSpPr>
            <p:spPr>
              <a:xfrm>
                <a:off x="6095880" y="2422440"/>
                <a:ext cx="533160" cy="30888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98d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095880" y="2731320"/>
                <a:ext cx="533160" cy="2246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98d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6095880" y="2422440"/>
              <a:ext cx="533160" cy="533520"/>
              <a:chOff x="6095880" y="2422440"/>
              <a:chExt cx="533160" cy="533520"/>
            </a:xfrm>
          </p:grpSpPr>
          <p:sp>
            <p:nvSpPr>
              <p:cNvPr id="2400" name=""/>
              <p:cNvSpPr/>
              <p:nvPr/>
            </p:nvSpPr>
            <p:spPr>
              <a:xfrm>
                <a:off x="6095880" y="2422440"/>
                <a:ext cx="533160" cy="30888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98d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095880" y="2731320"/>
                <a:ext cx="533160" cy="2246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98d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2" name=""/>
            <p:cNvSpPr/>
            <p:nvPr/>
          </p:nvSpPr>
          <p:spPr>
            <a:xfrm>
              <a:off x="6171840" y="2803680"/>
              <a:ext cx="15264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400440" y="2803680"/>
              <a:ext cx="15264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40160" y="2467080"/>
              <a:ext cx="4381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171840" y="2517840"/>
              <a:ext cx="3049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5562720" y="2422440"/>
            <a:ext cx="533160" cy="532800"/>
            <a:chOff x="5562720" y="2422440"/>
            <a:chExt cx="533160" cy="532800"/>
          </a:xfrm>
        </p:grpSpPr>
        <p:grpSp>
          <p:nvGrpSpPr>
            <p:cNvPr id="2407" name=""/>
            <p:cNvGrpSpPr/>
            <p:nvPr/>
          </p:nvGrpSpPr>
          <p:grpSpPr>
            <a:xfrm>
              <a:off x="5562720" y="2422440"/>
              <a:ext cx="533160" cy="532800"/>
              <a:chOff x="5562720" y="2422440"/>
              <a:chExt cx="533160" cy="532800"/>
            </a:xfrm>
          </p:grpSpPr>
          <p:sp>
            <p:nvSpPr>
              <p:cNvPr id="2408" name=""/>
              <p:cNvSpPr/>
              <p:nvPr/>
            </p:nvSpPr>
            <p:spPr>
              <a:xfrm>
                <a:off x="5562720" y="2422440"/>
                <a:ext cx="533160" cy="3085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562720" y="2730960"/>
                <a:ext cx="533160" cy="22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5562720" y="2422440"/>
              <a:ext cx="533160" cy="532800"/>
              <a:chOff x="5562720" y="2422440"/>
              <a:chExt cx="533160" cy="532800"/>
            </a:xfrm>
          </p:grpSpPr>
          <p:sp>
            <p:nvSpPr>
              <p:cNvPr id="2411" name=""/>
              <p:cNvSpPr/>
              <p:nvPr/>
            </p:nvSpPr>
            <p:spPr>
              <a:xfrm>
                <a:off x="5562720" y="2422440"/>
                <a:ext cx="533160" cy="3085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562720" y="2730960"/>
                <a:ext cx="533160" cy="22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5638680" y="2803320"/>
              <a:ext cx="75600" cy="76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06640" y="2466720"/>
              <a:ext cx="438120" cy="216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1c1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4724280" y="2070000"/>
            <a:ext cx="1295640" cy="2350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8686800" y="3184560"/>
            <a:ext cx="1440" cy="1522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8686800" y="2727360"/>
            <a:ext cx="1440" cy="1522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8381520" y="3336840"/>
            <a:ext cx="304920" cy="1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8229600" y="2727360"/>
            <a:ext cx="457200" cy="144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8381880" y="2879640"/>
            <a:ext cx="1800" cy="4572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8229240" y="2879640"/>
            <a:ext cx="152280" cy="180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ize reduction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400440" y="2971800"/>
            <a:ext cx="2438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20% smaller are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47% smaller depth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50% smaller volum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228600" y="1905120"/>
            <a:ext cx="2641680" cy="4267080"/>
            <a:chOff x="228600" y="1905120"/>
            <a:chExt cx="2641680" cy="4267080"/>
          </a:xfrm>
        </p:grpSpPr>
        <p:grpSp>
          <p:nvGrpSpPr>
            <p:cNvPr id="2425" name=""/>
            <p:cNvGrpSpPr/>
            <p:nvPr/>
          </p:nvGrpSpPr>
          <p:grpSpPr>
            <a:xfrm>
              <a:off x="228600" y="1905120"/>
              <a:ext cx="2641680" cy="4267080"/>
              <a:chOff x="228600" y="1905120"/>
              <a:chExt cx="2641680" cy="4267080"/>
            </a:xfrm>
          </p:grpSpPr>
          <p:grpSp>
            <p:nvGrpSpPr>
              <p:cNvPr id="2426" name=""/>
              <p:cNvGrpSpPr/>
              <p:nvPr/>
            </p:nvGrpSpPr>
            <p:grpSpPr>
              <a:xfrm>
                <a:off x="228600" y="1905120"/>
                <a:ext cx="2641680" cy="4267080"/>
                <a:chOff x="228600" y="1905120"/>
                <a:chExt cx="2641680" cy="426708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228600" y="1905120"/>
                  <a:ext cx="2641680" cy="42670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327960" y="2006640"/>
                  <a:ext cx="2442240" cy="4013280"/>
                </a:xfrm>
                <a:prstGeom prst="rect">
                  <a:avLst/>
                </a:prstGeom>
                <a:solidFill>
                  <a:srgbClr val="ffc8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428040" y="2311200"/>
                <a:ext cx="249120" cy="609480"/>
                <a:chOff x="428040" y="2311200"/>
                <a:chExt cx="249120" cy="609480"/>
              </a:xfrm>
            </p:grpSpPr>
            <p:sp>
              <p:nvSpPr>
                <p:cNvPr id="2430" name=""/>
                <p:cNvSpPr/>
                <p:nvPr/>
              </p:nvSpPr>
              <p:spPr>
                <a:xfrm>
                  <a:off x="428040" y="2311200"/>
                  <a:ext cx="24912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490320" y="2494080"/>
                  <a:ext cx="619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90320" y="2371680"/>
                  <a:ext cx="0" cy="6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677160" y="2311200"/>
                <a:ext cx="348480" cy="609480"/>
                <a:chOff x="677160" y="2311200"/>
                <a:chExt cx="348480" cy="609480"/>
              </a:xfrm>
            </p:grpSpPr>
            <p:grpSp>
              <p:nvGrpSpPr>
                <p:cNvPr id="2434" name=""/>
                <p:cNvGrpSpPr/>
                <p:nvPr/>
              </p:nvGrpSpPr>
              <p:grpSpPr>
                <a:xfrm>
                  <a:off x="677160" y="2311200"/>
                  <a:ext cx="116280" cy="609480"/>
                  <a:chOff x="677160" y="2311200"/>
                  <a:chExt cx="116280" cy="609480"/>
                </a:xfrm>
              </p:grpSpPr>
              <p:sp>
                <p:nvSpPr>
                  <p:cNvPr id="2435" name=""/>
                  <p:cNvSpPr/>
                  <p:nvPr/>
                </p:nvSpPr>
                <p:spPr>
                  <a:xfrm>
                    <a:off x="67716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7354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7" name=""/>
                <p:cNvGrpSpPr/>
                <p:nvPr/>
              </p:nvGrpSpPr>
              <p:grpSpPr>
                <a:xfrm>
                  <a:off x="793440" y="2311200"/>
                  <a:ext cx="115920" cy="609480"/>
                  <a:chOff x="793440" y="2311200"/>
                  <a:chExt cx="115920" cy="609480"/>
                </a:xfrm>
              </p:grpSpPr>
              <p:sp>
                <p:nvSpPr>
                  <p:cNvPr id="2438" name=""/>
                  <p:cNvSpPr/>
                  <p:nvPr/>
                </p:nvSpPr>
                <p:spPr>
                  <a:xfrm>
                    <a:off x="79344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8514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0" name=""/>
                <p:cNvGrpSpPr/>
                <p:nvPr/>
              </p:nvGrpSpPr>
              <p:grpSpPr>
                <a:xfrm>
                  <a:off x="909720" y="2311200"/>
                  <a:ext cx="115920" cy="609480"/>
                  <a:chOff x="909720" y="2311200"/>
                  <a:chExt cx="115920" cy="60948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90972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9676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3" name=""/>
              <p:cNvGrpSpPr/>
              <p:nvPr/>
            </p:nvGrpSpPr>
            <p:grpSpPr>
              <a:xfrm>
                <a:off x="1026000" y="2311200"/>
                <a:ext cx="348120" cy="609480"/>
                <a:chOff x="1026000" y="2311200"/>
                <a:chExt cx="348120" cy="609480"/>
              </a:xfrm>
            </p:grpSpPr>
            <p:grpSp>
              <p:nvGrpSpPr>
                <p:cNvPr id="2444" name=""/>
                <p:cNvGrpSpPr/>
                <p:nvPr/>
              </p:nvGrpSpPr>
              <p:grpSpPr>
                <a:xfrm>
                  <a:off x="1026000" y="2311200"/>
                  <a:ext cx="116280" cy="609480"/>
                  <a:chOff x="1026000" y="2311200"/>
                  <a:chExt cx="116280" cy="609480"/>
                </a:xfrm>
              </p:grpSpPr>
              <p:sp>
                <p:nvSpPr>
                  <p:cNvPr id="2445" name=""/>
                  <p:cNvSpPr/>
                  <p:nvPr/>
                </p:nvSpPr>
                <p:spPr>
                  <a:xfrm>
                    <a:off x="102600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108432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1142280" y="2311200"/>
                  <a:ext cx="115920" cy="609480"/>
                  <a:chOff x="1142280" y="2311200"/>
                  <a:chExt cx="115920" cy="60948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>
                    <a:off x="114228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120024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1258200" y="2311200"/>
                  <a:ext cx="115920" cy="609480"/>
                  <a:chOff x="1258200" y="2311200"/>
                  <a:chExt cx="115920" cy="60948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>
                    <a:off x="125820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13161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3" name=""/>
              <p:cNvGrpSpPr/>
              <p:nvPr/>
            </p:nvGrpSpPr>
            <p:grpSpPr>
              <a:xfrm>
                <a:off x="1374840" y="2311200"/>
                <a:ext cx="348480" cy="609480"/>
                <a:chOff x="1374840" y="2311200"/>
                <a:chExt cx="348480" cy="609480"/>
              </a:xfrm>
            </p:grpSpPr>
            <p:grpSp>
              <p:nvGrpSpPr>
                <p:cNvPr id="2454" name=""/>
                <p:cNvGrpSpPr/>
                <p:nvPr/>
              </p:nvGrpSpPr>
              <p:grpSpPr>
                <a:xfrm>
                  <a:off x="1374840" y="2311200"/>
                  <a:ext cx="116280" cy="609480"/>
                  <a:chOff x="1374840" y="2311200"/>
                  <a:chExt cx="116280" cy="609480"/>
                </a:xfrm>
              </p:grpSpPr>
              <p:sp>
                <p:nvSpPr>
                  <p:cNvPr id="2455" name=""/>
                  <p:cNvSpPr/>
                  <p:nvPr/>
                </p:nvSpPr>
                <p:spPr>
                  <a:xfrm>
                    <a:off x="137484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14331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"/>
                <p:cNvGrpSpPr/>
                <p:nvPr/>
              </p:nvGrpSpPr>
              <p:grpSpPr>
                <a:xfrm>
                  <a:off x="1491120" y="2311200"/>
                  <a:ext cx="115920" cy="609480"/>
                  <a:chOff x="1491120" y="2311200"/>
                  <a:chExt cx="115920" cy="609480"/>
                </a:xfrm>
              </p:grpSpPr>
              <p:sp>
                <p:nvSpPr>
                  <p:cNvPr id="2458" name=""/>
                  <p:cNvSpPr/>
                  <p:nvPr/>
                </p:nvSpPr>
                <p:spPr>
                  <a:xfrm>
                    <a:off x="149112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154908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0" name=""/>
                <p:cNvGrpSpPr/>
                <p:nvPr/>
              </p:nvGrpSpPr>
              <p:grpSpPr>
                <a:xfrm>
                  <a:off x="1607400" y="2311200"/>
                  <a:ext cx="115920" cy="609480"/>
                  <a:chOff x="1607400" y="2311200"/>
                  <a:chExt cx="115920" cy="609480"/>
                </a:xfrm>
              </p:grpSpPr>
              <p:sp>
                <p:nvSpPr>
                  <p:cNvPr id="2461" name=""/>
                  <p:cNvSpPr/>
                  <p:nvPr/>
                </p:nvSpPr>
                <p:spPr>
                  <a:xfrm>
                    <a:off x="160740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166536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3" name=""/>
              <p:cNvGrpSpPr/>
              <p:nvPr/>
            </p:nvGrpSpPr>
            <p:grpSpPr>
              <a:xfrm>
                <a:off x="1723680" y="2311200"/>
                <a:ext cx="348480" cy="609480"/>
                <a:chOff x="1723680" y="2311200"/>
                <a:chExt cx="348480" cy="609480"/>
              </a:xfrm>
            </p:grpSpPr>
            <p:grpSp>
              <p:nvGrpSpPr>
                <p:cNvPr id="2464" name=""/>
                <p:cNvGrpSpPr/>
                <p:nvPr/>
              </p:nvGrpSpPr>
              <p:grpSpPr>
                <a:xfrm>
                  <a:off x="1723680" y="2311200"/>
                  <a:ext cx="116280" cy="609480"/>
                  <a:chOff x="1723680" y="2311200"/>
                  <a:chExt cx="116280" cy="609480"/>
                </a:xfrm>
              </p:grpSpPr>
              <p:sp>
                <p:nvSpPr>
                  <p:cNvPr id="2465" name=""/>
                  <p:cNvSpPr/>
                  <p:nvPr/>
                </p:nvSpPr>
                <p:spPr>
                  <a:xfrm>
                    <a:off x="1723680" y="2311200"/>
                    <a:ext cx="11628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17820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7" name=""/>
                <p:cNvGrpSpPr/>
                <p:nvPr/>
              </p:nvGrpSpPr>
              <p:grpSpPr>
                <a:xfrm>
                  <a:off x="1839960" y="2311200"/>
                  <a:ext cx="115920" cy="609480"/>
                  <a:chOff x="1839960" y="2311200"/>
                  <a:chExt cx="115920" cy="609480"/>
                </a:xfrm>
              </p:grpSpPr>
              <p:sp>
                <p:nvSpPr>
                  <p:cNvPr id="2468" name=""/>
                  <p:cNvSpPr/>
                  <p:nvPr/>
                </p:nvSpPr>
                <p:spPr>
                  <a:xfrm>
                    <a:off x="183996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189792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0" name=""/>
                <p:cNvGrpSpPr/>
                <p:nvPr/>
              </p:nvGrpSpPr>
              <p:grpSpPr>
                <a:xfrm>
                  <a:off x="1956240" y="2311200"/>
                  <a:ext cx="115920" cy="609480"/>
                  <a:chOff x="1956240" y="2311200"/>
                  <a:chExt cx="115920" cy="609480"/>
                </a:xfrm>
              </p:grpSpPr>
              <p:sp>
                <p:nvSpPr>
                  <p:cNvPr id="2471" name=""/>
                  <p:cNvSpPr/>
                  <p:nvPr/>
                </p:nvSpPr>
                <p:spPr>
                  <a:xfrm>
                    <a:off x="1956240" y="2311200"/>
                    <a:ext cx="11592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2014200" y="2514240"/>
                    <a:ext cx="0" cy="3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73" name=""/>
              <p:cNvSpPr/>
              <p:nvPr/>
            </p:nvSpPr>
            <p:spPr>
              <a:xfrm rot="5400000">
                <a:off x="1371600" y="2129760"/>
                <a:ext cx="304560" cy="2292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24320" y="3429000"/>
                <a:ext cx="39852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78000" y="3429000"/>
                <a:ext cx="9936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521440" y="3429000"/>
                <a:ext cx="14940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926280" y="3429000"/>
                <a:ext cx="199440" cy="24890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8" name=""/>
              <p:cNvGrpSpPr/>
              <p:nvPr/>
            </p:nvGrpSpPr>
            <p:grpSpPr>
              <a:xfrm>
                <a:off x="2172960" y="4140000"/>
                <a:ext cx="199080" cy="355320"/>
                <a:chOff x="2172960" y="4140000"/>
                <a:chExt cx="199080" cy="355320"/>
              </a:xfrm>
            </p:grpSpPr>
            <p:sp>
              <p:nvSpPr>
                <p:cNvPr id="2479" name=""/>
                <p:cNvSpPr/>
                <p:nvPr/>
              </p:nvSpPr>
              <p:spPr>
                <a:xfrm rot="5400000">
                  <a:off x="2247120" y="40654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5400000">
                  <a:off x="2247120" y="41162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5400000">
                  <a:off x="2247120" y="41673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5400000">
                  <a:off x="2247120" y="42177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5400000">
                  <a:off x="2247120" y="42688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5400000">
                  <a:off x="2247120" y="432000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5400000">
                  <a:off x="2247120" y="437040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2172960" y="4495680"/>
                <a:ext cx="199080" cy="355320"/>
                <a:chOff x="2172960" y="4495680"/>
                <a:chExt cx="199080" cy="355320"/>
              </a:xfrm>
            </p:grpSpPr>
            <p:sp>
              <p:nvSpPr>
                <p:cNvPr id="2487" name=""/>
                <p:cNvSpPr/>
                <p:nvPr/>
              </p:nvSpPr>
              <p:spPr>
                <a:xfrm rot="5400000">
                  <a:off x="2247120" y="44211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5400000">
                  <a:off x="2247120" y="44719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5400000">
                  <a:off x="2247120" y="45230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5400000">
                  <a:off x="2247120" y="457344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5400000">
                  <a:off x="2247120" y="46245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5400000">
                  <a:off x="2247120" y="46756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5400000">
                  <a:off x="2247120" y="47260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4" name=""/>
              <p:cNvGrpSpPr/>
              <p:nvPr/>
            </p:nvGrpSpPr>
            <p:grpSpPr>
              <a:xfrm>
                <a:off x="2171520" y="5561640"/>
                <a:ext cx="198720" cy="354960"/>
                <a:chOff x="2171520" y="5561640"/>
                <a:chExt cx="198720" cy="354960"/>
              </a:xfrm>
            </p:grpSpPr>
            <p:sp>
              <p:nvSpPr>
                <p:cNvPr id="2495" name=""/>
                <p:cNvSpPr/>
                <p:nvPr/>
              </p:nvSpPr>
              <p:spPr>
                <a:xfrm rot="5400000">
                  <a:off x="2245680" y="548748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5400000">
                  <a:off x="2245320" y="55378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5400000">
                  <a:off x="2245320" y="558900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5400000">
                  <a:off x="2245680" y="563976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5400000">
                  <a:off x="2245320" y="56905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5400000">
                  <a:off x="2245320" y="57412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5400000">
                  <a:off x="2245680" y="579204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2171520" y="5205960"/>
                <a:ext cx="198720" cy="355320"/>
                <a:chOff x="2171520" y="5205960"/>
                <a:chExt cx="198720" cy="355320"/>
              </a:xfrm>
            </p:grpSpPr>
            <p:sp>
              <p:nvSpPr>
                <p:cNvPr id="2503" name=""/>
                <p:cNvSpPr/>
                <p:nvPr/>
              </p:nvSpPr>
              <p:spPr>
                <a:xfrm rot="5400000">
                  <a:off x="2245680" y="513180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5400000">
                  <a:off x="2245320" y="518220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400000">
                  <a:off x="2245320" y="52333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400000">
                  <a:off x="2245680" y="528408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5400000">
                  <a:off x="2245320" y="533484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5400000">
                  <a:off x="2245320" y="538596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5400000">
                  <a:off x="2245680" y="543672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2171520" y="4850280"/>
                <a:ext cx="198720" cy="355320"/>
                <a:chOff x="2171520" y="4850280"/>
                <a:chExt cx="198720" cy="355320"/>
              </a:xfrm>
            </p:grpSpPr>
            <p:sp>
              <p:nvSpPr>
                <p:cNvPr id="2511" name=""/>
                <p:cNvSpPr/>
                <p:nvPr/>
              </p:nvSpPr>
              <p:spPr>
                <a:xfrm rot="5400000">
                  <a:off x="2245680" y="477612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5400000">
                  <a:off x="2245320" y="482652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5400000">
                  <a:off x="2245320" y="487764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5400000">
                  <a:off x="2245680" y="492840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5400000">
                  <a:off x="2245320" y="497916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5400000">
                  <a:off x="2245320" y="5030280"/>
                  <a:ext cx="5076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5400000">
                  <a:off x="2245680" y="5081040"/>
                  <a:ext cx="50400" cy="19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8" name=""/>
              <p:cNvGrpSpPr/>
              <p:nvPr/>
            </p:nvGrpSpPr>
            <p:grpSpPr>
              <a:xfrm>
                <a:off x="1275120" y="3429000"/>
                <a:ext cx="199440" cy="2488320"/>
                <a:chOff x="1275120" y="3429000"/>
                <a:chExt cx="199440" cy="2488320"/>
              </a:xfrm>
            </p:grpSpPr>
            <p:grpSp>
              <p:nvGrpSpPr>
                <p:cNvPr id="2519" name=""/>
                <p:cNvGrpSpPr/>
                <p:nvPr/>
              </p:nvGrpSpPr>
              <p:grpSpPr>
                <a:xfrm>
                  <a:off x="1275120" y="3429000"/>
                  <a:ext cx="198720" cy="354960"/>
                  <a:chOff x="1275120" y="3429000"/>
                  <a:chExt cx="198720" cy="354960"/>
                </a:xfrm>
              </p:grpSpPr>
              <p:sp>
                <p:nvSpPr>
                  <p:cNvPr id="2520" name=""/>
                  <p:cNvSpPr/>
                  <p:nvPr/>
                </p:nvSpPr>
                <p:spPr>
                  <a:xfrm rot="5400000">
                    <a:off x="1349280" y="33548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 rot="5400000">
                    <a:off x="1348920" y="3405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rot="5400000">
                    <a:off x="1348920" y="34563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400000">
                    <a:off x="1349280" y="35071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 rot="5400000">
                    <a:off x="1348920" y="35578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 rot="5400000">
                    <a:off x="1348920" y="3608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 rot="5400000">
                    <a:off x="1349280" y="36594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7" name=""/>
                <p:cNvGrpSpPr/>
                <p:nvPr/>
              </p:nvGrpSpPr>
              <p:grpSpPr>
                <a:xfrm>
                  <a:off x="1275840" y="3785400"/>
                  <a:ext cx="198720" cy="354960"/>
                  <a:chOff x="1275840" y="3785400"/>
                  <a:chExt cx="198720" cy="354960"/>
                </a:xfrm>
              </p:grpSpPr>
              <p:sp>
                <p:nvSpPr>
                  <p:cNvPr id="2528" name=""/>
                  <p:cNvSpPr/>
                  <p:nvPr/>
                </p:nvSpPr>
                <p:spPr>
                  <a:xfrm rot="5400000">
                    <a:off x="1350000" y="37112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 rot="5400000">
                    <a:off x="1349640" y="3761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 rot="5400000">
                    <a:off x="1349640" y="38127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 rot="5400000">
                    <a:off x="1350000" y="3863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 rot="5400000">
                    <a:off x="1349640" y="39142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rot="5400000">
                    <a:off x="1349640" y="3965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 rot="5400000">
                    <a:off x="1350000" y="4015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5" name=""/>
                <p:cNvGrpSpPr/>
                <p:nvPr/>
              </p:nvGrpSpPr>
              <p:grpSpPr>
                <a:xfrm>
                  <a:off x="1275120" y="4140000"/>
                  <a:ext cx="198720" cy="354960"/>
                  <a:chOff x="1275120" y="4140000"/>
                  <a:chExt cx="198720" cy="354960"/>
                </a:xfrm>
              </p:grpSpPr>
              <p:sp>
                <p:nvSpPr>
                  <p:cNvPr id="2536" name=""/>
                  <p:cNvSpPr/>
                  <p:nvPr/>
                </p:nvSpPr>
                <p:spPr>
                  <a:xfrm rot="5400000">
                    <a:off x="1349280" y="40658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 rot="5400000">
                    <a:off x="1348920" y="4116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rot="5400000">
                    <a:off x="1348920" y="41673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 rot="5400000">
                    <a:off x="1349280" y="42181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 rot="5400000">
                    <a:off x="1348920" y="42688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 rot="5400000">
                    <a:off x="1348920" y="4319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 rot="5400000">
                    <a:off x="1349280" y="43704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3" name=""/>
                <p:cNvGrpSpPr/>
                <p:nvPr/>
              </p:nvGrpSpPr>
              <p:grpSpPr>
                <a:xfrm>
                  <a:off x="1275840" y="4496400"/>
                  <a:ext cx="198720" cy="354960"/>
                  <a:chOff x="1275840" y="4496400"/>
                  <a:chExt cx="198720" cy="354960"/>
                </a:xfrm>
              </p:grpSpPr>
              <p:sp>
                <p:nvSpPr>
                  <p:cNvPr id="2544" name=""/>
                  <p:cNvSpPr/>
                  <p:nvPr/>
                </p:nvSpPr>
                <p:spPr>
                  <a:xfrm rot="5400000">
                    <a:off x="1350000" y="442224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rot="5400000">
                    <a:off x="1349640" y="44726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 rot="5400000">
                    <a:off x="1349640" y="45237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 rot="5400000">
                    <a:off x="1350000" y="4574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 rot="5400000">
                    <a:off x="1349640" y="462528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 rot="5400000">
                    <a:off x="1349640" y="4676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 rot="5400000">
                    <a:off x="1350000" y="4726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1" name=""/>
                <p:cNvGrpSpPr/>
                <p:nvPr/>
              </p:nvGrpSpPr>
              <p:grpSpPr>
                <a:xfrm>
                  <a:off x="1275120" y="5562360"/>
                  <a:ext cx="198720" cy="354960"/>
                  <a:chOff x="1275120" y="5562360"/>
                  <a:chExt cx="198720" cy="35496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 rot="5400000">
                    <a:off x="1349280" y="54882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 rot="5400000">
                    <a:off x="1348920" y="55386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 rot="5400000">
                    <a:off x="1348920" y="55897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 rot="5400000">
                    <a:off x="1349280" y="56404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 rot="5400000">
                    <a:off x="1348920" y="5691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rot="5400000">
                    <a:off x="1348920" y="57420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 rot="5400000">
                    <a:off x="1349280" y="579276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9" name=""/>
                <p:cNvGrpSpPr/>
                <p:nvPr/>
              </p:nvGrpSpPr>
              <p:grpSpPr>
                <a:xfrm>
                  <a:off x="1275120" y="5206680"/>
                  <a:ext cx="198720" cy="354960"/>
                  <a:chOff x="1275120" y="5206680"/>
                  <a:chExt cx="198720" cy="35496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 rot="5400000">
                    <a:off x="1349280" y="513252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 rot="5400000">
                    <a:off x="1348920" y="51829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rot="5400000">
                    <a:off x="1348920" y="52340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 rot="5400000">
                    <a:off x="1349280" y="52848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rot="5400000">
                    <a:off x="1348920" y="533556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rot="5400000">
                    <a:off x="1348920" y="53863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rot="5400000">
                    <a:off x="1349280" y="54370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7" name=""/>
                <p:cNvGrpSpPr/>
                <p:nvPr/>
              </p:nvGrpSpPr>
              <p:grpSpPr>
                <a:xfrm>
                  <a:off x="1275120" y="4851360"/>
                  <a:ext cx="198720" cy="354960"/>
                  <a:chOff x="1275120" y="4851360"/>
                  <a:chExt cx="198720" cy="354960"/>
                </a:xfrm>
              </p:grpSpPr>
              <p:sp>
                <p:nvSpPr>
                  <p:cNvPr id="2568" name=""/>
                  <p:cNvSpPr/>
                  <p:nvPr/>
                </p:nvSpPr>
                <p:spPr>
                  <a:xfrm rot="5400000">
                    <a:off x="1349280" y="477720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rot="5400000">
                    <a:off x="1348920" y="48276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5400000">
                    <a:off x="1348920" y="487872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rot="5400000">
                    <a:off x="1349280" y="492948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rot="5400000">
                    <a:off x="1348920" y="498024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rot="5400000">
                    <a:off x="1348920" y="5031000"/>
                    <a:ext cx="5076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rot="5400000">
                    <a:off x="1349280" y="5081760"/>
                    <a:ext cx="50400" cy="19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bdbaf"/>
                      </a:gs>
                      <a:gs pos="100000">
                        <a:srgbClr val="ffff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5" name=""/>
              <p:cNvGrpSpPr/>
              <p:nvPr/>
            </p:nvGrpSpPr>
            <p:grpSpPr>
              <a:xfrm>
                <a:off x="627480" y="5207040"/>
                <a:ext cx="199080" cy="355320"/>
                <a:chOff x="627480" y="5207040"/>
                <a:chExt cx="199080" cy="355320"/>
              </a:xfrm>
            </p:grpSpPr>
            <p:sp>
              <p:nvSpPr>
                <p:cNvPr id="2576" name=""/>
                <p:cNvSpPr/>
                <p:nvPr/>
              </p:nvSpPr>
              <p:spPr>
                <a:xfrm rot="5400000">
                  <a:off x="701640" y="513252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5400000">
                  <a:off x="701640" y="518328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5400000">
                  <a:off x="701640" y="523440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5400000">
                  <a:off x="701640" y="528480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5400000">
                  <a:off x="701640" y="533592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5400000">
                  <a:off x="701640" y="538704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5400000">
                  <a:off x="701640" y="543744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627480" y="5562720"/>
                <a:ext cx="199080" cy="355320"/>
                <a:chOff x="627480" y="5562720"/>
                <a:chExt cx="199080" cy="355320"/>
              </a:xfrm>
            </p:grpSpPr>
            <p:sp>
              <p:nvSpPr>
                <p:cNvPr id="2584" name=""/>
                <p:cNvSpPr/>
                <p:nvPr/>
              </p:nvSpPr>
              <p:spPr>
                <a:xfrm rot="5400000">
                  <a:off x="701640" y="548820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5400000">
                  <a:off x="701640" y="553896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5400000">
                  <a:off x="701640" y="559008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5400000">
                  <a:off x="701640" y="564048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5400000">
                  <a:off x="701640" y="569160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5400000">
                  <a:off x="701640" y="5742720"/>
                  <a:ext cx="5076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5400000">
                  <a:off x="701640" y="5793120"/>
                  <a:ext cx="50400" cy="199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515160" y="3530520"/>
                <a:ext cx="324000" cy="457200"/>
                <a:chOff x="515160" y="3530520"/>
                <a:chExt cx="324000" cy="45720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632520" y="3530520"/>
                  <a:ext cx="19908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82200" y="3886200"/>
                  <a:ext cx="99720" cy="50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729000" y="3568680"/>
                  <a:ext cx="0" cy="5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702000" y="3596040"/>
                  <a:ext cx="5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702000" y="3733560"/>
                  <a:ext cx="5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515160" y="3587400"/>
                  <a:ext cx="32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2172960" y="3784680"/>
                <a:ext cx="199080" cy="354960"/>
                <a:chOff x="2172960" y="3784680"/>
                <a:chExt cx="199080" cy="354960"/>
              </a:xfrm>
            </p:grpSpPr>
            <p:sp>
              <p:nvSpPr>
                <p:cNvPr id="2599" name=""/>
                <p:cNvSpPr/>
                <p:nvPr/>
              </p:nvSpPr>
              <p:spPr>
                <a:xfrm rot="5400000">
                  <a:off x="2247120" y="37101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5400000">
                  <a:off x="2247120" y="37609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5400000">
                  <a:off x="2247120" y="38120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5400000">
                  <a:off x="2247120" y="386244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5400000">
                  <a:off x="2247120" y="39135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5400000">
                  <a:off x="2247120" y="396432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5400000">
                  <a:off x="2247120" y="401472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2172960" y="3429000"/>
                <a:ext cx="199080" cy="355320"/>
                <a:chOff x="2172960" y="3429000"/>
                <a:chExt cx="199080" cy="355320"/>
              </a:xfrm>
            </p:grpSpPr>
            <p:sp>
              <p:nvSpPr>
                <p:cNvPr id="2607" name=""/>
                <p:cNvSpPr/>
                <p:nvPr/>
              </p:nvSpPr>
              <p:spPr>
                <a:xfrm rot="5400000">
                  <a:off x="2247120" y="335448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5400000">
                  <a:off x="2247120" y="340524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5400000">
                  <a:off x="2247120" y="345636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5400000">
                  <a:off x="2247120" y="350676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5400000">
                  <a:off x="2247120" y="355788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5400000">
                  <a:off x="2247120" y="3609000"/>
                  <a:ext cx="5076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5400000">
                  <a:off x="2247120" y="3659400"/>
                  <a:ext cx="50400" cy="19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bdbaf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4" name=""/>
              <p:cNvSpPr/>
              <p:nvPr/>
            </p:nvSpPr>
            <p:spPr>
              <a:xfrm>
                <a:off x="1345680" y="5618880"/>
                <a:ext cx="184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239920" y="5618880"/>
                <a:ext cx="183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6" name=""/>
              <p:cNvGrpSpPr/>
              <p:nvPr/>
            </p:nvGrpSpPr>
            <p:grpSpPr>
              <a:xfrm>
                <a:off x="627120" y="4089600"/>
                <a:ext cx="199440" cy="457200"/>
                <a:chOff x="627120" y="4089600"/>
                <a:chExt cx="199440" cy="45720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627120" y="4089600"/>
                  <a:ext cx="199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4560" y="4248000"/>
                  <a:ext cx="124560" cy="1332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627120" y="4648320"/>
                <a:ext cx="199440" cy="457200"/>
                <a:chOff x="627120" y="4648320"/>
                <a:chExt cx="199440" cy="45720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627120" y="4648320"/>
                  <a:ext cx="1994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76800" y="4749840"/>
                  <a:ext cx="99720" cy="2538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2" name=""/>
            <p:cNvSpPr/>
            <p:nvPr/>
          </p:nvSpPr>
          <p:spPr>
            <a:xfrm>
              <a:off x="641520" y="20066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3" name=""/>
          <p:cNvSpPr/>
          <p:nvPr/>
        </p:nvSpPr>
        <p:spPr>
          <a:xfrm>
            <a:off x="5181480" y="990720"/>
            <a:ext cx="2895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192 Points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289548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808720" y="2017800"/>
            <a:ext cx="485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862960" y="2930040"/>
            <a:ext cx="48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266280" y="6172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70440" y="6172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785320" y="1309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740920" y="2170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5940360" y="2409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2" name=""/>
          <p:cNvGrpSpPr/>
          <p:nvPr/>
        </p:nvGrpSpPr>
        <p:grpSpPr>
          <a:xfrm>
            <a:off x="3276720" y="2743200"/>
            <a:ext cx="2643120" cy="3402000"/>
            <a:chOff x="3276720" y="2743200"/>
            <a:chExt cx="2643120" cy="3402000"/>
          </a:xfrm>
        </p:grpSpPr>
        <p:sp>
          <p:nvSpPr>
            <p:cNvPr id="2633" name=""/>
            <p:cNvSpPr/>
            <p:nvPr/>
          </p:nvSpPr>
          <p:spPr>
            <a:xfrm>
              <a:off x="3276720" y="2743200"/>
              <a:ext cx="2643120" cy="3402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376080" y="2844720"/>
              <a:ext cx="2443680" cy="3198600"/>
            </a:xfrm>
            <a:prstGeom prst="rect">
              <a:avLst/>
            </a:prstGeom>
            <a:solidFill>
              <a:srgbClr val="ffc8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3575520" y="5688360"/>
              <a:ext cx="348840" cy="202680"/>
              <a:chOff x="3575520" y="5688360"/>
              <a:chExt cx="348840" cy="202680"/>
            </a:xfrm>
          </p:grpSpPr>
          <p:sp>
            <p:nvSpPr>
              <p:cNvPr id="2636" name=""/>
              <p:cNvSpPr/>
              <p:nvPr/>
            </p:nvSpPr>
            <p:spPr>
              <a:xfrm rot="10800000">
                <a:off x="387468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rot="10800000">
                <a:off x="382500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rot="10800000">
                <a:off x="377532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rot="10800000">
                <a:off x="372528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rot="10800000">
                <a:off x="367560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rot="10800000">
                <a:off x="362556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rot="10800000">
                <a:off x="3575520" y="5688360"/>
                <a:ext cx="49680" cy="202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3576240" y="3708000"/>
              <a:ext cx="199080" cy="354960"/>
              <a:chOff x="3576240" y="3708000"/>
              <a:chExt cx="199080" cy="354960"/>
            </a:xfrm>
          </p:grpSpPr>
          <p:sp>
            <p:nvSpPr>
              <p:cNvPr id="2644" name=""/>
              <p:cNvSpPr/>
              <p:nvPr/>
            </p:nvSpPr>
            <p:spPr>
              <a:xfrm rot="5400000">
                <a:off x="3650400" y="363348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rot="5400000">
                <a:off x="3650400" y="368424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rot="5400000">
                <a:off x="3650400" y="373536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rot="5400000">
                <a:off x="3650400" y="378576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5400000">
                <a:off x="3650400" y="383688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rot="5400000">
                <a:off x="3650400" y="3887640"/>
                <a:ext cx="5076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rot="5400000">
                <a:off x="3650400" y="3938040"/>
                <a:ext cx="50400" cy="1990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3462120" y="3149280"/>
              <a:ext cx="324000" cy="456840"/>
              <a:chOff x="3462120" y="3149280"/>
              <a:chExt cx="324000" cy="456840"/>
            </a:xfrm>
          </p:grpSpPr>
          <p:sp>
            <p:nvSpPr>
              <p:cNvPr id="2652" name=""/>
              <p:cNvSpPr/>
              <p:nvPr/>
            </p:nvSpPr>
            <p:spPr>
              <a:xfrm>
                <a:off x="3568320" y="3149280"/>
                <a:ext cx="19908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618000" y="3504600"/>
                <a:ext cx="99720" cy="50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664800" y="3187080"/>
                <a:ext cx="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637800" y="3214440"/>
                <a:ext cx="5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637800" y="3352320"/>
                <a:ext cx="5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462120" y="320832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8" name=""/>
            <p:cNvSpPr/>
            <p:nvPr/>
          </p:nvSpPr>
          <p:spPr>
            <a:xfrm>
              <a:off x="3426120" y="2895480"/>
              <a:ext cx="2343960" cy="203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24800" y="3098520"/>
              <a:ext cx="2991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470920" y="3098520"/>
              <a:ext cx="2991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426120" y="3098520"/>
              <a:ext cx="99360" cy="279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2" name=""/>
            <p:cNvGrpSpPr/>
            <p:nvPr/>
          </p:nvGrpSpPr>
          <p:grpSpPr>
            <a:xfrm>
              <a:off x="3575880" y="4977360"/>
              <a:ext cx="199440" cy="456840"/>
              <a:chOff x="3575880" y="4977360"/>
              <a:chExt cx="199440" cy="456840"/>
            </a:xfrm>
          </p:grpSpPr>
          <p:sp>
            <p:nvSpPr>
              <p:cNvPr id="2663" name=""/>
              <p:cNvSpPr/>
              <p:nvPr/>
            </p:nvSpPr>
            <p:spPr>
              <a:xfrm>
                <a:off x="3575880" y="4977360"/>
                <a:ext cx="19944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613320" y="5135760"/>
                <a:ext cx="124560" cy="133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5" name=""/>
            <p:cNvGrpSpPr/>
            <p:nvPr/>
          </p:nvGrpSpPr>
          <p:grpSpPr>
            <a:xfrm>
              <a:off x="3775320" y="4977360"/>
              <a:ext cx="199080" cy="456840"/>
              <a:chOff x="3775320" y="4977360"/>
              <a:chExt cx="199080" cy="456840"/>
            </a:xfrm>
          </p:grpSpPr>
          <p:sp>
            <p:nvSpPr>
              <p:cNvPr id="2666" name=""/>
              <p:cNvSpPr/>
              <p:nvPr/>
            </p:nvSpPr>
            <p:spPr>
              <a:xfrm>
                <a:off x="3775320" y="4977360"/>
                <a:ext cx="199080" cy="4568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825000" y="5078520"/>
                <a:ext cx="99720" cy="253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8" name=""/>
            <p:cNvGrpSpPr/>
            <p:nvPr/>
          </p:nvGrpSpPr>
          <p:grpSpPr>
            <a:xfrm>
              <a:off x="4422960" y="3200040"/>
              <a:ext cx="399600" cy="2690640"/>
              <a:chOff x="4422960" y="3200040"/>
              <a:chExt cx="399600" cy="2690640"/>
            </a:xfrm>
          </p:grpSpPr>
          <p:grpSp>
            <p:nvGrpSpPr>
              <p:cNvPr id="2669" name=""/>
              <p:cNvGrpSpPr/>
              <p:nvPr/>
            </p:nvGrpSpPr>
            <p:grpSpPr>
              <a:xfrm>
                <a:off x="4523400" y="3200040"/>
                <a:ext cx="298800" cy="355320"/>
                <a:chOff x="4523400" y="3200040"/>
                <a:chExt cx="298800" cy="355320"/>
              </a:xfrm>
            </p:grpSpPr>
            <p:grpSp>
              <p:nvGrpSpPr>
                <p:cNvPr id="2670" name=""/>
                <p:cNvGrpSpPr/>
                <p:nvPr/>
              </p:nvGrpSpPr>
              <p:grpSpPr>
                <a:xfrm>
                  <a:off x="4523400" y="3200040"/>
                  <a:ext cx="298800" cy="355320"/>
                  <a:chOff x="4523400" y="3200040"/>
                  <a:chExt cx="298800" cy="355320"/>
                </a:xfrm>
              </p:grpSpPr>
              <p:sp>
                <p:nvSpPr>
                  <p:cNvPr id="2671" name=""/>
                  <p:cNvSpPr/>
                  <p:nvPr/>
                </p:nvSpPr>
                <p:spPr>
                  <a:xfrm rot="5400000">
                    <a:off x="4569840" y="330300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rot="5400000">
                    <a:off x="4420440" y="330300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3" name=""/>
                <p:cNvSpPr/>
                <p:nvPr/>
              </p:nvSpPr>
              <p:spPr>
                <a:xfrm rot="5400000">
                  <a:off x="4572720" y="325116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5400000">
                  <a:off x="4604760" y="332856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5" name=""/>
              <p:cNvGrpSpPr/>
              <p:nvPr/>
            </p:nvGrpSpPr>
            <p:grpSpPr>
              <a:xfrm>
                <a:off x="4523400" y="3555360"/>
                <a:ext cx="298800" cy="355320"/>
                <a:chOff x="4523400" y="3555360"/>
                <a:chExt cx="298800" cy="355320"/>
              </a:xfrm>
            </p:grpSpPr>
            <p:grpSp>
              <p:nvGrpSpPr>
                <p:cNvPr id="2676" name=""/>
                <p:cNvGrpSpPr/>
                <p:nvPr/>
              </p:nvGrpSpPr>
              <p:grpSpPr>
                <a:xfrm>
                  <a:off x="4523400" y="3555360"/>
                  <a:ext cx="298800" cy="355320"/>
                  <a:chOff x="4523400" y="3555360"/>
                  <a:chExt cx="298800" cy="355320"/>
                </a:xfrm>
              </p:grpSpPr>
              <p:sp>
                <p:nvSpPr>
                  <p:cNvPr id="2677" name=""/>
                  <p:cNvSpPr/>
                  <p:nvPr/>
                </p:nvSpPr>
                <p:spPr>
                  <a:xfrm rot="5400000">
                    <a:off x="4569840" y="365832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ff"/>
                      </a:gs>
                      <a:gs pos="100000">
                        <a:srgbClr val="739ac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rot="5400000">
                    <a:off x="4420440" y="365832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ff"/>
                      </a:gs>
                      <a:gs pos="100000">
                        <a:srgbClr val="739ac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9" name=""/>
                <p:cNvSpPr/>
                <p:nvPr/>
              </p:nvSpPr>
              <p:spPr>
                <a:xfrm rot="5400000">
                  <a:off x="4547160" y="3631680"/>
                  <a:ext cx="1011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5400000">
                  <a:off x="4604760" y="368388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5400000">
                  <a:off x="4547160" y="3783960"/>
                  <a:ext cx="1011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5400000">
                  <a:off x="4696920" y="3682440"/>
                  <a:ext cx="101160" cy="49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3" name=""/>
              <p:cNvGrpSpPr/>
              <p:nvPr/>
            </p:nvGrpSpPr>
            <p:grpSpPr>
              <a:xfrm>
                <a:off x="4522320" y="5687640"/>
                <a:ext cx="298800" cy="203040"/>
                <a:chOff x="4522320" y="5687640"/>
                <a:chExt cx="298800" cy="203040"/>
              </a:xfrm>
            </p:grpSpPr>
            <p:sp>
              <p:nvSpPr>
                <p:cNvPr id="2684" name=""/>
                <p:cNvSpPr/>
                <p:nvPr/>
              </p:nvSpPr>
              <p:spPr>
                <a:xfrm rot="5400000">
                  <a:off x="46447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5400000">
                  <a:off x="44953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5400000">
                  <a:off x="4571280" y="573840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5400000">
                  <a:off x="4571280" y="578952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4424040" y="3910680"/>
                <a:ext cx="398520" cy="710640"/>
                <a:chOff x="4424040" y="3910680"/>
                <a:chExt cx="398520" cy="710640"/>
              </a:xfrm>
            </p:grpSpPr>
            <p:grpSp>
              <p:nvGrpSpPr>
                <p:cNvPr id="2689" name=""/>
                <p:cNvGrpSpPr/>
                <p:nvPr/>
              </p:nvGrpSpPr>
              <p:grpSpPr>
                <a:xfrm>
                  <a:off x="4424040" y="3910680"/>
                  <a:ext cx="398520" cy="355320"/>
                  <a:chOff x="4424040" y="3910680"/>
                  <a:chExt cx="398520" cy="355320"/>
                </a:xfrm>
              </p:grpSpPr>
              <p:sp>
                <p:nvSpPr>
                  <p:cNvPr id="2690" name=""/>
                  <p:cNvSpPr/>
                  <p:nvPr/>
                </p:nvSpPr>
                <p:spPr>
                  <a:xfrm rot="5400000">
                    <a:off x="4570200" y="401364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 rot="5400000">
                    <a:off x="4605120" y="4039200"/>
                    <a:ext cx="28548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2" name=""/>
                  <p:cNvGrpSpPr/>
                  <p:nvPr/>
                </p:nvGrpSpPr>
                <p:grpSpPr>
                  <a:xfrm>
                    <a:off x="4723200" y="3990960"/>
                    <a:ext cx="49680" cy="203040"/>
                    <a:chOff x="4723200" y="3990960"/>
                    <a:chExt cx="49680" cy="203040"/>
                  </a:xfrm>
                </p:grpSpPr>
                <p:sp>
                  <p:nvSpPr>
                    <p:cNvPr id="2693" name=""/>
                    <p:cNvSpPr/>
                    <p:nvPr/>
                  </p:nvSpPr>
                  <p:spPr>
                    <a:xfrm flipH="1">
                      <a:off x="4723200" y="39909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flipH="1">
                      <a:off x="4723200" y="404172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 flipH="1">
                      <a:off x="4723200" y="40924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 flipH="1">
                      <a:off x="4723200" y="41432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7" name=""/>
                    <p:cNvSpPr/>
                    <p:nvPr/>
                  </p:nvSpPr>
                  <p:spPr>
                    <a:xfrm flipH="1">
                      <a:off x="4723200" y="41940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8" name=""/>
                  <p:cNvGrpSpPr/>
                  <p:nvPr/>
                </p:nvGrpSpPr>
                <p:grpSpPr>
                  <a:xfrm>
                    <a:off x="4424040" y="3910680"/>
                    <a:ext cx="149400" cy="355320"/>
                    <a:chOff x="4424040" y="3910680"/>
                    <a:chExt cx="149400" cy="355320"/>
                  </a:xfrm>
                </p:grpSpPr>
                <p:sp>
                  <p:nvSpPr>
                    <p:cNvPr id="2699" name=""/>
                    <p:cNvSpPr/>
                    <p:nvPr/>
                  </p:nvSpPr>
                  <p:spPr>
                    <a:xfrm rot="5400000">
                      <a:off x="4321080" y="40136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454248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449892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4457160" y="396360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3" name=""/>
                  <p:cNvGrpSpPr/>
                  <p:nvPr/>
                </p:nvGrpSpPr>
                <p:grpSpPr>
                  <a:xfrm>
                    <a:off x="4573800" y="3910680"/>
                    <a:ext cx="99360" cy="355320"/>
                    <a:chOff x="4573800" y="3910680"/>
                    <a:chExt cx="99360" cy="355320"/>
                  </a:xfrm>
                </p:grpSpPr>
                <p:sp>
                  <p:nvSpPr>
                    <p:cNvPr id="2704" name=""/>
                    <p:cNvSpPr/>
                    <p:nvPr/>
                  </p:nvSpPr>
                  <p:spPr>
                    <a:xfrm rot="5400000">
                      <a:off x="4445640" y="4038480"/>
                      <a:ext cx="35532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05" name=""/>
                    <p:cNvGrpSpPr/>
                    <p:nvPr/>
                  </p:nvGrpSpPr>
                  <p:grpSpPr>
                    <a:xfrm>
                      <a:off x="4598640" y="3965760"/>
                      <a:ext cx="49680" cy="253080"/>
                      <a:chOff x="4598640" y="3965760"/>
                      <a:chExt cx="49680" cy="253080"/>
                    </a:xfrm>
                  </p:grpSpPr>
                  <p:sp>
                    <p:nvSpPr>
                      <p:cNvPr id="2706" name=""/>
                      <p:cNvSpPr/>
                      <p:nvPr/>
                    </p:nvSpPr>
                    <p:spPr>
                      <a:xfrm rot="5400000">
                        <a:off x="4597920" y="396612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7" name=""/>
                      <p:cNvSpPr/>
                      <p:nvPr/>
                    </p:nvSpPr>
                    <p:spPr>
                      <a:xfrm rot="5400000">
                        <a:off x="4597920" y="406728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8" name=""/>
                      <p:cNvSpPr/>
                      <p:nvPr/>
                    </p:nvSpPr>
                    <p:spPr>
                      <a:xfrm rot="5400000">
                        <a:off x="4598280" y="416880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09" name=""/>
                <p:cNvGrpSpPr/>
                <p:nvPr/>
              </p:nvGrpSpPr>
              <p:grpSpPr>
                <a:xfrm>
                  <a:off x="4424040" y="4266000"/>
                  <a:ext cx="398520" cy="355320"/>
                  <a:chOff x="4424040" y="4266000"/>
                  <a:chExt cx="398520" cy="355320"/>
                </a:xfrm>
              </p:grpSpPr>
              <p:sp>
                <p:nvSpPr>
                  <p:cNvPr id="2710" name=""/>
                  <p:cNvSpPr/>
                  <p:nvPr/>
                </p:nvSpPr>
                <p:spPr>
                  <a:xfrm rot="5400000">
                    <a:off x="4570200" y="436896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rot="5400000">
                    <a:off x="4605120" y="4394520"/>
                    <a:ext cx="28548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2" name=""/>
                  <p:cNvGrpSpPr/>
                  <p:nvPr/>
                </p:nvGrpSpPr>
                <p:grpSpPr>
                  <a:xfrm>
                    <a:off x="4723200" y="4346280"/>
                    <a:ext cx="49680" cy="203040"/>
                    <a:chOff x="4723200" y="4346280"/>
                    <a:chExt cx="49680" cy="203040"/>
                  </a:xfrm>
                </p:grpSpPr>
                <p:sp>
                  <p:nvSpPr>
                    <p:cNvPr id="2713" name=""/>
                    <p:cNvSpPr/>
                    <p:nvPr/>
                  </p:nvSpPr>
                  <p:spPr>
                    <a:xfrm flipH="1">
                      <a:off x="4723200" y="43462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 flipH="1">
                      <a:off x="4723200" y="43970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 flipH="1">
                      <a:off x="4723200" y="44478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 flipH="1">
                      <a:off x="4723200" y="44985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 flipH="1">
                      <a:off x="4723200" y="454932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8" name=""/>
                  <p:cNvGrpSpPr/>
                  <p:nvPr/>
                </p:nvGrpSpPr>
                <p:grpSpPr>
                  <a:xfrm>
                    <a:off x="4424040" y="4266000"/>
                    <a:ext cx="149400" cy="355320"/>
                    <a:chOff x="4424040" y="4266000"/>
                    <a:chExt cx="149400" cy="355320"/>
                  </a:xfrm>
                </p:grpSpPr>
                <p:sp>
                  <p:nvSpPr>
                    <p:cNvPr id="2719" name=""/>
                    <p:cNvSpPr/>
                    <p:nvPr/>
                  </p:nvSpPr>
                  <p:spPr>
                    <a:xfrm rot="5400000">
                      <a:off x="4321080" y="436896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454248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449892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4457160" y="4318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3" name=""/>
                  <p:cNvGrpSpPr/>
                  <p:nvPr/>
                </p:nvGrpSpPr>
                <p:grpSpPr>
                  <a:xfrm>
                    <a:off x="4573800" y="4266000"/>
                    <a:ext cx="99360" cy="355320"/>
                    <a:chOff x="4573800" y="4266000"/>
                    <a:chExt cx="99360" cy="355320"/>
                  </a:xfrm>
                </p:grpSpPr>
                <p:sp>
                  <p:nvSpPr>
                    <p:cNvPr id="2724" name=""/>
                    <p:cNvSpPr/>
                    <p:nvPr/>
                  </p:nvSpPr>
                  <p:spPr>
                    <a:xfrm rot="5400000">
                      <a:off x="4445640" y="4393800"/>
                      <a:ext cx="35532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25" name=""/>
                    <p:cNvGrpSpPr/>
                    <p:nvPr/>
                  </p:nvGrpSpPr>
                  <p:grpSpPr>
                    <a:xfrm>
                      <a:off x="4598640" y="4321080"/>
                      <a:ext cx="49680" cy="253080"/>
                      <a:chOff x="4598640" y="4321080"/>
                      <a:chExt cx="49680" cy="253080"/>
                    </a:xfrm>
                  </p:grpSpPr>
                  <p:sp>
                    <p:nvSpPr>
                      <p:cNvPr id="2726" name=""/>
                      <p:cNvSpPr/>
                      <p:nvPr/>
                    </p:nvSpPr>
                    <p:spPr>
                      <a:xfrm rot="5400000">
                        <a:off x="4597920" y="432144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7" name=""/>
                      <p:cNvSpPr/>
                      <p:nvPr/>
                    </p:nvSpPr>
                    <p:spPr>
                      <a:xfrm rot="5400000">
                        <a:off x="4597920" y="442260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8" name=""/>
                      <p:cNvSpPr/>
                      <p:nvPr/>
                    </p:nvSpPr>
                    <p:spPr>
                      <a:xfrm rot="5400000">
                        <a:off x="4598280" y="452412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729" name=""/>
              <p:cNvGrpSpPr/>
              <p:nvPr/>
            </p:nvGrpSpPr>
            <p:grpSpPr>
              <a:xfrm>
                <a:off x="4422960" y="4620600"/>
                <a:ext cx="398520" cy="354960"/>
                <a:chOff x="4422960" y="4620600"/>
                <a:chExt cx="398520" cy="354960"/>
              </a:xfrm>
            </p:grpSpPr>
            <p:sp>
              <p:nvSpPr>
                <p:cNvPr id="2730" name=""/>
                <p:cNvSpPr/>
                <p:nvPr/>
              </p:nvSpPr>
              <p:spPr>
                <a:xfrm rot="5400000">
                  <a:off x="4569120" y="4723200"/>
                  <a:ext cx="35496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5400000">
                  <a:off x="4604400" y="4749120"/>
                  <a:ext cx="28512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2" name=""/>
                <p:cNvGrpSpPr/>
                <p:nvPr/>
              </p:nvGrpSpPr>
              <p:grpSpPr>
                <a:xfrm>
                  <a:off x="4722120" y="4700520"/>
                  <a:ext cx="49680" cy="202680"/>
                  <a:chOff x="4722120" y="4700520"/>
                  <a:chExt cx="49680" cy="202680"/>
                </a:xfrm>
              </p:grpSpPr>
              <p:sp>
                <p:nvSpPr>
                  <p:cNvPr id="2733" name=""/>
                  <p:cNvSpPr/>
                  <p:nvPr/>
                </p:nvSpPr>
                <p:spPr>
                  <a:xfrm flipH="1">
                    <a:off x="4722120" y="47005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H="1">
                    <a:off x="4722120" y="47512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>
                    <a:off x="4722120" y="48020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H="1">
                    <a:off x="4722120" y="48524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H="1">
                    <a:off x="4722120" y="49032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8" name=""/>
                <p:cNvGrpSpPr/>
                <p:nvPr/>
              </p:nvGrpSpPr>
              <p:grpSpPr>
                <a:xfrm>
                  <a:off x="4422960" y="4620600"/>
                  <a:ext cx="149400" cy="354960"/>
                  <a:chOff x="4422960" y="4620600"/>
                  <a:chExt cx="149400" cy="354960"/>
                </a:xfrm>
              </p:grpSpPr>
              <p:sp>
                <p:nvSpPr>
                  <p:cNvPr id="2739" name=""/>
                  <p:cNvSpPr/>
                  <p:nvPr/>
                </p:nvSpPr>
                <p:spPr>
                  <a:xfrm rot="5400000">
                    <a:off x="4320000" y="4723200"/>
                    <a:ext cx="35496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454140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449784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4456080" y="4673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3" name=""/>
                <p:cNvGrpSpPr/>
                <p:nvPr/>
              </p:nvGrpSpPr>
              <p:grpSpPr>
                <a:xfrm>
                  <a:off x="4572720" y="4620600"/>
                  <a:ext cx="99360" cy="354960"/>
                  <a:chOff x="4572720" y="4620600"/>
                  <a:chExt cx="99360" cy="354960"/>
                </a:xfrm>
              </p:grpSpPr>
              <p:sp>
                <p:nvSpPr>
                  <p:cNvPr id="2744" name=""/>
                  <p:cNvSpPr/>
                  <p:nvPr/>
                </p:nvSpPr>
                <p:spPr>
                  <a:xfrm rot="5400000">
                    <a:off x="4444920" y="4748400"/>
                    <a:ext cx="35496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5" name=""/>
                  <p:cNvGrpSpPr/>
                  <p:nvPr/>
                </p:nvGrpSpPr>
                <p:grpSpPr>
                  <a:xfrm>
                    <a:off x="4597560" y="4675680"/>
                    <a:ext cx="49680" cy="253080"/>
                    <a:chOff x="4597560" y="4675680"/>
                    <a:chExt cx="49680" cy="253080"/>
                  </a:xfrm>
                </p:grpSpPr>
                <p:sp>
                  <p:nvSpPr>
                    <p:cNvPr id="2746" name=""/>
                    <p:cNvSpPr/>
                    <p:nvPr/>
                  </p:nvSpPr>
                  <p:spPr>
                    <a:xfrm rot="5400000">
                      <a:off x="4596840" y="467604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 rot="5400000">
                      <a:off x="4596840" y="477720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 rot="5400000">
                      <a:off x="4597200" y="487872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49" name=""/>
              <p:cNvGrpSpPr/>
              <p:nvPr/>
            </p:nvGrpSpPr>
            <p:grpSpPr>
              <a:xfrm>
                <a:off x="4422960" y="4975920"/>
                <a:ext cx="398520" cy="355320"/>
                <a:chOff x="4422960" y="4975920"/>
                <a:chExt cx="398520" cy="355320"/>
              </a:xfrm>
            </p:grpSpPr>
            <p:sp>
              <p:nvSpPr>
                <p:cNvPr id="2750" name=""/>
                <p:cNvSpPr/>
                <p:nvPr/>
              </p:nvSpPr>
              <p:spPr>
                <a:xfrm rot="5400000">
                  <a:off x="4569120" y="5078880"/>
                  <a:ext cx="35532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5400000">
                  <a:off x="4604040" y="510444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2" name=""/>
                <p:cNvGrpSpPr/>
                <p:nvPr/>
              </p:nvGrpSpPr>
              <p:grpSpPr>
                <a:xfrm>
                  <a:off x="4722120" y="5056200"/>
                  <a:ext cx="49680" cy="203040"/>
                  <a:chOff x="4722120" y="5056200"/>
                  <a:chExt cx="49680" cy="20304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 flipH="1">
                    <a:off x="4722120" y="50562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H="1">
                    <a:off x="4722120" y="510696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flipH="1">
                    <a:off x="4722120" y="51577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 flipH="1">
                    <a:off x="4722120" y="52084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H="1">
                    <a:off x="4722120" y="52592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8" name=""/>
                <p:cNvGrpSpPr/>
                <p:nvPr/>
              </p:nvGrpSpPr>
              <p:grpSpPr>
                <a:xfrm>
                  <a:off x="4422960" y="4975920"/>
                  <a:ext cx="149400" cy="355320"/>
                  <a:chOff x="4422960" y="4975920"/>
                  <a:chExt cx="149400" cy="355320"/>
                </a:xfrm>
              </p:grpSpPr>
              <p:sp>
                <p:nvSpPr>
                  <p:cNvPr id="2759" name=""/>
                  <p:cNvSpPr/>
                  <p:nvPr/>
                </p:nvSpPr>
                <p:spPr>
                  <a:xfrm rot="5400000">
                    <a:off x="4320000" y="507888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454140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449784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4456080" y="50288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3" name=""/>
                <p:cNvGrpSpPr/>
                <p:nvPr/>
              </p:nvGrpSpPr>
              <p:grpSpPr>
                <a:xfrm>
                  <a:off x="4572720" y="4975920"/>
                  <a:ext cx="99360" cy="355320"/>
                  <a:chOff x="4572720" y="4975920"/>
                  <a:chExt cx="99360" cy="355320"/>
                </a:xfrm>
              </p:grpSpPr>
              <p:sp>
                <p:nvSpPr>
                  <p:cNvPr id="2764" name=""/>
                  <p:cNvSpPr/>
                  <p:nvPr/>
                </p:nvSpPr>
                <p:spPr>
                  <a:xfrm rot="5400000">
                    <a:off x="4444560" y="5103720"/>
                    <a:ext cx="35532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4597560" y="5031000"/>
                    <a:ext cx="49680" cy="253080"/>
                    <a:chOff x="4597560" y="5031000"/>
                    <a:chExt cx="49680" cy="253080"/>
                  </a:xfrm>
                </p:grpSpPr>
                <p:sp>
                  <p:nvSpPr>
                    <p:cNvPr id="2766" name=""/>
                    <p:cNvSpPr/>
                    <p:nvPr/>
                  </p:nvSpPr>
                  <p:spPr>
                    <a:xfrm rot="5400000">
                      <a:off x="4596840" y="503136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 rot="5400000">
                      <a:off x="4596840" y="513252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 rot="5400000">
                      <a:off x="4597200" y="523404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69" name=""/>
              <p:cNvGrpSpPr/>
              <p:nvPr/>
            </p:nvGrpSpPr>
            <p:grpSpPr>
              <a:xfrm>
                <a:off x="4424040" y="5332320"/>
                <a:ext cx="398520" cy="355320"/>
                <a:chOff x="4424040" y="5332320"/>
                <a:chExt cx="398520" cy="355320"/>
              </a:xfrm>
            </p:grpSpPr>
            <p:sp>
              <p:nvSpPr>
                <p:cNvPr id="2770" name=""/>
                <p:cNvSpPr/>
                <p:nvPr/>
              </p:nvSpPr>
              <p:spPr>
                <a:xfrm rot="5400000">
                  <a:off x="4570200" y="5435280"/>
                  <a:ext cx="35532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5400000">
                  <a:off x="4605120" y="5460840"/>
                  <a:ext cx="285480" cy="99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2" name=""/>
                <p:cNvGrpSpPr/>
                <p:nvPr/>
              </p:nvGrpSpPr>
              <p:grpSpPr>
                <a:xfrm>
                  <a:off x="4723200" y="5412600"/>
                  <a:ext cx="49680" cy="203040"/>
                  <a:chOff x="4723200" y="5412600"/>
                  <a:chExt cx="49680" cy="203040"/>
                </a:xfrm>
              </p:grpSpPr>
              <p:sp>
                <p:nvSpPr>
                  <p:cNvPr id="2773" name=""/>
                  <p:cNvSpPr/>
                  <p:nvPr/>
                </p:nvSpPr>
                <p:spPr>
                  <a:xfrm flipH="1">
                    <a:off x="4723200" y="541260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 flipH="1">
                    <a:off x="4723200" y="546336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 flipH="1">
                    <a:off x="4723200" y="551412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>
                    <a:off x="4723200" y="556488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4723200" y="5615640"/>
                    <a:ext cx="49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8" name=""/>
                <p:cNvGrpSpPr/>
                <p:nvPr/>
              </p:nvGrpSpPr>
              <p:grpSpPr>
                <a:xfrm>
                  <a:off x="4424040" y="5332320"/>
                  <a:ext cx="149400" cy="355320"/>
                  <a:chOff x="4424040" y="5332320"/>
                  <a:chExt cx="149400" cy="355320"/>
                </a:xfrm>
              </p:grpSpPr>
              <p:sp>
                <p:nvSpPr>
                  <p:cNvPr id="2779" name=""/>
                  <p:cNvSpPr/>
                  <p:nvPr/>
                </p:nvSpPr>
                <p:spPr>
                  <a:xfrm rot="5400000">
                    <a:off x="4321080" y="5435280"/>
                    <a:ext cx="35532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454248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449892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4457160" y="538524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3" name=""/>
                <p:cNvGrpSpPr/>
                <p:nvPr/>
              </p:nvGrpSpPr>
              <p:grpSpPr>
                <a:xfrm>
                  <a:off x="4573800" y="5332320"/>
                  <a:ext cx="99360" cy="355320"/>
                  <a:chOff x="4573800" y="5332320"/>
                  <a:chExt cx="99360" cy="355320"/>
                </a:xfrm>
              </p:grpSpPr>
              <p:sp>
                <p:nvSpPr>
                  <p:cNvPr id="2784" name=""/>
                  <p:cNvSpPr/>
                  <p:nvPr/>
                </p:nvSpPr>
                <p:spPr>
                  <a:xfrm rot="5400000">
                    <a:off x="4445640" y="5460120"/>
                    <a:ext cx="35532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4598640" y="5387400"/>
                    <a:ext cx="49680" cy="253080"/>
                    <a:chOff x="4598640" y="5387400"/>
                    <a:chExt cx="49680" cy="253080"/>
                  </a:xfrm>
                </p:grpSpPr>
                <p:sp>
                  <p:nvSpPr>
                    <p:cNvPr id="2786" name=""/>
                    <p:cNvSpPr/>
                    <p:nvPr/>
                  </p:nvSpPr>
                  <p:spPr>
                    <a:xfrm rot="5400000">
                      <a:off x="4597920" y="538776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 rot="5400000">
                      <a:off x="4597920" y="5488920"/>
                      <a:ext cx="5076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 rot="5400000">
                      <a:off x="4598280" y="5590440"/>
                      <a:ext cx="50400" cy="496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89" name=""/>
            <p:cNvGrpSpPr/>
            <p:nvPr/>
          </p:nvGrpSpPr>
          <p:grpSpPr>
            <a:xfrm>
              <a:off x="4972320" y="3199680"/>
              <a:ext cx="398520" cy="2691000"/>
              <a:chOff x="4972320" y="3199680"/>
              <a:chExt cx="398520" cy="2691000"/>
            </a:xfrm>
          </p:grpSpPr>
          <p:grpSp>
            <p:nvGrpSpPr>
              <p:cNvPr id="2790" name=""/>
              <p:cNvGrpSpPr/>
              <p:nvPr/>
            </p:nvGrpSpPr>
            <p:grpSpPr>
              <a:xfrm>
                <a:off x="4972320" y="5687640"/>
                <a:ext cx="298800" cy="203040"/>
                <a:chOff x="4972320" y="5687640"/>
                <a:chExt cx="298800" cy="203040"/>
              </a:xfrm>
            </p:grpSpPr>
            <p:sp>
              <p:nvSpPr>
                <p:cNvPr id="2791" name=""/>
                <p:cNvSpPr/>
                <p:nvPr/>
              </p:nvSpPr>
              <p:spPr>
                <a:xfrm rot="16200000">
                  <a:off x="49453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16200000">
                  <a:off x="5094720" y="5714280"/>
                  <a:ext cx="203040" cy="14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16200000">
                  <a:off x="5171040" y="578988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16200000">
                  <a:off x="5171040" y="5738760"/>
                  <a:ext cx="50760" cy="496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4972320" y="3199680"/>
                <a:ext cx="398520" cy="2487600"/>
                <a:chOff x="4972320" y="3199680"/>
                <a:chExt cx="398520" cy="2487600"/>
              </a:xfrm>
            </p:grpSpPr>
            <p:grpSp>
              <p:nvGrpSpPr>
                <p:cNvPr id="2796" name=""/>
                <p:cNvGrpSpPr/>
                <p:nvPr/>
              </p:nvGrpSpPr>
              <p:grpSpPr>
                <a:xfrm>
                  <a:off x="4972320" y="5332320"/>
                  <a:ext cx="398520" cy="354960"/>
                  <a:chOff x="4972320" y="5332320"/>
                  <a:chExt cx="398520" cy="35496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 rot="16200000">
                    <a:off x="4869360" y="5434920"/>
                    <a:ext cx="354960" cy="149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rot="16200000">
                    <a:off x="4904280" y="5459400"/>
                    <a:ext cx="285120" cy="99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99" name=""/>
                  <p:cNvGrpSpPr/>
                  <p:nvPr/>
                </p:nvGrpSpPr>
                <p:grpSpPr>
                  <a:xfrm>
                    <a:off x="5022000" y="5404680"/>
                    <a:ext cx="49680" cy="202680"/>
                    <a:chOff x="5022000" y="5404680"/>
                    <a:chExt cx="49680" cy="202680"/>
                  </a:xfrm>
                </p:grpSpPr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5022000" y="560736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5022000" y="555660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5022000" y="55058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5022000" y="545544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5022000" y="5404680"/>
                      <a:ext cx="49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5" name=""/>
                  <p:cNvGrpSpPr/>
                  <p:nvPr/>
                </p:nvGrpSpPr>
                <p:grpSpPr>
                  <a:xfrm>
                    <a:off x="5221440" y="5332320"/>
                    <a:ext cx="149400" cy="354960"/>
                    <a:chOff x="5221440" y="5332320"/>
                    <a:chExt cx="149400" cy="354960"/>
                  </a:xfrm>
                </p:grpSpPr>
                <p:sp>
                  <p:nvSpPr>
                    <p:cNvPr id="2806" name=""/>
                    <p:cNvSpPr/>
                    <p:nvPr/>
                  </p:nvSpPr>
                  <p:spPr>
                    <a:xfrm rot="16200000">
                      <a:off x="5118480" y="5434920"/>
                      <a:ext cx="35496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 flipV="1">
                      <a:off x="525240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 flipV="1">
                      <a:off x="529596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 flipV="1">
                      <a:off x="5337720" y="5380920"/>
                      <a:ext cx="0" cy="25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0" name=""/>
                  <p:cNvGrpSpPr/>
                  <p:nvPr/>
                </p:nvGrpSpPr>
                <p:grpSpPr>
                  <a:xfrm>
                    <a:off x="5121720" y="5332320"/>
                    <a:ext cx="99360" cy="354960"/>
                    <a:chOff x="5121720" y="5332320"/>
                    <a:chExt cx="99360" cy="354960"/>
                  </a:xfrm>
                </p:grpSpPr>
                <p:sp>
                  <p:nvSpPr>
                    <p:cNvPr id="2811" name=""/>
                    <p:cNvSpPr/>
                    <p:nvPr/>
                  </p:nvSpPr>
                  <p:spPr>
                    <a:xfrm rot="16200000">
                      <a:off x="4993920" y="5460120"/>
                      <a:ext cx="354960" cy="99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2" name=""/>
                    <p:cNvGrpSpPr/>
                    <p:nvPr/>
                  </p:nvGrpSpPr>
                  <p:grpSpPr>
                    <a:xfrm>
                      <a:off x="5146560" y="5379120"/>
                      <a:ext cx="49680" cy="253080"/>
                      <a:chOff x="5146560" y="5379120"/>
                      <a:chExt cx="49680" cy="253080"/>
                    </a:xfrm>
                  </p:grpSpPr>
                  <p:sp>
                    <p:nvSpPr>
                      <p:cNvPr id="2813" name=""/>
                      <p:cNvSpPr/>
                      <p:nvPr/>
                    </p:nvSpPr>
                    <p:spPr>
                      <a:xfrm rot="16200000">
                        <a:off x="5145840" y="558180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4" name=""/>
                      <p:cNvSpPr/>
                      <p:nvPr/>
                    </p:nvSpPr>
                    <p:spPr>
                      <a:xfrm rot="16200000">
                        <a:off x="5145840" y="5480640"/>
                        <a:ext cx="5076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5" name=""/>
                      <p:cNvSpPr/>
                      <p:nvPr/>
                    </p:nvSpPr>
                    <p:spPr>
                      <a:xfrm rot="16200000">
                        <a:off x="5146200" y="5379480"/>
                        <a:ext cx="50400" cy="49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816" name=""/>
                <p:cNvGrpSpPr/>
                <p:nvPr/>
              </p:nvGrpSpPr>
              <p:grpSpPr>
                <a:xfrm>
                  <a:off x="4972320" y="3910320"/>
                  <a:ext cx="398520" cy="710640"/>
                  <a:chOff x="4972320" y="3910320"/>
                  <a:chExt cx="398520" cy="710640"/>
                </a:xfrm>
              </p:grpSpPr>
              <p:grpSp>
                <p:nvGrpSpPr>
                  <p:cNvPr id="2817" name=""/>
                  <p:cNvGrpSpPr/>
                  <p:nvPr/>
                </p:nvGrpSpPr>
                <p:grpSpPr>
                  <a:xfrm>
                    <a:off x="4972320" y="3910320"/>
                    <a:ext cx="398520" cy="355320"/>
                    <a:chOff x="4972320" y="3910320"/>
                    <a:chExt cx="398520" cy="355320"/>
                  </a:xfrm>
                </p:grpSpPr>
                <p:sp>
                  <p:nvSpPr>
                    <p:cNvPr id="2818" name=""/>
                    <p:cNvSpPr/>
                    <p:nvPr/>
                  </p:nvSpPr>
                  <p:spPr>
                    <a:xfrm rot="16200000">
                      <a:off x="4869360" y="401328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 rot="16200000">
                      <a:off x="4903920" y="403740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0" name=""/>
                    <p:cNvGrpSpPr/>
                    <p:nvPr/>
                  </p:nvGrpSpPr>
                  <p:grpSpPr>
                    <a:xfrm>
                      <a:off x="5022000" y="3982320"/>
                      <a:ext cx="49680" cy="203040"/>
                      <a:chOff x="5022000" y="3982320"/>
                      <a:chExt cx="49680" cy="203040"/>
                    </a:xfrm>
                  </p:grpSpPr>
                  <p:sp>
                    <p:nvSpPr>
                      <p:cNvPr id="2821" name=""/>
                      <p:cNvSpPr/>
                      <p:nvPr/>
                    </p:nvSpPr>
                    <p:spPr>
                      <a:xfrm>
                        <a:off x="5022000" y="41853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2" name=""/>
                      <p:cNvSpPr/>
                      <p:nvPr/>
                    </p:nvSpPr>
                    <p:spPr>
                      <a:xfrm>
                        <a:off x="5022000" y="41346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3" name=""/>
                      <p:cNvSpPr/>
                      <p:nvPr/>
                    </p:nvSpPr>
                    <p:spPr>
                      <a:xfrm>
                        <a:off x="5022000" y="40838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4" name=""/>
                      <p:cNvSpPr/>
                      <p:nvPr/>
                    </p:nvSpPr>
                    <p:spPr>
                      <a:xfrm>
                        <a:off x="5022000" y="40330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5" name=""/>
                      <p:cNvSpPr/>
                      <p:nvPr/>
                    </p:nvSpPr>
                    <p:spPr>
                      <a:xfrm>
                        <a:off x="5022000" y="39823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26" name=""/>
                    <p:cNvGrpSpPr/>
                    <p:nvPr/>
                  </p:nvGrpSpPr>
                  <p:grpSpPr>
                    <a:xfrm>
                      <a:off x="5221440" y="3910320"/>
                      <a:ext cx="149400" cy="355320"/>
                      <a:chOff x="5221440" y="3910320"/>
                      <a:chExt cx="149400" cy="355320"/>
                    </a:xfrm>
                  </p:grpSpPr>
                  <p:sp>
                    <p:nvSpPr>
                      <p:cNvPr id="2827" name=""/>
                      <p:cNvSpPr/>
                      <p:nvPr/>
                    </p:nvSpPr>
                    <p:spPr>
                      <a:xfrm rot="16200000">
                        <a:off x="5118480" y="401328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8" name=""/>
                      <p:cNvSpPr/>
                      <p:nvPr/>
                    </p:nvSpPr>
                    <p:spPr>
                      <a:xfrm flipV="1">
                        <a:off x="525240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9" name=""/>
                      <p:cNvSpPr/>
                      <p:nvPr/>
                    </p:nvSpPr>
                    <p:spPr>
                      <a:xfrm flipV="1">
                        <a:off x="529596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0" name=""/>
                      <p:cNvSpPr/>
                      <p:nvPr/>
                    </p:nvSpPr>
                    <p:spPr>
                      <a:xfrm flipV="1">
                        <a:off x="5337720" y="395928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1" name=""/>
                    <p:cNvGrpSpPr/>
                    <p:nvPr/>
                  </p:nvGrpSpPr>
                  <p:grpSpPr>
                    <a:xfrm>
                      <a:off x="5121720" y="3910320"/>
                      <a:ext cx="99360" cy="355320"/>
                      <a:chOff x="5121720" y="3910320"/>
                      <a:chExt cx="99360" cy="355320"/>
                    </a:xfrm>
                  </p:grpSpPr>
                  <p:sp>
                    <p:nvSpPr>
                      <p:cNvPr id="2832" name=""/>
                      <p:cNvSpPr/>
                      <p:nvPr/>
                    </p:nvSpPr>
                    <p:spPr>
                      <a:xfrm rot="16200000">
                        <a:off x="4993560" y="403812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33" name=""/>
                      <p:cNvGrpSpPr/>
                      <p:nvPr/>
                    </p:nvGrpSpPr>
                    <p:grpSpPr>
                      <a:xfrm>
                        <a:off x="5146560" y="3957480"/>
                        <a:ext cx="49680" cy="253080"/>
                        <a:chOff x="5146560" y="3957480"/>
                        <a:chExt cx="49680" cy="253080"/>
                      </a:xfrm>
                    </p:grpSpPr>
                    <p:sp>
                      <p:nvSpPr>
                        <p:cNvPr id="2834" name=""/>
                        <p:cNvSpPr/>
                        <p:nvPr/>
                      </p:nvSpPr>
                      <p:spPr>
                        <a:xfrm rot="16200000">
                          <a:off x="5145840" y="41601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5" name=""/>
                        <p:cNvSpPr/>
                        <p:nvPr/>
                      </p:nvSpPr>
                      <p:spPr>
                        <a:xfrm rot="16200000">
                          <a:off x="5145840" y="405900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6" name=""/>
                        <p:cNvSpPr/>
                        <p:nvPr/>
                      </p:nvSpPr>
                      <p:spPr>
                        <a:xfrm rot="16200000">
                          <a:off x="5146200" y="395784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37" name=""/>
                  <p:cNvGrpSpPr/>
                  <p:nvPr/>
                </p:nvGrpSpPr>
                <p:grpSpPr>
                  <a:xfrm>
                    <a:off x="4972320" y="4265640"/>
                    <a:ext cx="398520" cy="355320"/>
                    <a:chOff x="4972320" y="4265640"/>
                    <a:chExt cx="398520" cy="355320"/>
                  </a:xfrm>
                </p:grpSpPr>
                <p:sp>
                  <p:nvSpPr>
                    <p:cNvPr id="2838" name=""/>
                    <p:cNvSpPr/>
                    <p:nvPr/>
                  </p:nvSpPr>
                  <p:spPr>
                    <a:xfrm rot="16200000">
                      <a:off x="4869360" y="436860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 rot="16200000">
                      <a:off x="4903920" y="439272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40" name=""/>
                    <p:cNvGrpSpPr/>
                    <p:nvPr/>
                  </p:nvGrpSpPr>
                  <p:grpSpPr>
                    <a:xfrm>
                      <a:off x="5022000" y="4337640"/>
                      <a:ext cx="49680" cy="203040"/>
                      <a:chOff x="5022000" y="4337640"/>
                      <a:chExt cx="49680" cy="203040"/>
                    </a:xfrm>
                  </p:grpSpPr>
                  <p:sp>
                    <p:nvSpPr>
                      <p:cNvPr id="2841" name=""/>
                      <p:cNvSpPr/>
                      <p:nvPr/>
                    </p:nvSpPr>
                    <p:spPr>
                      <a:xfrm>
                        <a:off x="5022000" y="45406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2" name=""/>
                      <p:cNvSpPr/>
                      <p:nvPr/>
                    </p:nvSpPr>
                    <p:spPr>
                      <a:xfrm>
                        <a:off x="5022000" y="44899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3" name=""/>
                      <p:cNvSpPr/>
                      <p:nvPr/>
                    </p:nvSpPr>
                    <p:spPr>
                      <a:xfrm>
                        <a:off x="5022000" y="44391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4" name=""/>
                      <p:cNvSpPr/>
                      <p:nvPr/>
                    </p:nvSpPr>
                    <p:spPr>
                      <a:xfrm>
                        <a:off x="5022000" y="43884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5" name=""/>
                      <p:cNvSpPr/>
                      <p:nvPr/>
                    </p:nvSpPr>
                    <p:spPr>
                      <a:xfrm>
                        <a:off x="5022000" y="43376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46" name=""/>
                    <p:cNvGrpSpPr/>
                    <p:nvPr/>
                  </p:nvGrpSpPr>
                  <p:grpSpPr>
                    <a:xfrm>
                      <a:off x="5221440" y="4265640"/>
                      <a:ext cx="149400" cy="355320"/>
                      <a:chOff x="5221440" y="4265640"/>
                      <a:chExt cx="149400" cy="355320"/>
                    </a:xfrm>
                  </p:grpSpPr>
                  <p:sp>
                    <p:nvSpPr>
                      <p:cNvPr id="2847" name=""/>
                      <p:cNvSpPr/>
                      <p:nvPr/>
                    </p:nvSpPr>
                    <p:spPr>
                      <a:xfrm rot="16200000">
                        <a:off x="5118480" y="436860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8" name=""/>
                      <p:cNvSpPr/>
                      <p:nvPr/>
                    </p:nvSpPr>
                    <p:spPr>
                      <a:xfrm flipV="1">
                        <a:off x="525240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9" name=""/>
                      <p:cNvSpPr/>
                      <p:nvPr/>
                    </p:nvSpPr>
                    <p:spPr>
                      <a:xfrm flipV="1">
                        <a:off x="529596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0" name=""/>
                      <p:cNvSpPr/>
                      <p:nvPr/>
                    </p:nvSpPr>
                    <p:spPr>
                      <a:xfrm flipV="1">
                        <a:off x="5337720" y="431460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51" name=""/>
                    <p:cNvGrpSpPr/>
                    <p:nvPr/>
                  </p:nvGrpSpPr>
                  <p:grpSpPr>
                    <a:xfrm>
                      <a:off x="5121720" y="4265640"/>
                      <a:ext cx="99360" cy="355320"/>
                      <a:chOff x="5121720" y="4265640"/>
                      <a:chExt cx="99360" cy="355320"/>
                    </a:xfrm>
                  </p:grpSpPr>
                  <p:sp>
                    <p:nvSpPr>
                      <p:cNvPr id="2852" name=""/>
                      <p:cNvSpPr/>
                      <p:nvPr/>
                    </p:nvSpPr>
                    <p:spPr>
                      <a:xfrm rot="16200000">
                        <a:off x="4993560" y="439344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53" name=""/>
                      <p:cNvGrpSpPr/>
                      <p:nvPr/>
                    </p:nvGrpSpPr>
                    <p:grpSpPr>
                      <a:xfrm>
                        <a:off x="5146560" y="4312800"/>
                        <a:ext cx="49680" cy="253080"/>
                        <a:chOff x="5146560" y="4312800"/>
                        <a:chExt cx="49680" cy="253080"/>
                      </a:xfrm>
                    </p:grpSpPr>
                    <p:sp>
                      <p:nvSpPr>
                        <p:cNvPr id="2854" name=""/>
                        <p:cNvSpPr/>
                        <p:nvPr/>
                      </p:nvSpPr>
                      <p:spPr>
                        <a:xfrm rot="16200000">
                          <a:off x="5145840" y="451548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5" name=""/>
                        <p:cNvSpPr/>
                        <p:nvPr/>
                      </p:nvSpPr>
                      <p:spPr>
                        <a:xfrm rot="16200000">
                          <a:off x="5145840" y="44143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6" name=""/>
                        <p:cNvSpPr/>
                        <p:nvPr/>
                      </p:nvSpPr>
                      <p:spPr>
                        <a:xfrm rot="16200000">
                          <a:off x="5146200" y="431316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4972320" y="4620960"/>
                  <a:ext cx="398520" cy="710640"/>
                  <a:chOff x="4972320" y="4620960"/>
                  <a:chExt cx="398520" cy="710640"/>
                </a:xfrm>
              </p:grpSpPr>
              <p:grpSp>
                <p:nvGrpSpPr>
                  <p:cNvPr id="2858" name=""/>
                  <p:cNvGrpSpPr/>
                  <p:nvPr/>
                </p:nvGrpSpPr>
                <p:grpSpPr>
                  <a:xfrm>
                    <a:off x="4972320" y="4620960"/>
                    <a:ext cx="398520" cy="355320"/>
                    <a:chOff x="4972320" y="4620960"/>
                    <a:chExt cx="398520" cy="355320"/>
                  </a:xfrm>
                </p:grpSpPr>
                <p:sp>
                  <p:nvSpPr>
                    <p:cNvPr id="2859" name=""/>
                    <p:cNvSpPr/>
                    <p:nvPr/>
                  </p:nvSpPr>
                  <p:spPr>
                    <a:xfrm rot="16200000">
                      <a:off x="4869360" y="472392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 rot="16200000">
                      <a:off x="4903920" y="474804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61" name=""/>
                    <p:cNvGrpSpPr/>
                    <p:nvPr/>
                  </p:nvGrpSpPr>
                  <p:grpSpPr>
                    <a:xfrm>
                      <a:off x="5022000" y="4692960"/>
                      <a:ext cx="49680" cy="203040"/>
                      <a:chOff x="5022000" y="4692960"/>
                      <a:chExt cx="49680" cy="203040"/>
                    </a:xfrm>
                  </p:grpSpPr>
                  <p:sp>
                    <p:nvSpPr>
                      <p:cNvPr id="2862" name=""/>
                      <p:cNvSpPr/>
                      <p:nvPr/>
                    </p:nvSpPr>
                    <p:spPr>
                      <a:xfrm>
                        <a:off x="5022000" y="48960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3" name=""/>
                      <p:cNvSpPr/>
                      <p:nvPr/>
                    </p:nvSpPr>
                    <p:spPr>
                      <a:xfrm>
                        <a:off x="5022000" y="48452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4" name=""/>
                      <p:cNvSpPr/>
                      <p:nvPr/>
                    </p:nvSpPr>
                    <p:spPr>
                      <a:xfrm>
                        <a:off x="5022000" y="47944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5" name=""/>
                      <p:cNvSpPr/>
                      <p:nvPr/>
                    </p:nvSpPr>
                    <p:spPr>
                      <a:xfrm>
                        <a:off x="5022000" y="47437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6" name=""/>
                      <p:cNvSpPr/>
                      <p:nvPr/>
                    </p:nvSpPr>
                    <p:spPr>
                      <a:xfrm>
                        <a:off x="5022000" y="46929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7" name=""/>
                    <p:cNvGrpSpPr/>
                    <p:nvPr/>
                  </p:nvGrpSpPr>
                  <p:grpSpPr>
                    <a:xfrm>
                      <a:off x="5221440" y="4620960"/>
                      <a:ext cx="149400" cy="355320"/>
                      <a:chOff x="5221440" y="4620960"/>
                      <a:chExt cx="149400" cy="355320"/>
                    </a:xfrm>
                  </p:grpSpPr>
                  <p:sp>
                    <p:nvSpPr>
                      <p:cNvPr id="2868" name=""/>
                      <p:cNvSpPr/>
                      <p:nvPr/>
                    </p:nvSpPr>
                    <p:spPr>
                      <a:xfrm rot="16200000">
                        <a:off x="5118480" y="472392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9" name=""/>
                      <p:cNvSpPr/>
                      <p:nvPr/>
                    </p:nvSpPr>
                    <p:spPr>
                      <a:xfrm flipV="1">
                        <a:off x="525240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0" name=""/>
                      <p:cNvSpPr/>
                      <p:nvPr/>
                    </p:nvSpPr>
                    <p:spPr>
                      <a:xfrm flipV="1">
                        <a:off x="529596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1" name=""/>
                      <p:cNvSpPr/>
                      <p:nvPr/>
                    </p:nvSpPr>
                    <p:spPr>
                      <a:xfrm flipV="1">
                        <a:off x="5337720" y="466992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72" name=""/>
                    <p:cNvGrpSpPr/>
                    <p:nvPr/>
                  </p:nvGrpSpPr>
                  <p:grpSpPr>
                    <a:xfrm>
                      <a:off x="5121720" y="4620960"/>
                      <a:ext cx="99360" cy="355320"/>
                      <a:chOff x="5121720" y="4620960"/>
                      <a:chExt cx="99360" cy="355320"/>
                    </a:xfrm>
                  </p:grpSpPr>
                  <p:sp>
                    <p:nvSpPr>
                      <p:cNvPr id="2873" name=""/>
                      <p:cNvSpPr/>
                      <p:nvPr/>
                    </p:nvSpPr>
                    <p:spPr>
                      <a:xfrm rot="16200000">
                        <a:off x="4993560" y="474876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74" name=""/>
                      <p:cNvGrpSpPr/>
                      <p:nvPr/>
                    </p:nvGrpSpPr>
                    <p:grpSpPr>
                      <a:xfrm>
                        <a:off x="5146560" y="4668120"/>
                        <a:ext cx="49680" cy="253080"/>
                        <a:chOff x="5146560" y="4668120"/>
                        <a:chExt cx="49680" cy="253080"/>
                      </a:xfrm>
                    </p:grpSpPr>
                    <p:sp>
                      <p:nvSpPr>
                        <p:cNvPr id="2875" name=""/>
                        <p:cNvSpPr/>
                        <p:nvPr/>
                      </p:nvSpPr>
                      <p:spPr>
                        <a:xfrm rot="16200000">
                          <a:off x="5145840" y="487080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6" name=""/>
                        <p:cNvSpPr/>
                        <p:nvPr/>
                      </p:nvSpPr>
                      <p:spPr>
                        <a:xfrm rot="16200000">
                          <a:off x="5145840" y="476964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7" name=""/>
                        <p:cNvSpPr/>
                        <p:nvPr/>
                      </p:nvSpPr>
                      <p:spPr>
                        <a:xfrm rot="16200000">
                          <a:off x="5146200" y="466848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78" name=""/>
                  <p:cNvGrpSpPr/>
                  <p:nvPr/>
                </p:nvGrpSpPr>
                <p:grpSpPr>
                  <a:xfrm>
                    <a:off x="4972320" y="4976280"/>
                    <a:ext cx="398520" cy="355320"/>
                    <a:chOff x="4972320" y="4976280"/>
                    <a:chExt cx="398520" cy="355320"/>
                  </a:xfrm>
                </p:grpSpPr>
                <p:sp>
                  <p:nvSpPr>
                    <p:cNvPr id="2879" name=""/>
                    <p:cNvSpPr/>
                    <p:nvPr/>
                  </p:nvSpPr>
                  <p:spPr>
                    <a:xfrm rot="16200000">
                      <a:off x="4869360" y="50792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 rot="16200000">
                      <a:off x="4903920" y="510336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81" name=""/>
                    <p:cNvGrpSpPr/>
                    <p:nvPr/>
                  </p:nvGrpSpPr>
                  <p:grpSpPr>
                    <a:xfrm>
                      <a:off x="5022000" y="5048280"/>
                      <a:ext cx="49680" cy="203040"/>
                      <a:chOff x="5022000" y="5048280"/>
                      <a:chExt cx="49680" cy="203040"/>
                    </a:xfrm>
                  </p:grpSpPr>
                  <p:sp>
                    <p:nvSpPr>
                      <p:cNvPr id="2882" name=""/>
                      <p:cNvSpPr/>
                      <p:nvPr/>
                    </p:nvSpPr>
                    <p:spPr>
                      <a:xfrm>
                        <a:off x="5022000" y="52513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3" name=""/>
                      <p:cNvSpPr/>
                      <p:nvPr/>
                    </p:nvSpPr>
                    <p:spPr>
                      <a:xfrm>
                        <a:off x="5022000" y="52005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4" name=""/>
                      <p:cNvSpPr/>
                      <p:nvPr/>
                    </p:nvSpPr>
                    <p:spPr>
                      <a:xfrm>
                        <a:off x="5022000" y="51498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5" name=""/>
                      <p:cNvSpPr/>
                      <p:nvPr/>
                    </p:nvSpPr>
                    <p:spPr>
                      <a:xfrm>
                        <a:off x="5022000" y="50990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6" name=""/>
                      <p:cNvSpPr/>
                      <p:nvPr/>
                    </p:nvSpPr>
                    <p:spPr>
                      <a:xfrm>
                        <a:off x="5022000" y="50482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7" name=""/>
                    <p:cNvGrpSpPr/>
                    <p:nvPr/>
                  </p:nvGrpSpPr>
                  <p:grpSpPr>
                    <a:xfrm>
                      <a:off x="5221440" y="4976280"/>
                      <a:ext cx="149400" cy="355320"/>
                      <a:chOff x="5221440" y="4976280"/>
                      <a:chExt cx="149400" cy="355320"/>
                    </a:xfrm>
                  </p:grpSpPr>
                  <p:sp>
                    <p:nvSpPr>
                      <p:cNvPr id="2888" name=""/>
                      <p:cNvSpPr/>
                      <p:nvPr/>
                    </p:nvSpPr>
                    <p:spPr>
                      <a:xfrm rot="16200000">
                        <a:off x="5118480" y="507924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9" name=""/>
                      <p:cNvSpPr/>
                      <p:nvPr/>
                    </p:nvSpPr>
                    <p:spPr>
                      <a:xfrm flipV="1">
                        <a:off x="525240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0" name=""/>
                      <p:cNvSpPr/>
                      <p:nvPr/>
                    </p:nvSpPr>
                    <p:spPr>
                      <a:xfrm flipV="1">
                        <a:off x="529596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1" name=""/>
                      <p:cNvSpPr/>
                      <p:nvPr/>
                    </p:nvSpPr>
                    <p:spPr>
                      <a:xfrm flipV="1">
                        <a:off x="5337720" y="50252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92" name=""/>
                    <p:cNvGrpSpPr/>
                    <p:nvPr/>
                  </p:nvGrpSpPr>
                  <p:grpSpPr>
                    <a:xfrm>
                      <a:off x="5121720" y="4976280"/>
                      <a:ext cx="99360" cy="355320"/>
                      <a:chOff x="5121720" y="4976280"/>
                      <a:chExt cx="99360" cy="355320"/>
                    </a:xfrm>
                  </p:grpSpPr>
                  <p:sp>
                    <p:nvSpPr>
                      <p:cNvPr id="2893" name=""/>
                      <p:cNvSpPr/>
                      <p:nvPr/>
                    </p:nvSpPr>
                    <p:spPr>
                      <a:xfrm rot="16200000">
                        <a:off x="4993560" y="510408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94" name=""/>
                      <p:cNvGrpSpPr/>
                      <p:nvPr/>
                    </p:nvGrpSpPr>
                    <p:grpSpPr>
                      <a:xfrm>
                        <a:off x="5146560" y="5023440"/>
                        <a:ext cx="49680" cy="253080"/>
                        <a:chOff x="5146560" y="5023440"/>
                        <a:chExt cx="49680" cy="253080"/>
                      </a:xfrm>
                    </p:grpSpPr>
                    <p:sp>
                      <p:nvSpPr>
                        <p:cNvPr id="2895" name=""/>
                        <p:cNvSpPr/>
                        <p:nvPr/>
                      </p:nvSpPr>
                      <p:spPr>
                        <a:xfrm rot="16200000">
                          <a:off x="5145840" y="52261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6" name=""/>
                        <p:cNvSpPr/>
                        <p:nvPr/>
                      </p:nvSpPr>
                      <p:spPr>
                        <a:xfrm rot="16200000">
                          <a:off x="5145840" y="51249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7" name=""/>
                        <p:cNvSpPr/>
                        <p:nvPr/>
                      </p:nvSpPr>
                      <p:spPr>
                        <a:xfrm rot="16200000">
                          <a:off x="5146200" y="502380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4972320" y="3199680"/>
                  <a:ext cx="398520" cy="710640"/>
                  <a:chOff x="4972320" y="3199680"/>
                  <a:chExt cx="398520" cy="710640"/>
                </a:xfrm>
              </p:grpSpPr>
              <p:grpSp>
                <p:nvGrpSpPr>
                  <p:cNvPr id="2899" name=""/>
                  <p:cNvGrpSpPr/>
                  <p:nvPr/>
                </p:nvGrpSpPr>
                <p:grpSpPr>
                  <a:xfrm>
                    <a:off x="4972320" y="3199680"/>
                    <a:ext cx="398520" cy="355320"/>
                    <a:chOff x="4972320" y="3199680"/>
                    <a:chExt cx="398520" cy="355320"/>
                  </a:xfrm>
                </p:grpSpPr>
                <p:sp>
                  <p:nvSpPr>
                    <p:cNvPr id="2900" name=""/>
                    <p:cNvSpPr/>
                    <p:nvPr/>
                  </p:nvSpPr>
                  <p:spPr>
                    <a:xfrm rot="16200000">
                      <a:off x="4869360" y="330264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 rot="16200000">
                      <a:off x="4903920" y="332676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02" name=""/>
                    <p:cNvGrpSpPr/>
                    <p:nvPr/>
                  </p:nvGrpSpPr>
                  <p:grpSpPr>
                    <a:xfrm>
                      <a:off x="5022000" y="3271680"/>
                      <a:ext cx="49680" cy="203040"/>
                      <a:chOff x="5022000" y="3271680"/>
                      <a:chExt cx="49680" cy="203040"/>
                    </a:xfrm>
                  </p:grpSpPr>
                  <p:sp>
                    <p:nvSpPr>
                      <p:cNvPr id="2903" name=""/>
                      <p:cNvSpPr/>
                      <p:nvPr/>
                    </p:nvSpPr>
                    <p:spPr>
                      <a:xfrm>
                        <a:off x="5022000" y="34747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4" name=""/>
                      <p:cNvSpPr/>
                      <p:nvPr/>
                    </p:nvSpPr>
                    <p:spPr>
                      <a:xfrm>
                        <a:off x="5022000" y="34239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5" name=""/>
                      <p:cNvSpPr/>
                      <p:nvPr/>
                    </p:nvSpPr>
                    <p:spPr>
                      <a:xfrm>
                        <a:off x="5022000" y="33732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6" name=""/>
                      <p:cNvSpPr/>
                      <p:nvPr/>
                    </p:nvSpPr>
                    <p:spPr>
                      <a:xfrm>
                        <a:off x="5022000" y="33224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7" name=""/>
                      <p:cNvSpPr/>
                      <p:nvPr/>
                    </p:nvSpPr>
                    <p:spPr>
                      <a:xfrm>
                        <a:off x="5022000" y="32716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08" name=""/>
                    <p:cNvGrpSpPr/>
                    <p:nvPr/>
                  </p:nvGrpSpPr>
                  <p:grpSpPr>
                    <a:xfrm>
                      <a:off x="5221440" y="3199680"/>
                      <a:ext cx="149400" cy="355320"/>
                      <a:chOff x="5221440" y="3199680"/>
                      <a:chExt cx="149400" cy="355320"/>
                    </a:xfrm>
                  </p:grpSpPr>
                  <p:sp>
                    <p:nvSpPr>
                      <p:cNvPr id="2909" name=""/>
                      <p:cNvSpPr/>
                      <p:nvPr/>
                    </p:nvSpPr>
                    <p:spPr>
                      <a:xfrm rot="16200000">
                        <a:off x="5118480" y="330264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0" name=""/>
                      <p:cNvSpPr/>
                      <p:nvPr/>
                    </p:nvSpPr>
                    <p:spPr>
                      <a:xfrm flipV="1">
                        <a:off x="525240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1" name=""/>
                      <p:cNvSpPr/>
                      <p:nvPr/>
                    </p:nvSpPr>
                    <p:spPr>
                      <a:xfrm flipV="1">
                        <a:off x="529596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2" name=""/>
                      <p:cNvSpPr/>
                      <p:nvPr/>
                    </p:nvSpPr>
                    <p:spPr>
                      <a:xfrm flipV="1">
                        <a:off x="5337720" y="324864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13" name=""/>
                    <p:cNvGrpSpPr/>
                    <p:nvPr/>
                  </p:nvGrpSpPr>
                  <p:grpSpPr>
                    <a:xfrm>
                      <a:off x="5121720" y="3199680"/>
                      <a:ext cx="99360" cy="355320"/>
                      <a:chOff x="5121720" y="3199680"/>
                      <a:chExt cx="99360" cy="355320"/>
                    </a:xfrm>
                  </p:grpSpPr>
                  <p:sp>
                    <p:nvSpPr>
                      <p:cNvPr id="2914" name=""/>
                      <p:cNvSpPr/>
                      <p:nvPr/>
                    </p:nvSpPr>
                    <p:spPr>
                      <a:xfrm rot="16200000">
                        <a:off x="4993560" y="332748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15" name=""/>
                      <p:cNvGrpSpPr/>
                      <p:nvPr/>
                    </p:nvGrpSpPr>
                    <p:grpSpPr>
                      <a:xfrm>
                        <a:off x="5146560" y="3246840"/>
                        <a:ext cx="49680" cy="253080"/>
                        <a:chOff x="5146560" y="3246840"/>
                        <a:chExt cx="49680" cy="253080"/>
                      </a:xfrm>
                    </p:grpSpPr>
                    <p:sp>
                      <p:nvSpPr>
                        <p:cNvPr id="2916" name=""/>
                        <p:cNvSpPr/>
                        <p:nvPr/>
                      </p:nvSpPr>
                      <p:spPr>
                        <a:xfrm rot="16200000">
                          <a:off x="5145840" y="344952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7" name=""/>
                        <p:cNvSpPr/>
                        <p:nvPr/>
                      </p:nvSpPr>
                      <p:spPr>
                        <a:xfrm rot="16200000">
                          <a:off x="5145840" y="334836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8" name=""/>
                        <p:cNvSpPr/>
                        <p:nvPr/>
                      </p:nvSpPr>
                      <p:spPr>
                        <a:xfrm rot="16200000">
                          <a:off x="5146200" y="324720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19" name=""/>
                  <p:cNvGrpSpPr/>
                  <p:nvPr/>
                </p:nvGrpSpPr>
                <p:grpSpPr>
                  <a:xfrm>
                    <a:off x="4972320" y="3555000"/>
                    <a:ext cx="398520" cy="355320"/>
                    <a:chOff x="4972320" y="3555000"/>
                    <a:chExt cx="398520" cy="355320"/>
                  </a:xfrm>
                </p:grpSpPr>
                <p:sp>
                  <p:nvSpPr>
                    <p:cNvPr id="2920" name=""/>
                    <p:cNvSpPr/>
                    <p:nvPr/>
                  </p:nvSpPr>
                  <p:spPr>
                    <a:xfrm rot="16200000">
                      <a:off x="4869360" y="3657960"/>
                      <a:ext cx="355320" cy="149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 rot="16200000">
                      <a:off x="4903920" y="3682080"/>
                      <a:ext cx="285480" cy="99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22" name=""/>
                    <p:cNvGrpSpPr/>
                    <p:nvPr/>
                  </p:nvGrpSpPr>
                  <p:grpSpPr>
                    <a:xfrm>
                      <a:off x="5022000" y="3627000"/>
                      <a:ext cx="49680" cy="203040"/>
                      <a:chOff x="5022000" y="3627000"/>
                      <a:chExt cx="49680" cy="203040"/>
                    </a:xfrm>
                  </p:grpSpPr>
                  <p:sp>
                    <p:nvSpPr>
                      <p:cNvPr id="2923" name=""/>
                      <p:cNvSpPr/>
                      <p:nvPr/>
                    </p:nvSpPr>
                    <p:spPr>
                      <a:xfrm>
                        <a:off x="5022000" y="383004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4" name=""/>
                      <p:cNvSpPr/>
                      <p:nvPr/>
                    </p:nvSpPr>
                    <p:spPr>
                      <a:xfrm>
                        <a:off x="5022000" y="377928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5" name=""/>
                      <p:cNvSpPr/>
                      <p:nvPr/>
                    </p:nvSpPr>
                    <p:spPr>
                      <a:xfrm>
                        <a:off x="5022000" y="372852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6" name=""/>
                      <p:cNvSpPr/>
                      <p:nvPr/>
                    </p:nvSpPr>
                    <p:spPr>
                      <a:xfrm>
                        <a:off x="5022000" y="367776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7" name=""/>
                      <p:cNvSpPr/>
                      <p:nvPr/>
                    </p:nvSpPr>
                    <p:spPr>
                      <a:xfrm>
                        <a:off x="5022000" y="3627000"/>
                        <a:ext cx="49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28" name=""/>
                    <p:cNvGrpSpPr/>
                    <p:nvPr/>
                  </p:nvGrpSpPr>
                  <p:grpSpPr>
                    <a:xfrm>
                      <a:off x="5221440" y="3555000"/>
                      <a:ext cx="149400" cy="355320"/>
                      <a:chOff x="5221440" y="3555000"/>
                      <a:chExt cx="149400" cy="355320"/>
                    </a:xfrm>
                  </p:grpSpPr>
                  <p:sp>
                    <p:nvSpPr>
                      <p:cNvPr id="2929" name=""/>
                      <p:cNvSpPr/>
                      <p:nvPr/>
                    </p:nvSpPr>
                    <p:spPr>
                      <a:xfrm rot="16200000">
                        <a:off x="5118480" y="3657960"/>
                        <a:ext cx="355320" cy="149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0" name=""/>
                      <p:cNvSpPr/>
                      <p:nvPr/>
                    </p:nvSpPr>
                    <p:spPr>
                      <a:xfrm flipV="1">
                        <a:off x="525240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1" name=""/>
                      <p:cNvSpPr/>
                      <p:nvPr/>
                    </p:nvSpPr>
                    <p:spPr>
                      <a:xfrm flipV="1">
                        <a:off x="529596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2" name=""/>
                      <p:cNvSpPr/>
                      <p:nvPr/>
                    </p:nvSpPr>
                    <p:spPr>
                      <a:xfrm flipV="1">
                        <a:off x="5337720" y="3603960"/>
                        <a:ext cx="0" cy="25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3" name=""/>
                    <p:cNvGrpSpPr/>
                    <p:nvPr/>
                  </p:nvGrpSpPr>
                  <p:grpSpPr>
                    <a:xfrm>
                      <a:off x="5121720" y="3555000"/>
                      <a:ext cx="99360" cy="355320"/>
                      <a:chOff x="5121720" y="3555000"/>
                      <a:chExt cx="99360" cy="355320"/>
                    </a:xfrm>
                  </p:grpSpPr>
                  <p:sp>
                    <p:nvSpPr>
                      <p:cNvPr id="2934" name=""/>
                      <p:cNvSpPr/>
                      <p:nvPr/>
                    </p:nvSpPr>
                    <p:spPr>
                      <a:xfrm rot="16200000">
                        <a:off x="4993560" y="3682800"/>
                        <a:ext cx="355320" cy="99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35" name=""/>
                      <p:cNvGrpSpPr/>
                      <p:nvPr/>
                    </p:nvGrpSpPr>
                    <p:grpSpPr>
                      <a:xfrm>
                        <a:off x="5146560" y="3602160"/>
                        <a:ext cx="49680" cy="253080"/>
                        <a:chOff x="5146560" y="3602160"/>
                        <a:chExt cx="49680" cy="253080"/>
                      </a:xfrm>
                    </p:grpSpPr>
                    <p:sp>
                      <p:nvSpPr>
                        <p:cNvPr id="2936" name=""/>
                        <p:cNvSpPr/>
                        <p:nvPr/>
                      </p:nvSpPr>
                      <p:spPr>
                        <a:xfrm rot="16200000">
                          <a:off x="5145840" y="380484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7" name=""/>
                        <p:cNvSpPr/>
                        <p:nvPr/>
                      </p:nvSpPr>
                      <p:spPr>
                        <a:xfrm rot="16200000">
                          <a:off x="5145840" y="3703680"/>
                          <a:ext cx="5076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8" name=""/>
                        <p:cNvSpPr/>
                        <p:nvPr/>
                      </p:nvSpPr>
                      <p:spPr>
                        <a:xfrm rot="16200000">
                          <a:off x="5146200" y="3602520"/>
                          <a:ext cx="50400" cy="496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pic>
        <p:nvPicPr>
          <p:cNvPr id="2939" name="painel2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2503440" cy="32763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Cost reduction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impler projec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maller pan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No field terminal block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ig reduction of internal wir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ignificant assembling labor reduc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42" name=""/>
          <p:cNvSpPr/>
          <p:nvPr/>
        </p:nvSpPr>
        <p:spPr>
          <a:xfrm>
            <a:off x="1219320" y="4724280"/>
            <a:ext cx="6781680" cy="106884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57dba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reduction of more than 30% in the electrical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3" name=""/>
          <p:cNvGraphicFramePr/>
          <p:nvPr/>
        </p:nvGraphicFramePr>
        <p:xfrm>
          <a:off x="4724280" y="1295280"/>
          <a:ext cx="4191120" cy="27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19112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6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523520" y="2209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CPU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2947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2948" name=""/>
          <p:cNvGrpSpPr/>
          <p:nvPr/>
        </p:nvGrpSpPr>
        <p:grpSpPr>
          <a:xfrm>
            <a:off x="6248520" y="3048120"/>
            <a:ext cx="685800" cy="685800"/>
            <a:chOff x="6248520" y="3048120"/>
            <a:chExt cx="685800" cy="685800"/>
          </a:xfrm>
        </p:grpSpPr>
        <p:sp>
          <p:nvSpPr>
            <p:cNvPr id="2949" name=""/>
            <p:cNvSpPr/>
            <p:nvPr/>
          </p:nvSpPr>
          <p:spPr>
            <a:xfrm>
              <a:off x="6248520" y="30481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3440" y="315288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1" name=""/>
          <p:cNvGrpSpPr/>
          <p:nvPr/>
        </p:nvGrpSpPr>
        <p:grpSpPr>
          <a:xfrm>
            <a:off x="2286000" y="2971800"/>
            <a:ext cx="6019560" cy="761760"/>
            <a:chOff x="2286000" y="2971800"/>
            <a:chExt cx="6019560" cy="761760"/>
          </a:xfrm>
        </p:grpSpPr>
        <p:sp>
          <p:nvSpPr>
            <p:cNvPr id="2952" name=""/>
            <p:cNvSpPr/>
            <p:nvPr/>
          </p:nvSpPr>
          <p:spPr>
            <a:xfrm>
              <a:off x="2286000" y="2971800"/>
              <a:ext cx="601956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286000" y="3047760"/>
              <a:ext cx="6019560" cy="609840"/>
            </a:xfrm>
            <a:prstGeom prst="rect">
              <a:avLst/>
            </a:prstGeom>
            <a:solidFill>
              <a:srgbClr val="dc93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3045 CPU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55" name=""/>
          <p:cNvSpPr/>
          <p:nvPr/>
        </p:nvSpPr>
        <p:spPr>
          <a:xfrm>
            <a:off x="4267080" y="1689840"/>
            <a:ext cx="1067040" cy="2962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590920" y="3505320"/>
            <a:ext cx="27432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2590920" y="2286000"/>
            <a:ext cx="2743200" cy="1219320"/>
            <a:chOff x="2590920" y="2286000"/>
            <a:chExt cx="2743200" cy="1219320"/>
          </a:xfrm>
        </p:grpSpPr>
        <p:sp>
          <p:nvSpPr>
            <p:cNvPr id="2958" name=""/>
            <p:cNvSpPr/>
            <p:nvPr/>
          </p:nvSpPr>
          <p:spPr>
            <a:xfrm>
              <a:off x="2590920" y="2286000"/>
              <a:ext cx="2743200" cy="1219320"/>
            </a:xfrm>
            <a:prstGeom prst="roundRect">
              <a:avLst>
                <a:gd name="adj" fmla="val 497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18457200">
              <a:off x="4191120" y="2768400"/>
              <a:ext cx="304920" cy="228600"/>
            </a:xfrm>
            <a:prstGeom prst="rightArrow">
              <a:avLst>
                <a:gd name="adj1" fmla="val 19667"/>
                <a:gd name="adj2" fmla="val 557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422520" y="2635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105520" y="2362320"/>
              <a:ext cx="228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2" name=""/>
            <p:cNvGrpSpPr/>
            <p:nvPr/>
          </p:nvGrpSpPr>
          <p:grpSpPr>
            <a:xfrm>
              <a:off x="2590920" y="2362320"/>
              <a:ext cx="609480" cy="533520"/>
              <a:chOff x="2590920" y="2362320"/>
              <a:chExt cx="609480" cy="533520"/>
            </a:xfrm>
          </p:grpSpPr>
          <p:sp>
            <p:nvSpPr>
              <p:cNvPr id="2963" name=""/>
              <p:cNvSpPr/>
              <p:nvPr/>
            </p:nvSpPr>
            <p:spPr>
              <a:xfrm>
                <a:off x="2743200" y="2362320"/>
                <a:ext cx="76320" cy="533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590920" y="2362320"/>
                <a:ext cx="60948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5" name=""/>
            <p:cNvSpPr/>
            <p:nvPr/>
          </p:nvSpPr>
          <p:spPr>
            <a:xfrm>
              <a:off x="4108320" y="26416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00120" y="3086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15960" y="2400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1922400">
              <a:off x="3505320" y="2762280"/>
              <a:ext cx="304560" cy="228600"/>
            </a:xfrm>
            <a:prstGeom prst="rightArrow">
              <a:avLst>
                <a:gd name="adj1" fmla="val 19667"/>
                <a:gd name="adj2" fmla="val 5568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514320" y="3079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530160" y="2394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1" name=""/>
          <p:cNvSpPr/>
          <p:nvPr/>
        </p:nvSpPr>
        <p:spPr>
          <a:xfrm>
            <a:off x="2743200" y="365760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2813760" y="38098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895480" y="43434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4" name=""/>
          <p:cNvGrpSpPr/>
          <p:nvPr/>
        </p:nvGrpSpPr>
        <p:grpSpPr>
          <a:xfrm>
            <a:off x="3581280" y="3657600"/>
            <a:ext cx="380880" cy="419040"/>
            <a:chOff x="3581280" y="3657600"/>
            <a:chExt cx="380880" cy="419040"/>
          </a:xfrm>
        </p:grpSpPr>
        <p:sp>
          <p:nvSpPr>
            <p:cNvPr id="2975" name=""/>
            <p:cNvSpPr/>
            <p:nvPr/>
          </p:nvSpPr>
          <p:spPr>
            <a:xfrm>
              <a:off x="3581280" y="365760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619440" y="373356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7" name=""/>
          <p:cNvGrpSpPr/>
          <p:nvPr/>
        </p:nvGrpSpPr>
        <p:grpSpPr>
          <a:xfrm>
            <a:off x="3581280" y="4152960"/>
            <a:ext cx="380880" cy="419040"/>
            <a:chOff x="3581280" y="4152960"/>
            <a:chExt cx="380880" cy="419040"/>
          </a:xfrm>
        </p:grpSpPr>
        <p:sp>
          <p:nvSpPr>
            <p:cNvPr id="2978" name=""/>
            <p:cNvSpPr/>
            <p:nvPr/>
          </p:nvSpPr>
          <p:spPr>
            <a:xfrm>
              <a:off x="3581280" y="415296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619440" y="422892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0" name=""/>
          <p:cNvGrpSpPr/>
          <p:nvPr/>
        </p:nvGrpSpPr>
        <p:grpSpPr>
          <a:xfrm>
            <a:off x="4800600" y="3657600"/>
            <a:ext cx="380880" cy="419040"/>
            <a:chOff x="4800600" y="3657600"/>
            <a:chExt cx="380880" cy="419040"/>
          </a:xfrm>
        </p:grpSpPr>
        <p:sp>
          <p:nvSpPr>
            <p:cNvPr id="2981" name=""/>
            <p:cNvSpPr/>
            <p:nvPr/>
          </p:nvSpPr>
          <p:spPr>
            <a:xfrm>
              <a:off x="4800600" y="365760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8760" y="373356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3" name=""/>
          <p:cNvGrpSpPr/>
          <p:nvPr/>
        </p:nvGrpSpPr>
        <p:grpSpPr>
          <a:xfrm>
            <a:off x="4800600" y="4152960"/>
            <a:ext cx="380880" cy="419040"/>
            <a:chOff x="4800600" y="4152960"/>
            <a:chExt cx="380880" cy="419040"/>
          </a:xfrm>
        </p:grpSpPr>
        <p:sp>
          <p:nvSpPr>
            <p:cNvPr id="2984" name=""/>
            <p:cNvSpPr/>
            <p:nvPr/>
          </p:nvSpPr>
          <p:spPr>
            <a:xfrm>
              <a:off x="4800600" y="4152960"/>
              <a:ext cx="380880" cy="41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38760" y="422892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2323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6" name=""/>
          <p:cNvGrpSpPr/>
          <p:nvPr/>
        </p:nvGrpSpPr>
        <p:grpSpPr>
          <a:xfrm>
            <a:off x="2590920" y="2286000"/>
            <a:ext cx="2743200" cy="1218960"/>
            <a:chOff x="2590920" y="2286000"/>
            <a:chExt cx="2743200" cy="1218960"/>
          </a:xfrm>
        </p:grpSpPr>
        <p:sp>
          <p:nvSpPr>
            <p:cNvPr id="2987" name=""/>
            <p:cNvSpPr/>
            <p:nvPr/>
          </p:nvSpPr>
          <p:spPr>
            <a:xfrm>
              <a:off x="2590920" y="2286000"/>
              <a:ext cx="2743200" cy="1218960"/>
            </a:xfrm>
            <a:prstGeom prst="roundRect">
              <a:avLst>
                <a:gd name="adj" fmla="val 773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743200" y="2590560"/>
              <a:ext cx="24382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724280" y="2361960"/>
              <a:ext cx="4572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3809880" y="2305080"/>
              <a:ext cx="685800" cy="398520"/>
              <a:chOff x="3809880" y="2305080"/>
              <a:chExt cx="685800" cy="398520"/>
            </a:xfrm>
          </p:grpSpPr>
          <p:sp>
            <p:nvSpPr>
              <p:cNvPr id="2991" name=""/>
              <p:cNvSpPr/>
              <p:nvPr/>
            </p:nvSpPr>
            <p:spPr>
              <a:xfrm>
                <a:off x="3809880" y="2361960"/>
                <a:ext cx="6858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809880" y="2305080"/>
                <a:ext cx="636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O304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3" name=""/>
            <p:cNvSpPr/>
            <p:nvPr/>
          </p:nvSpPr>
          <p:spPr>
            <a:xfrm>
              <a:off x="2819520" y="2286000"/>
              <a:ext cx="30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971800" y="22860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666880" y="3276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T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9718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124080" y="2286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666880" y="228600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ahoma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9" name="logocapa" descr=""/>
            <p:cNvPicPr/>
            <p:nvPr/>
          </p:nvPicPr>
          <p:blipFill>
            <a:blip r:embed="rId1"/>
            <a:stretch/>
          </p:blipFill>
          <p:spPr>
            <a:xfrm>
              <a:off x="4343400" y="2895480"/>
              <a:ext cx="7621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0" name=""/>
            <p:cNvSpPr/>
            <p:nvPr/>
          </p:nvSpPr>
          <p:spPr>
            <a:xfrm>
              <a:off x="2869200" y="2946240"/>
              <a:ext cx="62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WebP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7432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200400" y="32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863800" y="26668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vantGarde Md BT"/>
                </a:rPr>
                <a:t>Po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2819520" y="2971800"/>
              <a:ext cx="91440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5" name=""/>
            <p:cNvGrpSpPr/>
            <p:nvPr/>
          </p:nvGrpSpPr>
          <p:grpSpPr>
            <a:xfrm>
              <a:off x="3657600" y="2819160"/>
              <a:ext cx="152280" cy="152640"/>
              <a:chOff x="3657600" y="2819160"/>
              <a:chExt cx="152280" cy="152640"/>
            </a:xfrm>
          </p:grpSpPr>
          <p:sp>
            <p:nvSpPr>
              <p:cNvPr id="3006" name=""/>
              <p:cNvSpPr/>
              <p:nvPr/>
            </p:nvSpPr>
            <p:spPr>
              <a:xfrm>
                <a:off x="3657600" y="2819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db2b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84240" y="2836800"/>
                <a:ext cx="6264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8" name=""/>
          <p:cNvGrpSpPr/>
          <p:nvPr/>
        </p:nvGrpSpPr>
        <p:grpSpPr>
          <a:xfrm>
            <a:off x="5334120" y="2286000"/>
            <a:ext cx="2743200" cy="2361960"/>
            <a:chOff x="5334120" y="2286000"/>
            <a:chExt cx="2743200" cy="2361960"/>
          </a:xfrm>
        </p:grpSpPr>
        <p:grpSp>
          <p:nvGrpSpPr>
            <p:cNvPr id="3009" name=""/>
            <p:cNvGrpSpPr/>
            <p:nvPr/>
          </p:nvGrpSpPr>
          <p:grpSpPr>
            <a:xfrm>
              <a:off x="5334120" y="2286000"/>
              <a:ext cx="2743200" cy="2361960"/>
              <a:chOff x="5334120" y="2286000"/>
              <a:chExt cx="2743200" cy="2361960"/>
            </a:xfrm>
          </p:grpSpPr>
          <p:grpSp>
            <p:nvGrpSpPr>
              <p:cNvPr id="3010" name=""/>
              <p:cNvGrpSpPr/>
              <p:nvPr/>
            </p:nvGrpSpPr>
            <p:grpSpPr>
              <a:xfrm>
                <a:off x="5334120" y="3505320"/>
                <a:ext cx="2743200" cy="1142640"/>
                <a:chOff x="5334120" y="3505320"/>
                <a:chExt cx="2743200" cy="1142640"/>
              </a:xfrm>
            </p:grpSpPr>
            <p:sp>
              <p:nvSpPr>
                <p:cNvPr id="3011" name=""/>
                <p:cNvSpPr/>
                <p:nvPr/>
              </p:nvSpPr>
              <p:spPr>
                <a:xfrm>
                  <a:off x="5334120" y="3505320"/>
                  <a:ext cx="2743200" cy="114264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2" name=""/>
                <p:cNvGrpSpPr/>
                <p:nvPr/>
              </p:nvGrpSpPr>
              <p:grpSpPr>
                <a:xfrm>
                  <a:off x="5405760" y="3586680"/>
                  <a:ext cx="2598480" cy="978840"/>
                  <a:chOff x="5405760" y="3586680"/>
                  <a:chExt cx="2598480" cy="978840"/>
                </a:xfrm>
              </p:grpSpPr>
              <p:grpSp>
                <p:nvGrpSpPr>
                  <p:cNvPr id="3013" name=""/>
                  <p:cNvGrpSpPr/>
                  <p:nvPr/>
                </p:nvGrpSpPr>
                <p:grpSpPr>
                  <a:xfrm>
                    <a:off x="7860240" y="3586680"/>
                    <a:ext cx="144000" cy="978840"/>
                    <a:chOff x="7860240" y="3586680"/>
                    <a:chExt cx="144000" cy="978840"/>
                  </a:xfrm>
                </p:grpSpPr>
                <p:sp>
                  <p:nvSpPr>
                    <p:cNvPr id="3014" name=""/>
                    <p:cNvSpPr/>
                    <p:nvPr/>
                  </p:nvSpPr>
                  <p:spPr>
                    <a:xfrm>
                      <a:off x="7860240" y="358668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5" name=""/>
                    <p:cNvSpPr/>
                    <p:nvPr/>
                  </p:nvSpPr>
                  <p:spPr>
                    <a:xfrm>
                      <a:off x="7860240" y="39132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6" name=""/>
                    <p:cNvSpPr/>
                    <p:nvPr/>
                  </p:nvSpPr>
                  <p:spPr>
                    <a:xfrm>
                      <a:off x="7860240" y="423972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7" name=""/>
                  <p:cNvGrpSpPr/>
                  <p:nvPr/>
                </p:nvGrpSpPr>
                <p:grpSpPr>
                  <a:xfrm>
                    <a:off x="5405760" y="3586680"/>
                    <a:ext cx="144360" cy="978840"/>
                    <a:chOff x="5405760" y="3586680"/>
                    <a:chExt cx="144360" cy="978840"/>
                  </a:xfrm>
                </p:grpSpPr>
                <p:sp>
                  <p:nvSpPr>
                    <p:cNvPr id="3018" name=""/>
                    <p:cNvSpPr/>
                    <p:nvPr/>
                  </p:nvSpPr>
                  <p:spPr>
                    <a:xfrm>
                      <a:off x="5405760" y="358668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9" name=""/>
                    <p:cNvSpPr/>
                    <p:nvPr/>
                  </p:nvSpPr>
                  <p:spPr>
                    <a:xfrm>
                      <a:off x="5405760" y="39132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0" name=""/>
                    <p:cNvSpPr/>
                    <p:nvPr/>
                  </p:nvSpPr>
                  <p:spPr>
                    <a:xfrm>
                      <a:off x="5405760" y="423972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1" name=""/>
                  <p:cNvGrpSpPr/>
                  <p:nvPr/>
                </p:nvGrpSpPr>
                <p:grpSpPr>
                  <a:xfrm>
                    <a:off x="5550120" y="3586680"/>
                    <a:ext cx="576720" cy="978480"/>
                    <a:chOff x="5550120" y="3586680"/>
                    <a:chExt cx="576720" cy="978480"/>
                  </a:xfrm>
                </p:grpSpPr>
                <p:grpSp>
                  <p:nvGrpSpPr>
                    <p:cNvPr id="3022" name=""/>
                    <p:cNvGrpSpPr/>
                    <p:nvPr/>
                  </p:nvGrpSpPr>
                  <p:grpSpPr>
                    <a:xfrm>
                      <a:off x="5550120" y="3586680"/>
                      <a:ext cx="144360" cy="978480"/>
                      <a:chOff x="5550120" y="3586680"/>
                      <a:chExt cx="144360" cy="978480"/>
                    </a:xfrm>
                  </p:grpSpPr>
                  <p:sp>
                    <p:nvSpPr>
                      <p:cNvPr id="3023" name=""/>
                      <p:cNvSpPr/>
                      <p:nvPr/>
                    </p:nvSpPr>
                    <p:spPr>
                      <a:xfrm>
                        <a:off x="55501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4" name=""/>
                      <p:cNvSpPr/>
                      <p:nvPr/>
                    </p:nvSpPr>
                    <p:spPr>
                      <a:xfrm>
                        <a:off x="55501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5" name=""/>
                      <p:cNvSpPr/>
                      <p:nvPr/>
                    </p:nvSpPr>
                    <p:spPr>
                      <a:xfrm>
                        <a:off x="55501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6" name=""/>
                    <p:cNvGrpSpPr/>
                    <p:nvPr/>
                  </p:nvGrpSpPr>
                  <p:grpSpPr>
                    <a:xfrm>
                      <a:off x="5694480" y="3586680"/>
                      <a:ext cx="144000" cy="978480"/>
                      <a:chOff x="5694480" y="3586680"/>
                      <a:chExt cx="144000" cy="978480"/>
                    </a:xfrm>
                  </p:grpSpPr>
                  <p:sp>
                    <p:nvSpPr>
                      <p:cNvPr id="3027" name=""/>
                      <p:cNvSpPr/>
                      <p:nvPr/>
                    </p:nvSpPr>
                    <p:spPr>
                      <a:xfrm>
                        <a:off x="569448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8" name=""/>
                      <p:cNvSpPr/>
                      <p:nvPr/>
                    </p:nvSpPr>
                    <p:spPr>
                      <a:xfrm>
                        <a:off x="569448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9" name=""/>
                      <p:cNvSpPr/>
                      <p:nvPr/>
                    </p:nvSpPr>
                    <p:spPr>
                      <a:xfrm>
                        <a:off x="569448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0" name=""/>
                    <p:cNvGrpSpPr/>
                    <p:nvPr/>
                  </p:nvGrpSpPr>
                  <p:grpSpPr>
                    <a:xfrm>
                      <a:off x="5838480" y="3586680"/>
                      <a:ext cx="144000" cy="978480"/>
                      <a:chOff x="5838480" y="3586680"/>
                      <a:chExt cx="144000" cy="978480"/>
                    </a:xfrm>
                  </p:grpSpPr>
                  <p:sp>
                    <p:nvSpPr>
                      <p:cNvPr id="3031" name=""/>
                      <p:cNvSpPr/>
                      <p:nvPr/>
                    </p:nvSpPr>
                    <p:spPr>
                      <a:xfrm>
                        <a:off x="583848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2" name=""/>
                      <p:cNvSpPr/>
                      <p:nvPr/>
                    </p:nvSpPr>
                    <p:spPr>
                      <a:xfrm>
                        <a:off x="583848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583848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4" name=""/>
                    <p:cNvGrpSpPr/>
                    <p:nvPr/>
                  </p:nvGrpSpPr>
                  <p:grpSpPr>
                    <a:xfrm>
                      <a:off x="5982480" y="3586680"/>
                      <a:ext cx="144360" cy="978480"/>
                      <a:chOff x="5982480" y="3586680"/>
                      <a:chExt cx="144360" cy="978480"/>
                    </a:xfrm>
                  </p:grpSpPr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598248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6" name=""/>
                      <p:cNvSpPr/>
                      <p:nvPr/>
                    </p:nvSpPr>
                    <p:spPr>
                      <a:xfrm>
                        <a:off x="598248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598248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38" name=""/>
                  <p:cNvGrpSpPr/>
                  <p:nvPr/>
                </p:nvGrpSpPr>
                <p:grpSpPr>
                  <a:xfrm>
                    <a:off x="6127560" y="3586680"/>
                    <a:ext cx="576720" cy="978480"/>
                    <a:chOff x="6127560" y="3586680"/>
                    <a:chExt cx="576720" cy="978480"/>
                  </a:xfrm>
                </p:grpSpPr>
                <p:grpSp>
                  <p:nvGrpSpPr>
                    <p:cNvPr id="3039" name=""/>
                    <p:cNvGrpSpPr/>
                    <p:nvPr/>
                  </p:nvGrpSpPr>
                  <p:grpSpPr>
                    <a:xfrm>
                      <a:off x="6127560" y="3586680"/>
                      <a:ext cx="144360" cy="978480"/>
                      <a:chOff x="6127560" y="3586680"/>
                      <a:chExt cx="144360" cy="978480"/>
                    </a:xfrm>
                  </p:grpSpPr>
                  <p:sp>
                    <p:nvSpPr>
                      <p:cNvPr id="3040" name=""/>
                      <p:cNvSpPr/>
                      <p:nvPr/>
                    </p:nvSpPr>
                    <p:spPr>
                      <a:xfrm>
                        <a:off x="612756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1" name=""/>
                      <p:cNvSpPr/>
                      <p:nvPr/>
                    </p:nvSpPr>
                    <p:spPr>
                      <a:xfrm>
                        <a:off x="612756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2" name=""/>
                      <p:cNvSpPr/>
                      <p:nvPr/>
                    </p:nvSpPr>
                    <p:spPr>
                      <a:xfrm>
                        <a:off x="612756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3" name=""/>
                    <p:cNvGrpSpPr/>
                    <p:nvPr/>
                  </p:nvGrpSpPr>
                  <p:grpSpPr>
                    <a:xfrm>
                      <a:off x="6271920" y="3586680"/>
                      <a:ext cx="144000" cy="978480"/>
                      <a:chOff x="6271920" y="3586680"/>
                      <a:chExt cx="144000" cy="978480"/>
                    </a:xfrm>
                  </p:grpSpPr>
                  <p:sp>
                    <p:nvSpPr>
                      <p:cNvPr id="3044" name=""/>
                      <p:cNvSpPr/>
                      <p:nvPr/>
                    </p:nvSpPr>
                    <p:spPr>
                      <a:xfrm>
                        <a:off x="62719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5" name=""/>
                      <p:cNvSpPr/>
                      <p:nvPr/>
                    </p:nvSpPr>
                    <p:spPr>
                      <a:xfrm>
                        <a:off x="62719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6" name=""/>
                      <p:cNvSpPr/>
                      <p:nvPr/>
                    </p:nvSpPr>
                    <p:spPr>
                      <a:xfrm>
                        <a:off x="62719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7" name=""/>
                    <p:cNvGrpSpPr/>
                    <p:nvPr/>
                  </p:nvGrpSpPr>
                  <p:grpSpPr>
                    <a:xfrm>
                      <a:off x="6415920" y="3586680"/>
                      <a:ext cx="144000" cy="978480"/>
                      <a:chOff x="6415920" y="3586680"/>
                      <a:chExt cx="144000" cy="978480"/>
                    </a:xfrm>
                  </p:grpSpPr>
                  <p:sp>
                    <p:nvSpPr>
                      <p:cNvPr id="3048" name=""/>
                      <p:cNvSpPr/>
                      <p:nvPr/>
                    </p:nvSpPr>
                    <p:spPr>
                      <a:xfrm>
                        <a:off x="64159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9" name=""/>
                      <p:cNvSpPr/>
                      <p:nvPr/>
                    </p:nvSpPr>
                    <p:spPr>
                      <a:xfrm>
                        <a:off x="64159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0" name=""/>
                      <p:cNvSpPr/>
                      <p:nvPr/>
                    </p:nvSpPr>
                    <p:spPr>
                      <a:xfrm>
                        <a:off x="64159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1" name=""/>
                    <p:cNvGrpSpPr/>
                    <p:nvPr/>
                  </p:nvGrpSpPr>
                  <p:grpSpPr>
                    <a:xfrm>
                      <a:off x="6559920" y="3586680"/>
                      <a:ext cx="144360" cy="978480"/>
                      <a:chOff x="6559920" y="3586680"/>
                      <a:chExt cx="144360" cy="978480"/>
                    </a:xfrm>
                  </p:grpSpPr>
                  <p:sp>
                    <p:nvSpPr>
                      <p:cNvPr id="3052" name=""/>
                      <p:cNvSpPr/>
                      <p:nvPr/>
                    </p:nvSpPr>
                    <p:spPr>
                      <a:xfrm>
                        <a:off x="65599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65599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"/>
                      <p:cNvSpPr/>
                      <p:nvPr/>
                    </p:nvSpPr>
                    <p:spPr>
                      <a:xfrm>
                        <a:off x="65599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5" name=""/>
                  <p:cNvGrpSpPr/>
                  <p:nvPr/>
                </p:nvGrpSpPr>
                <p:grpSpPr>
                  <a:xfrm>
                    <a:off x="6705000" y="3586680"/>
                    <a:ext cx="577080" cy="978480"/>
                    <a:chOff x="6705000" y="3586680"/>
                    <a:chExt cx="577080" cy="978480"/>
                  </a:xfrm>
                </p:grpSpPr>
                <p:grpSp>
                  <p:nvGrpSpPr>
                    <p:cNvPr id="3056" name=""/>
                    <p:cNvGrpSpPr/>
                    <p:nvPr/>
                  </p:nvGrpSpPr>
                  <p:grpSpPr>
                    <a:xfrm>
                      <a:off x="6705000" y="3586680"/>
                      <a:ext cx="144360" cy="978480"/>
                      <a:chOff x="6705000" y="3586680"/>
                      <a:chExt cx="144360" cy="978480"/>
                    </a:xfrm>
                  </p:grpSpPr>
                  <p:sp>
                    <p:nvSpPr>
                      <p:cNvPr id="3057" name=""/>
                      <p:cNvSpPr/>
                      <p:nvPr/>
                    </p:nvSpPr>
                    <p:spPr>
                      <a:xfrm>
                        <a:off x="670500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8" name=""/>
                      <p:cNvSpPr/>
                      <p:nvPr/>
                    </p:nvSpPr>
                    <p:spPr>
                      <a:xfrm>
                        <a:off x="670500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9" name=""/>
                      <p:cNvSpPr/>
                      <p:nvPr/>
                    </p:nvSpPr>
                    <p:spPr>
                      <a:xfrm>
                        <a:off x="670500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0" name=""/>
                    <p:cNvGrpSpPr/>
                    <p:nvPr/>
                  </p:nvGrpSpPr>
                  <p:grpSpPr>
                    <a:xfrm>
                      <a:off x="6849360" y="3586680"/>
                      <a:ext cx="144000" cy="978480"/>
                      <a:chOff x="6849360" y="3586680"/>
                      <a:chExt cx="144000" cy="978480"/>
                    </a:xfrm>
                  </p:grpSpPr>
                  <p:sp>
                    <p:nvSpPr>
                      <p:cNvPr id="3061" name=""/>
                      <p:cNvSpPr/>
                      <p:nvPr/>
                    </p:nvSpPr>
                    <p:spPr>
                      <a:xfrm>
                        <a:off x="68493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2" name=""/>
                      <p:cNvSpPr/>
                      <p:nvPr/>
                    </p:nvSpPr>
                    <p:spPr>
                      <a:xfrm>
                        <a:off x="68493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3" name=""/>
                      <p:cNvSpPr/>
                      <p:nvPr/>
                    </p:nvSpPr>
                    <p:spPr>
                      <a:xfrm>
                        <a:off x="68493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4" name=""/>
                    <p:cNvGrpSpPr/>
                    <p:nvPr/>
                  </p:nvGrpSpPr>
                  <p:grpSpPr>
                    <a:xfrm>
                      <a:off x="6993720" y="3586680"/>
                      <a:ext cx="144000" cy="978480"/>
                      <a:chOff x="6993720" y="3586680"/>
                      <a:chExt cx="144000" cy="978480"/>
                    </a:xfrm>
                  </p:grpSpPr>
                  <p:sp>
                    <p:nvSpPr>
                      <p:cNvPr id="3065" name=""/>
                      <p:cNvSpPr/>
                      <p:nvPr/>
                    </p:nvSpPr>
                    <p:spPr>
                      <a:xfrm>
                        <a:off x="699372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6" name=""/>
                      <p:cNvSpPr/>
                      <p:nvPr/>
                    </p:nvSpPr>
                    <p:spPr>
                      <a:xfrm>
                        <a:off x="699372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7" name=""/>
                      <p:cNvSpPr/>
                      <p:nvPr/>
                    </p:nvSpPr>
                    <p:spPr>
                      <a:xfrm>
                        <a:off x="699372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68" name=""/>
                    <p:cNvGrpSpPr/>
                    <p:nvPr/>
                  </p:nvGrpSpPr>
                  <p:grpSpPr>
                    <a:xfrm>
                      <a:off x="7137720" y="3586680"/>
                      <a:ext cx="144360" cy="978480"/>
                      <a:chOff x="7137720" y="3586680"/>
                      <a:chExt cx="144360" cy="978480"/>
                    </a:xfrm>
                  </p:grpSpPr>
                  <p:sp>
                    <p:nvSpPr>
                      <p:cNvPr id="3069" name=""/>
                      <p:cNvSpPr/>
                      <p:nvPr/>
                    </p:nvSpPr>
                    <p:spPr>
                      <a:xfrm>
                        <a:off x="713772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0" name=""/>
                      <p:cNvSpPr/>
                      <p:nvPr/>
                    </p:nvSpPr>
                    <p:spPr>
                      <a:xfrm>
                        <a:off x="713772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1" name=""/>
                      <p:cNvSpPr/>
                      <p:nvPr/>
                    </p:nvSpPr>
                    <p:spPr>
                      <a:xfrm>
                        <a:off x="713772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72" name=""/>
                  <p:cNvGrpSpPr/>
                  <p:nvPr/>
                </p:nvGrpSpPr>
                <p:grpSpPr>
                  <a:xfrm>
                    <a:off x="7282800" y="3586680"/>
                    <a:ext cx="576720" cy="978480"/>
                    <a:chOff x="7282800" y="3586680"/>
                    <a:chExt cx="576720" cy="978480"/>
                  </a:xfrm>
                </p:grpSpPr>
                <p:grpSp>
                  <p:nvGrpSpPr>
                    <p:cNvPr id="3073" name=""/>
                    <p:cNvGrpSpPr/>
                    <p:nvPr/>
                  </p:nvGrpSpPr>
                  <p:grpSpPr>
                    <a:xfrm>
                      <a:off x="7282800" y="3586680"/>
                      <a:ext cx="144360" cy="978480"/>
                      <a:chOff x="7282800" y="3586680"/>
                      <a:chExt cx="144360" cy="978480"/>
                    </a:xfrm>
                  </p:grpSpPr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728280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5" name=""/>
                      <p:cNvSpPr/>
                      <p:nvPr/>
                    </p:nvSpPr>
                    <p:spPr>
                      <a:xfrm>
                        <a:off x="728280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6" name=""/>
                      <p:cNvSpPr/>
                      <p:nvPr/>
                    </p:nvSpPr>
                    <p:spPr>
                      <a:xfrm>
                        <a:off x="728280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77" name=""/>
                    <p:cNvGrpSpPr/>
                    <p:nvPr/>
                  </p:nvGrpSpPr>
                  <p:grpSpPr>
                    <a:xfrm>
                      <a:off x="7427160" y="3586680"/>
                      <a:ext cx="144000" cy="978480"/>
                      <a:chOff x="7427160" y="3586680"/>
                      <a:chExt cx="144000" cy="978480"/>
                    </a:xfrm>
                  </p:grpSpPr>
                  <p:sp>
                    <p:nvSpPr>
                      <p:cNvPr id="3078" name=""/>
                      <p:cNvSpPr/>
                      <p:nvPr/>
                    </p:nvSpPr>
                    <p:spPr>
                      <a:xfrm>
                        <a:off x="74271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9" name=""/>
                      <p:cNvSpPr/>
                      <p:nvPr/>
                    </p:nvSpPr>
                    <p:spPr>
                      <a:xfrm>
                        <a:off x="74271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0" name=""/>
                      <p:cNvSpPr/>
                      <p:nvPr/>
                    </p:nvSpPr>
                    <p:spPr>
                      <a:xfrm>
                        <a:off x="74271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1" name=""/>
                    <p:cNvGrpSpPr/>
                    <p:nvPr/>
                  </p:nvGrpSpPr>
                  <p:grpSpPr>
                    <a:xfrm>
                      <a:off x="7571160" y="3586680"/>
                      <a:ext cx="144000" cy="978480"/>
                      <a:chOff x="7571160" y="3586680"/>
                      <a:chExt cx="144000" cy="978480"/>
                    </a:xfrm>
                  </p:grpSpPr>
                  <p:sp>
                    <p:nvSpPr>
                      <p:cNvPr id="3082" name=""/>
                      <p:cNvSpPr/>
                      <p:nvPr/>
                    </p:nvSpPr>
                    <p:spPr>
                      <a:xfrm>
                        <a:off x="7571160" y="358668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3" name=""/>
                      <p:cNvSpPr/>
                      <p:nvPr/>
                    </p:nvSpPr>
                    <p:spPr>
                      <a:xfrm>
                        <a:off x="7571160" y="39128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4" name=""/>
                      <p:cNvSpPr/>
                      <p:nvPr/>
                    </p:nvSpPr>
                    <p:spPr>
                      <a:xfrm>
                        <a:off x="7571160" y="42393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5" name=""/>
                    <p:cNvGrpSpPr/>
                    <p:nvPr/>
                  </p:nvGrpSpPr>
                  <p:grpSpPr>
                    <a:xfrm>
                      <a:off x="7715160" y="3586680"/>
                      <a:ext cx="144360" cy="978480"/>
                      <a:chOff x="7715160" y="3586680"/>
                      <a:chExt cx="144360" cy="978480"/>
                    </a:xfrm>
                  </p:grpSpPr>
                  <p:sp>
                    <p:nvSpPr>
                      <p:cNvPr id="3086" name=""/>
                      <p:cNvSpPr/>
                      <p:nvPr/>
                    </p:nvSpPr>
                    <p:spPr>
                      <a:xfrm>
                        <a:off x="7715160" y="358668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7" name=""/>
                      <p:cNvSpPr/>
                      <p:nvPr/>
                    </p:nvSpPr>
                    <p:spPr>
                      <a:xfrm>
                        <a:off x="7715160" y="39128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8" name=""/>
                      <p:cNvSpPr/>
                      <p:nvPr/>
                    </p:nvSpPr>
                    <p:spPr>
                      <a:xfrm>
                        <a:off x="7715160" y="42393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089" name=""/>
              <p:cNvGrpSpPr/>
              <p:nvPr/>
            </p:nvGrpSpPr>
            <p:grpSpPr>
              <a:xfrm>
                <a:off x="5334120" y="2286000"/>
                <a:ext cx="2743200" cy="1219320"/>
                <a:chOff x="5334120" y="2286000"/>
                <a:chExt cx="2743200" cy="1219320"/>
              </a:xfrm>
            </p:grpSpPr>
            <p:sp>
              <p:nvSpPr>
                <p:cNvPr id="3090" name=""/>
                <p:cNvSpPr/>
                <p:nvPr/>
              </p:nvSpPr>
              <p:spPr>
                <a:xfrm>
                  <a:off x="5334120" y="2286000"/>
                  <a:ext cx="2743200" cy="1219320"/>
                </a:xfrm>
                <a:prstGeom prst="roundRect">
                  <a:avLst>
                    <a:gd name="adj" fmla="val 4977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rot="18457200">
                  <a:off x="6934320" y="2768400"/>
                  <a:ext cx="304920" cy="228600"/>
                </a:xfrm>
                <a:prstGeom prst="rightArrow">
                  <a:avLst>
                    <a:gd name="adj1" fmla="val 19667"/>
                    <a:gd name="adj2" fmla="val 5575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6165720" y="263520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7848720" y="2362320"/>
                  <a:ext cx="22860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4" name=""/>
                <p:cNvGrpSpPr/>
                <p:nvPr/>
              </p:nvGrpSpPr>
              <p:grpSpPr>
                <a:xfrm>
                  <a:off x="5334120" y="2362320"/>
                  <a:ext cx="609480" cy="533520"/>
                  <a:chOff x="5334120" y="2362320"/>
                  <a:chExt cx="609480" cy="533520"/>
                </a:xfrm>
              </p:grpSpPr>
              <p:sp>
                <p:nvSpPr>
                  <p:cNvPr id="3095" name=""/>
                  <p:cNvSpPr/>
                  <p:nvPr/>
                </p:nvSpPr>
                <p:spPr>
                  <a:xfrm>
                    <a:off x="5486400" y="2362320"/>
                    <a:ext cx="76320" cy="5335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5334120" y="2362320"/>
                    <a:ext cx="609480" cy="533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7" name=""/>
                <p:cNvSpPr/>
                <p:nvPr/>
              </p:nvSpPr>
              <p:spPr>
                <a:xfrm>
                  <a:off x="6851520" y="264168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6943320" y="308628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6959160" y="240048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 rot="1922400">
                  <a:off x="6248520" y="2762280"/>
                  <a:ext cx="304560" cy="228600"/>
                </a:xfrm>
                <a:prstGeom prst="rightArrow">
                  <a:avLst>
                    <a:gd name="adj1" fmla="val 19667"/>
                    <a:gd name="adj2" fmla="val 5568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6257520" y="307980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6273360" y="239400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03" name=""/>
            <p:cNvGrpSpPr/>
            <p:nvPr/>
          </p:nvGrpSpPr>
          <p:grpSpPr>
            <a:xfrm>
              <a:off x="5334120" y="2286000"/>
              <a:ext cx="2743200" cy="1220400"/>
              <a:chOff x="5334120" y="2286000"/>
              <a:chExt cx="2743200" cy="1220400"/>
            </a:xfrm>
          </p:grpSpPr>
          <p:grpSp>
            <p:nvGrpSpPr>
              <p:cNvPr id="3104" name=""/>
              <p:cNvGrpSpPr/>
              <p:nvPr/>
            </p:nvGrpSpPr>
            <p:grpSpPr>
              <a:xfrm>
                <a:off x="5334120" y="2286000"/>
                <a:ext cx="2743200" cy="1218960"/>
                <a:chOff x="5334120" y="2286000"/>
                <a:chExt cx="2743200" cy="1218960"/>
              </a:xfrm>
            </p:grpSpPr>
            <p:sp>
              <p:nvSpPr>
                <p:cNvPr id="3105" name=""/>
                <p:cNvSpPr/>
                <p:nvPr/>
              </p:nvSpPr>
              <p:spPr>
                <a:xfrm>
                  <a:off x="5334120" y="2286000"/>
                  <a:ext cx="2743200" cy="1218960"/>
                </a:xfrm>
                <a:prstGeom prst="roundRect">
                  <a:avLst>
                    <a:gd name="adj" fmla="val 7736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6" name=""/>
                <p:cNvGrpSpPr/>
                <p:nvPr/>
              </p:nvGrpSpPr>
              <p:grpSpPr>
                <a:xfrm>
                  <a:off x="5410080" y="2590560"/>
                  <a:ext cx="2590920" cy="685800"/>
                  <a:chOff x="5410080" y="2590560"/>
                  <a:chExt cx="2590920" cy="685800"/>
                </a:xfrm>
              </p:grpSpPr>
              <p:grpSp>
                <p:nvGrpSpPr>
                  <p:cNvPr id="3107" name=""/>
                  <p:cNvGrpSpPr/>
                  <p:nvPr/>
                </p:nvGrpSpPr>
                <p:grpSpPr>
                  <a:xfrm>
                    <a:off x="5410080" y="2590560"/>
                    <a:ext cx="609480" cy="685800"/>
                    <a:chOff x="5410080" y="2590560"/>
                    <a:chExt cx="609480" cy="685800"/>
                  </a:xfrm>
                </p:grpSpPr>
                <p:sp>
                  <p:nvSpPr>
                    <p:cNvPr id="3108" name=""/>
                    <p:cNvSpPr/>
                    <p:nvPr/>
                  </p:nvSpPr>
                  <p:spPr>
                    <a:xfrm>
                      <a:off x="541008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9" name=""/>
                    <p:cNvSpPr/>
                    <p:nvPr/>
                  </p:nvSpPr>
                  <p:spPr>
                    <a:xfrm>
                      <a:off x="556236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0" name=""/>
                    <p:cNvSpPr/>
                    <p:nvPr/>
                  </p:nvSpPr>
                  <p:spPr>
                    <a:xfrm>
                      <a:off x="57150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1" name=""/>
                    <p:cNvSpPr/>
                    <p:nvPr/>
                  </p:nvSpPr>
                  <p:spPr>
                    <a:xfrm>
                      <a:off x="586728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2" name=""/>
                  <p:cNvGrpSpPr/>
                  <p:nvPr/>
                </p:nvGrpSpPr>
                <p:grpSpPr>
                  <a:xfrm>
                    <a:off x="6019920" y="2590560"/>
                    <a:ext cx="609480" cy="685800"/>
                    <a:chOff x="6019920" y="2590560"/>
                    <a:chExt cx="609480" cy="685800"/>
                  </a:xfrm>
                </p:grpSpPr>
                <p:sp>
                  <p:nvSpPr>
                    <p:cNvPr id="3113" name=""/>
                    <p:cNvSpPr/>
                    <p:nvPr/>
                  </p:nvSpPr>
                  <p:spPr>
                    <a:xfrm>
                      <a:off x="60199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4" name=""/>
                    <p:cNvSpPr/>
                    <p:nvPr/>
                  </p:nvSpPr>
                  <p:spPr>
                    <a:xfrm>
                      <a:off x="617220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632484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6" name=""/>
                    <p:cNvSpPr/>
                    <p:nvPr/>
                  </p:nvSpPr>
                  <p:spPr>
                    <a:xfrm>
                      <a:off x="64771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7" name=""/>
                  <p:cNvGrpSpPr/>
                  <p:nvPr/>
                </p:nvGrpSpPr>
                <p:grpSpPr>
                  <a:xfrm>
                    <a:off x="6629400" y="2590560"/>
                    <a:ext cx="609480" cy="685800"/>
                    <a:chOff x="6629400" y="2590560"/>
                    <a:chExt cx="609480" cy="685800"/>
                  </a:xfrm>
                </p:grpSpPr>
                <p:sp>
                  <p:nvSpPr>
                    <p:cNvPr id="3118" name=""/>
                    <p:cNvSpPr/>
                    <p:nvPr/>
                  </p:nvSpPr>
                  <p:spPr>
                    <a:xfrm>
                      <a:off x="66294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9" name=""/>
                    <p:cNvSpPr/>
                    <p:nvPr/>
                  </p:nvSpPr>
                  <p:spPr>
                    <a:xfrm>
                      <a:off x="6781680" y="259056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693432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7086600" y="259056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2" name=""/>
                  <p:cNvSpPr/>
                  <p:nvPr/>
                </p:nvSpPr>
                <p:spPr>
                  <a:xfrm>
                    <a:off x="7238880" y="259056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739152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754380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7696080" y="259056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7848720" y="259056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7" name=""/>
                <p:cNvSpPr/>
                <p:nvPr/>
              </p:nvSpPr>
              <p:spPr>
                <a:xfrm>
                  <a:off x="7467480" y="2361960"/>
                  <a:ext cx="457200" cy="15264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8" name=""/>
                <p:cNvGrpSpPr/>
                <p:nvPr/>
              </p:nvGrpSpPr>
              <p:grpSpPr>
                <a:xfrm>
                  <a:off x="6553080" y="2305080"/>
                  <a:ext cx="685800" cy="398520"/>
                  <a:chOff x="6553080" y="2305080"/>
                  <a:chExt cx="685800" cy="398520"/>
                </a:xfrm>
              </p:grpSpPr>
              <p:sp>
                <p:nvSpPr>
                  <p:cNvPr id="3129" name=""/>
                  <p:cNvSpPr/>
                  <p:nvPr/>
                </p:nvSpPr>
                <p:spPr>
                  <a:xfrm>
                    <a:off x="6553080" y="2361960"/>
                    <a:ext cx="685800" cy="15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6553080" y="2305080"/>
                    <a:ext cx="6368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PO10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1" name=""/>
              <p:cNvGrpSpPr/>
              <p:nvPr/>
            </p:nvGrpSpPr>
            <p:grpSpPr>
              <a:xfrm>
                <a:off x="5334120" y="3290760"/>
                <a:ext cx="2743200" cy="215640"/>
                <a:chOff x="5334120" y="3290760"/>
                <a:chExt cx="2743200" cy="215640"/>
              </a:xfrm>
            </p:grpSpPr>
            <p:sp>
              <p:nvSpPr>
                <p:cNvPr id="3132" name=""/>
                <p:cNvSpPr/>
                <p:nvPr/>
              </p:nvSpPr>
              <p:spPr>
                <a:xfrm>
                  <a:off x="54864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56390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57913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59436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962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008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2485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7057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5534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8580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70106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73152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71629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7467840" y="3290760"/>
                  <a:ext cx="304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6201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777240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0000"/>
                      </a:solidFill>
                      <a:latin typeface="Tahoma"/>
                    </a:rPr>
                    <a:t>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5334120" y="3290760"/>
                  <a:ext cx="30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9" name=""/>
          <p:cNvGrpSpPr/>
          <p:nvPr/>
        </p:nvGrpSpPr>
        <p:grpSpPr>
          <a:xfrm>
            <a:off x="5638680" y="5867280"/>
            <a:ext cx="990360" cy="625680"/>
            <a:chOff x="5638680" y="5867280"/>
            <a:chExt cx="990360" cy="625680"/>
          </a:xfrm>
        </p:grpSpPr>
        <p:grpSp>
          <p:nvGrpSpPr>
            <p:cNvPr id="3150" name=""/>
            <p:cNvGrpSpPr/>
            <p:nvPr/>
          </p:nvGrpSpPr>
          <p:grpSpPr>
            <a:xfrm>
              <a:off x="5638680" y="5867280"/>
              <a:ext cx="260640" cy="625680"/>
              <a:chOff x="5638680" y="5867280"/>
              <a:chExt cx="260640" cy="625680"/>
            </a:xfrm>
          </p:grpSpPr>
          <p:sp>
            <p:nvSpPr>
              <p:cNvPr id="3151" name=""/>
              <p:cNvSpPr/>
              <p:nvPr/>
            </p:nvSpPr>
            <p:spPr>
              <a:xfrm>
                <a:off x="5638680" y="5867280"/>
                <a:ext cx="260640" cy="625680"/>
              </a:xfrm>
              <a:prstGeom prst="rect">
                <a:avLst/>
              </a:prstGeom>
              <a:gradFill rotWithShape="0">
                <a:gsLst>
                  <a:gs pos="0">
                    <a:srgbClr val="a7a7a7"/>
                  </a:gs>
                  <a:gs pos="100000">
                    <a:srgbClr val="ddddd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703840" y="6054840"/>
                <a:ext cx="64800" cy="312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703840" y="5929560"/>
                <a:ext cx="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4" name=""/>
            <p:cNvGrpSpPr/>
            <p:nvPr/>
          </p:nvGrpSpPr>
          <p:grpSpPr>
            <a:xfrm>
              <a:off x="6264360" y="5867280"/>
              <a:ext cx="364680" cy="625680"/>
              <a:chOff x="6264360" y="5867280"/>
              <a:chExt cx="364680" cy="625680"/>
            </a:xfrm>
          </p:grpSpPr>
          <p:grpSp>
            <p:nvGrpSpPr>
              <p:cNvPr id="3155" name=""/>
              <p:cNvGrpSpPr/>
              <p:nvPr/>
            </p:nvGrpSpPr>
            <p:grpSpPr>
              <a:xfrm>
                <a:off x="6264360" y="5867280"/>
                <a:ext cx="121680" cy="625680"/>
                <a:chOff x="6264360" y="5867280"/>
                <a:chExt cx="121680" cy="625680"/>
              </a:xfrm>
            </p:grpSpPr>
            <p:sp>
              <p:nvSpPr>
                <p:cNvPr id="3156" name=""/>
                <p:cNvSpPr/>
                <p:nvPr/>
              </p:nvSpPr>
              <p:spPr>
                <a:xfrm>
                  <a:off x="6264360" y="5867280"/>
                  <a:ext cx="12168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2520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8" name=""/>
              <p:cNvGrpSpPr/>
              <p:nvPr/>
            </p:nvGrpSpPr>
            <p:grpSpPr>
              <a:xfrm>
                <a:off x="6386040" y="5867280"/>
                <a:ext cx="121320" cy="625680"/>
                <a:chOff x="6386040" y="5867280"/>
                <a:chExt cx="121320" cy="625680"/>
              </a:xfrm>
            </p:grpSpPr>
            <p:sp>
              <p:nvSpPr>
                <p:cNvPr id="3159" name=""/>
                <p:cNvSpPr/>
                <p:nvPr/>
              </p:nvSpPr>
              <p:spPr>
                <a:xfrm>
                  <a:off x="6386040" y="5867280"/>
                  <a:ext cx="12132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44688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1" name=""/>
              <p:cNvGrpSpPr/>
              <p:nvPr/>
            </p:nvGrpSpPr>
            <p:grpSpPr>
              <a:xfrm>
                <a:off x="6507720" y="5867280"/>
                <a:ext cx="121320" cy="625680"/>
                <a:chOff x="6507720" y="5867280"/>
                <a:chExt cx="121320" cy="62568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6507720" y="5867280"/>
                  <a:ext cx="12132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56856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4" name=""/>
            <p:cNvGrpSpPr/>
            <p:nvPr/>
          </p:nvGrpSpPr>
          <p:grpSpPr>
            <a:xfrm>
              <a:off x="5899320" y="5867280"/>
              <a:ext cx="364680" cy="625680"/>
              <a:chOff x="5899320" y="5867280"/>
              <a:chExt cx="364680" cy="625680"/>
            </a:xfrm>
          </p:grpSpPr>
          <p:grpSp>
            <p:nvGrpSpPr>
              <p:cNvPr id="3165" name=""/>
              <p:cNvGrpSpPr/>
              <p:nvPr/>
            </p:nvGrpSpPr>
            <p:grpSpPr>
              <a:xfrm>
                <a:off x="5899320" y="5867280"/>
                <a:ext cx="121680" cy="625680"/>
                <a:chOff x="5899320" y="5867280"/>
                <a:chExt cx="121680" cy="625680"/>
              </a:xfrm>
            </p:grpSpPr>
            <p:sp>
              <p:nvSpPr>
                <p:cNvPr id="3166" name=""/>
                <p:cNvSpPr/>
                <p:nvPr/>
              </p:nvSpPr>
              <p:spPr>
                <a:xfrm>
                  <a:off x="5899320" y="5867280"/>
                  <a:ext cx="12168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596016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6021000" y="5867280"/>
                <a:ext cx="121320" cy="625680"/>
                <a:chOff x="6021000" y="5867280"/>
                <a:chExt cx="121320" cy="62568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6021000" y="5867280"/>
                  <a:ext cx="12132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08184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1" name=""/>
              <p:cNvGrpSpPr/>
              <p:nvPr/>
            </p:nvGrpSpPr>
            <p:grpSpPr>
              <a:xfrm>
                <a:off x="6142680" y="5867280"/>
                <a:ext cx="121320" cy="625680"/>
                <a:chOff x="6142680" y="5867280"/>
                <a:chExt cx="121320" cy="625680"/>
              </a:xfrm>
            </p:grpSpPr>
            <p:sp>
              <p:nvSpPr>
                <p:cNvPr id="3172" name=""/>
                <p:cNvSpPr/>
                <p:nvPr/>
              </p:nvSpPr>
              <p:spPr>
                <a:xfrm>
                  <a:off x="6142680" y="5867280"/>
                  <a:ext cx="121320" cy="62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7a7a7"/>
                    </a:gs>
                    <a:gs pos="100000">
                      <a:srgbClr val="ddddd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203520" y="6075720"/>
                  <a:ext cx="0" cy="36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74" name=""/>
          <p:cNvGrpSpPr/>
          <p:nvPr/>
        </p:nvGrpSpPr>
        <p:grpSpPr>
          <a:xfrm>
            <a:off x="4952880" y="4343400"/>
            <a:ext cx="3200400" cy="2286000"/>
            <a:chOff x="4952880" y="4343400"/>
            <a:chExt cx="3200400" cy="2286000"/>
          </a:xfrm>
        </p:grpSpPr>
        <p:sp>
          <p:nvSpPr>
            <p:cNvPr id="3175" name=""/>
            <p:cNvSpPr/>
            <p:nvPr/>
          </p:nvSpPr>
          <p:spPr>
            <a:xfrm>
              <a:off x="4952880" y="6248520"/>
              <a:ext cx="0" cy="380880"/>
            </a:xfrm>
            <a:prstGeom prst="line">
              <a:avLst/>
            </a:prstGeom>
            <a:ln w="76320">
              <a:solidFill>
                <a:srgbClr val="00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952880" y="4343400"/>
              <a:ext cx="0" cy="1828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952880" y="5257800"/>
              <a:ext cx="7621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952880" y="5943600"/>
              <a:ext cx="7621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9" name=""/>
            <p:cNvGrpSpPr/>
            <p:nvPr/>
          </p:nvGrpSpPr>
          <p:grpSpPr>
            <a:xfrm>
              <a:off x="5638680" y="5029200"/>
              <a:ext cx="533160" cy="457200"/>
              <a:chOff x="5638680" y="5029200"/>
              <a:chExt cx="533160" cy="457200"/>
            </a:xfrm>
          </p:grpSpPr>
          <p:grpSp>
            <p:nvGrpSpPr>
              <p:cNvPr id="3180" name=""/>
              <p:cNvGrpSpPr/>
              <p:nvPr/>
            </p:nvGrpSpPr>
            <p:grpSpPr>
              <a:xfrm>
                <a:off x="5638680" y="5029200"/>
                <a:ext cx="533160" cy="457200"/>
                <a:chOff x="5638680" y="5029200"/>
                <a:chExt cx="533160" cy="457200"/>
              </a:xfrm>
            </p:grpSpPr>
            <p:sp>
              <p:nvSpPr>
                <p:cNvPr id="3181" name=""/>
                <p:cNvSpPr/>
                <p:nvPr/>
              </p:nvSpPr>
              <p:spPr>
                <a:xfrm>
                  <a:off x="5638680" y="5029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5638680" y="5257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3" name=""/>
              <p:cNvSpPr/>
              <p:nvPr/>
            </p:nvSpPr>
            <p:spPr>
              <a:xfrm>
                <a:off x="571464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692680" y="5067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86728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6172200" y="5029200"/>
              <a:ext cx="533520" cy="457200"/>
              <a:chOff x="6172200" y="5029200"/>
              <a:chExt cx="533520" cy="457200"/>
            </a:xfrm>
          </p:grpSpPr>
          <p:grpSp>
            <p:nvGrpSpPr>
              <p:cNvPr id="3187" name=""/>
              <p:cNvGrpSpPr/>
              <p:nvPr/>
            </p:nvGrpSpPr>
            <p:grpSpPr>
              <a:xfrm>
                <a:off x="6172200" y="5029200"/>
                <a:ext cx="533520" cy="457200"/>
                <a:chOff x="6172200" y="5029200"/>
                <a:chExt cx="533520" cy="457200"/>
              </a:xfrm>
            </p:grpSpPr>
            <p:sp>
              <p:nvSpPr>
                <p:cNvPr id="3188" name=""/>
                <p:cNvSpPr/>
                <p:nvPr/>
              </p:nvSpPr>
              <p:spPr>
                <a:xfrm>
                  <a:off x="6172200" y="502920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172200" y="525780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0" name=""/>
              <p:cNvSpPr/>
              <p:nvPr/>
            </p:nvSpPr>
            <p:spPr>
              <a:xfrm>
                <a:off x="6226200" y="506736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1" name=""/>
              <p:cNvGrpSpPr/>
              <p:nvPr/>
            </p:nvGrpSpPr>
            <p:grpSpPr>
              <a:xfrm>
                <a:off x="6292800" y="5105520"/>
                <a:ext cx="304920" cy="75960"/>
                <a:chOff x="6292800" y="5105520"/>
                <a:chExt cx="304920" cy="75960"/>
              </a:xfrm>
            </p:grpSpPr>
            <p:sp>
              <p:nvSpPr>
                <p:cNvPr id="3192" name=""/>
                <p:cNvSpPr/>
                <p:nvPr/>
              </p:nvSpPr>
              <p:spPr>
                <a:xfrm>
                  <a:off x="629280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36912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44544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52140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597720" y="5105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7" name=""/>
              <p:cNvSpPr/>
              <p:nvPr/>
            </p:nvSpPr>
            <p:spPr>
              <a:xfrm>
                <a:off x="6251400" y="53053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251400" y="53722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251400" y="5435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0" name=""/>
            <p:cNvSpPr/>
            <p:nvPr/>
          </p:nvSpPr>
          <p:spPr>
            <a:xfrm>
              <a:off x="7086600" y="4817160"/>
              <a:ext cx="10666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304920" y="2514600"/>
            <a:ext cx="4723920" cy="2757600"/>
            <a:chOff x="304920" y="2514600"/>
            <a:chExt cx="4723920" cy="2757600"/>
          </a:xfrm>
        </p:grpSpPr>
        <p:pic>
          <p:nvPicPr>
            <p:cNvPr id="3202" name="" descr=""/>
            <p:cNvPicPr/>
            <p:nvPr/>
          </p:nvPicPr>
          <p:blipFill>
            <a:blip r:embed="rId2"/>
            <a:stretch/>
          </p:blipFill>
          <p:spPr>
            <a:xfrm>
              <a:off x="1066680" y="2514600"/>
              <a:ext cx="9907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3" name=""/>
            <p:cNvSpPr/>
            <p:nvPr/>
          </p:nvSpPr>
          <p:spPr>
            <a:xfrm>
              <a:off x="1676520" y="3352680"/>
              <a:ext cx="0" cy="4572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H="1">
              <a:off x="1676160" y="3809880"/>
              <a:ext cx="3352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4920" y="4701600"/>
              <a:ext cx="18288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ogramm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228600" y="1066680"/>
            <a:ext cx="4038480" cy="2895840"/>
            <a:chOff x="228600" y="1066680"/>
            <a:chExt cx="4038480" cy="2895840"/>
          </a:xfrm>
        </p:grpSpPr>
        <p:grpSp>
          <p:nvGrpSpPr>
            <p:cNvPr id="3207" name=""/>
            <p:cNvGrpSpPr/>
            <p:nvPr/>
          </p:nvGrpSpPr>
          <p:grpSpPr>
            <a:xfrm>
              <a:off x="228600" y="1066680"/>
              <a:ext cx="3505320" cy="2895840"/>
              <a:chOff x="228600" y="1066680"/>
              <a:chExt cx="3505320" cy="2895840"/>
            </a:xfrm>
          </p:grpSpPr>
          <p:sp>
            <p:nvSpPr>
              <p:cNvPr id="3208" name=""/>
              <p:cNvSpPr/>
              <p:nvPr/>
            </p:nvSpPr>
            <p:spPr>
              <a:xfrm>
                <a:off x="228600" y="1981080"/>
                <a:ext cx="22860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38080" y="3962520"/>
                <a:ext cx="28958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0" name=""/>
              <p:cNvGrpSpPr/>
              <p:nvPr/>
            </p:nvGrpSpPr>
            <p:grpSpPr>
              <a:xfrm>
                <a:off x="990720" y="1066680"/>
                <a:ext cx="609480" cy="914040"/>
                <a:chOff x="990720" y="1066680"/>
                <a:chExt cx="609480" cy="91404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1270800" y="1676160"/>
                  <a:ext cx="0" cy="30456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1066680"/>
                  <a:ext cx="609480" cy="670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13" name=""/>
              <p:cNvSpPr/>
              <p:nvPr/>
            </p:nvSpPr>
            <p:spPr>
              <a:xfrm flipV="1">
                <a:off x="838080" y="1981080"/>
                <a:ext cx="0" cy="198144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4" name=""/>
            <p:cNvSpPr/>
            <p:nvPr/>
          </p:nvSpPr>
          <p:spPr>
            <a:xfrm>
              <a:off x="2438280" y="1156680"/>
              <a:ext cx="18288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thernet 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5" name=""/>
          <p:cNvGrpSpPr/>
          <p:nvPr/>
        </p:nvGrpSpPr>
        <p:grpSpPr>
          <a:xfrm>
            <a:off x="609480" y="4343400"/>
            <a:ext cx="3886200" cy="2201760"/>
            <a:chOff x="609480" y="4343400"/>
            <a:chExt cx="3886200" cy="2201760"/>
          </a:xfrm>
        </p:grpSpPr>
        <p:sp>
          <p:nvSpPr>
            <p:cNvPr id="3216" name=""/>
            <p:cNvSpPr/>
            <p:nvPr/>
          </p:nvSpPr>
          <p:spPr>
            <a:xfrm>
              <a:off x="3809880" y="4343400"/>
              <a:ext cx="0" cy="144792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7" name=""/>
            <p:cNvGrpSpPr/>
            <p:nvPr/>
          </p:nvGrpSpPr>
          <p:grpSpPr>
            <a:xfrm>
              <a:off x="609480" y="5562720"/>
              <a:ext cx="3886200" cy="982440"/>
              <a:chOff x="609480" y="5562720"/>
              <a:chExt cx="3886200" cy="982440"/>
            </a:xfrm>
          </p:grpSpPr>
          <p:sp>
            <p:nvSpPr>
              <p:cNvPr id="3218" name=""/>
              <p:cNvSpPr/>
              <p:nvPr/>
            </p:nvSpPr>
            <p:spPr>
              <a:xfrm>
                <a:off x="609480" y="5652360"/>
                <a:ext cx="1524240" cy="57060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erial interface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4080" y="5562720"/>
                <a:ext cx="1371600" cy="982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220" name=""/>
          <p:cNvGraphicFramePr/>
          <p:nvPr/>
        </p:nvGraphicFramePr>
        <p:xfrm>
          <a:off x="2576520" y="2298600"/>
          <a:ext cx="2743200" cy="12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6520" y="2298600"/>
                    <a:ext cx="27432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High connectivity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Integrated Ethernet TCP/IP network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24" name=""/>
          <p:cNvSpPr/>
          <p:nvPr/>
        </p:nvSpPr>
        <p:spPr>
          <a:xfrm>
            <a:off x="685800" y="5410080"/>
            <a:ext cx="6400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5" name=""/>
          <p:cNvGrpSpPr/>
          <p:nvPr/>
        </p:nvGrpSpPr>
        <p:grpSpPr>
          <a:xfrm>
            <a:off x="3505320" y="5410080"/>
            <a:ext cx="533160" cy="838440"/>
            <a:chOff x="3505320" y="5410080"/>
            <a:chExt cx="533160" cy="838440"/>
          </a:xfrm>
        </p:grpSpPr>
        <p:grpSp>
          <p:nvGrpSpPr>
            <p:cNvPr id="3226" name=""/>
            <p:cNvGrpSpPr/>
            <p:nvPr/>
          </p:nvGrpSpPr>
          <p:grpSpPr>
            <a:xfrm>
              <a:off x="3505320" y="5791320"/>
              <a:ext cx="533160" cy="457200"/>
              <a:chOff x="3505320" y="5791320"/>
              <a:chExt cx="533160" cy="457200"/>
            </a:xfrm>
          </p:grpSpPr>
          <p:grpSp>
            <p:nvGrpSpPr>
              <p:cNvPr id="3227" name=""/>
              <p:cNvGrpSpPr/>
              <p:nvPr/>
            </p:nvGrpSpPr>
            <p:grpSpPr>
              <a:xfrm>
                <a:off x="3505320" y="5791320"/>
                <a:ext cx="533160" cy="457200"/>
                <a:chOff x="3505320" y="5791320"/>
                <a:chExt cx="533160" cy="457200"/>
              </a:xfrm>
            </p:grpSpPr>
            <p:sp>
              <p:nvSpPr>
                <p:cNvPr id="3228" name=""/>
                <p:cNvSpPr/>
                <p:nvPr/>
              </p:nvSpPr>
              <p:spPr>
                <a:xfrm>
                  <a:off x="3505320" y="57913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3505320" y="60199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0" name=""/>
              <p:cNvSpPr/>
              <p:nvPr/>
            </p:nvSpPr>
            <p:spPr>
              <a:xfrm>
                <a:off x="3581280" y="6096240"/>
                <a:ext cx="1519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558960" y="582948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809880" y="6096240"/>
                <a:ext cx="1519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657600" y="5867640"/>
                <a:ext cx="15192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4" name=""/>
            <p:cNvSpPr/>
            <p:nvPr/>
          </p:nvSpPr>
          <p:spPr>
            <a:xfrm>
              <a:off x="373356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5" name=""/>
          <p:cNvGrpSpPr/>
          <p:nvPr/>
        </p:nvGrpSpPr>
        <p:grpSpPr>
          <a:xfrm>
            <a:off x="1371600" y="5410080"/>
            <a:ext cx="533520" cy="838440"/>
            <a:chOff x="1371600" y="5410080"/>
            <a:chExt cx="533520" cy="838440"/>
          </a:xfrm>
        </p:grpSpPr>
        <p:grpSp>
          <p:nvGrpSpPr>
            <p:cNvPr id="3236" name=""/>
            <p:cNvGrpSpPr/>
            <p:nvPr/>
          </p:nvGrpSpPr>
          <p:grpSpPr>
            <a:xfrm>
              <a:off x="1371600" y="5791320"/>
              <a:ext cx="533520" cy="457200"/>
              <a:chOff x="1371600" y="5791320"/>
              <a:chExt cx="533520" cy="457200"/>
            </a:xfrm>
          </p:grpSpPr>
          <p:grpSp>
            <p:nvGrpSpPr>
              <p:cNvPr id="3237" name=""/>
              <p:cNvGrpSpPr/>
              <p:nvPr/>
            </p:nvGrpSpPr>
            <p:grpSpPr>
              <a:xfrm>
                <a:off x="1371600" y="5791320"/>
                <a:ext cx="533520" cy="457200"/>
                <a:chOff x="1371600" y="5791320"/>
                <a:chExt cx="533520" cy="45720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1371600" y="57913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371600" y="6019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0" name=""/>
              <p:cNvSpPr/>
              <p:nvPr/>
            </p:nvSpPr>
            <p:spPr>
              <a:xfrm>
                <a:off x="14479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25600" y="58294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6765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524240" y="58676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4" name=""/>
            <p:cNvSpPr/>
            <p:nvPr/>
          </p:nvSpPr>
          <p:spPr>
            <a:xfrm>
              <a:off x="160020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5715000" y="5410080"/>
            <a:ext cx="533520" cy="838440"/>
            <a:chOff x="5715000" y="5410080"/>
            <a:chExt cx="533520" cy="838440"/>
          </a:xfrm>
        </p:grpSpPr>
        <p:grpSp>
          <p:nvGrpSpPr>
            <p:cNvPr id="3246" name=""/>
            <p:cNvGrpSpPr/>
            <p:nvPr/>
          </p:nvGrpSpPr>
          <p:grpSpPr>
            <a:xfrm>
              <a:off x="5715000" y="5791320"/>
              <a:ext cx="533520" cy="457200"/>
              <a:chOff x="5715000" y="5791320"/>
              <a:chExt cx="533520" cy="457200"/>
            </a:xfrm>
          </p:grpSpPr>
          <p:grpSp>
            <p:nvGrpSpPr>
              <p:cNvPr id="3247" name=""/>
              <p:cNvGrpSpPr/>
              <p:nvPr/>
            </p:nvGrpSpPr>
            <p:grpSpPr>
              <a:xfrm>
                <a:off x="5715000" y="5791320"/>
                <a:ext cx="533520" cy="457200"/>
                <a:chOff x="5715000" y="5791320"/>
                <a:chExt cx="533520" cy="45720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5715000" y="57913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5715000" y="6019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0" name=""/>
              <p:cNvSpPr/>
              <p:nvPr/>
            </p:nvSpPr>
            <p:spPr>
              <a:xfrm>
                <a:off x="57913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769000" y="58294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019920" y="60962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867640" y="58676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4" name=""/>
            <p:cNvSpPr/>
            <p:nvPr/>
          </p:nvSpPr>
          <p:spPr>
            <a:xfrm>
              <a:off x="5943600" y="5410080"/>
              <a:ext cx="0" cy="381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2362320" y="4267080"/>
            <a:ext cx="2971800" cy="1752840"/>
            <a:chOff x="2362320" y="4267080"/>
            <a:chExt cx="2971800" cy="1752840"/>
          </a:xfrm>
        </p:grpSpPr>
        <p:grpSp>
          <p:nvGrpSpPr>
            <p:cNvPr id="3256" name=""/>
            <p:cNvGrpSpPr/>
            <p:nvPr/>
          </p:nvGrpSpPr>
          <p:grpSpPr>
            <a:xfrm>
              <a:off x="4505400" y="4267080"/>
              <a:ext cx="828720" cy="1143000"/>
              <a:chOff x="4505400" y="4267080"/>
              <a:chExt cx="828720" cy="1143000"/>
            </a:xfrm>
          </p:grpSpPr>
          <p:sp>
            <p:nvSpPr>
              <p:cNvPr id="3257" name=""/>
              <p:cNvSpPr/>
              <p:nvPr/>
            </p:nvSpPr>
            <p:spPr>
              <a:xfrm>
                <a:off x="4886280" y="502920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05400" y="426708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59" name=""/>
            <p:cNvGrpSpPr/>
            <p:nvPr/>
          </p:nvGrpSpPr>
          <p:grpSpPr>
            <a:xfrm>
              <a:off x="2362320" y="4267080"/>
              <a:ext cx="828720" cy="1143000"/>
              <a:chOff x="2362320" y="4267080"/>
              <a:chExt cx="828720" cy="1143000"/>
            </a:xfrm>
          </p:grpSpPr>
          <p:sp>
            <p:nvSpPr>
              <p:cNvPr id="3260" name=""/>
              <p:cNvSpPr/>
              <p:nvPr/>
            </p:nvSpPr>
            <p:spPr>
              <a:xfrm>
                <a:off x="2743200" y="502920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2320" y="426708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2" name=""/>
            <p:cNvGrpSpPr/>
            <p:nvPr/>
          </p:nvGrpSpPr>
          <p:grpSpPr>
            <a:xfrm>
              <a:off x="2514600" y="5562720"/>
              <a:ext cx="2590920" cy="457200"/>
              <a:chOff x="2514600" y="5562720"/>
              <a:chExt cx="2590920" cy="457200"/>
            </a:xfrm>
          </p:grpSpPr>
          <p:sp>
            <p:nvSpPr>
              <p:cNvPr id="3263" name=""/>
              <p:cNvSpPr/>
              <p:nvPr/>
            </p:nvSpPr>
            <p:spPr>
              <a:xfrm>
                <a:off x="2514600" y="5562720"/>
                <a:ext cx="457200" cy="4572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008665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48320" y="5562720"/>
                <a:ext cx="457200" cy="4572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008665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5" name=""/>
          <p:cNvGrpSpPr/>
          <p:nvPr/>
        </p:nvGrpSpPr>
        <p:grpSpPr>
          <a:xfrm>
            <a:off x="2133720" y="5791320"/>
            <a:ext cx="3276360" cy="380880"/>
            <a:chOff x="2133720" y="5791320"/>
            <a:chExt cx="3276360" cy="380880"/>
          </a:xfrm>
        </p:grpSpPr>
        <p:sp>
          <p:nvSpPr>
            <p:cNvPr id="3266" name=""/>
            <p:cNvSpPr/>
            <p:nvPr/>
          </p:nvSpPr>
          <p:spPr>
            <a:xfrm>
              <a:off x="4267080" y="5791320"/>
              <a:ext cx="1143000" cy="380880"/>
            </a:xfrm>
            <a:prstGeom prst="leftRightArrow">
              <a:avLst>
                <a:gd name="adj1" fmla="val 50000"/>
                <a:gd name="adj2" fmla="val 59741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133720" y="5791320"/>
              <a:ext cx="1143000" cy="380880"/>
            </a:xfrm>
            <a:prstGeom prst="leftRightArrow">
              <a:avLst>
                <a:gd name="adj1" fmla="val 50000"/>
                <a:gd name="adj2" fmla="val 59741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8" name=""/>
          <p:cNvSpPr/>
          <p:nvPr/>
        </p:nvSpPr>
        <p:spPr>
          <a:xfrm>
            <a:off x="533520" y="44956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228600" y="1295280"/>
            <a:ext cx="8553600" cy="4319640"/>
            <a:chOff x="228600" y="1295280"/>
            <a:chExt cx="8553600" cy="4319640"/>
          </a:xfrm>
        </p:grpSpPr>
        <p:grpSp>
          <p:nvGrpSpPr>
            <p:cNvPr id="3270" name=""/>
            <p:cNvGrpSpPr/>
            <p:nvPr/>
          </p:nvGrpSpPr>
          <p:grpSpPr>
            <a:xfrm>
              <a:off x="6037200" y="1295280"/>
              <a:ext cx="2745000" cy="4319640"/>
              <a:chOff x="6037200" y="1295280"/>
              <a:chExt cx="2745000" cy="4319640"/>
            </a:xfrm>
          </p:grpSpPr>
          <p:pic>
            <p:nvPicPr>
              <p:cNvPr id="3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1600200"/>
                <a:ext cx="2000520" cy="21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5105520"/>
                <a:ext cx="762120" cy="5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3" name=""/>
              <p:cNvSpPr txBox="1"/>
              <p:nvPr/>
            </p:nvSpPr>
            <p:spPr>
              <a:xfrm>
                <a:off x="7010280" y="1295280"/>
                <a:ext cx="1600200" cy="571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91108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</a:rPr>
                  <a:t>Interne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rot="18096600">
                <a:off x="5742000" y="4316040"/>
                <a:ext cx="1762200" cy="291960"/>
              </a:xfrm>
              <a:prstGeom prst="leftRightArrow">
                <a:avLst>
                  <a:gd name="adj1" fmla="val 50000"/>
                  <a:gd name="adj2" fmla="val 120156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993360" y="3782880"/>
                <a:ext cx="912240" cy="13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Ht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MT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6" name=""/>
            <p:cNvSpPr/>
            <p:nvPr/>
          </p:nvSpPr>
          <p:spPr>
            <a:xfrm>
              <a:off x="228600" y="1905120"/>
              <a:ext cx="6019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WebPLC : Integrated internet protocols for remote supervision and diagno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Http   ( browser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FTP    ( file transfer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20720" indent="-27720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SMTP ( e-mail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Tahoma"/>
              </a:rPr>
              <a:t>Ponto Series</a:t>
            </a:r>
            <a:endParaRPr b="0" lang="en-US" sz="8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A complete solution to Control and Remote I/O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620120" y="2666880"/>
            <a:ext cx="685800" cy="685800"/>
            <a:chOff x="7620120" y="2666880"/>
            <a:chExt cx="685800" cy="685800"/>
          </a:xfrm>
        </p:grpSpPr>
        <p:sp>
          <p:nvSpPr>
            <p:cNvPr id="50" name=""/>
            <p:cNvSpPr/>
            <p:nvPr/>
          </p:nvSpPr>
          <p:spPr>
            <a:xfrm>
              <a:off x="7620120" y="26668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25040" y="277164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Web applications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rowser access to pages in the CPU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mplete remote diagnostic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e-mail of process alarm/eve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Java applica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`C` language programming for special applica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Gateway for older equipment'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279" name="" descr=""/>
          <p:cNvPicPr/>
          <p:nvPr/>
        </p:nvPicPr>
        <p:blipFill>
          <a:blip r:embed="rId1"/>
          <a:stretch/>
        </p:blipFill>
        <p:spPr>
          <a:xfrm>
            <a:off x="6777000" y="1143000"/>
            <a:ext cx="16430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280" name=""/>
          <p:cNvGrpSpPr/>
          <p:nvPr/>
        </p:nvGrpSpPr>
        <p:grpSpPr>
          <a:xfrm>
            <a:off x="7315200" y="3581280"/>
            <a:ext cx="761400" cy="609120"/>
            <a:chOff x="7315200" y="3581280"/>
            <a:chExt cx="761400" cy="609120"/>
          </a:xfrm>
        </p:grpSpPr>
        <p:grpSp>
          <p:nvGrpSpPr>
            <p:cNvPr id="3281" name=""/>
            <p:cNvGrpSpPr/>
            <p:nvPr/>
          </p:nvGrpSpPr>
          <p:grpSpPr>
            <a:xfrm>
              <a:off x="7315200" y="3581280"/>
              <a:ext cx="761400" cy="609120"/>
              <a:chOff x="7315200" y="3581280"/>
              <a:chExt cx="761400" cy="609120"/>
            </a:xfrm>
          </p:grpSpPr>
          <p:sp>
            <p:nvSpPr>
              <p:cNvPr id="3282" name=""/>
              <p:cNvSpPr/>
              <p:nvPr/>
            </p:nvSpPr>
            <p:spPr>
              <a:xfrm>
                <a:off x="7315200" y="3581280"/>
                <a:ext cx="761400" cy="3045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315200" y="3885840"/>
                <a:ext cx="761400" cy="3045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739ac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4" name=""/>
            <p:cNvSpPr/>
            <p:nvPr/>
          </p:nvSpPr>
          <p:spPr>
            <a:xfrm>
              <a:off x="7423920" y="3987720"/>
              <a:ext cx="217440" cy="101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392240" y="3632040"/>
              <a:ext cx="61200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50440" y="3987720"/>
              <a:ext cx="217440" cy="101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533000" y="3682800"/>
              <a:ext cx="217440" cy="10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8" name=""/>
          <p:cNvSpPr/>
          <p:nvPr/>
        </p:nvSpPr>
        <p:spPr>
          <a:xfrm>
            <a:off x="7696080" y="297180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696080" y="42670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990720" cy="571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3045 CPU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105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32bits microprocessor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4096 digital I/O poi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512 analog I/O poi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512kb user program memor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Integrated Ethernet TCP/IP network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ebPLC: Http, FTP, SMTP protocol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3 serial channel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mall dimens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3293" name=""/>
          <p:cNvGraphicFramePr/>
          <p:nvPr/>
        </p:nvGraphicFramePr>
        <p:xfrm>
          <a:off x="3733920" y="4876920"/>
          <a:ext cx="1598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876920"/>
                    <a:ext cx="1598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5" name="altus06b" descr=""/>
          <p:cNvPicPr/>
          <p:nvPr/>
        </p:nvPicPr>
        <p:blipFill>
          <a:blip r:embed="rId3"/>
          <a:stretch/>
        </p:blipFill>
        <p:spPr>
          <a:xfrm>
            <a:off x="5479920" y="1066680"/>
            <a:ext cx="3409920" cy="4419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ro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Graphical bus configur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utomatic configuration check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298" name="desenho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53080" cy="4392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roPonto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ag allocation to I/O poin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odule parameterization (ex: analog signal type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art list generation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ag label printing for I/O module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Read/write to I/O points for comission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odules diagnostic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01" name="fiação4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00600" cy="29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 advTm="5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Product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04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05" name=""/>
          <p:cNvGrpSpPr/>
          <p:nvPr/>
        </p:nvGrpSpPr>
        <p:grpSpPr>
          <a:xfrm>
            <a:off x="6629400" y="3200400"/>
            <a:ext cx="685800" cy="685800"/>
            <a:chOff x="6629400" y="3200400"/>
            <a:chExt cx="685800" cy="685800"/>
          </a:xfrm>
        </p:grpSpPr>
        <p:sp>
          <p:nvSpPr>
            <p:cNvPr id="3306" name=""/>
            <p:cNvSpPr/>
            <p:nvPr/>
          </p:nvSpPr>
          <p:spPr>
            <a:xfrm>
              <a:off x="6629400" y="32004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934320" y="33051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nto Series product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09" name=""/>
          <p:cNvSpPr/>
          <p:nvPr/>
        </p:nvSpPr>
        <p:spPr>
          <a:xfrm>
            <a:off x="533520" y="1422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33520" y="23367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3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981080" y="14223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1981080" y="23367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33520" y="18795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1981080" y="18795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33520" y="27939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4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981080" y="27939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 bus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33520" y="32511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5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981080" y="32511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 bus 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33520" y="1422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533520" y="3708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33520" y="46227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8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1981080" y="37083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1981080" y="46227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 supply's and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33520" y="41655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7x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981080" y="41655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33520" y="50799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9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1981080" y="5079960"/>
            <a:ext cx="556272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33520" y="3708360"/>
            <a:ext cx="137160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6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9" name=""/>
          <p:cNvGrpSpPr/>
          <p:nvPr/>
        </p:nvGrpSpPr>
        <p:grpSpPr>
          <a:xfrm>
            <a:off x="7696080" y="4572000"/>
            <a:ext cx="533520" cy="457200"/>
            <a:chOff x="7696080" y="4572000"/>
            <a:chExt cx="533520" cy="457200"/>
          </a:xfrm>
        </p:grpSpPr>
        <p:grpSp>
          <p:nvGrpSpPr>
            <p:cNvPr id="3330" name=""/>
            <p:cNvGrpSpPr/>
            <p:nvPr/>
          </p:nvGrpSpPr>
          <p:grpSpPr>
            <a:xfrm>
              <a:off x="7696080" y="4572000"/>
              <a:ext cx="533520" cy="457200"/>
              <a:chOff x="7696080" y="4572000"/>
              <a:chExt cx="533520" cy="457200"/>
            </a:xfrm>
          </p:grpSpPr>
          <p:sp>
            <p:nvSpPr>
              <p:cNvPr id="3331" name=""/>
              <p:cNvSpPr/>
              <p:nvPr/>
            </p:nvSpPr>
            <p:spPr>
              <a:xfrm>
                <a:off x="7696080" y="45720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96080" y="48006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a8a8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3" name=""/>
            <p:cNvSpPr/>
            <p:nvPr/>
          </p:nvSpPr>
          <p:spPr>
            <a:xfrm>
              <a:off x="7772400" y="4876560"/>
              <a:ext cx="76320" cy="76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50080" y="46101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7696080" y="1447920"/>
            <a:ext cx="533160" cy="228600"/>
            <a:chOff x="7696080" y="1447920"/>
            <a:chExt cx="533160" cy="228600"/>
          </a:xfrm>
        </p:grpSpPr>
        <p:sp>
          <p:nvSpPr>
            <p:cNvPr id="3336" name=""/>
            <p:cNvSpPr/>
            <p:nvPr/>
          </p:nvSpPr>
          <p:spPr>
            <a:xfrm>
              <a:off x="7696080" y="144792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743600" y="14907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8" name=""/>
            <p:cNvGrpSpPr/>
            <p:nvPr/>
          </p:nvGrpSpPr>
          <p:grpSpPr>
            <a:xfrm>
              <a:off x="7819920" y="1528920"/>
              <a:ext cx="304560" cy="75960"/>
              <a:chOff x="7819920" y="1528920"/>
              <a:chExt cx="304560" cy="75960"/>
            </a:xfrm>
          </p:grpSpPr>
          <p:sp>
            <p:nvSpPr>
              <p:cNvPr id="3339" name=""/>
              <p:cNvSpPr/>
              <p:nvPr/>
            </p:nvSpPr>
            <p:spPr>
              <a:xfrm>
                <a:off x="781992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89588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7220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804816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8124480" y="1528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4" name=""/>
          <p:cNvGrpSpPr/>
          <p:nvPr/>
        </p:nvGrpSpPr>
        <p:grpSpPr>
          <a:xfrm>
            <a:off x="7696080" y="3657600"/>
            <a:ext cx="533160" cy="457200"/>
            <a:chOff x="7696080" y="3657600"/>
            <a:chExt cx="533160" cy="457200"/>
          </a:xfrm>
        </p:grpSpPr>
        <p:sp>
          <p:nvSpPr>
            <p:cNvPr id="3345" name=""/>
            <p:cNvSpPr/>
            <p:nvPr/>
          </p:nvSpPr>
          <p:spPr>
            <a:xfrm>
              <a:off x="7696080" y="38862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696080" y="365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775280" y="3933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775280" y="4000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775280" y="4064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7682040" y="3259080"/>
            <a:ext cx="533160" cy="228600"/>
            <a:chOff x="7682040" y="3259080"/>
            <a:chExt cx="533160" cy="228600"/>
          </a:xfrm>
        </p:grpSpPr>
        <p:sp>
          <p:nvSpPr>
            <p:cNvPr id="3351" name=""/>
            <p:cNvSpPr/>
            <p:nvPr/>
          </p:nvSpPr>
          <p:spPr>
            <a:xfrm>
              <a:off x="7682040" y="325908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6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726320" y="3290760"/>
              <a:ext cx="428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696080" y="1828800"/>
            <a:ext cx="533160" cy="228600"/>
            <a:chOff x="7696080" y="1828800"/>
            <a:chExt cx="533160" cy="228600"/>
          </a:xfrm>
        </p:grpSpPr>
        <p:sp>
          <p:nvSpPr>
            <p:cNvPr id="3354" name=""/>
            <p:cNvSpPr/>
            <p:nvPr/>
          </p:nvSpPr>
          <p:spPr>
            <a:xfrm>
              <a:off x="7696080" y="18288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743600" y="187164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6" name=""/>
            <p:cNvGrpSpPr/>
            <p:nvPr/>
          </p:nvGrpSpPr>
          <p:grpSpPr>
            <a:xfrm>
              <a:off x="7819920" y="1909800"/>
              <a:ext cx="304560" cy="75960"/>
              <a:chOff x="7819920" y="1909800"/>
              <a:chExt cx="304560" cy="75960"/>
            </a:xfrm>
          </p:grpSpPr>
          <p:sp>
            <p:nvSpPr>
              <p:cNvPr id="3357" name=""/>
              <p:cNvSpPr/>
              <p:nvPr/>
            </p:nvSpPr>
            <p:spPr>
              <a:xfrm>
                <a:off x="781992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89588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7220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04816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124480" y="19098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2" name=""/>
          <p:cNvGrpSpPr/>
          <p:nvPr/>
        </p:nvGrpSpPr>
        <p:grpSpPr>
          <a:xfrm>
            <a:off x="7696080" y="2362320"/>
            <a:ext cx="533520" cy="228600"/>
            <a:chOff x="7696080" y="2362320"/>
            <a:chExt cx="533520" cy="228600"/>
          </a:xfrm>
        </p:grpSpPr>
        <p:sp>
          <p:nvSpPr>
            <p:cNvPr id="3363" name=""/>
            <p:cNvSpPr/>
            <p:nvPr/>
          </p:nvSpPr>
          <p:spPr>
            <a:xfrm>
              <a:off x="7696080" y="23623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39ac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750080" y="2400480"/>
              <a:ext cx="4287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848720" y="2438640"/>
              <a:ext cx="15228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6" name="">
            <a:hlinkClick r:id="rId1" action="ppaction://hlinksldjump"/>
          </p:cNvPr>
          <p:cNvSpPr/>
          <p:nvPr/>
        </p:nvSpPr>
        <p:spPr>
          <a:xfrm>
            <a:off x="228600" y="14479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7" name=""/>
          <p:cNvGrpSpPr/>
          <p:nvPr/>
        </p:nvGrpSpPr>
        <p:grpSpPr>
          <a:xfrm>
            <a:off x="7696080" y="4191120"/>
            <a:ext cx="533160" cy="228600"/>
            <a:chOff x="7696080" y="4191120"/>
            <a:chExt cx="533160" cy="228600"/>
          </a:xfrm>
        </p:grpSpPr>
        <p:sp>
          <p:nvSpPr>
            <p:cNvPr id="3368" name=""/>
            <p:cNvSpPr/>
            <p:nvPr/>
          </p:nvSpPr>
          <p:spPr>
            <a:xfrm>
              <a:off x="7696080" y="419112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743600" y="4233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7819920" y="4272120"/>
              <a:ext cx="304560" cy="75960"/>
              <a:chOff x="7819920" y="4272120"/>
              <a:chExt cx="304560" cy="75960"/>
            </a:xfrm>
          </p:grpSpPr>
          <p:sp>
            <p:nvSpPr>
              <p:cNvPr id="3371" name=""/>
              <p:cNvSpPr/>
              <p:nvPr/>
            </p:nvSpPr>
            <p:spPr>
              <a:xfrm>
                <a:off x="781992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89588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7220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4816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124480" y="4272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6" name=""/>
          <p:cNvGrpSpPr/>
          <p:nvPr/>
        </p:nvGrpSpPr>
        <p:grpSpPr>
          <a:xfrm>
            <a:off x="7696080" y="2819520"/>
            <a:ext cx="533520" cy="228600"/>
            <a:chOff x="7696080" y="2819520"/>
            <a:chExt cx="533520" cy="228600"/>
          </a:xfrm>
        </p:grpSpPr>
        <p:sp>
          <p:nvSpPr>
            <p:cNvPr id="3377" name=""/>
            <p:cNvSpPr/>
            <p:nvPr/>
          </p:nvSpPr>
          <p:spPr>
            <a:xfrm>
              <a:off x="7696080" y="28195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86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740720" y="2851200"/>
              <a:ext cx="42840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9" name="">
            <a:hlinkClick r:id="rId2" action="ppaction://hlinksldjump"/>
          </p:cNvPr>
          <p:cNvSpPr/>
          <p:nvPr/>
        </p:nvSpPr>
        <p:spPr>
          <a:xfrm>
            <a:off x="228600" y="19051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>
            <a:hlinkClick r:id="rId3" action="ppaction://hlinksldjump"/>
          </p:cNvPr>
          <p:cNvSpPr/>
          <p:nvPr/>
        </p:nvSpPr>
        <p:spPr>
          <a:xfrm>
            <a:off x="228600" y="236232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ahoma"/>
              </a:rPr>
              <a:t>Field Buses</a:t>
            </a:r>
            <a:endParaRPr b="0" lang="en-US" sz="80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383" name="logocapa" descr=""/>
          <p:cNvPicPr/>
          <p:nvPr/>
        </p:nvPicPr>
        <p:blipFill>
          <a:blip r:embed="rId1"/>
          <a:stretch/>
        </p:blipFill>
        <p:spPr>
          <a:xfrm>
            <a:off x="7162920" y="6093000"/>
            <a:ext cx="179064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84" name=""/>
          <p:cNvGrpSpPr/>
          <p:nvPr/>
        </p:nvGrpSpPr>
        <p:grpSpPr>
          <a:xfrm>
            <a:off x="7086600" y="2743200"/>
            <a:ext cx="685800" cy="685800"/>
            <a:chOff x="7086600" y="2743200"/>
            <a:chExt cx="685800" cy="685800"/>
          </a:xfrm>
        </p:grpSpPr>
        <p:sp>
          <p:nvSpPr>
            <p:cNvPr id="3385" name=""/>
            <p:cNvSpPr/>
            <p:nvPr/>
          </p:nvSpPr>
          <p:spPr>
            <a:xfrm>
              <a:off x="7086600" y="274320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391520" y="28479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ahoma"/>
              </a:rPr>
              <a:t>Field bus Heads</a:t>
            </a:r>
            <a:endParaRPr b="0" lang="en-US" sz="40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ield bus heads integrated with power suppli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fferent  protocols: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Etherne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evicene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odbu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3389" name=""/>
          <p:cNvGrpSpPr/>
          <p:nvPr/>
        </p:nvGrpSpPr>
        <p:grpSpPr>
          <a:xfrm>
            <a:off x="5867280" y="3962520"/>
            <a:ext cx="533160" cy="457200"/>
            <a:chOff x="5867280" y="3962520"/>
            <a:chExt cx="533160" cy="457200"/>
          </a:xfrm>
        </p:grpSpPr>
        <p:grpSp>
          <p:nvGrpSpPr>
            <p:cNvPr id="3390" name=""/>
            <p:cNvGrpSpPr/>
            <p:nvPr/>
          </p:nvGrpSpPr>
          <p:grpSpPr>
            <a:xfrm>
              <a:off x="5867280" y="3962520"/>
              <a:ext cx="533160" cy="457200"/>
              <a:chOff x="5867280" y="3962520"/>
              <a:chExt cx="533160" cy="457200"/>
            </a:xfrm>
          </p:grpSpPr>
          <p:sp>
            <p:nvSpPr>
              <p:cNvPr id="3391" name=""/>
              <p:cNvSpPr/>
              <p:nvPr/>
            </p:nvSpPr>
            <p:spPr>
              <a:xfrm>
                <a:off x="5867280" y="3962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6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867280" y="4191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6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5943240" y="4267440"/>
              <a:ext cx="7632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921280" y="4000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095880" y="4267440"/>
              <a:ext cx="7596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4267080" y="2590920"/>
            <a:ext cx="4267440" cy="3200400"/>
            <a:chOff x="4267080" y="2590920"/>
            <a:chExt cx="4267440" cy="3200400"/>
          </a:xfrm>
        </p:grpSpPr>
        <p:grpSp>
          <p:nvGrpSpPr>
            <p:cNvPr id="3397" name=""/>
            <p:cNvGrpSpPr/>
            <p:nvPr/>
          </p:nvGrpSpPr>
          <p:grpSpPr>
            <a:xfrm>
              <a:off x="6400800" y="5334120"/>
              <a:ext cx="1066320" cy="457200"/>
              <a:chOff x="6400800" y="5334120"/>
              <a:chExt cx="1066320" cy="457200"/>
            </a:xfrm>
          </p:grpSpPr>
          <p:grpSp>
            <p:nvGrpSpPr>
              <p:cNvPr id="3398" name=""/>
              <p:cNvGrpSpPr/>
              <p:nvPr/>
            </p:nvGrpSpPr>
            <p:grpSpPr>
              <a:xfrm>
                <a:off x="6400800" y="5334120"/>
                <a:ext cx="533160" cy="457200"/>
                <a:chOff x="6400800" y="5334120"/>
                <a:chExt cx="533160" cy="457200"/>
              </a:xfrm>
            </p:grpSpPr>
            <p:grpSp>
              <p:nvGrpSpPr>
                <p:cNvPr id="3399" name=""/>
                <p:cNvGrpSpPr/>
                <p:nvPr/>
              </p:nvGrpSpPr>
              <p:grpSpPr>
                <a:xfrm>
                  <a:off x="6400800" y="5334120"/>
                  <a:ext cx="533160" cy="457200"/>
                  <a:chOff x="6400800" y="5334120"/>
                  <a:chExt cx="533160" cy="457200"/>
                </a:xfrm>
              </p:grpSpPr>
              <p:sp>
                <p:nvSpPr>
                  <p:cNvPr id="3400" name=""/>
                  <p:cNvSpPr/>
                  <p:nvPr/>
                </p:nvSpPr>
                <p:spPr>
                  <a:xfrm>
                    <a:off x="640080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640080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2" name=""/>
                <p:cNvSpPr/>
                <p:nvPr/>
              </p:nvSpPr>
              <p:spPr>
                <a:xfrm>
                  <a:off x="645444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3" name=""/>
                <p:cNvGrpSpPr/>
                <p:nvPr/>
              </p:nvGrpSpPr>
              <p:grpSpPr>
                <a:xfrm>
                  <a:off x="6521040" y="5410440"/>
                  <a:ext cx="304560" cy="75960"/>
                  <a:chOff x="6521040" y="5410440"/>
                  <a:chExt cx="304560" cy="75960"/>
                </a:xfrm>
              </p:grpSpPr>
              <p:sp>
                <p:nvSpPr>
                  <p:cNvPr id="3404" name=""/>
                  <p:cNvSpPr/>
                  <p:nvPr/>
                </p:nvSpPr>
                <p:spPr>
                  <a:xfrm>
                    <a:off x="65210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>
                    <a:off x="6597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66733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67492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6825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9" name=""/>
                <p:cNvSpPr/>
                <p:nvPr/>
              </p:nvSpPr>
              <p:spPr>
                <a:xfrm>
                  <a:off x="647964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647964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647964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6933960" y="5334120"/>
                <a:ext cx="533160" cy="457200"/>
                <a:chOff x="6933960" y="5334120"/>
                <a:chExt cx="533160" cy="457200"/>
              </a:xfrm>
            </p:grpSpPr>
            <p:grpSp>
              <p:nvGrpSpPr>
                <p:cNvPr id="3413" name=""/>
                <p:cNvGrpSpPr/>
                <p:nvPr/>
              </p:nvGrpSpPr>
              <p:grpSpPr>
                <a:xfrm>
                  <a:off x="6933960" y="5334120"/>
                  <a:ext cx="533160" cy="457200"/>
                  <a:chOff x="6933960" y="5334120"/>
                  <a:chExt cx="533160" cy="457200"/>
                </a:xfrm>
              </p:grpSpPr>
              <p:sp>
                <p:nvSpPr>
                  <p:cNvPr id="3414" name=""/>
                  <p:cNvSpPr/>
                  <p:nvPr/>
                </p:nvSpPr>
                <p:spPr>
                  <a:xfrm>
                    <a:off x="693396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693396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6" name=""/>
                <p:cNvSpPr/>
                <p:nvPr/>
              </p:nvSpPr>
              <p:spPr>
                <a:xfrm>
                  <a:off x="698760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7" name=""/>
                <p:cNvGrpSpPr/>
                <p:nvPr/>
              </p:nvGrpSpPr>
              <p:grpSpPr>
                <a:xfrm>
                  <a:off x="7054200" y="5410440"/>
                  <a:ext cx="304560" cy="75960"/>
                  <a:chOff x="7054200" y="5410440"/>
                  <a:chExt cx="304560" cy="75960"/>
                </a:xfrm>
              </p:grpSpPr>
              <p:sp>
                <p:nvSpPr>
                  <p:cNvPr id="3418" name=""/>
                  <p:cNvSpPr/>
                  <p:nvPr/>
                </p:nvSpPr>
                <p:spPr>
                  <a:xfrm>
                    <a:off x="70542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713016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72064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72824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735876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3" name=""/>
                <p:cNvSpPr/>
                <p:nvPr/>
              </p:nvSpPr>
              <p:spPr>
                <a:xfrm>
                  <a:off x="701280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701280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701280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6400800" y="5334120"/>
                <a:ext cx="533160" cy="457200"/>
                <a:chOff x="6400800" y="5334120"/>
                <a:chExt cx="533160" cy="457200"/>
              </a:xfrm>
            </p:grpSpPr>
            <p:grpSp>
              <p:nvGrpSpPr>
                <p:cNvPr id="3427" name=""/>
                <p:cNvGrpSpPr/>
                <p:nvPr/>
              </p:nvGrpSpPr>
              <p:grpSpPr>
                <a:xfrm>
                  <a:off x="6400800" y="5334120"/>
                  <a:ext cx="533160" cy="457200"/>
                  <a:chOff x="6400800" y="5334120"/>
                  <a:chExt cx="533160" cy="457200"/>
                </a:xfrm>
              </p:grpSpPr>
              <p:sp>
                <p:nvSpPr>
                  <p:cNvPr id="3428" name=""/>
                  <p:cNvSpPr/>
                  <p:nvPr/>
                </p:nvSpPr>
                <p:spPr>
                  <a:xfrm>
                    <a:off x="640080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640080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0" name=""/>
                <p:cNvSpPr/>
                <p:nvPr/>
              </p:nvSpPr>
              <p:spPr>
                <a:xfrm>
                  <a:off x="645444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1" name=""/>
                <p:cNvGrpSpPr/>
                <p:nvPr/>
              </p:nvGrpSpPr>
              <p:grpSpPr>
                <a:xfrm>
                  <a:off x="6521040" y="5410440"/>
                  <a:ext cx="304560" cy="75960"/>
                  <a:chOff x="6521040" y="5410440"/>
                  <a:chExt cx="304560" cy="75960"/>
                </a:xfrm>
              </p:grpSpPr>
              <p:sp>
                <p:nvSpPr>
                  <p:cNvPr id="3432" name=""/>
                  <p:cNvSpPr/>
                  <p:nvPr/>
                </p:nvSpPr>
                <p:spPr>
                  <a:xfrm>
                    <a:off x="65210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6597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>
                    <a:off x="66733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67492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6825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7" name=""/>
                <p:cNvSpPr/>
                <p:nvPr/>
              </p:nvSpPr>
              <p:spPr>
                <a:xfrm>
                  <a:off x="6479640" y="56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479640" y="5677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6479640" y="5740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0" name=""/>
            <p:cNvGrpSpPr/>
            <p:nvPr/>
          </p:nvGrpSpPr>
          <p:grpSpPr>
            <a:xfrm>
              <a:off x="7467480" y="5334120"/>
              <a:ext cx="1067040" cy="457200"/>
              <a:chOff x="7467480" y="5334120"/>
              <a:chExt cx="1067040" cy="457200"/>
            </a:xfrm>
          </p:grpSpPr>
          <p:grpSp>
            <p:nvGrpSpPr>
              <p:cNvPr id="3441" name=""/>
              <p:cNvGrpSpPr/>
              <p:nvPr/>
            </p:nvGrpSpPr>
            <p:grpSpPr>
              <a:xfrm>
                <a:off x="7467480" y="5334120"/>
                <a:ext cx="533520" cy="457200"/>
                <a:chOff x="7467480" y="5334120"/>
                <a:chExt cx="533520" cy="457200"/>
              </a:xfrm>
            </p:grpSpPr>
            <p:grpSp>
              <p:nvGrpSpPr>
                <p:cNvPr id="3442" name=""/>
                <p:cNvGrpSpPr/>
                <p:nvPr/>
              </p:nvGrpSpPr>
              <p:grpSpPr>
                <a:xfrm>
                  <a:off x="7467480" y="5334120"/>
                  <a:ext cx="533520" cy="457200"/>
                  <a:chOff x="7467480" y="5334120"/>
                  <a:chExt cx="533520" cy="457200"/>
                </a:xfrm>
              </p:grpSpPr>
              <p:sp>
                <p:nvSpPr>
                  <p:cNvPr id="3443" name=""/>
                  <p:cNvSpPr/>
                  <p:nvPr/>
                </p:nvSpPr>
                <p:spPr>
                  <a:xfrm>
                    <a:off x="746748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746748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5" name=""/>
                <p:cNvSpPr/>
                <p:nvPr/>
              </p:nvSpPr>
              <p:spPr>
                <a:xfrm>
                  <a:off x="752148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6" name=""/>
                <p:cNvGrpSpPr/>
                <p:nvPr/>
              </p:nvGrpSpPr>
              <p:grpSpPr>
                <a:xfrm>
                  <a:off x="7588080" y="5410440"/>
                  <a:ext cx="304920" cy="75960"/>
                  <a:chOff x="7588080" y="5410440"/>
                  <a:chExt cx="304920" cy="75960"/>
                </a:xfrm>
              </p:grpSpPr>
              <p:sp>
                <p:nvSpPr>
                  <p:cNvPr id="3447" name=""/>
                  <p:cNvSpPr/>
                  <p:nvPr/>
                </p:nvSpPr>
                <p:spPr>
                  <a:xfrm>
                    <a:off x="75880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76644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77407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78166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7893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2" name=""/>
                <p:cNvSpPr/>
                <p:nvPr/>
              </p:nvSpPr>
              <p:spPr>
                <a:xfrm>
                  <a:off x="754668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54668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54668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5" name=""/>
              <p:cNvGrpSpPr/>
              <p:nvPr/>
            </p:nvGrpSpPr>
            <p:grpSpPr>
              <a:xfrm>
                <a:off x="8001000" y="5334120"/>
                <a:ext cx="533520" cy="457200"/>
                <a:chOff x="8001000" y="5334120"/>
                <a:chExt cx="533520" cy="457200"/>
              </a:xfrm>
            </p:grpSpPr>
            <p:grpSp>
              <p:nvGrpSpPr>
                <p:cNvPr id="3456" name=""/>
                <p:cNvGrpSpPr/>
                <p:nvPr/>
              </p:nvGrpSpPr>
              <p:grpSpPr>
                <a:xfrm>
                  <a:off x="8001000" y="5334120"/>
                  <a:ext cx="533520" cy="457200"/>
                  <a:chOff x="8001000" y="5334120"/>
                  <a:chExt cx="533520" cy="457200"/>
                </a:xfrm>
              </p:grpSpPr>
              <p:sp>
                <p:nvSpPr>
                  <p:cNvPr id="3457" name=""/>
                  <p:cNvSpPr/>
                  <p:nvPr/>
                </p:nvSpPr>
                <p:spPr>
                  <a:xfrm>
                    <a:off x="800100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>
                    <a:off x="800100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9" name=""/>
                <p:cNvSpPr/>
                <p:nvPr/>
              </p:nvSpPr>
              <p:spPr>
                <a:xfrm>
                  <a:off x="805500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0" name=""/>
                <p:cNvGrpSpPr/>
                <p:nvPr/>
              </p:nvGrpSpPr>
              <p:grpSpPr>
                <a:xfrm>
                  <a:off x="8121600" y="5410440"/>
                  <a:ext cx="304920" cy="75960"/>
                  <a:chOff x="8121600" y="5410440"/>
                  <a:chExt cx="304920" cy="75960"/>
                </a:xfrm>
              </p:grpSpPr>
              <p:sp>
                <p:nvSpPr>
                  <p:cNvPr id="3461" name=""/>
                  <p:cNvSpPr/>
                  <p:nvPr/>
                </p:nvSpPr>
                <p:spPr>
                  <a:xfrm>
                    <a:off x="81216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>
                    <a:off x="81979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827424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83502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84265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6" name=""/>
                <p:cNvSpPr/>
                <p:nvPr/>
              </p:nvSpPr>
              <p:spPr>
                <a:xfrm>
                  <a:off x="808020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808020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808020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9" name=""/>
              <p:cNvGrpSpPr/>
              <p:nvPr/>
            </p:nvGrpSpPr>
            <p:grpSpPr>
              <a:xfrm>
                <a:off x="7467480" y="5334120"/>
                <a:ext cx="533520" cy="457200"/>
                <a:chOff x="7467480" y="5334120"/>
                <a:chExt cx="533520" cy="457200"/>
              </a:xfrm>
            </p:grpSpPr>
            <p:grpSp>
              <p:nvGrpSpPr>
                <p:cNvPr id="3470" name=""/>
                <p:cNvGrpSpPr/>
                <p:nvPr/>
              </p:nvGrpSpPr>
              <p:grpSpPr>
                <a:xfrm>
                  <a:off x="7467480" y="5334120"/>
                  <a:ext cx="533520" cy="457200"/>
                  <a:chOff x="7467480" y="5334120"/>
                  <a:chExt cx="533520" cy="457200"/>
                </a:xfrm>
              </p:grpSpPr>
              <p:sp>
                <p:nvSpPr>
                  <p:cNvPr id="3471" name=""/>
                  <p:cNvSpPr/>
                  <p:nvPr/>
                </p:nvSpPr>
                <p:spPr>
                  <a:xfrm>
                    <a:off x="7467480" y="5334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7467480" y="55627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3" name=""/>
                <p:cNvSpPr/>
                <p:nvPr/>
              </p:nvSpPr>
              <p:spPr>
                <a:xfrm>
                  <a:off x="7521480" y="53722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4" name=""/>
                <p:cNvGrpSpPr/>
                <p:nvPr/>
              </p:nvGrpSpPr>
              <p:grpSpPr>
                <a:xfrm>
                  <a:off x="7588080" y="5410440"/>
                  <a:ext cx="304920" cy="75960"/>
                  <a:chOff x="7588080" y="5410440"/>
                  <a:chExt cx="304920" cy="75960"/>
                </a:xfrm>
              </p:grpSpPr>
              <p:sp>
                <p:nvSpPr>
                  <p:cNvPr id="3475" name=""/>
                  <p:cNvSpPr/>
                  <p:nvPr/>
                </p:nvSpPr>
                <p:spPr>
                  <a:xfrm>
                    <a:off x="75880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76644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>
                    <a:off x="774072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>
                    <a:off x="781668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>
                    <a:off x="7893000" y="54104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0" name=""/>
                <p:cNvSpPr/>
                <p:nvPr/>
              </p:nvSpPr>
              <p:spPr>
                <a:xfrm>
                  <a:off x="7546680" y="5610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546680" y="5677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7546680" y="57405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3" name=""/>
            <p:cNvGrpSpPr/>
            <p:nvPr/>
          </p:nvGrpSpPr>
          <p:grpSpPr>
            <a:xfrm>
              <a:off x="5867280" y="5334120"/>
              <a:ext cx="533160" cy="457200"/>
              <a:chOff x="5867280" y="5334120"/>
              <a:chExt cx="533160" cy="457200"/>
            </a:xfrm>
          </p:grpSpPr>
          <p:grpSp>
            <p:nvGrpSpPr>
              <p:cNvPr id="3484" name=""/>
              <p:cNvGrpSpPr/>
              <p:nvPr/>
            </p:nvGrpSpPr>
            <p:grpSpPr>
              <a:xfrm>
                <a:off x="5867280" y="5334120"/>
                <a:ext cx="533160" cy="457200"/>
                <a:chOff x="5867280" y="5334120"/>
                <a:chExt cx="533160" cy="457200"/>
              </a:xfrm>
            </p:grpSpPr>
            <p:sp>
              <p:nvSpPr>
                <p:cNvPr id="3485" name=""/>
                <p:cNvSpPr/>
                <p:nvPr/>
              </p:nvSpPr>
              <p:spPr>
                <a:xfrm>
                  <a:off x="5867280" y="53341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5867280" y="556272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7" name=""/>
              <p:cNvSpPr/>
              <p:nvPr/>
            </p:nvSpPr>
            <p:spPr>
              <a:xfrm>
                <a:off x="5943240" y="5639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921280" y="537228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095880" y="5639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0" name=""/>
            <p:cNvSpPr/>
            <p:nvPr/>
          </p:nvSpPr>
          <p:spPr>
            <a:xfrm>
              <a:off x="6019920" y="4419720"/>
              <a:ext cx="0" cy="914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019920" y="3048120"/>
              <a:ext cx="0" cy="914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6400800" y="3962520"/>
              <a:ext cx="1066320" cy="457200"/>
              <a:chOff x="6400800" y="3962520"/>
              <a:chExt cx="1066320" cy="457200"/>
            </a:xfrm>
          </p:grpSpPr>
          <p:grpSp>
            <p:nvGrpSpPr>
              <p:cNvPr id="3493" name=""/>
              <p:cNvGrpSpPr/>
              <p:nvPr/>
            </p:nvGrpSpPr>
            <p:grpSpPr>
              <a:xfrm>
                <a:off x="6400800" y="3962520"/>
                <a:ext cx="533160" cy="457200"/>
                <a:chOff x="6400800" y="3962520"/>
                <a:chExt cx="533160" cy="457200"/>
              </a:xfrm>
            </p:grpSpPr>
            <p:grpSp>
              <p:nvGrpSpPr>
                <p:cNvPr id="3494" name=""/>
                <p:cNvGrpSpPr/>
                <p:nvPr/>
              </p:nvGrpSpPr>
              <p:grpSpPr>
                <a:xfrm>
                  <a:off x="6400800" y="3962520"/>
                  <a:ext cx="533160" cy="457200"/>
                  <a:chOff x="6400800" y="3962520"/>
                  <a:chExt cx="533160" cy="457200"/>
                </a:xfrm>
              </p:grpSpPr>
              <p:sp>
                <p:nvSpPr>
                  <p:cNvPr id="3495" name=""/>
                  <p:cNvSpPr/>
                  <p:nvPr/>
                </p:nvSpPr>
                <p:spPr>
                  <a:xfrm>
                    <a:off x="640080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640080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7" name=""/>
                <p:cNvSpPr/>
                <p:nvPr/>
              </p:nvSpPr>
              <p:spPr>
                <a:xfrm>
                  <a:off x="645444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8" name=""/>
                <p:cNvGrpSpPr/>
                <p:nvPr/>
              </p:nvGrpSpPr>
              <p:grpSpPr>
                <a:xfrm>
                  <a:off x="6521040" y="4038840"/>
                  <a:ext cx="304560" cy="75960"/>
                  <a:chOff x="6521040" y="4038840"/>
                  <a:chExt cx="304560" cy="75960"/>
                </a:xfrm>
              </p:grpSpPr>
              <p:sp>
                <p:nvSpPr>
                  <p:cNvPr id="3499" name=""/>
                  <p:cNvSpPr/>
                  <p:nvPr/>
                </p:nvSpPr>
                <p:spPr>
                  <a:xfrm>
                    <a:off x="65210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6597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66733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67492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6825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4" name=""/>
                <p:cNvSpPr/>
                <p:nvPr/>
              </p:nvSpPr>
              <p:spPr>
                <a:xfrm>
                  <a:off x="647964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647964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647964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7" name=""/>
              <p:cNvGrpSpPr/>
              <p:nvPr/>
            </p:nvGrpSpPr>
            <p:grpSpPr>
              <a:xfrm>
                <a:off x="6933960" y="3962520"/>
                <a:ext cx="533160" cy="457200"/>
                <a:chOff x="6933960" y="3962520"/>
                <a:chExt cx="533160" cy="457200"/>
              </a:xfrm>
            </p:grpSpPr>
            <p:grpSp>
              <p:nvGrpSpPr>
                <p:cNvPr id="3508" name=""/>
                <p:cNvGrpSpPr/>
                <p:nvPr/>
              </p:nvGrpSpPr>
              <p:grpSpPr>
                <a:xfrm>
                  <a:off x="6933960" y="3962520"/>
                  <a:ext cx="533160" cy="457200"/>
                  <a:chOff x="6933960" y="3962520"/>
                  <a:chExt cx="533160" cy="457200"/>
                </a:xfrm>
              </p:grpSpPr>
              <p:sp>
                <p:nvSpPr>
                  <p:cNvPr id="3509" name=""/>
                  <p:cNvSpPr/>
                  <p:nvPr/>
                </p:nvSpPr>
                <p:spPr>
                  <a:xfrm>
                    <a:off x="693396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693396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1" name=""/>
                <p:cNvSpPr/>
                <p:nvPr/>
              </p:nvSpPr>
              <p:spPr>
                <a:xfrm>
                  <a:off x="698760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2" name=""/>
                <p:cNvGrpSpPr/>
                <p:nvPr/>
              </p:nvGrpSpPr>
              <p:grpSpPr>
                <a:xfrm>
                  <a:off x="7054200" y="4038840"/>
                  <a:ext cx="304560" cy="75960"/>
                  <a:chOff x="7054200" y="4038840"/>
                  <a:chExt cx="304560" cy="75960"/>
                </a:xfrm>
              </p:grpSpPr>
              <p:sp>
                <p:nvSpPr>
                  <p:cNvPr id="3513" name=""/>
                  <p:cNvSpPr/>
                  <p:nvPr/>
                </p:nvSpPr>
                <p:spPr>
                  <a:xfrm>
                    <a:off x="70542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713016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72064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72824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735876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8" name=""/>
                <p:cNvSpPr/>
                <p:nvPr/>
              </p:nvSpPr>
              <p:spPr>
                <a:xfrm>
                  <a:off x="701280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701280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701280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1" name=""/>
              <p:cNvGrpSpPr/>
              <p:nvPr/>
            </p:nvGrpSpPr>
            <p:grpSpPr>
              <a:xfrm>
                <a:off x="6400800" y="3962520"/>
                <a:ext cx="533160" cy="457200"/>
                <a:chOff x="6400800" y="3962520"/>
                <a:chExt cx="533160" cy="457200"/>
              </a:xfrm>
            </p:grpSpPr>
            <p:grpSp>
              <p:nvGrpSpPr>
                <p:cNvPr id="3522" name=""/>
                <p:cNvGrpSpPr/>
                <p:nvPr/>
              </p:nvGrpSpPr>
              <p:grpSpPr>
                <a:xfrm>
                  <a:off x="6400800" y="3962520"/>
                  <a:ext cx="533160" cy="457200"/>
                  <a:chOff x="6400800" y="3962520"/>
                  <a:chExt cx="533160" cy="457200"/>
                </a:xfrm>
              </p:grpSpPr>
              <p:sp>
                <p:nvSpPr>
                  <p:cNvPr id="3523" name=""/>
                  <p:cNvSpPr/>
                  <p:nvPr/>
                </p:nvSpPr>
                <p:spPr>
                  <a:xfrm>
                    <a:off x="640080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640080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5" name=""/>
                <p:cNvSpPr/>
                <p:nvPr/>
              </p:nvSpPr>
              <p:spPr>
                <a:xfrm>
                  <a:off x="645444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6" name=""/>
                <p:cNvGrpSpPr/>
                <p:nvPr/>
              </p:nvGrpSpPr>
              <p:grpSpPr>
                <a:xfrm>
                  <a:off x="6521040" y="4038840"/>
                  <a:ext cx="304560" cy="75960"/>
                  <a:chOff x="6521040" y="4038840"/>
                  <a:chExt cx="304560" cy="75960"/>
                </a:xfrm>
              </p:grpSpPr>
              <p:sp>
                <p:nvSpPr>
                  <p:cNvPr id="3527" name=""/>
                  <p:cNvSpPr/>
                  <p:nvPr/>
                </p:nvSpPr>
                <p:spPr>
                  <a:xfrm>
                    <a:off x="65210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6597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66733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67492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6825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2" name=""/>
                <p:cNvSpPr/>
                <p:nvPr/>
              </p:nvSpPr>
              <p:spPr>
                <a:xfrm>
                  <a:off x="6479640" y="4238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6479640" y="4305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6479640" y="4368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5" name=""/>
            <p:cNvGrpSpPr/>
            <p:nvPr/>
          </p:nvGrpSpPr>
          <p:grpSpPr>
            <a:xfrm>
              <a:off x="7467480" y="3962520"/>
              <a:ext cx="1067040" cy="457200"/>
              <a:chOff x="7467480" y="3962520"/>
              <a:chExt cx="1067040" cy="457200"/>
            </a:xfrm>
          </p:grpSpPr>
          <p:grpSp>
            <p:nvGrpSpPr>
              <p:cNvPr id="3536" name=""/>
              <p:cNvGrpSpPr/>
              <p:nvPr/>
            </p:nvGrpSpPr>
            <p:grpSpPr>
              <a:xfrm>
                <a:off x="7467480" y="3962520"/>
                <a:ext cx="533520" cy="457200"/>
                <a:chOff x="7467480" y="3962520"/>
                <a:chExt cx="533520" cy="457200"/>
              </a:xfrm>
            </p:grpSpPr>
            <p:grpSp>
              <p:nvGrpSpPr>
                <p:cNvPr id="3537" name=""/>
                <p:cNvGrpSpPr/>
                <p:nvPr/>
              </p:nvGrpSpPr>
              <p:grpSpPr>
                <a:xfrm>
                  <a:off x="7467480" y="3962520"/>
                  <a:ext cx="533520" cy="457200"/>
                  <a:chOff x="7467480" y="3962520"/>
                  <a:chExt cx="533520" cy="457200"/>
                </a:xfrm>
              </p:grpSpPr>
              <p:sp>
                <p:nvSpPr>
                  <p:cNvPr id="3538" name=""/>
                  <p:cNvSpPr/>
                  <p:nvPr/>
                </p:nvSpPr>
                <p:spPr>
                  <a:xfrm>
                    <a:off x="746748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746748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0" name=""/>
                <p:cNvSpPr/>
                <p:nvPr/>
              </p:nvSpPr>
              <p:spPr>
                <a:xfrm>
                  <a:off x="752148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1" name=""/>
                <p:cNvGrpSpPr/>
                <p:nvPr/>
              </p:nvGrpSpPr>
              <p:grpSpPr>
                <a:xfrm>
                  <a:off x="7588080" y="4038840"/>
                  <a:ext cx="304920" cy="75960"/>
                  <a:chOff x="7588080" y="4038840"/>
                  <a:chExt cx="304920" cy="75960"/>
                </a:xfrm>
              </p:grpSpPr>
              <p:sp>
                <p:nvSpPr>
                  <p:cNvPr id="3542" name=""/>
                  <p:cNvSpPr/>
                  <p:nvPr/>
                </p:nvSpPr>
                <p:spPr>
                  <a:xfrm>
                    <a:off x="75880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6644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77407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78166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7893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7" name=""/>
                <p:cNvSpPr/>
                <p:nvPr/>
              </p:nvSpPr>
              <p:spPr>
                <a:xfrm>
                  <a:off x="754668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754668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754668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0" name=""/>
              <p:cNvGrpSpPr/>
              <p:nvPr/>
            </p:nvGrpSpPr>
            <p:grpSpPr>
              <a:xfrm>
                <a:off x="8001000" y="3962520"/>
                <a:ext cx="533520" cy="457200"/>
                <a:chOff x="8001000" y="3962520"/>
                <a:chExt cx="533520" cy="457200"/>
              </a:xfrm>
            </p:grpSpPr>
            <p:grpSp>
              <p:nvGrpSpPr>
                <p:cNvPr id="3551" name=""/>
                <p:cNvGrpSpPr/>
                <p:nvPr/>
              </p:nvGrpSpPr>
              <p:grpSpPr>
                <a:xfrm>
                  <a:off x="8001000" y="3962520"/>
                  <a:ext cx="533520" cy="457200"/>
                  <a:chOff x="8001000" y="3962520"/>
                  <a:chExt cx="533520" cy="457200"/>
                </a:xfrm>
              </p:grpSpPr>
              <p:sp>
                <p:nvSpPr>
                  <p:cNvPr id="3552" name=""/>
                  <p:cNvSpPr/>
                  <p:nvPr/>
                </p:nvSpPr>
                <p:spPr>
                  <a:xfrm>
                    <a:off x="800100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800100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4" name=""/>
                <p:cNvSpPr/>
                <p:nvPr/>
              </p:nvSpPr>
              <p:spPr>
                <a:xfrm>
                  <a:off x="805500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5" name=""/>
                <p:cNvGrpSpPr/>
                <p:nvPr/>
              </p:nvGrpSpPr>
              <p:grpSpPr>
                <a:xfrm>
                  <a:off x="8121600" y="4038840"/>
                  <a:ext cx="304920" cy="75960"/>
                  <a:chOff x="8121600" y="4038840"/>
                  <a:chExt cx="304920" cy="75960"/>
                </a:xfrm>
              </p:grpSpPr>
              <p:sp>
                <p:nvSpPr>
                  <p:cNvPr id="3556" name=""/>
                  <p:cNvSpPr/>
                  <p:nvPr/>
                </p:nvSpPr>
                <p:spPr>
                  <a:xfrm>
                    <a:off x="81216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81979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827424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83502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84265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1" name=""/>
                <p:cNvSpPr/>
                <p:nvPr/>
              </p:nvSpPr>
              <p:spPr>
                <a:xfrm>
                  <a:off x="808020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808020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808020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7467480" y="3962520"/>
                <a:ext cx="533520" cy="457200"/>
                <a:chOff x="7467480" y="3962520"/>
                <a:chExt cx="533520" cy="457200"/>
              </a:xfrm>
            </p:grpSpPr>
            <p:grpSp>
              <p:nvGrpSpPr>
                <p:cNvPr id="3565" name=""/>
                <p:cNvGrpSpPr/>
                <p:nvPr/>
              </p:nvGrpSpPr>
              <p:grpSpPr>
                <a:xfrm>
                  <a:off x="7467480" y="3962520"/>
                  <a:ext cx="533520" cy="457200"/>
                  <a:chOff x="7467480" y="3962520"/>
                  <a:chExt cx="533520" cy="457200"/>
                </a:xfrm>
              </p:grpSpPr>
              <p:sp>
                <p:nvSpPr>
                  <p:cNvPr id="3566" name=""/>
                  <p:cNvSpPr/>
                  <p:nvPr/>
                </p:nvSpPr>
                <p:spPr>
                  <a:xfrm>
                    <a:off x="7467480" y="3962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7467480" y="41911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8" name=""/>
                <p:cNvSpPr/>
                <p:nvPr/>
              </p:nvSpPr>
              <p:spPr>
                <a:xfrm>
                  <a:off x="7521480" y="40006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9" name=""/>
                <p:cNvGrpSpPr/>
                <p:nvPr/>
              </p:nvGrpSpPr>
              <p:grpSpPr>
                <a:xfrm>
                  <a:off x="7588080" y="4038840"/>
                  <a:ext cx="304920" cy="75960"/>
                  <a:chOff x="7588080" y="4038840"/>
                  <a:chExt cx="304920" cy="75960"/>
                </a:xfrm>
              </p:grpSpPr>
              <p:sp>
                <p:nvSpPr>
                  <p:cNvPr id="3570" name=""/>
                  <p:cNvSpPr/>
                  <p:nvPr/>
                </p:nvSpPr>
                <p:spPr>
                  <a:xfrm>
                    <a:off x="75880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76644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774072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781668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7893000" y="40388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5" name=""/>
                <p:cNvSpPr/>
                <p:nvPr/>
              </p:nvSpPr>
              <p:spPr>
                <a:xfrm>
                  <a:off x="7546680" y="4238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7546680" y="43056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7546680" y="43689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8" name=""/>
            <p:cNvGrpSpPr/>
            <p:nvPr/>
          </p:nvGrpSpPr>
          <p:grpSpPr>
            <a:xfrm>
              <a:off x="4267080" y="2590920"/>
              <a:ext cx="533520" cy="457200"/>
              <a:chOff x="4267080" y="2590920"/>
              <a:chExt cx="533520" cy="457200"/>
            </a:xfrm>
          </p:grpSpPr>
          <p:grpSp>
            <p:nvGrpSpPr>
              <p:cNvPr id="3579" name=""/>
              <p:cNvGrpSpPr/>
              <p:nvPr/>
            </p:nvGrpSpPr>
            <p:grpSpPr>
              <a:xfrm>
                <a:off x="4267080" y="2590920"/>
                <a:ext cx="533520" cy="457200"/>
                <a:chOff x="4267080" y="2590920"/>
                <a:chExt cx="533520" cy="457200"/>
              </a:xfrm>
            </p:grpSpPr>
            <p:sp>
              <p:nvSpPr>
                <p:cNvPr id="3580" name=""/>
                <p:cNvSpPr/>
                <p:nvPr/>
              </p:nvSpPr>
              <p:spPr>
                <a:xfrm>
                  <a:off x="4267080" y="2590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4267080" y="28195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2" name=""/>
              <p:cNvSpPr/>
              <p:nvPr/>
            </p:nvSpPr>
            <p:spPr>
              <a:xfrm>
                <a:off x="43434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321080" y="26290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5334120" y="2590920"/>
              <a:ext cx="1066320" cy="457200"/>
              <a:chOff x="5334120" y="2590920"/>
              <a:chExt cx="1066320" cy="457200"/>
            </a:xfrm>
          </p:grpSpPr>
          <p:grpSp>
            <p:nvGrpSpPr>
              <p:cNvPr id="3585" name=""/>
              <p:cNvGrpSpPr/>
              <p:nvPr/>
            </p:nvGrpSpPr>
            <p:grpSpPr>
              <a:xfrm>
                <a:off x="5334120" y="2590920"/>
                <a:ext cx="533160" cy="457200"/>
                <a:chOff x="5334120" y="2590920"/>
                <a:chExt cx="533160" cy="457200"/>
              </a:xfrm>
            </p:grpSpPr>
            <p:grpSp>
              <p:nvGrpSpPr>
                <p:cNvPr id="3586" name=""/>
                <p:cNvGrpSpPr/>
                <p:nvPr/>
              </p:nvGrpSpPr>
              <p:grpSpPr>
                <a:xfrm>
                  <a:off x="5334120" y="2590920"/>
                  <a:ext cx="533160" cy="457200"/>
                  <a:chOff x="5334120" y="2590920"/>
                  <a:chExt cx="533160" cy="457200"/>
                </a:xfrm>
              </p:grpSpPr>
              <p:sp>
                <p:nvSpPr>
                  <p:cNvPr id="3587" name=""/>
                  <p:cNvSpPr/>
                  <p:nvPr/>
                </p:nvSpPr>
                <p:spPr>
                  <a:xfrm>
                    <a:off x="533412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533412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9" name=""/>
                <p:cNvSpPr/>
                <p:nvPr/>
              </p:nvSpPr>
              <p:spPr>
                <a:xfrm>
                  <a:off x="538776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0" name=""/>
                <p:cNvGrpSpPr/>
                <p:nvPr/>
              </p:nvGrpSpPr>
              <p:grpSpPr>
                <a:xfrm>
                  <a:off x="5454360" y="2667240"/>
                  <a:ext cx="304560" cy="75960"/>
                  <a:chOff x="5454360" y="2667240"/>
                  <a:chExt cx="304560" cy="75960"/>
                </a:xfrm>
              </p:grpSpPr>
              <p:sp>
                <p:nvSpPr>
                  <p:cNvPr id="3591" name=""/>
                  <p:cNvSpPr/>
                  <p:nvPr/>
                </p:nvSpPr>
                <p:spPr>
                  <a:xfrm>
                    <a:off x="54543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5530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56066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5682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5758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6" name=""/>
                <p:cNvSpPr/>
                <p:nvPr/>
              </p:nvSpPr>
              <p:spPr>
                <a:xfrm>
                  <a:off x="541296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541296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541296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9" name=""/>
              <p:cNvGrpSpPr/>
              <p:nvPr/>
            </p:nvGrpSpPr>
            <p:grpSpPr>
              <a:xfrm>
                <a:off x="5867280" y="2590920"/>
                <a:ext cx="533160" cy="457200"/>
                <a:chOff x="5867280" y="2590920"/>
                <a:chExt cx="533160" cy="457200"/>
              </a:xfrm>
            </p:grpSpPr>
            <p:grpSp>
              <p:nvGrpSpPr>
                <p:cNvPr id="3600" name=""/>
                <p:cNvGrpSpPr/>
                <p:nvPr/>
              </p:nvGrpSpPr>
              <p:grpSpPr>
                <a:xfrm>
                  <a:off x="5867280" y="2590920"/>
                  <a:ext cx="533160" cy="457200"/>
                  <a:chOff x="5867280" y="2590920"/>
                  <a:chExt cx="533160" cy="457200"/>
                </a:xfrm>
              </p:grpSpPr>
              <p:sp>
                <p:nvSpPr>
                  <p:cNvPr id="3601" name=""/>
                  <p:cNvSpPr/>
                  <p:nvPr/>
                </p:nvSpPr>
                <p:spPr>
                  <a:xfrm>
                    <a:off x="586728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586728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3" name=""/>
                <p:cNvSpPr/>
                <p:nvPr/>
              </p:nvSpPr>
              <p:spPr>
                <a:xfrm>
                  <a:off x="592092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4" name=""/>
                <p:cNvGrpSpPr/>
                <p:nvPr/>
              </p:nvGrpSpPr>
              <p:grpSpPr>
                <a:xfrm>
                  <a:off x="5987520" y="2667240"/>
                  <a:ext cx="304560" cy="75960"/>
                  <a:chOff x="5987520" y="2667240"/>
                  <a:chExt cx="304560" cy="75960"/>
                </a:xfrm>
              </p:grpSpPr>
              <p:sp>
                <p:nvSpPr>
                  <p:cNvPr id="3605" name=""/>
                  <p:cNvSpPr/>
                  <p:nvPr/>
                </p:nvSpPr>
                <p:spPr>
                  <a:xfrm>
                    <a:off x="59875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60634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61398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62157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6292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0" name=""/>
                <p:cNvSpPr/>
                <p:nvPr/>
              </p:nvSpPr>
              <p:spPr>
                <a:xfrm>
                  <a:off x="594612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594612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594612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3" name=""/>
              <p:cNvGrpSpPr/>
              <p:nvPr/>
            </p:nvGrpSpPr>
            <p:grpSpPr>
              <a:xfrm>
                <a:off x="5334120" y="2590920"/>
                <a:ext cx="533160" cy="457200"/>
                <a:chOff x="5334120" y="2590920"/>
                <a:chExt cx="533160" cy="457200"/>
              </a:xfrm>
            </p:grpSpPr>
            <p:grpSp>
              <p:nvGrpSpPr>
                <p:cNvPr id="3614" name=""/>
                <p:cNvGrpSpPr/>
                <p:nvPr/>
              </p:nvGrpSpPr>
              <p:grpSpPr>
                <a:xfrm>
                  <a:off x="5334120" y="2590920"/>
                  <a:ext cx="533160" cy="457200"/>
                  <a:chOff x="5334120" y="2590920"/>
                  <a:chExt cx="533160" cy="457200"/>
                </a:xfrm>
              </p:grpSpPr>
              <p:sp>
                <p:nvSpPr>
                  <p:cNvPr id="3615" name=""/>
                  <p:cNvSpPr/>
                  <p:nvPr/>
                </p:nvSpPr>
                <p:spPr>
                  <a:xfrm>
                    <a:off x="533412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533412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7" name=""/>
                <p:cNvSpPr/>
                <p:nvPr/>
              </p:nvSpPr>
              <p:spPr>
                <a:xfrm>
                  <a:off x="538776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8" name=""/>
                <p:cNvGrpSpPr/>
                <p:nvPr/>
              </p:nvGrpSpPr>
              <p:grpSpPr>
                <a:xfrm>
                  <a:off x="5454360" y="2667240"/>
                  <a:ext cx="304560" cy="75960"/>
                  <a:chOff x="5454360" y="2667240"/>
                  <a:chExt cx="304560" cy="75960"/>
                </a:xfrm>
              </p:grpSpPr>
              <p:sp>
                <p:nvSpPr>
                  <p:cNvPr id="3619" name=""/>
                  <p:cNvSpPr/>
                  <p:nvPr/>
                </p:nvSpPr>
                <p:spPr>
                  <a:xfrm>
                    <a:off x="54543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5530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56066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5682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5758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4" name=""/>
                <p:cNvSpPr/>
                <p:nvPr/>
              </p:nvSpPr>
              <p:spPr>
                <a:xfrm>
                  <a:off x="541296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541296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541296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7" name=""/>
            <p:cNvGrpSpPr/>
            <p:nvPr/>
          </p:nvGrpSpPr>
          <p:grpSpPr>
            <a:xfrm>
              <a:off x="4800600" y="2590920"/>
              <a:ext cx="533520" cy="457200"/>
              <a:chOff x="4800600" y="2590920"/>
              <a:chExt cx="533520" cy="457200"/>
            </a:xfrm>
          </p:grpSpPr>
          <p:grpSp>
            <p:nvGrpSpPr>
              <p:cNvPr id="3628" name=""/>
              <p:cNvGrpSpPr/>
              <p:nvPr/>
            </p:nvGrpSpPr>
            <p:grpSpPr>
              <a:xfrm>
                <a:off x="4800600" y="2590920"/>
                <a:ext cx="533520" cy="457200"/>
                <a:chOff x="4800600" y="2590920"/>
                <a:chExt cx="533520" cy="457200"/>
              </a:xfrm>
            </p:grpSpPr>
            <p:sp>
              <p:nvSpPr>
                <p:cNvPr id="3629" name=""/>
                <p:cNvSpPr/>
                <p:nvPr/>
              </p:nvSpPr>
              <p:spPr>
                <a:xfrm>
                  <a:off x="4800600" y="25909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4800600" y="281952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1" name=""/>
              <p:cNvSpPr/>
              <p:nvPr/>
            </p:nvSpPr>
            <p:spPr>
              <a:xfrm>
                <a:off x="4876920" y="28958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854600" y="262908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05520" y="289584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4953240" y="266724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5" name=""/>
            <p:cNvGrpSpPr/>
            <p:nvPr/>
          </p:nvGrpSpPr>
          <p:grpSpPr>
            <a:xfrm>
              <a:off x="6400800" y="2590920"/>
              <a:ext cx="1066320" cy="457200"/>
              <a:chOff x="6400800" y="2590920"/>
              <a:chExt cx="1066320" cy="457200"/>
            </a:xfrm>
          </p:grpSpPr>
          <p:grpSp>
            <p:nvGrpSpPr>
              <p:cNvPr id="3636" name=""/>
              <p:cNvGrpSpPr/>
              <p:nvPr/>
            </p:nvGrpSpPr>
            <p:grpSpPr>
              <a:xfrm>
                <a:off x="6400800" y="2590920"/>
                <a:ext cx="533160" cy="457200"/>
                <a:chOff x="6400800" y="2590920"/>
                <a:chExt cx="533160" cy="457200"/>
              </a:xfrm>
            </p:grpSpPr>
            <p:grpSp>
              <p:nvGrpSpPr>
                <p:cNvPr id="3637" name=""/>
                <p:cNvGrpSpPr/>
                <p:nvPr/>
              </p:nvGrpSpPr>
              <p:grpSpPr>
                <a:xfrm>
                  <a:off x="6400800" y="2590920"/>
                  <a:ext cx="533160" cy="457200"/>
                  <a:chOff x="6400800" y="2590920"/>
                  <a:chExt cx="533160" cy="457200"/>
                </a:xfrm>
              </p:grpSpPr>
              <p:sp>
                <p:nvSpPr>
                  <p:cNvPr id="3638" name=""/>
                  <p:cNvSpPr/>
                  <p:nvPr/>
                </p:nvSpPr>
                <p:spPr>
                  <a:xfrm>
                    <a:off x="640080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>
                    <a:off x="640080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0" name=""/>
                <p:cNvSpPr/>
                <p:nvPr/>
              </p:nvSpPr>
              <p:spPr>
                <a:xfrm>
                  <a:off x="645444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1" name=""/>
                <p:cNvGrpSpPr/>
                <p:nvPr/>
              </p:nvGrpSpPr>
              <p:grpSpPr>
                <a:xfrm>
                  <a:off x="6521040" y="2667240"/>
                  <a:ext cx="304560" cy="75960"/>
                  <a:chOff x="6521040" y="2667240"/>
                  <a:chExt cx="304560" cy="75960"/>
                </a:xfrm>
              </p:grpSpPr>
              <p:sp>
                <p:nvSpPr>
                  <p:cNvPr id="3642" name=""/>
                  <p:cNvSpPr/>
                  <p:nvPr/>
                </p:nvSpPr>
                <p:spPr>
                  <a:xfrm>
                    <a:off x="65210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6597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6673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67492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6825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7" name=""/>
                <p:cNvSpPr/>
                <p:nvPr/>
              </p:nvSpPr>
              <p:spPr>
                <a:xfrm>
                  <a:off x="647964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647964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647964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0" name=""/>
              <p:cNvGrpSpPr/>
              <p:nvPr/>
            </p:nvGrpSpPr>
            <p:grpSpPr>
              <a:xfrm>
                <a:off x="6933960" y="2590920"/>
                <a:ext cx="533160" cy="457200"/>
                <a:chOff x="6933960" y="2590920"/>
                <a:chExt cx="533160" cy="457200"/>
              </a:xfrm>
            </p:grpSpPr>
            <p:grpSp>
              <p:nvGrpSpPr>
                <p:cNvPr id="3651" name=""/>
                <p:cNvGrpSpPr/>
                <p:nvPr/>
              </p:nvGrpSpPr>
              <p:grpSpPr>
                <a:xfrm>
                  <a:off x="6933960" y="2590920"/>
                  <a:ext cx="533160" cy="457200"/>
                  <a:chOff x="6933960" y="2590920"/>
                  <a:chExt cx="533160" cy="457200"/>
                </a:xfrm>
              </p:grpSpPr>
              <p:sp>
                <p:nvSpPr>
                  <p:cNvPr id="3652" name=""/>
                  <p:cNvSpPr/>
                  <p:nvPr/>
                </p:nvSpPr>
                <p:spPr>
                  <a:xfrm>
                    <a:off x="693396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>
                    <a:off x="693396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4" name=""/>
                <p:cNvSpPr/>
                <p:nvPr/>
              </p:nvSpPr>
              <p:spPr>
                <a:xfrm>
                  <a:off x="698760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5" name=""/>
                <p:cNvGrpSpPr/>
                <p:nvPr/>
              </p:nvGrpSpPr>
              <p:grpSpPr>
                <a:xfrm>
                  <a:off x="7054200" y="2667240"/>
                  <a:ext cx="304560" cy="75960"/>
                  <a:chOff x="7054200" y="2667240"/>
                  <a:chExt cx="304560" cy="7596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>
                    <a:off x="70542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71301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72064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72824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735876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1" name=""/>
                <p:cNvSpPr/>
                <p:nvPr/>
              </p:nvSpPr>
              <p:spPr>
                <a:xfrm>
                  <a:off x="701280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701280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701280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4" name=""/>
              <p:cNvGrpSpPr/>
              <p:nvPr/>
            </p:nvGrpSpPr>
            <p:grpSpPr>
              <a:xfrm>
                <a:off x="6400800" y="2590920"/>
                <a:ext cx="533160" cy="457200"/>
                <a:chOff x="6400800" y="2590920"/>
                <a:chExt cx="533160" cy="457200"/>
              </a:xfrm>
            </p:grpSpPr>
            <p:grpSp>
              <p:nvGrpSpPr>
                <p:cNvPr id="3665" name=""/>
                <p:cNvGrpSpPr/>
                <p:nvPr/>
              </p:nvGrpSpPr>
              <p:grpSpPr>
                <a:xfrm>
                  <a:off x="6400800" y="2590920"/>
                  <a:ext cx="533160" cy="457200"/>
                  <a:chOff x="6400800" y="2590920"/>
                  <a:chExt cx="533160" cy="457200"/>
                </a:xfrm>
              </p:grpSpPr>
              <p:sp>
                <p:nvSpPr>
                  <p:cNvPr id="3666" name=""/>
                  <p:cNvSpPr/>
                  <p:nvPr/>
                </p:nvSpPr>
                <p:spPr>
                  <a:xfrm>
                    <a:off x="6400800" y="2590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6400800" y="2819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8" name=""/>
                <p:cNvSpPr/>
                <p:nvPr/>
              </p:nvSpPr>
              <p:spPr>
                <a:xfrm>
                  <a:off x="6454440" y="2629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9" name=""/>
                <p:cNvGrpSpPr/>
                <p:nvPr/>
              </p:nvGrpSpPr>
              <p:grpSpPr>
                <a:xfrm>
                  <a:off x="6521040" y="2667240"/>
                  <a:ext cx="304560" cy="75960"/>
                  <a:chOff x="6521040" y="2667240"/>
                  <a:chExt cx="304560" cy="75960"/>
                </a:xfrm>
              </p:grpSpPr>
              <p:sp>
                <p:nvSpPr>
                  <p:cNvPr id="3670" name=""/>
                  <p:cNvSpPr/>
                  <p:nvPr/>
                </p:nvSpPr>
                <p:spPr>
                  <a:xfrm>
                    <a:off x="65210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6597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>
                    <a:off x="66733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67492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6825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5" name=""/>
                <p:cNvSpPr/>
                <p:nvPr/>
              </p:nvSpPr>
              <p:spPr>
                <a:xfrm>
                  <a:off x="6479640" y="2867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6479640" y="2934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6479640" y="2997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8" name=""/>
            <p:cNvGrpSpPr/>
            <p:nvPr/>
          </p:nvGrpSpPr>
          <p:grpSpPr>
            <a:xfrm>
              <a:off x="7467480" y="2590920"/>
              <a:ext cx="1067040" cy="457200"/>
              <a:chOff x="7467480" y="2590920"/>
              <a:chExt cx="1067040" cy="457200"/>
            </a:xfrm>
          </p:grpSpPr>
          <p:grpSp>
            <p:nvGrpSpPr>
              <p:cNvPr id="3679" name=""/>
              <p:cNvGrpSpPr/>
              <p:nvPr/>
            </p:nvGrpSpPr>
            <p:grpSpPr>
              <a:xfrm>
                <a:off x="7467480" y="2590920"/>
                <a:ext cx="533520" cy="457200"/>
                <a:chOff x="7467480" y="2590920"/>
                <a:chExt cx="533520" cy="457200"/>
              </a:xfrm>
            </p:grpSpPr>
            <p:grpSp>
              <p:nvGrpSpPr>
                <p:cNvPr id="3680" name=""/>
                <p:cNvGrpSpPr/>
                <p:nvPr/>
              </p:nvGrpSpPr>
              <p:grpSpPr>
                <a:xfrm>
                  <a:off x="7467480" y="2590920"/>
                  <a:ext cx="533520" cy="457200"/>
                  <a:chOff x="7467480" y="2590920"/>
                  <a:chExt cx="533520" cy="457200"/>
                </a:xfrm>
              </p:grpSpPr>
              <p:sp>
                <p:nvSpPr>
                  <p:cNvPr id="3681" name=""/>
                  <p:cNvSpPr/>
                  <p:nvPr/>
                </p:nvSpPr>
                <p:spPr>
                  <a:xfrm>
                    <a:off x="746748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746748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3" name=""/>
                <p:cNvSpPr/>
                <p:nvPr/>
              </p:nvSpPr>
              <p:spPr>
                <a:xfrm>
                  <a:off x="752148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4" name=""/>
                <p:cNvGrpSpPr/>
                <p:nvPr/>
              </p:nvGrpSpPr>
              <p:grpSpPr>
                <a:xfrm>
                  <a:off x="7588080" y="2667240"/>
                  <a:ext cx="304920" cy="75960"/>
                  <a:chOff x="7588080" y="2667240"/>
                  <a:chExt cx="304920" cy="75960"/>
                </a:xfrm>
              </p:grpSpPr>
              <p:sp>
                <p:nvSpPr>
                  <p:cNvPr id="3685" name=""/>
                  <p:cNvSpPr/>
                  <p:nvPr/>
                </p:nvSpPr>
                <p:spPr>
                  <a:xfrm>
                    <a:off x="7588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76644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77407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78166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7893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0" name=""/>
                <p:cNvSpPr/>
                <p:nvPr/>
              </p:nvSpPr>
              <p:spPr>
                <a:xfrm>
                  <a:off x="754668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754668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754668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3" name=""/>
              <p:cNvGrpSpPr/>
              <p:nvPr/>
            </p:nvGrpSpPr>
            <p:grpSpPr>
              <a:xfrm>
                <a:off x="8001000" y="2590920"/>
                <a:ext cx="533520" cy="457200"/>
                <a:chOff x="8001000" y="2590920"/>
                <a:chExt cx="533520" cy="457200"/>
              </a:xfrm>
            </p:grpSpPr>
            <p:grpSp>
              <p:nvGrpSpPr>
                <p:cNvPr id="3694" name=""/>
                <p:cNvGrpSpPr/>
                <p:nvPr/>
              </p:nvGrpSpPr>
              <p:grpSpPr>
                <a:xfrm>
                  <a:off x="8001000" y="2590920"/>
                  <a:ext cx="533520" cy="457200"/>
                  <a:chOff x="8001000" y="2590920"/>
                  <a:chExt cx="533520" cy="457200"/>
                </a:xfrm>
              </p:grpSpPr>
              <p:sp>
                <p:nvSpPr>
                  <p:cNvPr id="3695" name=""/>
                  <p:cNvSpPr/>
                  <p:nvPr/>
                </p:nvSpPr>
                <p:spPr>
                  <a:xfrm>
                    <a:off x="800100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800100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7" name=""/>
                <p:cNvSpPr/>
                <p:nvPr/>
              </p:nvSpPr>
              <p:spPr>
                <a:xfrm>
                  <a:off x="805500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8" name=""/>
                <p:cNvGrpSpPr/>
                <p:nvPr/>
              </p:nvGrpSpPr>
              <p:grpSpPr>
                <a:xfrm>
                  <a:off x="8121600" y="2667240"/>
                  <a:ext cx="304920" cy="75960"/>
                  <a:chOff x="8121600" y="2667240"/>
                  <a:chExt cx="304920" cy="75960"/>
                </a:xfrm>
              </p:grpSpPr>
              <p:sp>
                <p:nvSpPr>
                  <p:cNvPr id="3699" name=""/>
                  <p:cNvSpPr/>
                  <p:nvPr/>
                </p:nvSpPr>
                <p:spPr>
                  <a:xfrm>
                    <a:off x="81216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81979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827424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83502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84265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4" name=""/>
                <p:cNvSpPr/>
                <p:nvPr/>
              </p:nvSpPr>
              <p:spPr>
                <a:xfrm>
                  <a:off x="808020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808020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808020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7" name=""/>
              <p:cNvGrpSpPr/>
              <p:nvPr/>
            </p:nvGrpSpPr>
            <p:grpSpPr>
              <a:xfrm>
                <a:off x="7467480" y="2590920"/>
                <a:ext cx="533520" cy="457200"/>
                <a:chOff x="7467480" y="2590920"/>
                <a:chExt cx="533520" cy="457200"/>
              </a:xfrm>
            </p:grpSpPr>
            <p:grpSp>
              <p:nvGrpSpPr>
                <p:cNvPr id="3708" name=""/>
                <p:cNvGrpSpPr/>
                <p:nvPr/>
              </p:nvGrpSpPr>
              <p:grpSpPr>
                <a:xfrm>
                  <a:off x="7467480" y="2590920"/>
                  <a:ext cx="533520" cy="457200"/>
                  <a:chOff x="7467480" y="2590920"/>
                  <a:chExt cx="533520" cy="457200"/>
                </a:xfrm>
              </p:grpSpPr>
              <p:sp>
                <p:nvSpPr>
                  <p:cNvPr id="3709" name=""/>
                  <p:cNvSpPr/>
                  <p:nvPr/>
                </p:nvSpPr>
                <p:spPr>
                  <a:xfrm>
                    <a:off x="7467480" y="25909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7467480" y="281952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1" name=""/>
                <p:cNvSpPr/>
                <p:nvPr/>
              </p:nvSpPr>
              <p:spPr>
                <a:xfrm>
                  <a:off x="7521480" y="262908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2" name=""/>
                <p:cNvGrpSpPr/>
                <p:nvPr/>
              </p:nvGrpSpPr>
              <p:grpSpPr>
                <a:xfrm>
                  <a:off x="7588080" y="2667240"/>
                  <a:ext cx="304920" cy="75960"/>
                  <a:chOff x="7588080" y="2667240"/>
                  <a:chExt cx="304920" cy="75960"/>
                </a:xfrm>
              </p:grpSpPr>
              <p:sp>
                <p:nvSpPr>
                  <p:cNvPr id="3713" name=""/>
                  <p:cNvSpPr/>
                  <p:nvPr/>
                </p:nvSpPr>
                <p:spPr>
                  <a:xfrm>
                    <a:off x="75880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76644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774072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781668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893000" y="2667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8" name=""/>
                <p:cNvSpPr/>
                <p:nvPr/>
              </p:nvSpPr>
              <p:spPr>
                <a:xfrm>
                  <a:off x="7546680" y="28670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7546680" y="29340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7546680" y="2997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21" name=""/>
          <p:cNvGrpSpPr/>
          <p:nvPr/>
        </p:nvGrpSpPr>
        <p:grpSpPr>
          <a:xfrm>
            <a:off x="4800600" y="1066680"/>
            <a:ext cx="3733920" cy="4724640"/>
            <a:chOff x="4800600" y="1066680"/>
            <a:chExt cx="3733920" cy="4724640"/>
          </a:xfrm>
        </p:grpSpPr>
        <p:grpSp>
          <p:nvGrpSpPr>
            <p:cNvPr id="3722" name=""/>
            <p:cNvGrpSpPr/>
            <p:nvPr/>
          </p:nvGrpSpPr>
          <p:grpSpPr>
            <a:xfrm>
              <a:off x="5334120" y="3048120"/>
              <a:ext cx="533160" cy="2743200"/>
              <a:chOff x="5334120" y="3048120"/>
              <a:chExt cx="533160" cy="2743200"/>
            </a:xfrm>
          </p:grpSpPr>
          <p:grpSp>
            <p:nvGrpSpPr>
              <p:cNvPr id="3723" name=""/>
              <p:cNvGrpSpPr/>
              <p:nvPr/>
            </p:nvGrpSpPr>
            <p:grpSpPr>
              <a:xfrm>
                <a:off x="5334120" y="5334120"/>
                <a:ext cx="533160" cy="457200"/>
                <a:chOff x="5334120" y="5334120"/>
                <a:chExt cx="533160" cy="457200"/>
              </a:xfrm>
            </p:grpSpPr>
            <p:grpSp>
              <p:nvGrpSpPr>
                <p:cNvPr id="3724" name=""/>
                <p:cNvGrpSpPr/>
                <p:nvPr/>
              </p:nvGrpSpPr>
              <p:grpSpPr>
                <a:xfrm>
                  <a:off x="5334120" y="5334120"/>
                  <a:ext cx="533160" cy="457200"/>
                  <a:chOff x="5334120" y="5334120"/>
                  <a:chExt cx="533160" cy="457200"/>
                </a:xfrm>
              </p:grpSpPr>
              <p:sp>
                <p:nvSpPr>
                  <p:cNvPr id="3725" name=""/>
                  <p:cNvSpPr/>
                  <p:nvPr/>
                </p:nvSpPr>
                <p:spPr>
                  <a:xfrm>
                    <a:off x="5334120" y="5334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6" name=""/>
                  <p:cNvSpPr/>
                  <p:nvPr/>
                </p:nvSpPr>
                <p:spPr>
                  <a:xfrm>
                    <a:off x="5334120" y="55627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7" name=""/>
                <p:cNvSpPr/>
                <p:nvPr/>
              </p:nvSpPr>
              <p:spPr>
                <a:xfrm>
                  <a:off x="5410080" y="56390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5388120" y="53722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5562720" y="56390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0" name=""/>
              <p:cNvSpPr/>
              <p:nvPr/>
            </p:nvSpPr>
            <p:spPr>
              <a:xfrm>
                <a:off x="5562720" y="4419720"/>
                <a:ext cx="0" cy="9144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562720" y="3048120"/>
                <a:ext cx="0" cy="9144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2" name=""/>
              <p:cNvGrpSpPr/>
              <p:nvPr/>
            </p:nvGrpSpPr>
            <p:grpSpPr>
              <a:xfrm>
                <a:off x="5334120" y="3962520"/>
                <a:ext cx="533160" cy="457200"/>
                <a:chOff x="5334120" y="3962520"/>
                <a:chExt cx="533160" cy="457200"/>
              </a:xfrm>
            </p:grpSpPr>
            <p:grpSp>
              <p:nvGrpSpPr>
                <p:cNvPr id="3733" name=""/>
                <p:cNvGrpSpPr/>
                <p:nvPr/>
              </p:nvGrpSpPr>
              <p:grpSpPr>
                <a:xfrm>
                  <a:off x="5334120" y="3962520"/>
                  <a:ext cx="533160" cy="457200"/>
                  <a:chOff x="5334120" y="3962520"/>
                  <a:chExt cx="533160" cy="457200"/>
                </a:xfrm>
              </p:grpSpPr>
              <p:sp>
                <p:nvSpPr>
                  <p:cNvPr id="3734" name=""/>
                  <p:cNvSpPr/>
                  <p:nvPr/>
                </p:nvSpPr>
                <p:spPr>
                  <a:xfrm>
                    <a:off x="5334120" y="3962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5" name=""/>
                  <p:cNvSpPr/>
                  <p:nvPr/>
                </p:nvSpPr>
                <p:spPr>
                  <a:xfrm>
                    <a:off x="5334120" y="41911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6" name=""/>
                <p:cNvSpPr/>
                <p:nvPr/>
              </p:nvSpPr>
              <p:spPr>
                <a:xfrm>
                  <a:off x="5410080" y="42674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388120" y="40006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5562720" y="42674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9" name=""/>
            <p:cNvSpPr/>
            <p:nvPr/>
          </p:nvSpPr>
          <p:spPr>
            <a:xfrm>
              <a:off x="4800600" y="1066680"/>
              <a:ext cx="373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Redundant h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ahoma"/>
                </a:rPr>
                <a:t>Hot sw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ff"/>
                </a:buClr>
                <a:buSzPct val="13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0" name="" descr=""/>
          <p:cNvPicPr/>
          <p:nvPr/>
        </p:nvPicPr>
        <p:blipFill>
          <a:blip r:embed="rId1"/>
          <a:stretch/>
        </p:blipFill>
        <p:spPr>
          <a:xfrm>
            <a:off x="2962440" y="4343400"/>
            <a:ext cx="1609560" cy="1057320"/>
          </a:xfrm>
          <a:prstGeom prst="rect">
            <a:avLst/>
          </a:prstGeom>
          <a:ln w="0">
            <a:noFill/>
          </a:ln>
        </p:spPr>
      </p:pic>
      <p:pic>
        <p:nvPicPr>
          <p:cNvPr id="3741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1714680" cy="657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5867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66ff"/>
                </a:solidFill>
                <a:latin typeface="Tahoma"/>
              </a:rPr>
              <a:t>The ultimate</a:t>
            </a:r>
            <a:endParaRPr b="0" lang="en-US" sz="10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3744" name="logocapa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4496040" cy="1912680"/>
          </a:xfrm>
          <a:prstGeom prst="rect">
            <a:avLst/>
          </a:prstGeom>
          <a:ln w="0">
            <a:noFill/>
          </a:ln>
        </p:spPr>
      </p:pic>
      <p:grpSp>
        <p:nvGrpSpPr>
          <p:cNvPr id="3745" name=""/>
          <p:cNvGrpSpPr/>
          <p:nvPr/>
        </p:nvGrpSpPr>
        <p:grpSpPr>
          <a:xfrm>
            <a:off x="7315200" y="2819520"/>
            <a:ext cx="914040" cy="914040"/>
            <a:chOff x="7315200" y="2819520"/>
            <a:chExt cx="914040" cy="914040"/>
          </a:xfrm>
        </p:grpSpPr>
        <p:sp>
          <p:nvSpPr>
            <p:cNvPr id="3746" name=""/>
            <p:cNvSpPr/>
            <p:nvPr/>
          </p:nvSpPr>
          <p:spPr>
            <a:xfrm>
              <a:off x="7315200" y="2819520"/>
              <a:ext cx="914040" cy="9140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721640" y="2958840"/>
              <a:ext cx="376560" cy="37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5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Input module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49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33520" y="317808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1905120" y="22604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I 24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1905120" y="317808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I 220V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533520" y="2717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1905120" y="27176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I 110 V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33520" y="36320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905120" y="36320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I 48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33520" y="5003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905120" y="5003640"/>
            <a:ext cx="6324480" cy="64224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AI isolated univers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V,I,Thermocouple, RTD, mV, R, NTC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1905120" y="1447920"/>
            <a:ext cx="632448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1447920"/>
            <a:ext cx="1295280" cy="70380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>
            <a:hlinkClick r:id="rId1" action="ppaction://hlinksldjump"/>
          </p:cNvPr>
          <p:cNvSpPr/>
          <p:nvPr/>
        </p:nvSpPr>
        <p:spPr>
          <a:xfrm>
            <a:off x="228600" y="2286000"/>
            <a:ext cx="228600" cy="228600"/>
          </a:xfrm>
          <a:custGeom>
            <a:avLst/>
            <a:gdLst>
              <a:gd name="textAreaLeft" fmla="*/ 25920 w 228600"/>
              <a:gd name="textAreaRight" fmla="*/ 202680 w 228600"/>
              <a:gd name="textAreaTop" fmla="*/ 25920 h 228600"/>
              <a:gd name="textAreaBottom" fmla="*/ 202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152" y="2448"/>
                </a:lnTo>
                <a:lnTo>
                  <a:pt x="2448" y="24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152" y="19152"/>
                </a:lnTo>
                <a:lnTo>
                  <a:pt x="19152" y="24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448" y="19152"/>
                </a:lnTo>
                <a:lnTo>
                  <a:pt x="19152" y="191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448" y="2448"/>
                </a:lnTo>
                <a:lnTo>
                  <a:pt x="2448" y="1915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>
            <a:hlinkClick r:id="rId2" action="ppaction://hlinksldjump"/>
          </p:cNvPr>
          <p:cNvSpPr/>
          <p:nvPr/>
        </p:nvSpPr>
        <p:spPr>
          <a:xfrm>
            <a:off x="96048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533520" y="40892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905120" y="40892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DI 24 Vd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533520" y="4546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905120" y="4546440"/>
            <a:ext cx="6324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I 24 Vdc opto com interrup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0666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odular I/O system with field bus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 </a:t>
            </a: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ltus01b" descr=""/>
          <p:cNvPicPr/>
          <p:nvPr/>
        </p:nvPicPr>
        <p:blipFill>
          <a:blip r:embed="rId1"/>
          <a:stretch/>
        </p:blipFill>
        <p:spPr>
          <a:xfrm>
            <a:off x="3173400" y="2106720"/>
            <a:ext cx="5742000" cy="277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6765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rect connection of field wiring to the modules, without extra terminal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Integrated fuses in the mod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09720" y="4267080"/>
            <a:ext cx="3111840" cy="1752480"/>
            <a:chOff x="5409720" y="4267080"/>
            <a:chExt cx="3111840" cy="1752480"/>
          </a:xfrm>
        </p:grpSpPr>
        <p:grpSp>
          <p:nvGrpSpPr>
            <p:cNvPr id="58" name=""/>
            <p:cNvGrpSpPr/>
            <p:nvPr/>
          </p:nvGrpSpPr>
          <p:grpSpPr>
            <a:xfrm>
              <a:off x="5409720" y="5790960"/>
              <a:ext cx="611280" cy="228600"/>
              <a:chOff x="5409720" y="5790960"/>
              <a:chExt cx="611280" cy="228600"/>
            </a:xfrm>
          </p:grpSpPr>
          <p:sp>
            <p:nvSpPr>
              <p:cNvPr id="59" name=""/>
              <p:cNvSpPr/>
              <p:nvPr/>
            </p:nvSpPr>
            <p:spPr>
              <a:xfrm rot="5400000">
                <a:off x="5670360" y="5639760"/>
                <a:ext cx="171360" cy="529920"/>
              </a:xfrm>
              <a:prstGeom prst="rect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5364360" y="5864040"/>
                <a:ext cx="171360" cy="8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5397840" y="5884920"/>
                <a:ext cx="228600" cy="4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7352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1420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1420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976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94040" y="58194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627600" y="5486040"/>
              <a:ext cx="610560" cy="228600"/>
              <a:chOff x="6627600" y="5486040"/>
              <a:chExt cx="610560" cy="22860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6887520" y="5334840"/>
                <a:ext cx="171360" cy="529560"/>
              </a:xfrm>
              <a:prstGeom prst="rect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6582240" y="5559120"/>
                <a:ext cx="171360" cy="8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6615720" y="5580000"/>
                <a:ext cx="228600" cy="4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9140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3208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3208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6764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11920" y="55144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6934320" y="4571640"/>
              <a:ext cx="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15000" y="4876560"/>
              <a:ext cx="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29600" y="4267080"/>
              <a:ext cx="0" cy="609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924680" y="4952880"/>
              <a:ext cx="596880" cy="466560"/>
              <a:chOff x="7924680" y="4952880"/>
              <a:chExt cx="596880" cy="466560"/>
            </a:xfrm>
          </p:grpSpPr>
          <p:sp>
            <p:nvSpPr>
              <p:cNvPr id="80" name=""/>
              <p:cNvSpPr/>
              <p:nvPr/>
            </p:nvSpPr>
            <p:spPr>
              <a:xfrm flipV="1">
                <a:off x="7924680" y="5352840"/>
                <a:ext cx="596880" cy="66240"/>
              </a:xfrm>
              <a:custGeom>
                <a:avLst/>
                <a:gdLst>
                  <a:gd name="textAreaLeft" fmla="*/ 131040 w 596880"/>
                  <a:gd name="textAreaRight" fmla="*/ 465840 w 596880"/>
                  <a:gd name="textAreaTop" fmla="*/ 14400 h 66240"/>
                  <a:gd name="textAreaBottom" fmla="*/ 5184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8000640" y="4952880"/>
                <a:ext cx="444600" cy="466560"/>
                <a:chOff x="8000640" y="4952880"/>
                <a:chExt cx="444600" cy="4665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000640" y="4952880"/>
                  <a:ext cx="444600" cy="466560"/>
                </a:xfrm>
                <a:prstGeom prst="ellipse">
                  <a:avLst/>
                </a:prstGeom>
                <a:solidFill>
                  <a:srgbClr val="cf0e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153280" y="5113080"/>
                  <a:ext cx="139680" cy="145440"/>
                </a:xfrm>
                <a:prstGeom prst="ellipse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Output module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69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33520" y="31748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1905120" y="22604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O 24 Vdc / 2 A transistor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905120" y="31748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O Relé 2 A NA dry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533520" y="27176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1905120" y="27176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DO 110/220 Vac / 2 A triac o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33520" y="36320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905120" y="36320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 DO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33520" y="22604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1905120" y="1447920"/>
            <a:ext cx="662940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33520" y="1447920"/>
            <a:ext cx="1295280" cy="70380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>
            <a:hlinkClick r:id="rId1" action="ppaction://hlinksldjump"/>
          </p:cNvPr>
          <p:cNvSpPr/>
          <p:nvPr/>
        </p:nvSpPr>
        <p:spPr>
          <a:xfrm>
            <a:off x="960480" y="6375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533520" y="4089240"/>
            <a:ext cx="12952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2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1905120" y="4089240"/>
            <a:ext cx="66294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AO iso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CPU model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84" name=""/>
          <p:cNvSpPr/>
          <p:nvPr/>
        </p:nvSpPr>
        <p:spPr>
          <a:xfrm>
            <a:off x="304920" y="19051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304920" y="28195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 canal RS232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304920" y="46483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304920" y="51055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3048120" y="1447920"/>
            <a:ext cx="1371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304812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304812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304812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4495680" y="144792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449568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449568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449568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449568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5943600" y="1447920"/>
            <a:ext cx="137160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594360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594360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94360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594360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304920" y="41911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304812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449568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594360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304920" y="23623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rotoc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304812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49568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94360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304920" y="32767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 canal RS23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304812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49568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94360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304920" y="3733920"/>
            <a:ext cx="266688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 canal RS485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4812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49568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94360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7010280" y="19051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7010280" y="28195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010280" y="32767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10280" y="37339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10280" y="4191120"/>
            <a:ext cx="15264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556272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556272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562720" y="37339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56272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411480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11480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411480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7391520" y="1447920"/>
            <a:ext cx="13716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30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7391520" y="1905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7391520" y="2819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391520" y="4648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391520" y="51055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391520" y="41911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7391520" y="23623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391520" y="32767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7391520" y="3733920"/>
            <a:ext cx="137160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b2b2b2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8458200" y="1905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8458200" y="23623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8458200" y="28195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8458200" y="32767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8458200" y="37339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8458200" y="4191120"/>
            <a:ext cx="152280" cy="380880"/>
          </a:xfrm>
          <a:custGeom>
            <a:avLst/>
            <a:gdLst/>
            <a:ahLst/>
            <a:rect l="l" t="t" r="r" b="b"/>
            <a:pathLst>
              <a:path w="240" h="408">
                <a:moveTo>
                  <a:pt x="0" y="240"/>
                </a:moveTo>
                <a:cubicBezTo>
                  <a:pt x="16" y="180"/>
                  <a:pt x="32" y="120"/>
                  <a:pt x="48" y="144"/>
                </a:cubicBezTo>
                <a:cubicBezTo>
                  <a:pt x="64" y="168"/>
                  <a:pt x="64" y="408"/>
                  <a:pt x="96" y="384"/>
                </a:cubicBezTo>
                <a:cubicBezTo>
                  <a:pt x="128" y="360"/>
                  <a:pt x="184" y="180"/>
                  <a:pt x="24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>
            <a:hlinkClick r:id="rId1" action="ppaction://hlinksldjump"/>
          </p:cNvPr>
          <p:cNvSpPr/>
          <p:nvPr/>
        </p:nvSpPr>
        <p:spPr>
          <a:xfrm>
            <a:off x="96048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 </a:t>
            </a: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erie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86400" y="2022480"/>
          <a:ext cx="144792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22480"/>
                    <a:ext cx="14479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05320" y="3276720"/>
            <a:ext cx="60948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479600" cy="137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19720" y="2666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62520" y="3200400"/>
            <a:ext cx="658800" cy="11430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9907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Remote connection to different PLCs  using standard field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ltus03b" descr=""/>
          <p:cNvPicPr/>
          <p:nvPr/>
        </p:nvPicPr>
        <p:blipFill>
          <a:blip r:embed="rId4"/>
          <a:stretch/>
        </p:blipFill>
        <p:spPr>
          <a:xfrm>
            <a:off x="3809880" y="4495680"/>
            <a:ext cx="185112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19320" y="365544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rect connection to PCs / SoftPLC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vantGarde Md BT"/>
              </a:rPr>
              <a:t>Ponto </a:t>
            </a: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Series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971800" y="4495680"/>
            <a:ext cx="2666160" cy="457200"/>
            <a:chOff x="2971800" y="4495680"/>
            <a:chExt cx="2666160" cy="457200"/>
          </a:xfrm>
        </p:grpSpPr>
        <p:grpSp>
          <p:nvGrpSpPr>
            <p:cNvPr id="97" name=""/>
            <p:cNvGrpSpPr/>
            <p:nvPr/>
          </p:nvGrpSpPr>
          <p:grpSpPr>
            <a:xfrm>
              <a:off x="3504960" y="4495680"/>
              <a:ext cx="1066320" cy="457200"/>
              <a:chOff x="3504960" y="4495680"/>
              <a:chExt cx="106632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504960" y="4495680"/>
                <a:ext cx="533160" cy="457200"/>
                <a:chOff x="3504960" y="4495680"/>
                <a:chExt cx="533160" cy="45720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3504960" y="4495680"/>
                  <a:ext cx="533160" cy="457200"/>
                  <a:chOff x="3504960" y="4495680"/>
                  <a:chExt cx="533160" cy="4572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50496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0496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355860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3625200" y="4572000"/>
                  <a:ext cx="304560" cy="75960"/>
                  <a:chOff x="3625200" y="4572000"/>
                  <a:chExt cx="304560" cy="759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36252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701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7774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53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9297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358380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58380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58380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038120" y="4495680"/>
                <a:ext cx="533160" cy="457200"/>
                <a:chOff x="4038120" y="4495680"/>
                <a:chExt cx="5331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4038120" y="4495680"/>
                  <a:ext cx="533160" cy="457200"/>
                  <a:chOff x="4038120" y="4495680"/>
                  <a:chExt cx="533160" cy="457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403812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3812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409176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158360" y="4572000"/>
                  <a:ext cx="304560" cy="75960"/>
                  <a:chOff x="4158360" y="4572000"/>
                  <a:chExt cx="304560" cy="759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1583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343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3106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3866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4629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411696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11696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1696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504960" y="4495680"/>
                <a:ext cx="533160" cy="457200"/>
                <a:chOff x="3504960" y="4495680"/>
                <a:chExt cx="533160" cy="45720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504960" y="4495680"/>
                  <a:ext cx="533160" cy="457200"/>
                  <a:chOff x="3504960" y="4495680"/>
                  <a:chExt cx="533160" cy="4572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50496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50496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355860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3625200" y="4572000"/>
                  <a:ext cx="304560" cy="75960"/>
                  <a:chOff x="3625200" y="4572000"/>
                  <a:chExt cx="304560" cy="759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36252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701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7774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853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9297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358380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8380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58380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971800" y="4495680"/>
              <a:ext cx="533160" cy="457200"/>
              <a:chOff x="2971800" y="4495680"/>
              <a:chExt cx="533160" cy="457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971800" y="4495680"/>
                <a:ext cx="533160" cy="457200"/>
                <a:chOff x="2971800" y="4495680"/>
                <a:chExt cx="533160" cy="457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971800" y="449568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971800" y="472428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047760" y="4800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25800" y="453384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00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571640" y="4495680"/>
              <a:ext cx="1066320" cy="457200"/>
              <a:chOff x="4571640" y="4495680"/>
              <a:chExt cx="1066320" cy="4572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571640" y="4495680"/>
                <a:ext cx="533160" cy="457200"/>
                <a:chOff x="4571640" y="4495680"/>
                <a:chExt cx="533160" cy="4572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4571640" y="4495680"/>
                  <a:ext cx="533160" cy="457200"/>
                  <a:chOff x="4571640" y="4495680"/>
                  <a:chExt cx="533160" cy="457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57164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57164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462528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691880" y="4572000"/>
                  <a:ext cx="304560" cy="75960"/>
                  <a:chOff x="4691880" y="4572000"/>
                  <a:chExt cx="304560" cy="75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6918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678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844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9201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996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465048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5048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5048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104800" y="4495680"/>
                <a:ext cx="533160" cy="457200"/>
                <a:chOff x="5104800" y="4495680"/>
                <a:chExt cx="533160" cy="4572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5104800" y="4495680"/>
                  <a:ext cx="533160" cy="457200"/>
                  <a:chOff x="5104800" y="4495680"/>
                  <a:chExt cx="533160" cy="4572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510480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10480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515844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225040" y="4572000"/>
                  <a:ext cx="304560" cy="75960"/>
                  <a:chOff x="5225040" y="4572000"/>
                  <a:chExt cx="304560" cy="75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2250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3010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3773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532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52960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518364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364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18364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571640" y="4495680"/>
                <a:ext cx="533160" cy="457200"/>
                <a:chOff x="4571640" y="4495680"/>
                <a:chExt cx="533160" cy="457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4571640" y="4495680"/>
                  <a:ext cx="533160" cy="457200"/>
                  <a:chOff x="4571640" y="4495680"/>
                  <a:chExt cx="533160" cy="4572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4571640" y="44956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571640" y="4724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4625280" y="45338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4691880" y="4572000"/>
                  <a:ext cx="304560" cy="75960"/>
                  <a:chOff x="4691880" y="4572000"/>
                  <a:chExt cx="304560" cy="759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9188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678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4416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2012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996440" y="45720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>
                  <a:off x="4650480" y="47718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50480" y="4838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50480" y="4902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" name=""/>
          <p:cNvSpPr/>
          <p:nvPr/>
        </p:nvSpPr>
        <p:spPr>
          <a:xfrm>
            <a:off x="2590920" y="3809880"/>
            <a:ext cx="0" cy="27432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0020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fferent field bus communic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12049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971800" y="5486400"/>
            <a:ext cx="2666160" cy="457200"/>
            <a:chOff x="2971800" y="5486400"/>
            <a:chExt cx="2666160" cy="457200"/>
          </a:xfrm>
        </p:grpSpPr>
        <p:grpSp>
          <p:nvGrpSpPr>
            <p:cNvPr id="194" name=""/>
            <p:cNvGrpSpPr/>
            <p:nvPr/>
          </p:nvGrpSpPr>
          <p:grpSpPr>
            <a:xfrm>
              <a:off x="3504960" y="5486400"/>
              <a:ext cx="1066320" cy="457200"/>
              <a:chOff x="3504960" y="5486400"/>
              <a:chExt cx="1066320" cy="4572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504960" y="5486400"/>
                <a:ext cx="533160" cy="457200"/>
                <a:chOff x="3504960" y="5486400"/>
                <a:chExt cx="533160" cy="45720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3504960" y="5486400"/>
                  <a:ext cx="533160" cy="457200"/>
                  <a:chOff x="3504960" y="5486400"/>
                  <a:chExt cx="533160" cy="457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350496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50496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355860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625200" y="5562720"/>
                  <a:ext cx="304560" cy="75960"/>
                  <a:chOff x="3625200" y="5562720"/>
                  <a:chExt cx="30456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252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701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7774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53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297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358380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8380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58380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038120" y="5486400"/>
                <a:ext cx="533160" cy="457200"/>
                <a:chOff x="4038120" y="5486400"/>
                <a:chExt cx="533160" cy="45720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4038120" y="5486400"/>
                  <a:ext cx="533160" cy="457200"/>
                  <a:chOff x="4038120" y="5486400"/>
                  <a:chExt cx="533160" cy="457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03812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03812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409176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158360" y="5562720"/>
                  <a:ext cx="304560" cy="75960"/>
                  <a:chOff x="4158360" y="5562720"/>
                  <a:chExt cx="304560" cy="75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1583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2343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3106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3866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4629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411696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1696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11696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04960" y="5486400"/>
                <a:ext cx="533160" cy="457200"/>
                <a:chOff x="3504960" y="5486400"/>
                <a:chExt cx="533160" cy="4572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504960" y="5486400"/>
                  <a:ext cx="533160" cy="457200"/>
                  <a:chOff x="3504960" y="5486400"/>
                  <a:chExt cx="533160" cy="457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0496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0496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55860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3625200" y="5562720"/>
                  <a:ext cx="304560" cy="75960"/>
                  <a:chOff x="3625200" y="5562720"/>
                  <a:chExt cx="304560" cy="7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36252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701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7774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853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9297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358380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8380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58380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2971800" y="5486400"/>
              <a:ext cx="533160" cy="457200"/>
              <a:chOff x="2971800" y="5486400"/>
              <a:chExt cx="533160" cy="4572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800" y="5486400"/>
                <a:ext cx="533160" cy="457200"/>
                <a:chOff x="2971800" y="5486400"/>
                <a:chExt cx="533160" cy="457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800" y="5486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800" y="57150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304776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55245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040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571640" y="5486400"/>
              <a:ext cx="1066320" cy="457200"/>
              <a:chOff x="4571640" y="5486400"/>
              <a:chExt cx="1066320" cy="4572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4571640" y="5486400"/>
                <a:ext cx="533160" cy="457200"/>
                <a:chOff x="4571640" y="5486400"/>
                <a:chExt cx="533160" cy="45720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4571640" y="5486400"/>
                  <a:ext cx="533160" cy="457200"/>
                  <a:chOff x="4571640" y="5486400"/>
                  <a:chExt cx="533160" cy="4572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457164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7164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462528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4691880" y="5562720"/>
                  <a:ext cx="304560" cy="75960"/>
                  <a:chOff x="4691880" y="5562720"/>
                  <a:chExt cx="304560" cy="759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918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678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844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201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996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65048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65048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5048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104800" y="5486400"/>
                <a:ext cx="533160" cy="457200"/>
                <a:chOff x="5104800" y="5486400"/>
                <a:chExt cx="5331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104800" y="5486400"/>
                  <a:ext cx="533160" cy="457200"/>
                  <a:chOff x="5104800" y="5486400"/>
                  <a:chExt cx="533160" cy="457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10480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10480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515844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225040" y="5562720"/>
                  <a:ext cx="304560" cy="75960"/>
                  <a:chOff x="5225040" y="5562720"/>
                  <a:chExt cx="304560" cy="75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2250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3010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3773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4532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52960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518364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18364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18364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571640" y="5486400"/>
                <a:ext cx="533160" cy="457200"/>
                <a:chOff x="4571640" y="5486400"/>
                <a:chExt cx="533160" cy="45720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4571640" y="5486400"/>
                  <a:ext cx="533160" cy="457200"/>
                  <a:chOff x="4571640" y="5486400"/>
                  <a:chExt cx="533160" cy="4572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4571640" y="5486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571640" y="57150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4625280" y="55245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4691880" y="5562720"/>
                  <a:ext cx="304560" cy="75960"/>
                  <a:chOff x="4691880" y="5562720"/>
                  <a:chExt cx="304560" cy="759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69188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7678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84416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92012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996440" y="5562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4650480" y="57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650480" y="5829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50480" y="589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7" name=""/>
          <p:cNvSpPr/>
          <p:nvPr/>
        </p:nvSpPr>
        <p:spPr>
          <a:xfrm flipH="1">
            <a:off x="2590920" y="4724280"/>
            <a:ext cx="38088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90920" y="5715000"/>
            <a:ext cx="38088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3412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DSC00887b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2814480" cy="32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CPUs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rect connection to the Ponto series I/O modul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5867280"/>
            <a:ext cx="1067040" cy="457200"/>
            <a:chOff x="1066680" y="5867280"/>
            <a:chExt cx="1067040" cy="457200"/>
          </a:xfrm>
        </p:grpSpPr>
        <p:grpSp>
          <p:nvGrpSpPr>
            <p:cNvPr id="294" name=""/>
            <p:cNvGrpSpPr/>
            <p:nvPr/>
          </p:nvGrpSpPr>
          <p:grpSpPr>
            <a:xfrm>
              <a:off x="1066680" y="5867280"/>
              <a:ext cx="533520" cy="457200"/>
              <a:chOff x="1066680" y="5867280"/>
              <a:chExt cx="533520" cy="457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066680" y="5867280"/>
                <a:ext cx="533520" cy="457200"/>
                <a:chOff x="1066680" y="5867280"/>
                <a:chExt cx="533520" cy="457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66680" y="58672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066680" y="60958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143000" y="617184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20680" y="590544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00200" y="5867280"/>
              <a:ext cx="533520" cy="457200"/>
              <a:chOff x="1600200" y="5867280"/>
              <a:chExt cx="533520" cy="457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600200" y="5867280"/>
                <a:ext cx="533520" cy="457200"/>
                <a:chOff x="1600200" y="5867280"/>
                <a:chExt cx="533520" cy="457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600200" y="58672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00200" y="6095880"/>
                  <a:ext cx="53352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676520" y="617220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54200" y="5905440"/>
                <a:ext cx="4287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05120" y="6172200"/>
                <a:ext cx="152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2840" y="5943600"/>
                <a:ext cx="152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133720" y="5867280"/>
            <a:ext cx="3200400" cy="457200"/>
            <a:chOff x="2133720" y="5867280"/>
            <a:chExt cx="3200400" cy="457200"/>
          </a:xfrm>
        </p:grpSpPr>
        <p:grpSp>
          <p:nvGrpSpPr>
            <p:cNvPr id="309" name=""/>
            <p:cNvGrpSpPr/>
            <p:nvPr/>
          </p:nvGrpSpPr>
          <p:grpSpPr>
            <a:xfrm>
              <a:off x="2133720" y="5867280"/>
              <a:ext cx="1066320" cy="457200"/>
              <a:chOff x="2133720" y="5867280"/>
              <a:chExt cx="1066320" cy="4572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2133720" y="5867280"/>
                <a:ext cx="533160" cy="457200"/>
                <a:chOff x="2133720" y="5867280"/>
                <a:chExt cx="533160" cy="4572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2133720" y="5867280"/>
                  <a:ext cx="533160" cy="457200"/>
                  <a:chOff x="2133720" y="5867280"/>
                  <a:chExt cx="533160" cy="4572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213372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3372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218736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2253960" y="5943600"/>
                  <a:ext cx="304560" cy="75960"/>
                  <a:chOff x="2253960" y="5943600"/>
                  <a:chExt cx="304560" cy="75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22539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329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062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482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58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221256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1256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1256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666880" y="5867280"/>
                <a:ext cx="533160" cy="457200"/>
                <a:chOff x="2666880" y="5867280"/>
                <a:chExt cx="533160" cy="45720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2666880" y="5867280"/>
                  <a:ext cx="533160" cy="457200"/>
                  <a:chOff x="2666880" y="5867280"/>
                  <a:chExt cx="533160" cy="4572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266688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66688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272052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2787120" y="5943600"/>
                  <a:ext cx="304560" cy="75960"/>
                  <a:chOff x="2787120" y="5943600"/>
                  <a:chExt cx="304560" cy="759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27871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8630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9394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0153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091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274572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74572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74572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133720" y="5867280"/>
                <a:ext cx="533160" cy="457200"/>
                <a:chOff x="2133720" y="5867280"/>
                <a:chExt cx="533160" cy="45720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2133720" y="5867280"/>
                  <a:ext cx="533160" cy="457200"/>
                  <a:chOff x="2133720" y="5867280"/>
                  <a:chExt cx="533160" cy="4572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13372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3372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218736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2253960" y="5943600"/>
                  <a:ext cx="304560" cy="75960"/>
                  <a:chOff x="2253960" y="5943600"/>
                  <a:chExt cx="304560" cy="759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2539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329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4062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482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58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221256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21256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21256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3200400" y="5867280"/>
              <a:ext cx="1066320" cy="457200"/>
              <a:chOff x="3200400" y="5867280"/>
              <a:chExt cx="1066320" cy="4572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200400" y="5867280"/>
                <a:ext cx="533160" cy="457200"/>
                <a:chOff x="3200400" y="5867280"/>
                <a:chExt cx="533160" cy="45720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3200400" y="5867280"/>
                  <a:ext cx="533160" cy="457200"/>
                  <a:chOff x="3200400" y="5867280"/>
                  <a:chExt cx="533160" cy="4572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320040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20040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325404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3320640" y="5943600"/>
                  <a:ext cx="304560" cy="75960"/>
                  <a:chOff x="3320640" y="5943600"/>
                  <a:chExt cx="304560" cy="759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33206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396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472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5488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625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327924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7924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7924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733560" y="5867280"/>
                <a:ext cx="533160" cy="457200"/>
                <a:chOff x="3733560" y="5867280"/>
                <a:chExt cx="533160" cy="4572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3733560" y="5867280"/>
                  <a:ext cx="533160" cy="457200"/>
                  <a:chOff x="3733560" y="5867280"/>
                  <a:chExt cx="533160" cy="4572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73356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3356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378720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853800" y="5943600"/>
                  <a:ext cx="304560" cy="75960"/>
                  <a:chOff x="3853800" y="5943600"/>
                  <a:chExt cx="304560" cy="759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38538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9297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0060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0820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15836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1240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240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81240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200400" y="5867280"/>
                <a:ext cx="533160" cy="457200"/>
                <a:chOff x="3200400" y="5867280"/>
                <a:chExt cx="533160" cy="45720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200400" y="5867280"/>
                  <a:ext cx="533160" cy="457200"/>
                  <a:chOff x="3200400" y="5867280"/>
                  <a:chExt cx="533160" cy="4572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200400" y="58672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200400" y="609588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3254040" y="590544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3320640" y="5943600"/>
                  <a:ext cx="304560" cy="75960"/>
                  <a:chOff x="3320640" y="5943600"/>
                  <a:chExt cx="304560" cy="759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33206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396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4729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5488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625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3279240" y="61434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79240" y="6210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279240" y="6273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267080" y="5867280"/>
              <a:ext cx="1067040" cy="457200"/>
              <a:chOff x="4267080" y="5867280"/>
              <a:chExt cx="1067040" cy="4572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267080" y="5867280"/>
                <a:ext cx="533520" cy="457200"/>
                <a:chOff x="4267080" y="5867280"/>
                <a:chExt cx="533520" cy="4572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267080" y="5867280"/>
                  <a:ext cx="533520" cy="457200"/>
                  <a:chOff x="4267080" y="5867280"/>
                  <a:chExt cx="533520" cy="457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426708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26708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432108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4387680" y="5943600"/>
                  <a:ext cx="304920" cy="75960"/>
                  <a:chOff x="4387680" y="5943600"/>
                  <a:chExt cx="304920" cy="75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4387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4640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5403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6162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92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>
                  <a:off x="434628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34628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4628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800600" y="5867280"/>
                <a:ext cx="533520" cy="457200"/>
                <a:chOff x="4800600" y="5867280"/>
                <a:chExt cx="533520" cy="45720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800600" y="5867280"/>
                  <a:ext cx="533520" cy="457200"/>
                  <a:chOff x="4800600" y="5867280"/>
                  <a:chExt cx="533520" cy="45720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80060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0060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85460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921200" y="5943600"/>
                  <a:ext cx="304920" cy="75960"/>
                  <a:chOff x="4921200" y="5943600"/>
                  <a:chExt cx="304920" cy="759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9212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975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07384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498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2261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487980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87980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87980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267080" y="5867280"/>
                <a:ext cx="533520" cy="457200"/>
                <a:chOff x="4267080" y="5867280"/>
                <a:chExt cx="533520" cy="457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267080" y="5867280"/>
                  <a:ext cx="533520" cy="457200"/>
                  <a:chOff x="4267080" y="5867280"/>
                  <a:chExt cx="533520" cy="457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4267080" y="58672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267080" y="609588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4321080" y="590544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4387680" y="5943600"/>
                  <a:ext cx="304920" cy="75960"/>
                  <a:chOff x="4387680" y="5943600"/>
                  <a:chExt cx="304920" cy="75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43876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640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54032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61628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692600" y="59436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4346280" y="61434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346280" y="6210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346280" y="62737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8" name=""/>
          <p:cNvGrpSpPr/>
          <p:nvPr/>
        </p:nvGrpSpPr>
        <p:grpSpPr>
          <a:xfrm>
            <a:off x="533520" y="4343400"/>
            <a:ext cx="4114800" cy="1523880"/>
            <a:chOff x="533520" y="4343400"/>
            <a:chExt cx="4114800" cy="1523880"/>
          </a:xfrm>
        </p:grpSpPr>
        <p:sp>
          <p:nvSpPr>
            <p:cNvPr id="439" name=""/>
            <p:cNvSpPr/>
            <p:nvPr/>
          </p:nvSpPr>
          <p:spPr>
            <a:xfrm>
              <a:off x="685800" y="5486400"/>
              <a:ext cx="39625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28800" y="5486400"/>
              <a:ext cx="0" cy="380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057400" y="4343400"/>
              <a:ext cx="828720" cy="1143000"/>
              <a:chOff x="2057400" y="4343400"/>
              <a:chExt cx="828720" cy="1143000"/>
            </a:xfrm>
          </p:grpSpPr>
          <p:sp>
            <p:nvSpPr>
              <p:cNvPr id="442" name=""/>
              <p:cNvSpPr/>
              <p:nvPr/>
            </p:nvSpPr>
            <p:spPr>
              <a:xfrm>
                <a:off x="2438280" y="5105520"/>
                <a:ext cx="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4343400"/>
                <a:ext cx="82872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4" name=""/>
            <p:cNvSpPr/>
            <p:nvPr/>
          </p:nvSpPr>
          <p:spPr>
            <a:xfrm>
              <a:off x="533520" y="4800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45320" y="3505320"/>
            <a:ext cx="3207960" cy="1763280"/>
            <a:chOff x="4945320" y="3505320"/>
            <a:chExt cx="3207960" cy="1763280"/>
          </a:xfrm>
        </p:grpSpPr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6781680" y="3809880"/>
              <a:ext cx="11430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 txBox="1"/>
            <p:nvPr/>
          </p:nvSpPr>
          <p:spPr>
            <a:xfrm>
              <a:off x="6781680" y="3505320"/>
              <a:ext cx="1371600" cy="419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9110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580000">
              <a:off x="4952880" y="4723920"/>
              <a:ext cx="1685880" cy="304560"/>
            </a:xfrm>
            <a:prstGeom prst="leftRightArrow">
              <a:avLst>
                <a:gd name="adj1" fmla="val 50000"/>
                <a:gd name="adj2" fmla="val 11019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57200" y="26668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Integrated control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0666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High connectivity CPUs with small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1240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ebPLC: Direct connection to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791320" y="1219320"/>
          <a:ext cx="3047760" cy="133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1219320"/>
                    <a:ext cx="304776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1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6320" y="4204440"/>
            <a:ext cx="4343400" cy="2196360"/>
            <a:chOff x="76320" y="4204440"/>
            <a:chExt cx="4343400" cy="2196360"/>
          </a:xfrm>
        </p:grpSpPr>
        <p:sp>
          <p:nvSpPr>
            <p:cNvPr id="455" name=""/>
            <p:cNvSpPr/>
            <p:nvPr/>
          </p:nvSpPr>
          <p:spPr>
            <a:xfrm>
              <a:off x="3200400" y="4572000"/>
              <a:ext cx="1219320" cy="1828800"/>
            </a:xfrm>
            <a:custGeom>
              <a:avLst/>
              <a:gdLst>
                <a:gd name="textAreaLeft" fmla="*/ 27720 w 1219320"/>
                <a:gd name="textAreaRight" fmla="*/ 1191600 w 1219320"/>
                <a:gd name="textAreaTop" fmla="*/ 27720 h 1828800"/>
                <a:gd name="textAreaBottom" fmla="*/ 1801080 h 1828800"/>
              </a:gdLst>
              <a:ahLst/>
              <a:rect l="textAreaLeft" t="textAreaTop" r="textAreaRight" b="textAreaBottom"/>
              <a:pathLst>
                <a:path w="21600" h="32394">
                  <a:moveTo>
                    <a:pt x="1680" y="0"/>
                  </a:moveTo>
                  <a:arcTo wR="1680" hR="1680" stAng="16200000" swAng="-5400000"/>
                  <a:lnTo>
                    <a:pt x="0" y="30714"/>
                  </a:lnTo>
                  <a:arcTo wR="1680" hR="1680" stAng="10800000" swAng="-5400000"/>
                  <a:lnTo>
                    <a:pt x="19920" y="32394"/>
                  </a:lnTo>
                  <a:arcTo wR="1680" hR="1680" stAng="5400000" swAng="-5400000"/>
                  <a:lnTo>
                    <a:pt x="21600" y="1680"/>
                  </a:lnTo>
                  <a:arcTo wR="1680" hR="168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1919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320" y="4204440"/>
              <a:ext cx="121896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066680" y="2133720"/>
            <a:ext cx="7086240" cy="761760"/>
            <a:chOff x="1066680" y="2133720"/>
            <a:chExt cx="7086240" cy="761760"/>
          </a:xfrm>
        </p:grpSpPr>
        <p:sp>
          <p:nvSpPr>
            <p:cNvPr id="458" name=""/>
            <p:cNvSpPr/>
            <p:nvPr/>
          </p:nvSpPr>
          <p:spPr>
            <a:xfrm>
              <a:off x="1066680" y="2133720"/>
              <a:ext cx="7086240" cy="7617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2209680"/>
              <a:ext cx="7086240" cy="609840"/>
            </a:xfrm>
            <a:prstGeom prst="rect">
              <a:avLst/>
            </a:prstGeom>
            <a:solidFill>
              <a:srgbClr val="dc93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Ponto Module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123720" y="6588000"/>
            <a:ext cx="762120" cy="117360"/>
            <a:chOff x="3123720" y="6588000"/>
            <a:chExt cx="762120" cy="117360"/>
          </a:xfrm>
        </p:grpSpPr>
        <p:sp>
          <p:nvSpPr>
            <p:cNvPr id="462" name=""/>
            <p:cNvSpPr/>
            <p:nvPr/>
          </p:nvSpPr>
          <p:spPr>
            <a:xfrm>
              <a:off x="3269160" y="6698880"/>
              <a:ext cx="4716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736440" y="6588000"/>
              <a:ext cx="149400" cy="115920"/>
              <a:chOff x="3736440" y="6588000"/>
              <a:chExt cx="149400" cy="11592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3736440" y="6588000"/>
                <a:ext cx="49680" cy="115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77120" y="6589440"/>
                <a:ext cx="1087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123720" y="6589440"/>
              <a:ext cx="149400" cy="115920"/>
              <a:chOff x="3123720" y="6589440"/>
              <a:chExt cx="149400" cy="115920"/>
            </a:xfrm>
          </p:grpSpPr>
          <p:sp>
            <p:nvSpPr>
              <p:cNvPr id="467" name=""/>
              <p:cNvSpPr/>
              <p:nvPr/>
            </p:nvSpPr>
            <p:spPr>
              <a:xfrm flipH="1" flipV="1">
                <a:off x="3223440" y="6589440"/>
                <a:ext cx="49680" cy="115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123720" y="6590880"/>
                <a:ext cx="1087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0" y="1447920"/>
            <a:ext cx="4648320" cy="2367000"/>
            <a:chOff x="0" y="1447920"/>
            <a:chExt cx="4648320" cy="2367000"/>
          </a:xfrm>
        </p:grpSpPr>
        <p:grpSp>
          <p:nvGrpSpPr>
            <p:cNvPr id="470" name=""/>
            <p:cNvGrpSpPr/>
            <p:nvPr/>
          </p:nvGrpSpPr>
          <p:grpSpPr>
            <a:xfrm>
              <a:off x="1905120" y="1447920"/>
              <a:ext cx="2743200" cy="2361240"/>
              <a:chOff x="1905120" y="1447920"/>
              <a:chExt cx="2743200" cy="236124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1905120" y="2666880"/>
                <a:ext cx="2743200" cy="1142280"/>
                <a:chOff x="1905120" y="2666880"/>
                <a:chExt cx="2743200" cy="1142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905120" y="2666880"/>
                  <a:ext cx="2743200" cy="1142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1976760" y="2748240"/>
                  <a:ext cx="2598480" cy="978480"/>
                  <a:chOff x="1976760" y="2748240"/>
                  <a:chExt cx="2598480" cy="978480"/>
                </a:xfrm>
              </p:grpSpPr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31240" y="2748240"/>
                    <a:ext cx="144000" cy="978480"/>
                    <a:chOff x="4431240" y="2748240"/>
                    <a:chExt cx="144000" cy="9784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43124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43124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431240" y="340092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1976760" y="2748240"/>
                    <a:ext cx="144360" cy="978480"/>
                    <a:chOff x="1976760" y="2748240"/>
                    <a:chExt cx="144360" cy="978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19767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19767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976760" y="340092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b3b3b"/>
                        </a:gs>
                        <a:gs pos="5000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121120" y="2748240"/>
                    <a:ext cx="576720" cy="978120"/>
                    <a:chOff x="2121120" y="2748240"/>
                    <a:chExt cx="576720" cy="978120"/>
                  </a:xfrm>
                </p:grpSpPr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2121120" y="2748240"/>
                      <a:ext cx="144360" cy="978120"/>
                      <a:chOff x="2121120" y="2748240"/>
                      <a:chExt cx="144360" cy="978120"/>
                    </a:xfrm>
                  </p:grpSpPr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1211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21211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21211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2265480" y="2748240"/>
                      <a:ext cx="144000" cy="978120"/>
                      <a:chOff x="2265480" y="2748240"/>
                      <a:chExt cx="144000" cy="978120"/>
                    </a:xfrm>
                  </p:grpSpPr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226548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226548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226548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1" name=""/>
                    <p:cNvGrpSpPr/>
                    <p:nvPr/>
                  </p:nvGrpSpPr>
                  <p:grpSpPr>
                    <a:xfrm>
                      <a:off x="2409480" y="2748240"/>
                      <a:ext cx="144000" cy="978120"/>
                      <a:chOff x="2409480" y="2748240"/>
                      <a:chExt cx="144000" cy="978120"/>
                    </a:xfrm>
                  </p:grpSpPr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40948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240948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240948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2553480" y="2748240"/>
                      <a:ext cx="144360" cy="978120"/>
                      <a:chOff x="2553480" y="2748240"/>
                      <a:chExt cx="144360" cy="978120"/>
                    </a:xfrm>
                  </p:grpSpPr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255348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255348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255348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698560" y="2748240"/>
                    <a:ext cx="576720" cy="978120"/>
                    <a:chOff x="2698560" y="2748240"/>
                    <a:chExt cx="576720" cy="978120"/>
                  </a:xfrm>
                </p:grpSpPr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2698560" y="2748240"/>
                      <a:ext cx="144360" cy="978120"/>
                      <a:chOff x="2698560" y="2748240"/>
                      <a:chExt cx="144360" cy="978120"/>
                    </a:xfrm>
                  </p:grpSpPr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269856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269856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269856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2842920" y="2748240"/>
                      <a:ext cx="144000" cy="978120"/>
                      <a:chOff x="2842920" y="2748240"/>
                      <a:chExt cx="144000" cy="97812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28429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8429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28429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2986920" y="2748240"/>
                      <a:ext cx="144000" cy="978120"/>
                      <a:chOff x="2986920" y="2748240"/>
                      <a:chExt cx="144000" cy="97812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29869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29869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29869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30920" y="2748240"/>
                      <a:ext cx="144360" cy="978120"/>
                      <a:chOff x="3130920" y="2748240"/>
                      <a:chExt cx="144360" cy="97812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309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309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31309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3276000" y="2748240"/>
                    <a:ext cx="577080" cy="978120"/>
                    <a:chOff x="3276000" y="2748240"/>
                    <a:chExt cx="577080" cy="978120"/>
                  </a:xfrm>
                </p:grpSpPr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3276000" y="2748240"/>
                      <a:ext cx="144360" cy="978120"/>
                      <a:chOff x="3276000" y="2748240"/>
                      <a:chExt cx="144360" cy="97812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327600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327600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327600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3420360" y="2748240"/>
                      <a:ext cx="144000" cy="978120"/>
                      <a:chOff x="3420360" y="2748240"/>
                      <a:chExt cx="144000" cy="97812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34203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34203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34203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3564720" y="2748240"/>
                      <a:ext cx="144000" cy="978120"/>
                      <a:chOff x="3564720" y="2748240"/>
                      <a:chExt cx="144000" cy="978120"/>
                    </a:xfrm>
                  </p:grpSpPr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356472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56472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56472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3708720" y="2748240"/>
                      <a:ext cx="144360" cy="978120"/>
                      <a:chOff x="3708720" y="2748240"/>
                      <a:chExt cx="144360" cy="97812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370872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370872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370872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853800" y="2748240"/>
                    <a:ext cx="576720" cy="978120"/>
                    <a:chOff x="3853800" y="2748240"/>
                    <a:chExt cx="576720" cy="978120"/>
                  </a:xfrm>
                </p:grpSpPr>
                <p:grpSp>
                  <p:nvGrpSpPr>
                    <p:cNvPr id="534" name=""/>
                    <p:cNvGrpSpPr/>
                    <p:nvPr/>
                  </p:nvGrpSpPr>
                  <p:grpSpPr>
                    <a:xfrm>
                      <a:off x="3853800" y="2748240"/>
                      <a:ext cx="144360" cy="978120"/>
                      <a:chOff x="3853800" y="2748240"/>
                      <a:chExt cx="144360" cy="978120"/>
                    </a:xfrm>
                  </p:grpSpPr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385380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385380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385380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8" name=""/>
                    <p:cNvGrpSpPr/>
                    <p:nvPr/>
                  </p:nvGrpSpPr>
                  <p:grpSpPr>
                    <a:xfrm>
                      <a:off x="3998160" y="2748240"/>
                      <a:ext cx="144000" cy="978120"/>
                      <a:chOff x="3998160" y="2748240"/>
                      <a:chExt cx="144000" cy="978120"/>
                    </a:xfrm>
                  </p:grpSpPr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39981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39981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39981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4142160" y="2748240"/>
                      <a:ext cx="144000" cy="978120"/>
                      <a:chOff x="4142160" y="2748240"/>
                      <a:chExt cx="144000" cy="97812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4142160" y="274824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4142160" y="3074400"/>
                        <a:ext cx="14400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4142160" y="3400560"/>
                        <a:ext cx="14400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4286160" y="2748240"/>
                      <a:ext cx="144360" cy="978120"/>
                      <a:chOff x="4286160" y="2748240"/>
                      <a:chExt cx="144360" cy="97812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4286160" y="274824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4286160" y="3074400"/>
                        <a:ext cx="144360" cy="32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4286160" y="3400560"/>
                        <a:ext cx="144360" cy="3258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a7a7a7"/>
                          </a:gs>
                          <a:gs pos="50000">
                            <a:srgbClr val="dddddd"/>
                          </a:gs>
                          <a:gs pos="100000">
                            <a:srgbClr val="a7a7a7"/>
                          </a:gs>
                        </a:gsLst>
                        <a:lin ang="108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1905120" y="1447920"/>
                <a:ext cx="2743200" cy="1218960"/>
                <a:chOff x="1905120" y="1447920"/>
                <a:chExt cx="2743200" cy="12189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905120" y="1447920"/>
                  <a:ext cx="2743200" cy="1218960"/>
                </a:xfrm>
                <a:prstGeom prst="roundRect">
                  <a:avLst>
                    <a:gd name="adj" fmla="val 4977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18457200">
                  <a:off x="3505320" y="1930320"/>
                  <a:ext cx="304560" cy="228600"/>
                </a:xfrm>
                <a:prstGeom prst="rightArrow">
                  <a:avLst>
                    <a:gd name="adj1" fmla="val 19667"/>
                    <a:gd name="adj2" fmla="val 5568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6720" y="1796760"/>
                  <a:ext cx="45720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19720" y="1523880"/>
                  <a:ext cx="22860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1905120" y="1523880"/>
                  <a:ext cx="609480" cy="533160"/>
                  <a:chOff x="1905120" y="1523880"/>
                  <a:chExt cx="609480" cy="5331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2057400" y="1523880"/>
                    <a:ext cx="76320" cy="5331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905120" y="1523880"/>
                    <a:ext cx="609480" cy="5331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3422520" y="1803240"/>
                  <a:ext cx="45720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514320" y="224784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530160" y="156204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922400">
                  <a:off x="2819520" y="1923840"/>
                  <a:ext cx="304560" cy="228240"/>
                </a:xfrm>
                <a:prstGeom prst="rightArrow">
                  <a:avLst>
                    <a:gd name="adj1" fmla="val 19667"/>
                    <a:gd name="adj2" fmla="val 5577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28520" y="224136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844360" y="1555560"/>
                  <a:ext cx="267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0" y="3518640"/>
              <a:ext cx="10666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8001000" y="1659600"/>
            <a:ext cx="914400" cy="296280"/>
          </a:xfrm>
          <a:noFill/>
          <a:ln w="126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10800" bIns="10800" anchor="b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0" y="5334120"/>
            <a:ext cx="4419720" cy="1330200"/>
            <a:chOff x="0" y="5334120"/>
            <a:chExt cx="4419720" cy="1330200"/>
          </a:xfrm>
        </p:grpSpPr>
        <p:grpSp>
          <p:nvGrpSpPr>
            <p:cNvPr id="567" name=""/>
            <p:cNvGrpSpPr/>
            <p:nvPr/>
          </p:nvGrpSpPr>
          <p:grpSpPr>
            <a:xfrm>
              <a:off x="2057400" y="5334120"/>
              <a:ext cx="2362320" cy="1330200"/>
              <a:chOff x="2057400" y="5334120"/>
              <a:chExt cx="2362320" cy="1330200"/>
            </a:xfrm>
          </p:grpSpPr>
          <p:sp>
            <p:nvSpPr>
              <p:cNvPr id="568" name=""/>
              <p:cNvSpPr/>
              <p:nvPr/>
            </p:nvSpPr>
            <p:spPr>
              <a:xfrm>
                <a:off x="2057400" y="6283440"/>
                <a:ext cx="2362320" cy="38088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2057400" y="5334120"/>
                <a:ext cx="1142280" cy="990360"/>
                <a:chOff x="2057400" y="5334120"/>
                <a:chExt cx="1142280" cy="990360"/>
              </a:xfrm>
            </p:grpSpPr>
            <p:sp>
              <p:nvSpPr>
                <p:cNvPr id="570" name=""/>
                <p:cNvSpPr/>
                <p:nvPr/>
              </p:nvSpPr>
              <p:spPr>
                <a:xfrm flipH="1">
                  <a:off x="2057400" y="5334120"/>
                  <a:ext cx="966960" cy="9903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919191"/>
                    </a:gs>
                    <a:gs pos="5000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024360" y="5334120"/>
                  <a:ext cx="175320" cy="990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5000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3886200" y="6283440"/>
                <a:ext cx="457200" cy="152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337800"/>
              <a:ext cx="10666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52280" y="1232640"/>
            <a:ext cx="4495680" cy="1434240"/>
            <a:chOff x="152280" y="1232640"/>
            <a:chExt cx="4495680" cy="1434240"/>
          </a:xfrm>
        </p:grpSpPr>
        <p:grpSp>
          <p:nvGrpSpPr>
            <p:cNvPr id="575" name=""/>
            <p:cNvGrpSpPr/>
            <p:nvPr/>
          </p:nvGrpSpPr>
          <p:grpSpPr>
            <a:xfrm>
              <a:off x="152280" y="1232640"/>
              <a:ext cx="4495320" cy="1434240"/>
              <a:chOff x="152280" y="1232640"/>
              <a:chExt cx="4495320" cy="1434240"/>
            </a:xfrm>
          </p:grpSpPr>
          <p:sp>
            <p:nvSpPr>
              <p:cNvPr id="576" name=""/>
              <p:cNvSpPr/>
              <p:nvPr/>
            </p:nvSpPr>
            <p:spPr>
              <a:xfrm>
                <a:off x="152280" y="1232640"/>
                <a:ext cx="1066680" cy="29628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Mod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1904760" y="1447920"/>
                <a:ext cx="2742840" cy="1218960"/>
                <a:chOff x="1904760" y="1447920"/>
                <a:chExt cx="2742840" cy="12189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904760" y="1447920"/>
                  <a:ext cx="2742840" cy="1218960"/>
                </a:xfrm>
                <a:prstGeom prst="roundRect">
                  <a:avLst>
                    <a:gd name="adj" fmla="val 7736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1980360" y="1752480"/>
                  <a:ext cx="2590200" cy="685800"/>
                  <a:chOff x="1980360" y="1752480"/>
                  <a:chExt cx="2590200" cy="68580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1980360" y="1752480"/>
                    <a:ext cx="609480" cy="685800"/>
                    <a:chOff x="1980360" y="1752480"/>
                    <a:chExt cx="609480" cy="6858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19803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132640" y="1752480"/>
                      <a:ext cx="15264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228528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4375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589840" y="1752480"/>
                    <a:ext cx="608760" cy="685800"/>
                    <a:chOff x="2589840" y="1752480"/>
                    <a:chExt cx="608760" cy="68580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258984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74176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89440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304668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3199320" y="1752480"/>
                    <a:ext cx="608760" cy="685800"/>
                    <a:chOff x="3199320" y="1752480"/>
                    <a:chExt cx="608760" cy="6858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319932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3351240" y="1752480"/>
                      <a:ext cx="15228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50388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3656160" y="1752480"/>
                      <a:ext cx="151920" cy="68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5" name=""/>
                  <p:cNvSpPr/>
                  <p:nvPr/>
                </p:nvSpPr>
                <p:spPr>
                  <a:xfrm>
                    <a:off x="38088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96144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11372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2660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418640" y="1752480"/>
                    <a:ext cx="15192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037760" y="1523880"/>
                  <a:ext cx="456840" cy="15264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3123360" y="1467000"/>
                  <a:ext cx="685440" cy="398520"/>
                  <a:chOff x="3123360" y="1467000"/>
                  <a:chExt cx="685440" cy="39852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3123360" y="1523880"/>
                    <a:ext cx="685440" cy="15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23360" y="1467000"/>
                    <a:ext cx="636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PO10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4" name=""/>
            <p:cNvGrpSpPr/>
            <p:nvPr/>
          </p:nvGrpSpPr>
          <p:grpSpPr>
            <a:xfrm>
              <a:off x="1904760" y="2438280"/>
              <a:ext cx="2743200" cy="215640"/>
              <a:chOff x="1904760" y="2438280"/>
              <a:chExt cx="2743200" cy="215640"/>
            </a:xfrm>
          </p:grpSpPr>
          <p:sp>
            <p:nvSpPr>
              <p:cNvPr id="605" name=""/>
              <p:cNvSpPr/>
              <p:nvPr/>
            </p:nvSpPr>
            <p:spPr>
              <a:xfrm>
                <a:off x="20570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096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19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142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668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714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191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763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40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4286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812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858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7335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38480" y="24382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907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4304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04760" y="24382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228600" y="1689840"/>
            <a:ext cx="4415040" cy="748080"/>
            <a:chOff x="228600" y="1689840"/>
            <a:chExt cx="4415040" cy="748080"/>
          </a:xfrm>
        </p:grpSpPr>
        <p:sp>
          <p:nvSpPr>
            <p:cNvPr id="623" name=""/>
            <p:cNvSpPr/>
            <p:nvPr/>
          </p:nvSpPr>
          <p:spPr>
            <a:xfrm>
              <a:off x="228600" y="1689840"/>
              <a:ext cx="114300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982880" y="1750680"/>
              <a:ext cx="2660760" cy="687240"/>
              <a:chOff x="1982880" y="1750680"/>
              <a:chExt cx="2660760" cy="6872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1982880" y="1752480"/>
                <a:ext cx="2590200" cy="685440"/>
                <a:chOff x="1982880" y="1752480"/>
                <a:chExt cx="2590200" cy="68544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1982880" y="1752480"/>
                  <a:ext cx="609480" cy="685440"/>
                  <a:chOff x="1982880" y="1752480"/>
                  <a:chExt cx="609480" cy="6854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19828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135160" y="1752480"/>
                    <a:ext cx="15264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28780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4400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2592360" y="1752480"/>
                  <a:ext cx="608760" cy="685440"/>
                  <a:chOff x="2592360" y="1752480"/>
                  <a:chExt cx="608760" cy="6854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259236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74428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89692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04920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3201840" y="1752480"/>
                  <a:ext cx="608760" cy="685440"/>
                  <a:chOff x="3201840" y="1752480"/>
                  <a:chExt cx="608760" cy="685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320184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353760" y="1752480"/>
                    <a:ext cx="15228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0640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58680" y="1752480"/>
                    <a:ext cx="151920" cy="68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>
                  <a:off x="3811320" y="1752480"/>
                  <a:ext cx="15228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6396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1624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68520" y="1752480"/>
                  <a:ext cx="15228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21160" y="1752480"/>
                  <a:ext cx="151920" cy="68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1984320" y="1750680"/>
                <a:ext cx="2659320" cy="671040"/>
                <a:chOff x="1984320" y="1750680"/>
                <a:chExt cx="2659320" cy="67104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1754640" y="198432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16200000">
                  <a:off x="1917720" y="198720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6200000">
                  <a:off x="212508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2278080" y="1930680"/>
                  <a:ext cx="65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6200000">
                  <a:off x="2430360" y="1930680"/>
                  <a:ext cx="65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16200000">
                  <a:off x="2529000" y="198864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2682000" y="1989720"/>
                  <a:ext cx="6616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6200000">
                  <a:off x="2886120" y="193464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16200000">
                  <a:off x="303156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16200000">
                  <a:off x="319176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16200000">
                  <a:off x="3291120" y="199008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16200000">
                  <a:off x="3443400" y="198864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6200000">
                  <a:off x="3648240" y="193464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Bomba 34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16200000">
                  <a:off x="3801240" y="1931400"/>
                  <a:ext cx="657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456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16200000">
                  <a:off x="3954600" y="1926360"/>
                  <a:ext cx="658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Rele Prot 23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16200000">
                  <a:off x="4051440" y="1990080"/>
                  <a:ext cx="662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tor 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16200000">
                  <a:off x="4213440" y="1980360"/>
                  <a:ext cx="659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ahoma"/>
                    </a:rPr>
                    <a:t>Modulo 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4" name=""/>
          <p:cNvGrpSpPr/>
          <p:nvPr/>
        </p:nvGrpSpPr>
        <p:grpSpPr>
          <a:xfrm>
            <a:off x="4648320" y="1447920"/>
            <a:ext cx="2743200" cy="2361240"/>
            <a:chOff x="4648320" y="1447920"/>
            <a:chExt cx="2743200" cy="2361240"/>
          </a:xfrm>
        </p:grpSpPr>
        <p:grpSp>
          <p:nvGrpSpPr>
            <p:cNvPr id="665" name=""/>
            <p:cNvGrpSpPr/>
            <p:nvPr/>
          </p:nvGrpSpPr>
          <p:grpSpPr>
            <a:xfrm>
              <a:off x="4648320" y="2666880"/>
              <a:ext cx="2743200" cy="1142280"/>
              <a:chOff x="4648320" y="2666880"/>
              <a:chExt cx="2743200" cy="114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648320" y="2666880"/>
                <a:ext cx="2743200" cy="1142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4719960" y="2748240"/>
                <a:ext cx="2598480" cy="978480"/>
                <a:chOff x="4719960" y="2748240"/>
                <a:chExt cx="2598480" cy="97848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7174440" y="2748240"/>
                  <a:ext cx="144000" cy="978480"/>
                  <a:chOff x="7174440" y="2748240"/>
                  <a:chExt cx="144000" cy="9784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7174440" y="2748240"/>
                    <a:ext cx="14400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174440" y="3074400"/>
                    <a:ext cx="14400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174440" y="3400920"/>
                    <a:ext cx="14400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4719960" y="2748240"/>
                  <a:ext cx="144360" cy="978480"/>
                  <a:chOff x="4719960" y="2748240"/>
                  <a:chExt cx="144360" cy="97848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4719960" y="2748240"/>
                    <a:ext cx="14436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719960" y="3074400"/>
                    <a:ext cx="144360" cy="32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719960" y="3400920"/>
                    <a:ext cx="14436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4864320" y="2748240"/>
                  <a:ext cx="576720" cy="978120"/>
                  <a:chOff x="4864320" y="2748240"/>
                  <a:chExt cx="576720" cy="97812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4864320" y="2748240"/>
                    <a:ext cx="144360" cy="978120"/>
                    <a:chOff x="4864320" y="2748240"/>
                    <a:chExt cx="144360" cy="97812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48643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48643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48643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5008680" y="2748240"/>
                    <a:ext cx="144000" cy="978120"/>
                    <a:chOff x="5008680" y="2748240"/>
                    <a:chExt cx="144000" cy="9781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500868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00868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00868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152680" y="2748240"/>
                    <a:ext cx="144000" cy="978120"/>
                    <a:chOff x="5152680" y="2748240"/>
                    <a:chExt cx="144000" cy="9781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515268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15268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515268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5296680" y="2748240"/>
                    <a:ext cx="144360" cy="978120"/>
                    <a:chOff x="5296680" y="2748240"/>
                    <a:chExt cx="144360" cy="9781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529668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529668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529668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441760" y="2748240"/>
                  <a:ext cx="576720" cy="978120"/>
                  <a:chOff x="5441760" y="2748240"/>
                  <a:chExt cx="576720" cy="97812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441760" y="2748240"/>
                    <a:ext cx="144360" cy="978120"/>
                    <a:chOff x="5441760" y="2748240"/>
                    <a:chExt cx="144360" cy="9781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4417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4417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544176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586120" y="2748240"/>
                    <a:ext cx="144000" cy="978120"/>
                    <a:chOff x="5586120" y="2748240"/>
                    <a:chExt cx="144000" cy="9781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55861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55861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55861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730120" y="2748240"/>
                    <a:ext cx="144000" cy="978120"/>
                    <a:chOff x="5730120" y="2748240"/>
                    <a:chExt cx="144000" cy="978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57301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7301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57301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874120" y="2748240"/>
                    <a:ext cx="144360" cy="978120"/>
                    <a:chOff x="5874120" y="2748240"/>
                    <a:chExt cx="144360" cy="9781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58741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8741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58741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6019200" y="2748240"/>
                  <a:ext cx="577080" cy="978120"/>
                  <a:chOff x="6019200" y="2748240"/>
                  <a:chExt cx="577080" cy="978120"/>
                </a:xfrm>
              </p:grpSpPr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6019200" y="2748240"/>
                    <a:ext cx="144360" cy="978120"/>
                    <a:chOff x="6019200" y="2748240"/>
                    <a:chExt cx="144360" cy="9781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601920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601920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601920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6163560" y="2748240"/>
                    <a:ext cx="144000" cy="978120"/>
                    <a:chOff x="6163560" y="2748240"/>
                    <a:chExt cx="144000" cy="9781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61635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61635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61635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307920" y="2748240"/>
                    <a:ext cx="144000" cy="978120"/>
                    <a:chOff x="6307920" y="2748240"/>
                    <a:chExt cx="144000" cy="97812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630792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630792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630792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6451920" y="2748240"/>
                    <a:ext cx="144360" cy="978120"/>
                    <a:chOff x="6451920" y="2748240"/>
                    <a:chExt cx="144360" cy="9781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645192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645192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645192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6597000" y="2748240"/>
                  <a:ext cx="576720" cy="978120"/>
                  <a:chOff x="6597000" y="2748240"/>
                  <a:chExt cx="576720" cy="97812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6597000" y="2748240"/>
                    <a:ext cx="144360" cy="978120"/>
                    <a:chOff x="6597000" y="2748240"/>
                    <a:chExt cx="144360" cy="97812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659700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59700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659700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6741360" y="2748240"/>
                    <a:ext cx="144000" cy="978120"/>
                    <a:chOff x="6741360" y="2748240"/>
                    <a:chExt cx="144000" cy="9781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67413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67413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67413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6885360" y="2748240"/>
                    <a:ext cx="144000" cy="978120"/>
                    <a:chOff x="6885360" y="2748240"/>
                    <a:chExt cx="144000" cy="97812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6885360" y="274824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6885360" y="3074400"/>
                      <a:ext cx="14400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6885360" y="3400560"/>
                      <a:ext cx="14400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7029360" y="2748240"/>
                    <a:ext cx="144360" cy="978120"/>
                    <a:chOff x="7029360" y="2748240"/>
                    <a:chExt cx="144360" cy="97812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7029360" y="274824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7029360" y="3074400"/>
                      <a:ext cx="144360" cy="326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7029360" y="3400560"/>
                      <a:ext cx="144360" cy="325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a7a7a7"/>
                        </a:gs>
                        <a:gs pos="50000">
                          <a:srgbClr val="dddddd"/>
                        </a:gs>
                        <a:gs pos="100000">
                          <a:srgbClr val="a7a7a7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44" name=""/>
            <p:cNvGrpSpPr/>
            <p:nvPr/>
          </p:nvGrpSpPr>
          <p:grpSpPr>
            <a:xfrm>
              <a:off x="4648320" y="1447920"/>
              <a:ext cx="2743200" cy="1218960"/>
              <a:chOff x="4648320" y="1447920"/>
              <a:chExt cx="2743200" cy="1218960"/>
            </a:xfrm>
          </p:grpSpPr>
          <p:sp>
            <p:nvSpPr>
              <p:cNvPr id="745" name=""/>
              <p:cNvSpPr/>
              <p:nvPr/>
            </p:nvSpPr>
            <p:spPr>
              <a:xfrm>
                <a:off x="4648320" y="1447920"/>
                <a:ext cx="2743200" cy="1218960"/>
              </a:xfrm>
              <a:prstGeom prst="roundRect">
                <a:avLst>
                  <a:gd name="adj" fmla="val 497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8457200">
                <a:off x="6248520" y="1930320"/>
                <a:ext cx="304560" cy="228600"/>
              </a:xfrm>
              <a:prstGeom prst="rightArrow">
                <a:avLst>
                  <a:gd name="adj1" fmla="val 19667"/>
                  <a:gd name="adj2" fmla="val 5568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79920" y="179676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2920" y="1523880"/>
                <a:ext cx="2286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4648320" y="1523880"/>
                <a:ext cx="609480" cy="533160"/>
                <a:chOff x="4648320" y="1523880"/>
                <a:chExt cx="609480" cy="5331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4800600" y="1523880"/>
                  <a:ext cx="76320" cy="5331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648320" y="1523880"/>
                  <a:ext cx="609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6165720" y="180324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257520" y="22478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73360" y="15620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922400">
                <a:off x="5562720" y="1923840"/>
                <a:ext cx="304560" cy="228240"/>
              </a:xfrm>
              <a:prstGeom prst="rightArrow">
                <a:avLst>
                  <a:gd name="adj1" fmla="val 19667"/>
                  <a:gd name="adj2" fmla="val 5577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71720" y="2241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87560" y="15555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4648320" y="1447920"/>
            <a:ext cx="2743200" cy="1220400"/>
            <a:chOff x="4648320" y="1447920"/>
            <a:chExt cx="2743200" cy="1220400"/>
          </a:xfrm>
        </p:grpSpPr>
        <p:grpSp>
          <p:nvGrpSpPr>
            <p:cNvPr id="759" name=""/>
            <p:cNvGrpSpPr/>
            <p:nvPr/>
          </p:nvGrpSpPr>
          <p:grpSpPr>
            <a:xfrm>
              <a:off x="4648320" y="1447920"/>
              <a:ext cx="2743200" cy="1218960"/>
              <a:chOff x="4648320" y="1447920"/>
              <a:chExt cx="2743200" cy="1218960"/>
            </a:xfrm>
          </p:grpSpPr>
          <p:sp>
            <p:nvSpPr>
              <p:cNvPr id="760" name=""/>
              <p:cNvSpPr/>
              <p:nvPr/>
            </p:nvSpPr>
            <p:spPr>
              <a:xfrm>
                <a:off x="4648320" y="1447920"/>
                <a:ext cx="2743200" cy="1218960"/>
              </a:xfrm>
              <a:prstGeom prst="roundRect">
                <a:avLst>
                  <a:gd name="adj" fmla="val 7736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4724280" y="1752480"/>
                <a:ext cx="2590920" cy="685800"/>
                <a:chOff x="4724280" y="1752480"/>
                <a:chExt cx="2590920" cy="68580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4724280" y="1752480"/>
                  <a:ext cx="609480" cy="685800"/>
                  <a:chOff x="4724280" y="1752480"/>
                  <a:chExt cx="609480" cy="68580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472428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87656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0292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18148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5334120" y="1752480"/>
                  <a:ext cx="609480" cy="685800"/>
                  <a:chOff x="5334120" y="1752480"/>
                  <a:chExt cx="609480" cy="6858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53341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548640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63904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7913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943600" y="1752480"/>
                  <a:ext cx="609480" cy="685800"/>
                  <a:chOff x="5943600" y="1752480"/>
                  <a:chExt cx="609480" cy="6858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9436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095880" y="1752480"/>
                    <a:ext cx="15264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24852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400800" y="1752480"/>
                    <a:ext cx="15228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7" name=""/>
                <p:cNvSpPr/>
                <p:nvPr/>
              </p:nvSpPr>
              <p:spPr>
                <a:xfrm>
                  <a:off x="6553080" y="1752480"/>
                  <a:ext cx="1526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70572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85800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010280" y="1752480"/>
                  <a:ext cx="1526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162920" y="1752480"/>
                  <a:ext cx="15228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6781680" y="1523880"/>
                <a:ext cx="457200" cy="15264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5867280" y="1467000"/>
                <a:ext cx="685800" cy="398520"/>
                <a:chOff x="5867280" y="1467000"/>
                <a:chExt cx="685800" cy="3985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867280" y="1523880"/>
                  <a:ext cx="68580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867280" y="1467000"/>
                  <a:ext cx="6368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O103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6" name=""/>
            <p:cNvGrpSpPr/>
            <p:nvPr/>
          </p:nvGrpSpPr>
          <p:grpSpPr>
            <a:xfrm>
              <a:off x="4648320" y="2452680"/>
              <a:ext cx="2743200" cy="215640"/>
              <a:chOff x="4648320" y="2452680"/>
              <a:chExt cx="2743200" cy="215640"/>
            </a:xfrm>
          </p:grpSpPr>
          <p:sp>
            <p:nvSpPr>
              <p:cNvPr id="787" name=""/>
              <p:cNvSpPr/>
              <p:nvPr/>
            </p:nvSpPr>
            <p:spPr>
              <a:xfrm>
                <a:off x="48006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32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1055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578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104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150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627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0199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76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722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248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294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82040" y="2452680"/>
                <a:ext cx="30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343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8660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Tahoma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48320" y="2452680"/>
                <a:ext cx="304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152280" y="3580920"/>
            <a:ext cx="8629920" cy="2210400"/>
            <a:chOff x="152280" y="3580920"/>
            <a:chExt cx="8629920" cy="2210400"/>
          </a:xfrm>
        </p:grpSpPr>
        <p:grpSp>
          <p:nvGrpSpPr>
            <p:cNvPr id="805" name=""/>
            <p:cNvGrpSpPr/>
            <p:nvPr/>
          </p:nvGrpSpPr>
          <p:grpSpPr>
            <a:xfrm>
              <a:off x="152280" y="4661640"/>
              <a:ext cx="2743200" cy="1129680"/>
              <a:chOff x="152280" y="4661640"/>
              <a:chExt cx="2743200" cy="1129680"/>
            </a:xfrm>
          </p:grpSpPr>
          <p:grpSp>
            <p:nvGrpSpPr>
              <p:cNvPr id="806" name=""/>
              <p:cNvGrpSpPr/>
              <p:nvPr/>
            </p:nvGrpSpPr>
            <p:grpSpPr>
              <a:xfrm>
                <a:off x="1447920" y="5410080"/>
                <a:ext cx="1447560" cy="381240"/>
                <a:chOff x="1447920" y="5410080"/>
                <a:chExt cx="1447560" cy="38124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1676520" y="5410080"/>
                  <a:ext cx="1218960" cy="381240"/>
                  <a:chOff x="1676520" y="5410080"/>
                  <a:chExt cx="1218960" cy="3812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1676520" y="57150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676520" y="54100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752480" y="5486400"/>
                    <a:ext cx="11430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752480" y="5791320"/>
                    <a:ext cx="838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" name=""/>
                <p:cNvSpPr/>
                <p:nvPr/>
              </p:nvSpPr>
              <p:spPr>
                <a:xfrm>
                  <a:off x="1447920" y="548640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152280" y="4661640"/>
                <a:ext cx="1295640" cy="57060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Field wi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4800600" y="3580920"/>
              <a:ext cx="3981600" cy="2108520"/>
              <a:chOff x="4800600" y="3580920"/>
              <a:chExt cx="3981600" cy="210852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4800600" y="3580920"/>
                <a:ext cx="3981600" cy="838800"/>
                <a:chOff x="4800600" y="3580920"/>
                <a:chExt cx="3981600" cy="83880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8458200" y="3733920"/>
                  <a:ext cx="324000" cy="685800"/>
                  <a:chOff x="8458200" y="3733920"/>
                  <a:chExt cx="324000" cy="6858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8466120" y="3733920"/>
                    <a:ext cx="304560" cy="68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a8a8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542080" y="4267440"/>
                    <a:ext cx="15264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8613720" y="3791160"/>
                    <a:ext cx="0" cy="82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8572320" y="3832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8572320" y="403884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8458200" y="3818160"/>
                    <a:ext cx="3240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</a:rPr>
                      <a:t>2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>
                  <a:off x="7238880" y="3962520"/>
                  <a:ext cx="1219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800600" y="4267080"/>
                  <a:ext cx="365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800600" y="3657600"/>
                  <a:ext cx="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7238880" y="358092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>
                <a:off x="6400800" y="4844520"/>
                <a:ext cx="1295280" cy="844920"/>
              </a:xfrm>
              <a:noFill/>
              <a:ln w="1260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10800" bIns="10800" anchor="b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Field power supp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1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Architecture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09480" y="1710720"/>
            <a:ext cx="2243160" cy="575280"/>
            <a:chOff x="609480" y="1710720"/>
            <a:chExt cx="2243160" cy="575280"/>
          </a:xfrm>
        </p:grpSpPr>
        <p:grpSp>
          <p:nvGrpSpPr>
            <p:cNvPr id="830" name=""/>
            <p:cNvGrpSpPr/>
            <p:nvPr/>
          </p:nvGrpSpPr>
          <p:grpSpPr>
            <a:xfrm>
              <a:off x="2319480" y="1828800"/>
              <a:ext cx="533160" cy="457200"/>
              <a:chOff x="2319480" y="1828800"/>
              <a:chExt cx="533160" cy="45720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319480" y="1828800"/>
                <a:ext cx="533160" cy="457200"/>
                <a:chOff x="2319480" y="1828800"/>
                <a:chExt cx="533160" cy="4572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319480" y="1828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319480" y="2057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2395440" y="2133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73120" y="18669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09480" y="1710720"/>
              <a:ext cx="106704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wer suppl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495680" y="1828800"/>
            <a:ext cx="533520" cy="457200"/>
            <a:chOff x="4495680" y="1828800"/>
            <a:chExt cx="533520" cy="457200"/>
          </a:xfrm>
        </p:grpSpPr>
        <p:grpSp>
          <p:nvGrpSpPr>
            <p:cNvPr id="838" name=""/>
            <p:cNvGrpSpPr/>
            <p:nvPr/>
          </p:nvGrpSpPr>
          <p:grpSpPr>
            <a:xfrm>
              <a:off x="4495680" y="1828800"/>
              <a:ext cx="533520" cy="457200"/>
              <a:chOff x="4495680" y="1828800"/>
              <a:chExt cx="533520" cy="457200"/>
            </a:xfrm>
          </p:grpSpPr>
          <p:sp>
            <p:nvSpPr>
              <p:cNvPr id="839" name=""/>
              <p:cNvSpPr/>
              <p:nvPr/>
            </p:nvSpPr>
            <p:spPr>
              <a:xfrm>
                <a:off x="4495680" y="18288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95680" y="20574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4549680" y="1866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4616280" y="1905120"/>
              <a:ext cx="304920" cy="75960"/>
              <a:chOff x="4616280" y="1905120"/>
              <a:chExt cx="304920" cy="75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61628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6926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7689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4488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9212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4574880" y="2104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74880" y="2171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74880" y="2235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3429000" y="1194480"/>
            <a:ext cx="3352680" cy="1091520"/>
            <a:chOff x="3429000" y="1194480"/>
            <a:chExt cx="3352680" cy="1091520"/>
          </a:xfrm>
        </p:grpSpPr>
        <p:grpSp>
          <p:nvGrpSpPr>
            <p:cNvPr id="852" name=""/>
            <p:cNvGrpSpPr/>
            <p:nvPr/>
          </p:nvGrpSpPr>
          <p:grpSpPr>
            <a:xfrm>
              <a:off x="3429000" y="1828800"/>
              <a:ext cx="1066320" cy="457200"/>
              <a:chOff x="3429000" y="1828800"/>
              <a:chExt cx="1066320" cy="45720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3429000" y="1828800"/>
                <a:ext cx="533160" cy="457200"/>
                <a:chOff x="3429000" y="1828800"/>
                <a:chExt cx="533160" cy="45720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3429000" y="1828800"/>
                  <a:ext cx="533160" cy="457200"/>
                  <a:chOff x="3429000" y="1828800"/>
                  <a:chExt cx="533160" cy="4572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34290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4290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34826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3549240" y="1905120"/>
                  <a:ext cx="304560" cy="75960"/>
                  <a:chOff x="3549240" y="1905120"/>
                  <a:chExt cx="304560" cy="759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3549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625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3701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3777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853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4" name=""/>
                <p:cNvSpPr/>
                <p:nvPr/>
              </p:nvSpPr>
              <p:spPr>
                <a:xfrm>
                  <a:off x="35078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5078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5078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962160" y="1828800"/>
                <a:ext cx="533160" cy="457200"/>
                <a:chOff x="3962160" y="1828800"/>
                <a:chExt cx="533160" cy="457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3962160" y="1828800"/>
                  <a:ext cx="533160" cy="457200"/>
                  <a:chOff x="3962160" y="1828800"/>
                  <a:chExt cx="533160" cy="45720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39621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9621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1" name=""/>
                <p:cNvSpPr/>
                <p:nvPr/>
              </p:nvSpPr>
              <p:spPr>
                <a:xfrm>
                  <a:off x="40158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4082400" y="1905120"/>
                  <a:ext cx="304560" cy="75960"/>
                  <a:chOff x="4082400" y="1905120"/>
                  <a:chExt cx="304560" cy="759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4082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1583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234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3106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3869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40410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0410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0410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429000" y="1828800"/>
                <a:ext cx="533160" cy="457200"/>
                <a:chOff x="3429000" y="1828800"/>
                <a:chExt cx="533160" cy="45720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3429000" y="1828800"/>
                  <a:ext cx="533160" cy="457200"/>
                  <a:chOff x="3429000" y="1828800"/>
                  <a:chExt cx="533160" cy="45720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34290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4290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5" name=""/>
                <p:cNvSpPr/>
                <p:nvPr/>
              </p:nvSpPr>
              <p:spPr>
                <a:xfrm>
                  <a:off x="34826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6" name=""/>
                <p:cNvGrpSpPr/>
                <p:nvPr/>
              </p:nvGrpSpPr>
              <p:grpSpPr>
                <a:xfrm>
                  <a:off x="3549240" y="1905120"/>
                  <a:ext cx="304560" cy="75960"/>
                  <a:chOff x="3549240" y="1905120"/>
                  <a:chExt cx="304560" cy="7596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3549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625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701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777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853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" name=""/>
                <p:cNvSpPr/>
                <p:nvPr/>
              </p:nvSpPr>
              <p:spPr>
                <a:xfrm>
                  <a:off x="35078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5078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5078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4800600" y="1194480"/>
              <a:ext cx="19810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/O mod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52280" y="1828800"/>
            <a:ext cx="6248160" cy="1447920"/>
            <a:chOff x="152280" y="1828800"/>
            <a:chExt cx="6248160" cy="1447920"/>
          </a:xfrm>
        </p:grpSpPr>
        <p:cxnSp>
          <p:nvCxnSpPr>
            <p:cNvPr id="897" name=""/>
            <p:cNvCxnSpPr>
              <a:stCxn id="898" idx="2"/>
              <a:endCxn id="899" idx="0"/>
            </p:cNvCxnSpPr>
            <p:nvPr/>
          </p:nvCxnSpPr>
          <p:spPr>
            <a:xfrm rot="5400000">
              <a:off x="4494960" y="1066680"/>
              <a:ext cx="534240" cy="29725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6600"/>
              </a:solidFill>
              <a:miter/>
            </a:ln>
          </p:spPr>
        </p:cxnSp>
        <p:grpSp>
          <p:nvGrpSpPr>
            <p:cNvPr id="900" name=""/>
            <p:cNvGrpSpPr/>
            <p:nvPr/>
          </p:nvGrpSpPr>
          <p:grpSpPr>
            <a:xfrm>
              <a:off x="6095880" y="1828800"/>
              <a:ext cx="304560" cy="457200"/>
              <a:chOff x="6095880" y="1828800"/>
              <a:chExt cx="304560" cy="457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095880" y="182880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095880" y="205740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171840" y="2133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248160" y="2133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3124080" y="2819520"/>
              <a:ext cx="304560" cy="457200"/>
              <a:chOff x="3124080" y="2819520"/>
              <a:chExt cx="304560" cy="457200"/>
            </a:xfrm>
          </p:grpSpPr>
          <p:sp>
            <p:nvSpPr>
              <p:cNvPr id="899" name=""/>
              <p:cNvSpPr/>
              <p:nvPr/>
            </p:nvSpPr>
            <p:spPr>
              <a:xfrm>
                <a:off x="3124080" y="281952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24080" y="3048120"/>
                <a:ext cx="304560" cy="228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1c17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040" y="3124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76360" y="3124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152280" y="2617200"/>
              <a:ext cx="16002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us expa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895480" y="4267080"/>
            <a:ext cx="3504960" cy="2133720"/>
            <a:chOff x="2895480" y="4267080"/>
            <a:chExt cx="3504960" cy="2133720"/>
          </a:xfrm>
        </p:grpSpPr>
        <p:grpSp>
          <p:nvGrpSpPr>
            <p:cNvPr id="910" name=""/>
            <p:cNvGrpSpPr/>
            <p:nvPr/>
          </p:nvGrpSpPr>
          <p:grpSpPr>
            <a:xfrm>
              <a:off x="2895480" y="4267080"/>
              <a:ext cx="3200400" cy="1067040"/>
              <a:chOff x="2895480" y="4267080"/>
              <a:chExt cx="3200400" cy="1067040"/>
            </a:xfrm>
          </p:grpSpPr>
          <p:sp>
            <p:nvSpPr>
              <p:cNvPr id="911" name=""/>
              <p:cNvSpPr/>
              <p:nvPr/>
            </p:nvSpPr>
            <p:spPr>
              <a:xfrm>
                <a:off x="2971800" y="4267080"/>
                <a:ext cx="0" cy="6858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4495680" y="4876920"/>
                <a:ext cx="1067040" cy="457200"/>
                <a:chOff x="4495680" y="4876920"/>
                <a:chExt cx="1067040" cy="45720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4495680" y="4876920"/>
                  <a:ext cx="533520" cy="457200"/>
                  <a:chOff x="4495680" y="4876920"/>
                  <a:chExt cx="533520" cy="457200"/>
                </a:xfrm>
              </p:grpSpPr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4495680" y="4876920"/>
                    <a:ext cx="533520" cy="457200"/>
                    <a:chOff x="4495680" y="4876920"/>
                    <a:chExt cx="533520" cy="45720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449568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449568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7" name=""/>
                  <p:cNvSpPr/>
                  <p:nvPr/>
                </p:nvSpPr>
                <p:spPr>
                  <a:xfrm>
                    <a:off x="454968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4616280" y="4953240"/>
                    <a:ext cx="304920" cy="75960"/>
                    <a:chOff x="4616280" y="4953240"/>
                    <a:chExt cx="304920" cy="7596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6162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6926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47689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48448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4921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4" name=""/>
                  <p:cNvSpPr/>
                  <p:nvPr/>
                </p:nvSpPr>
                <p:spPr>
                  <a:xfrm>
                    <a:off x="457488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57488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57488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029200" y="4876920"/>
                  <a:ext cx="533520" cy="457200"/>
                  <a:chOff x="5029200" y="4876920"/>
                  <a:chExt cx="533520" cy="457200"/>
                </a:xfrm>
              </p:grpSpPr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5029200" y="4876920"/>
                    <a:ext cx="533520" cy="457200"/>
                    <a:chOff x="5029200" y="4876920"/>
                    <a:chExt cx="533520" cy="45720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02920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502920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508320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149800" y="4953240"/>
                    <a:ext cx="304920" cy="75960"/>
                    <a:chOff x="5149800" y="4953240"/>
                    <a:chExt cx="304920" cy="7596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5149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52261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3024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53784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54547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8" name=""/>
                  <p:cNvSpPr/>
                  <p:nvPr/>
                </p:nvSpPr>
                <p:spPr>
                  <a:xfrm>
                    <a:off x="510840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10840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10840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4495680" y="4876920"/>
                  <a:ext cx="533520" cy="457200"/>
                  <a:chOff x="4495680" y="4876920"/>
                  <a:chExt cx="533520" cy="45720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4495680" y="4876920"/>
                    <a:ext cx="533520" cy="457200"/>
                    <a:chOff x="4495680" y="4876920"/>
                    <a:chExt cx="533520" cy="45720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4495680" y="4876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4495680" y="51055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5" name=""/>
                  <p:cNvSpPr/>
                  <p:nvPr/>
                </p:nvSpPr>
                <p:spPr>
                  <a:xfrm>
                    <a:off x="4549680" y="49150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4616280" y="4953240"/>
                    <a:ext cx="304920" cy="75960"/>
                    <a:chOff x="4616280" y="4953240"/>
                    <a:chExt cx="304920" cy="7596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46162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46926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7689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48448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4921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4574880" y="5153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574880" y="52200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574880" y="5283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5" name=""/>
              <p:cNvGrpSpPr/>
              <p:nvPr/>
            </p:nvGrpSpPr>
            <p:grpSpPr>
              <a:xfrm>
                <a:off x="2895480" y="4876920"/>
                <a:ext cx="533160" cy="457200"/>
                <a:chOff x="2895480" y="4876920"/>
                <a:chExt cx="533160" cy="457200"/>
              </a:xfrm>
            </p:grpSpPr>
            <p:grpSp>
              <p:nvGrpSpPr>
                <p:cNvPr id="956" name=""/>
                <p:cNvGrpSpPr/>
                <p:nvPr/>
              </p:nvGrpSpPr>
              <p:grpSpPr>
                <a:xfrm>
                  <a:off x="2895480" y="4876920"/>
                  <a:ext cx="533160" cy="457200"/>
                  <a:chOff x="2895480" y="4876920"/>
                  <a:chExt cx="533160" cy="4572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2895480" y="4876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895480" y="5105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8665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9" name=""/>
                <p:cNvSpPr/>
                <p:nvPr/>
              </p:nvSpPr>
              <p:spPr>
                <a:xfrm>
                  <a:off x="297144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949480" y="4915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124080" y="5181840"/>
                  <a:ext cx="7596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3429000" y="4876920"/>
                <a:ext cx="1066320" cy="457200"/>
                <a:chOff x="3429000" y="4876920"/>
                <a:chExt cx="1066320" cy="45720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3429000" y="4876920"/>
                  <a:ext cx="533160" cy="457200"/>
                  <a:chOff x="3429000" y="4876920"/>
                  <a:chExt cx="533160" cy="45720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3429000" y="4876920"/>
                    <a:ext cx="533160" cy="457200"/>
                    <a:chOff x="3429000" y="4876920"/>
                    <a:chExt cx="533160" cy="457200"/>
                  </a:xfrm>
                </p:grpSpPr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42900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42900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7" name=""/>
                  <p:cNvSpPr/>
                  <p:nvPr/>
                </p:nvSpPr>
                <p:spPr>
                  <a:xfrm>
                    <a:off x="348264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3549240" y="4953240"/>
                    <a:ext cx="304560" cy="75960"/>
                    <a:chOff x="3549240" y="4953240"/>
                    <a:chExt cx="304560" cy="7596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5492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625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7015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7774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853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350784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50784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50784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3962160" y="4876920"/>
                  <a:ext cx="533160" cy="457200"/>
                  <a:chOff x="3962160" y="4876920"/>
                  <a:chExt cx="533160" cy="4572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962160" y="4876920"/>
                    <a:ext cx="533160" cy="457200"/>
                    <a:chOff x="3962160" y="4876920"/>
                    <a:chExt cx="533160" cy="45720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96216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96216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1" name=""/>
                  <p:cNvSpPr/>
                  <p:nvPr/>
                </p:nvSpPr>
                <p:spPr>
                  <a:xfrm>
                    <a:off x="401580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4082400" y="4953240"/>
                    <a:ext cx="304560" cy="75960"/>
                    <a:chOff x="4082400" y="4953240"/>
                    <a:chExt cx="304560" cy="7596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40824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415836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42346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43106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438696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8" name=""/>
                  <p:cNvSpPr/>
                  <p:nvPr/>
                </p:nvSpPr>
                <p:spPr>
                  <a:xfrm>
                    <a:off x="404100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04100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04100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3429000" y="4876920"/>
                  <a:ext cx="533160" cy="457200"/>
                  <a:chOff x="3429000" y="4876920"/>
                  <a:chExt cx="533160" cy="45720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3429000" y="4876920"/>
                    <a:ext cx="533160" cy="457200"/>
                    <a:chOff x="3429000" y="4876920"/>
                    <a:chExt cx="533160" cy="45720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3429000" y="4876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3429000" y="51055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>
                    <a:off x="3482640" y="49150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3549240" y="4953240"/>
                    <a:ext cx="304560" cy="75960"/>
                    <a:chOff x="3549240" y="4953240"/>
                    <a:chExt cx="304560" cy="7596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54924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36252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370152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377748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3853800" y="49532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>
                    <a:off x="3507840" y="5153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507840" y="5220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507840" y="528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5562720" y="4876920"/>
                <a:ext cx="533160" cy="457200"/>
                <a:chOff x="5562720" y="4876920"/>
                <a:chExt cx="533160" cy="457200"/>
              </a:xfrm>
            </p:grpSpPr>
            <p:grpSp>
              <p:nvGrpSpPr>
                <p:cNvPr id="1006" name=""/>
                <p:cNvGrpSpPr/>
                <p:nvPr/>
              </p:nvGrpSpPr>
              <p:grpSpPr>
                <a:xfrm>
                  <a:off x="5562720" y="4876920"/>
                  <a:ext cx="533160" cy="457200"/>
                  <a:chOff x="5562720" y="4876920"/>
                  <a:chExt cx="533160" cy="4572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562720" y="48769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5562720" y="510552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9" name=""/>
                <p:cNvSpPr/>
                <p:nvPr/>
              </p:nvSpPr>
              <p:spPr>
                <a:xfrm>
                  <a:off x="5616360" y="491508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0" name=""/>
                <p:cNvGrpSpPr/>
                <p:nvPr/>
              </p:nvGrpSpPr>
              <p:grpSpPr>
                <a:xfrm>
                  <a:off x="5682960" y="4953240"/>
                  <a:ext cx="304560" cy="75960"/>
                  <a:chOff x="5682960" y="4953240"/>
                  <a:chExt cx="304560" cy="7596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568296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575892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83524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91120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5987520" y="49532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6" name=""/>
                <p:cNvSpPr/>
                <p:nvPr/>
              </p:nvSpPr>
              <p:spPr>
                <a:xfrm>
                  <a:off x="5641560" y="515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641560" y="5220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641560" y="5283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3124080" y="4876920"/>
              <a:ext cx="3276360" cy="1523880"/>
              <a:chOff x="3124080" y="4876920"/>
              <a:chExt cx="3276360" cy="152388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3429000" y="5943600"/>
                <a:ext cx="1066320" cy="457200"/>
                <a:chOff x="3429000" y="5943600"/>
                <a:chExt cx="1066320" cy="45720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3429000" y="5943600"/>
                  <a:ext cx="533160" cy="457200"/>
                  <a:chOff x="3429000" y="5943600"/>
                  <a:chExt cx="533160" cy="457200"/>
                </a:xfrm>
              </p:grpSpPr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3429000" y="5943600"/>
                    <a:ext cx="533160" cy="457200"/>
                    <a:chOff x="3429000" y="5943600"/>
                    <a:chExt cx="533160" cy="4572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342900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42900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5" name=""/>
                  <p:cNvSpPr/>
                  <p:nvPr/>
                </p:nvSpPr>
                <p:spPr>
                  <a:xfrm>
                    <a:off x="348264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549240" y="6019920"/>
                    <a:ext cx="304560" cy="75960"/>
                    <a:chOff x="3549240" y="6019920"/>
                    <a:chExt cx="304560" cy="7596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5492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625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7015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7774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853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350784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50784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0784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3962160" y="5943600"/>
                  <a:ext cx="533160" cy="457200"/>
                  <a:chOff x="3962160" y="5943600"/>
                  <a:chExt cx="533160" cy="45720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3962160" y="5943600"/>
                    <a:ext cx="533160" cy="457200"/>
                    <a:chOff x="3962160" y="5943600"/>
                    <a:chExt cx="533160" cy="45720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396216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96216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9" name=""/>
                  <p:cNvSpPr/>
                  <p:nvPr/>
                </p:nvSpPr>
                <p:spPr>
                  <a:xfrm>
                    <a:off x="401580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4082400" y="6019920"/>
                    <a:ext cx="304560" cy="75960"/>
                    <a:chOff x="4082400" y="6019920"/>
                    <a:chExt cx="304560" cy="7596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40824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415836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2346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43106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438696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6" name=""/>
                  <p:cNvSpPr/>
                  <p:nvPr/>
                </p:nvSpPr>
                <p:spPr>
                  <a:xfrm>
                    <a:off x="404100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04100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4100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3429000" y="5943600"/>
                  <a:ext cx="533160" cy="457200"/>
                  <a:chOff x="3429000" y="5943600"/>
                  <a:chExt cx="533160" cy="457200"/>
                </a:xfrm>
              </p:grpSpPr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429000" y="5943600"/>
                    <a:ext cx="533160" cy="457200"/>
                    <a:chOff x="3429000" y="5943600"/>
                    <a:chExt cx="533160" cy="45720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429000" y="59436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429000" y="617220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3482640" y="598176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3549240" y="6019920"/>
                    <a:ext cx="304560" cy="75960"/>
                    <a:chOff x="3549240" y="6019920"/>
                    <a:chExt cx="304560" cy="7596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35492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3625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37015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7774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853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0" name=""/>
                  <p:cNvSpPr/>
                  <p:nvPr/>
                </p:nvSpPr>
                <p:spPr>
                  <a:xfrm>
                    <a:off x="3507840" y="6219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507840" y="6286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507840" y="635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5562720" y="5943600"/>
                <a:ext cx="533160" cy="457200"/>
                <a:chOff x="5562720" y="5943600"/>
                <a:chExt cx="533160" cy="45720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5562720" y="5943600"/>
                  <a:ext cx="533160" cy="457200"/>
                  <a:chOff x="5562720" y="5943600"/>
                  <a:chExt cx="533160" cy="45720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5562720" y="59436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62720" y="6172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7" name=""/>
                <p:cNvSpPr/>
                <p:nvPr/>
              </p:nvSpPr>
              <p:spPr>
                <a:xfrm>
                  <a:off x="5616360" y="59817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8" name=""/>
                <p:cNvGrpSpPr/>
                <p:nvPr/>
              </p:nvGrpSpPr>
              <p:grpSpPr>
                <a:xfrm>
                  <a:off x="5682960" y="6019920"/>
                  <a:ext cx="304560" cy="75960"/>
                  <a:chOff x="5682960" y="6019920"/>
                  <a:chExt cx="304560" cy="7596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568296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75892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83524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91120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987520" y="60199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4" name=""/>
                <p:cNvSpPr/>
                <p:nvPr/>
              </p:nvSpPr>
              <p:spPr>
                <a:xfrm>
                  <a:off x="5641560" y="62197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641560" y="6286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641560" y="6350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3124080" y="5943600"/>
                <a:ext cx="304560" cy="457200"/>
                <a:chOff x="3124080" y="5943600"/>
                <a:chExt cx="304560" cy="457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124080" y="59436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124080" y="61722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200040" y="62485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276360" y="62485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4495680" y="5943600"/>
                <a:ext cx="1067040" cy="457200"/>
                <a:chOff x="4495680" y="5943600"/>
                <a:chExt cx="1067040" cy="457200"/>
              </a:xfrm>
            </p:grpSpPr>
            <p:grpSp>
              <p:nvGrpSpPr>
                <p:cNvPr id="1083" name=""/>
                <p:cNvGrpSpPr/>
                <p:nvPr/>
              </p:nvGrpSpPr>
              <p:grpSpPr>
                <a:xfrm>
                  <a:off x="4495680" y="5943600"/>
                  <a:ext cx="533520" cy="457200"/>
                  <a:chOff x="4495680" y="5943600"/>
                  <a:chExt cx="533520" cy="457200"/>
                </a:xfrm>
              </p:grpSpPr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4495680" y="5943600"/>
                    <a:ext cx="533520" cy="457200"/>
                    <a:chOff x="4495680" y="5943600"/>
                    <a:chExt cx="533520" cy="45720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449568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449568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7" name=""/>
                  <p:cNvSpPr/>
                  <p:nvPr/>
                </p:nvSpPr>
                <p:spPr>
                  <a:xfrm>
                    <a:off x="454968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4616280" y="6019920"/>
                    <a:ext cx="304920" cy="75960"/>
                    <a:chOff x="4616280" y="6019920"/>
                    <a:chExt cx="304920" cy="7596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46162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46926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47689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48448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4921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4" name=""/>
                  <p:cNvSpPr/>
                  <p:nvPr/>
                </p:nvSpPr>
                <p:spPr>
                  <a:xfrm>
                    <a:off x="457488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57488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57488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5029200" y="5943600"/>
                  <a:ext cx="533520" cy="457200"/>
                  <a:chOff x="5029200" y="5943600"/>
                  <a:chExt cx="533520" cy="45720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5029200" y="5943600"/>
                    <a:ext cx="533520" cy="457200"/>
                    <a:chOff x="5029200" y="5943600"/>
                    <a:chExt cx="533520" cy="45720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502920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502920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1" name=""/>
                  <p:cNvSpPr/>
                  <p:nvPr/>
                </p:nvSpPr>
                <p:spPr>
                  <a:xfrm>
                    <a:off x="508320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5149800" y="6019920"/>
                    <a:ext cx="304920" cy="75960"/>
                    <a:chOff x="5149800" y="6019920"/>
                    <a:chExt cx="304920" cy="7596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51498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2261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30244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53784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54547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8" name=""/>
                  <p:cNvSpPr/>
                  <p:nvPr/>
                </p:nvSpPr>
                <p:spPr>
                  <a:xfrm>
                    <a:off x="510840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10840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510840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4495680" y="5943600"/>
                  <a:ext cx="533520" cy="457200"/>
                  <a:chOff x="4495680" y="5943600"/>
                  <a:chExt cx="533520" cy="457200"/>
                </a:xfrm>
              </p:grpSpPr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4495680" y="5943600"/>
                    <a:ext cx="533520" cy="457200"/>
                    <a:chOff x="4495680" y="5943600"/>
                    <a:chExt cx="533520" cy="45720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4495680" y="59436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4495680" y="617220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5" name=""/>
                  <p:cNvSpPr/>
                  <p:nvPr/>
                </p:nvSpPr>
                <p:spPr>
                  <a:xfrm>
                    <a:off x="4549680" y="598176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4616280" y="6019920"/>
                    <a:ext cx="304920" cy="75960"/>
                    <a:chOff x="4616280" y="6019920"/>
                    <a:chExt cx="304920" cy="7596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46162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46926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476892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84488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4921200" y="601992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2" name=""/>
                  <p:cNvSpPr/>
                  <p:nvPr/>
                </p:nvSpPr>
                <p:spPr>
                  <a:xfrm>
                    <a:off x="4574880" y="6219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4880" y="62866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74880" y="63500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5" name=""/>
              <p:cNvGrpSpPr/>
              <p:nvPr/>
            </p:nvGrpSpPr>
            <p:grpSpPr>
              <a:xfrm>
                <a:off x="6095880" y="4876920"/>
                <a:ext cx="304560" cy="457200"/>
                <a:chOff x="6095880" y="4876920"/>
                <a:chExt cx="304560" cy="457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095880" y="48769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095880" y="51055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17184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248160" y="51818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30" name=""/>
              <p:cNvCxnSpPr>
                <a:stCxn id="1127" idx="2"/>
                <a:endCxn id="1078" idx="0"/>
              </p:cNvCxnSpPr>
              <p:nvPr/>
            </p:nvCxnSpPr>
            <p:spPr>
              <a:xfrm rot="5400000">
                <a:off x="4457160" y="4152600"/>
                <a:ext cx="610200" cy="29725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</p:grpSp>
      </p:grpSp>
      <p:grpSp>
        <p:nvGrpSpPr>
          <p:cNvPr id="1131" name=""/>
          <p:cNvGrpSpPr/>
          <p:nvPr/>
        </p:nvGrpSpPr>
        <p:grpSpPr>
          <a:xfrm>
            <a:off x="6781680" y="1905120"/>
            <a:ext cx="1865520" cy="1447560"/>
            <a:chOff x="6781680" y="1905120"/>
            <a:chExt cx="1865520" cy="1447560"/>
          </a:xfrm>
        </p:grpSpPr>
        <p:sp>
          <p:nvSpPr>
            <p:cNvPr id="1132" name=""/>
            <p:cNvSpPr/>
            <p:nvPr/>
          </p:nvSpPr>
          <p:spPr>
            <a:xfrm>
              <a:off x="6781680" y="1905120"/>
              <a:ext cx="0" cy="1447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58000" y="190512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cal bu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781680" y="3886200"/>
            <a:ext cx="1941480" cy="2514600"/>
            <a:chOff x="6781680" y="3886200"/>
            <a:chExt cx="1941480" cy="2514600"/>
          </a:xfrm>
        </p:grpSpPr>
        <p:sp>
          <p:nvSpPr>
            <p:cNvPr id="1135" name=""/>
            <p:cNvSpPr/>
            <p:nvPr/>
          </p:nvSpPr>
          <p:spPr>
            <a:xfrm>
              <a:off x="6781680" y="3886200"/>
              <a:ext cx="0" cy="2514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34320" y="3886200"/>
              <a:ext cx="17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mote 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5029200" y="1828800"/>
            <a:ext cx="533520" cy="457200"/>
            <a:chOff x="5029200" y="1828800"/>
            <a:chExt cx="533520" cy="457200"/>
          </a:xfrm>
        </p:grpSpPr>
        <p:grpSp>
          <p:nvGrpSpPr>
            <p:cNvPr id="1138" name=""/>
            <p:cNvGrpSpPr/>
            <p:nvPr/>
          </p:nvGrpSpPr>
          <p:grpSpPr>
            <a:xfrm>
              <a:off x="5029200" y="1828800"/>
              <a:ext cx="533520" cy="457200"/>
              <a:chOff x="5029200" y="1828800"/>
              <a:chExt cx="533520" cy="457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5029200" y="18288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29200" y="205740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5083200" y="186696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5149800" y="1905120"/>
              <a:ext cx="304920" cy="75960"/>
              <a:chOff x="5149800" y="1905120"/>
              <a:chExt cx="304920" cy="75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1498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261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30244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784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547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5108400" y="2104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08400" y="2171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08400" y="2235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5562720" y="1828800"/>
            <a:ext cx="533160" cy="457200"/>
            <a:chOff x="5562720" y="1828800"/>
            <a:chExt cx="533160" cy="457200"/>
          </a:xfrm>
        </p:grpSpPr>
        <p:grpSp>
          <p:nvGrpSpPr>
            <p:cNvPr id="1152" name=""/>
            <p:cNvGrpSpPr/>
            <p:nvPr/>
          </p:nvGrpSpPr>
          <p:grpSpPr>
            <a:xfrm>
              <a:off x="5562720" y="1828800"/>
              <a:ext cx="533160" cy="457200"/>
              <a:chOff x="5562720" y="1828800"/>
              <a:chExt cx="533160" cy="457200"/>
            </a:xfrm>
          </p:grpSpPr>
          <p:sp>
            <p:nvSpPr>
              <p:cNvPr id="1153" name=""/>
              <p:cNvSpPr/>
              <p:nvPr/>
            </p:nvSpPr>
            <p:spPr>
              <a:xfrm>
                <a:off x="5562720" y="182880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562720" y="205740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5" name=""/>
            <p:cNvSpPr/>
            <p:nvPr/>
          </p:nvSpPr>
          <p:spPr>
            <a:xfrm>
              <a:off x="5616360" y="186696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682960" y="1905120"/>
              <a:ext cx="304560" cy="75960"/>
              <a:chOff x="5682960" y="1905120"/>
              <a:chExt cx="304560" cy="75960"/>
            </a:xfrm>
          </p:grpSpPr>
          <p:sp>
            <p:nvSpPr>
              <p:cNvPr id="1157" name=""/>
              <p:cNvSpPr/>
              <p:nvPr/>
            </p:nvSpPr>
            <p:spPr>
              <a:xfrm>
                <a:off x="568296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589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524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112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9875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5641560" y="2104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641560" y="21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41560" y="2235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3429000" y="2819520"/>
            <a:ext cx="533520" cy="457200"/>
            <a:chOff x="3429000" y="2819520"/>
            <a:chExt cx="533520" cy="457200"/>
          </a:xfrm>
        </p:grpSpPr>
        <p:grpSp>
          <p:nvGrpSpPr>
            <p:cNvPr id="1166" name=""/>
            <p:cNvGrpSpPr/>
            <p:nvPr/>
          </p:nvGrpSpPr>
          <p:grpSpPr>
            <a:xfrm>
              <a:off x="3429000" y="2819520"/>
              <a:ext cx="533520" cy="457200"/>
              <a:chOff x="3429000" y="2819520"/>
              <a:chExt cx="533520" cy="457200"/>
            </a:xfrm>
          </p:grpSpPr>
          <p:sp>
            <p:nvSpPr>
              <p:cNvPr id="1167" name=""/>
              <p:cNvSpPr/>
              <p:nvPr/>
            </p:nvSpPr>
            <p:spPr>
              <a:xfrm>
                <a:off x="342900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42900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>
              <a:off x="348300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3549600" y="2895840"/>
              <a:ext cx="304920" cy="75960"/>
              <a:chOff x="3549600" y="2895840"/>
              <a:chExt cx="304920" cy="75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35496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625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7022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778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545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350820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0820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0820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3962520" y="2819520"/>
            <a:ext cx="533160" cy="457200"/>
            <a:chOff x="3962520" y="2819520"/>
            <a:chExt cx="533160" cy="457200"/>
          </a:xfrm>
        </p:grpSpPr>
        <p:grpSp>
          <p:nvGrpSpPr>
            <p:cNvPr id="1180" name=""/>
            <p:cNvGrpSpPr/>
            <p:nvPr/>
          </p:nvGrpSpPr>
          <p:grpSpPr>
            <a:xfrm>
              <a:off x="3962520" y="2819520"/>
              <a:ext cx="533160" cy="457200"/>
              <a:chOff x="3962520" y="2819520"/>
              <a:chExt cx="533160" cy="457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3962520" y="2819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962520" y="3048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4016160" y="2857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4082760" y="2895840"/>
              <a:ext cx="304560" cy="75960"/>
              <a:chOff x="4082760" y="2895840"/>
              <a:chExt cx="304560" cy="75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408276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1587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2350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110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873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4041360" y="309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41360" y="316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41360" y="3225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495680" y="2819520"/>
            <a:ext cx="533520" cy="457200"/>
            <a:chOff x="4495680" y="2819520"/>
            <a:chExt cx="533520" cy="457200"/>
          </a:xfrm>
        </p:grpSpPr>
        <p:grpSp>
          <p:nvGrpSpPr>
            <p:cNvPr id="1194" name=""/>
            <p:cNvGrpSpPr/>
            <p:nvPr/>
          </p:nvGrpSpPr>
          <p:grpSpPr>
            <a:xfrm>
              <a:off x="4495680" y="2819520"/>
              <a:ext cx="533520" cy="457200"/>
              <a:chOff x="4495680" y="2819520"/>
              <a:chExt cx="533520" cy="457200"/>
            </a:xfrm>
          </p:grpSpPr>
          <p:sp>
            <p:nvSpPr>
              <p:cNvPr id="1195" name=""/>
              <p:cNvSpPr/>
              <p:nvPr/>
            </p:nvSpPr>
            <p:spPr>
              <a:xfrm>
                <a:off x="449568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9568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454968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616280" y="2895840"/>
              <a:ext cx="304920" cy="75960"/>
              <a:chOff x="4616280" y="2895840"/>
              <a:chExt cx="304920" cy="75960"/>
            </a:xfrm>
          </p:grpSpPr>
          <p:sp>
            <p:nvSpPr>
              <p:cNvPr id="1199" name=""/>
              <p:cNvSpPr/>
              <p:nvPr/>
            </p:nvSpPr>
            <p:spPr>
              <a:xfrm>
                <a:off x="461628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6926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768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488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921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457488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57488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57488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029200" y="2819520"/>
            <a:ext cx="533520" cy="457200"/>
            <a:chOff x="5029200" y="2819520"/>
            <a:chExt cx="533520" cy="457200"/>
          </a:xfrm>
        </p:grpSpPr>
        <p:grpSp>
          <p:nvGrpSpPr>
            <p:cNvPr id="1208" name=""/>
            <p:cNvGrpSpPr/>
            <p:nvPr/>
          </p:nvGrpSpPr>
          <p:grpSpPr>
            <a:xfrm>
              <a:off x="5029200" y="2819520"/>
              <a:ext cx="533520" cy="457200"/>
              <a:chOff x="5029200" y="2819520"/>
              <a:chExt cx="53352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5029200" y="28195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029200" y="3048120"/>
                <a:ext cx="53352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>
              <a:off x="5083200" y="2857680"/>
              <a:ext cx="4287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5149800" y="2895840"/>
              <a:ext cx="304920" cy="75960"/>
              <a:chOff x="5149800" y="2895840"/>
              <a:chExt cx="304920" cy="75960"/>
            </a:xfrm>
          </p:grpSpPr>
          <p:sp>
            <p:nvSpPr>
              <p:cNvPr id="1213" name=""/>
              <p:cNvSpPr/>
              <p:nvPr/>
            </p:nvSpPr>
            <p:spPr>
              <a:xfrm>
                <a:off x="51498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2261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3024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3784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4547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5108400" y="3095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08400" y="3162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08400" y="3225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562720" y="2819520"/>
            <a:ext cx="533160" cy="457200"/>
            <a:chOff x="5562720" y="2819520"/>
            <a:chExt cx="533160" cy="457200"/>
          </a:xfrm>
        </p:grpSpPr>
        <p:grpSp>
          <p:nvGrpSpPr>
            <p:cNvPr id="1222" name=""/>
            <p:cNvGrpSpPr/>
            <p:nvPr/>
          </p:nvGrpSpPr>
          <p:grpSpPr>
            <a:xfrm>
              <a:off x="5562720" y="2819520"/>
              <a:ext cx="533160" cy="457200"/>
              <a:chOff x="5562720" y="2819520"/>
              <a:chExt cx="533160" cy="457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5562720" y="28195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62720" y="3048120"/>
                <a:ext cx="533160" cy="22860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5616360" y="2857680"/>
              <a:ext cx="4284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5682960" y="2895840"/>
              <a:ext cx="304560" cy="75960"/>
              <a:chOff x="5682960" y="2895840"/>
              <a:chExt cx="304560" cy="75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568296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7589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3524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1120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987520" y="28958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5641560" y="309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41560" y="316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41560" y="3225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8600" y="1232640"/>
            <a:ext cx="3199680" cy="1053360"/>
            <a:chOff x="228600" y="1232640"/>
            <a:chExt cx="3199680" cy="1053360"/>
          </a:xfrm>
        </p:grpSpPr>
        <p:grpSp>
          <p:nvGrpSpPr>
            <p:cNvPr id="1236" name=""/>
            <p:cNvGrpSpPr/>
            <p:nvPr/>
          </p:nvGrpSpPr>
          <p:grpSpPr>
            <a:xfrm>
              <a:off x="2863800" y="1828800"/>
              <a:ext cx="564480" cy="457200"/>
              <a:chOff x="2863800" y="1828800"/>
              <a:chExt cx="564480" cy="45720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2863800" y="1828800"/>
                <a:ext cx="564480" cy="457200"/>
                <a:chOff x="2863800" y="1828800"/>
                <a:chExt cx="564480" cy="4572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2863800" y="18288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863800" y="20574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294444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920680" y="1866960"/>
                <a:ext cx="4539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8672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25440" y="1905120"/>
                <a:ext cx="161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228600" y="1232640"/>
              <a:ext cx="1523880" cy="29628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52280" y="2286000"/>
            <a:ext cx="5943600" cy="2535120"/>
            <a:chOff x="152280" y="2286000"/>
            <a:chExt cx="5943600" cy="2535120"/>
          </a:xfrm>
        </p:grpSpPr>
        <p:sp>
          <p:nvSpPr>
            <p:cNvPr id="1246" name=""/>
            <p:cNvSpPr/>
            <p:nvPr/>
          </p:nvSpPr>
          <p:spPr>
            <a:xfrm>
              <a:off x="2971800" y="2286000"/>
              <a:ext cx="0" cy="167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4495680" y="3886200"/>
              <a:ext cx="1067040" cy="457200"/>
              <a:chOff x="4495680" y="3886200"/>
              <a:chExt cx="1067040" cy="457200"/>
            </a:xfrm>
          </p:grpSpPr>
          <p:grpSp>
            <p:nvGrpSpPr>
              <p:cNvPr id="1248" name=""/>
              <p:cNvGrpSpPr/>
              <p:nvPr/>
            </p:nvGrpSpPr>
            <p:grpSpPr>
              <a:xfrm>
                <a:off x="4495680" y="3886200"/>
                <a:ext cx="533520" cy="457200"/>
                <a:chOff x="4495680" y="3886200"/>
                <a:chExt cx="533520" cy="45720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4495680" y="3886200"/>
                  <a:ext cx="533520" cy="457200"/>
                  <a:chOff x="4495680" y="3886200"/>
                  <a:chExt cx="533520" cy="45720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449568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49568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2" name=""/>
                <p:cNvSpPr/>
                <p:nvPr/>
              </p:nvSpPr>
              <p:spPr>
                <a:xfrm>
                  <a:off x="454968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3" name=""/>
                <p:cNvGrpSpPr/>
                <p:nvPr/>
              </p:nvGrpSpPr>
              <p:grpSpPr>
                <a:xfrm>
                  <a:off x="4616280" y="3962520"/>
                  <a:ext cx="304920" cy="75960"/>
                  <a:chOff x="4616280" y="3962520"/>
                  <a:chExt cx="304920" cy="7596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6162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926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7689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8448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921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"/>
                <p:cNvSpPr/>
                <p:nvPr/>
              </p:nvSpPr>
              <p:spPr>
                <a:xfrm>
                  <a:off x="457488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57488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57488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5029200" y="3886200"/>
                <a:ext cx="533520" cy="457200"/>
                <a:chOff x="5029200" y="3886200"/>
                <a:chExt cx="533520" cy="457200"/>
              </a:xfrm>
            </p:grpSpPr>
            <p:grpSp>
              <p:nvGrpSpPr>
                <p:cNvPr id="1263" name=""/>
                <p:cNvGrpSpPr/>
                <p:nvPr/>
              </p:nvGrpSpPr>
              <p:grpSpPr>
                <a:xfrm>
                  <a:off x="5029200" y="3886200"/>
                  <a:ext cx="533520" cy="457200"/>
                  <a:chOff x="5029200" y="3886200"/>
                  <a:chExt cx="533520" cy="45720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>
                    <a:off x="502920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502920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6" name=""/>
                <p:cNvSpPr/>
                <p:nvPr/>
              </p:nvSpPr>
              <p:spPr>
                <a:xfrm>
                  <a:off x="508320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7" name=""/>
                <p:cNvGrpSpPr/>
                <p:nvPr/>
              </p:nvGrpSpPr>
              <p:grpSpPr>
                <a:xfrm>
                  <a:off x="5149800" y="3962520"/>
                  <a:ext cx="304920" cy="75960"/>
                  <a:chOff x="5149800" y="3962520"/>
                  <a:chExt cx="304920" cy="759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149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261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3024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53784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4547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3" name=""/>
                <p:cNvSpPr/>
                <p:nvPr/>
              </p:nvSpPr>
              <p:spPr>
                <a:xfrm>
                  <a:off x="510840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0840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0840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4495680" y="3886200"/>
                <a:ext cx="533520" cy="457200"/>
                <a:chOff x="4495680" y="3886200"/>
                <a:chExt cx="533520" cy="457200"/>
              </a:xfrm>
            </p:grpSpPr>
            <p:grpSp>
              <p:nvGrpSpPr>
                <p:cNvPr id="1277" name=""/>
                <p:cNvGrpSpPr/>
                <p:nvPr/>
              </p:nvGrpSpPr>
              <p:grpSpPr>
                <a:xfrm>
                  <a:off x="4495680" y="3886200"/>
                  <a:ext cx="533520" cy="457200"/>
                  <a:chOff x="4495680" y="3886200"/>
                  <a:chExt cx="533520" cy="457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4495680" y="38862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495680" y="4114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" name=""/>
                <p:cNvSpPr/>
                <p:nvPr/>
              </p:nvSpPr>
              <p:spPr>
                <a:xfrm>
                  <a:off x="4549680" y="39243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1" name=""/>
                <p:cNvGrpSpPr/>
                <p:nvPr/>
              </p:nvGrpSpPr>
              <p:grpSpPr>
                <a:xfrm>
                  <a:off x="4616280" y="3962520"/>
                  <a:ext cx="304920" cy="75960"/>
                  <a:chOff x="4616280" y="3962520"/>
                  <a:chExt cx="304920" cy="759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46162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46926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7689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48448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4921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7" name=""/>
                <p:cNvSpPr/>
                <p:nvPr/>
              </p:nvSpPr>
              <p:spPr>
                <a:xfrm>
                  <a:off x="4574880" y="4162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574880" y="4229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574880" y="42926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0" name=""/>
            <p:cNvGrpSpPr/>
            <p:nvPr/>
          </p:nvGrpSpPr>
          <p:grpSpPr>
            <a:xfrm>
              <a:off x="2895480" y="3886200"/>
              <a:ext cx="533160" cy="457200"/>
              <a:chOff x="2895480" y="3886200"/>
              <a:chExt cx="533160" cy="45720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2895480" y="3886200"/>
                <a:ext cx="533160" cy="457200"/>
                <a:chOff x="2895480" y="3886200"/>
                <a:chExt cx="533160" cy="4572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895480" y="3886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895480" y="4114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6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" name=""/>
              <p:cNvSpPr/>
              <p:nvPr/>
            </p:nvSpPr>
            <p:spPr>
              <a:xfrm>
                <a:off x="297144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49480" y="3924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12408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3429000" y="3886200"/>
              <a:ext cx="1066320" cy="457200"/>
              <a:chOff x="3429000" y="3886200"/>
              <a:chExt cx="1066320" cy="45720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3429000" y="3886200"/>
                <a:ext cx="533160" cy="457200"/>
                <a:chOff x="3429000" y="3886200"/>
                <a:chExt cx="533160" cy="4572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3429000" y="3886200"/>
                  <a:ext cx="533160" cy="457200"/>
                  <a:chOff x="3429000" y="3886200"/>
                  <a:chExt cx="533160" cy="4572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342900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342900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>
                  <a:off x="348264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549240" y="3962520"/>
                  <a:ext cx="304560" cy="75960"/>
                  <a:chOff x="3549240" y="3962520"/>
                  <a:chExt cx="304560" cy="759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5492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625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7015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37774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3853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9" name=""/>
                <p:cNvSpPr/>
                <p:nvPr/>
              </p:nvSpPr>
              <p:spPr>
                <a:xfrm>
                  <a:off x="350784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50784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50784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3962160" y="3886200"/>
                <a:ext cx="533160" cy="457200"/>
                <a:chOff x="3962160" y="3886200"/>
                <a:chExt cx="533160" cy="45720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3962160" y="3886200"/>
                  <a:ext cx="533160" cy="457200"/>
                  <a:chOff x="3962160" y="3886200"/>
                  <a:chExt cx="533160" cy="45720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396216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396216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6" name=""/>
                <p:cNvSpPr/>
                <p:nvPr/>
              </p:nvSpPr>
              <p:spPr>
                <a:xfrm>
                  <a:off x="401580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7" name=""/>
                <p:cNvGrpSpPr/>
                <p:nvPr/>
              </p:nvGrpSpPr>
              <p:grpSpPr>
                <a:xfrm>
                  <a:off x="4082400" y="3962520"/>
                  <a:ext cx="304560" cy="75960"/>
                  <a:chOff x="4082400" y="3962520"/>
                  <a:chExt cx="304560" cy="7596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>
                    <a:off x="40824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415836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42346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43106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38696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3" name=""/>
                <p:cNvSpPr/>
                <p:nvPr/>
              </p:nvSpPr>
              <p:spPr>
                <a:xfrm>
                  <a:off x="404100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04100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04100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3429000" y="3886200"/>
                <a:ext cx="533160" cy="457200"/>
                <a:chOff x="3429000" y="3886200"/>
                <a:chExt cx="533160" cy="4572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429000" y="3886200"/>
                  <a:ext cx="533160" cy="457200"/>
                  <a:chOff x="3429000" y="3886200"/>
                  <a:chExt cx="533160" cy="45720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429000" y="38862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3429000" y="4114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3482640" y="39243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3549240" y="3962520"/>
                  <a:ext cx="304560" cy="75960"/>
                  <a:chOff x="3549240" y="3962520"/>
                  <a:chExt cx="304560" cy="7596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354924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36252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370152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377748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3853800" y="39625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3507840" y="41623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507840" y="4229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507840" y="4292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>
              <a:off x="152280" y="4250520"/>
              <a:ext cx="1600200" cy="570600"/>
            </a:xfrm>
            <a:noFill/>
            <a:ln w="1260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10800" bIns="1080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ield bus hea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5562720" y="3886200"/>
              <a:ext cx="533160" cy="457200"/>
              <a:chOff x="5562720" y="3886200"/>
              <a:chExt cx="533160" cy="457200"/>
            </a:xfrm>
          </p:grpSpPr>
          <p:grpSp>
            <p:nvGrpSpPr>
              <p:cNvPr id="1342" name=""/>
              <p:cNvGrpSpPr/>
              <p:nvPr/>
            </p:nvGrpSpPr>
            <p:grpSpPr>
              <a:xfrm>
                <a:off x="5562720" y="3886200"/>
                <a:ext cx="533160" cy="457200"/>
                <a:chOff x="5562720" y="3886200"/>
                <a:chExt cx="533160" cy="45720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5562720" y="38862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562720" y="4114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91919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"/>
              <p:cNvSpPr/>
              <p:nvPr/>
            </p:nvSpPr>
            <p:spPr>
              <a:xfrm>
                <a:off x="5616360" y="39243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5682960" y="3962520"/>
                <a:ext cx="304560" cy="75960"/>
                <a:chOff x="5682960" y="3962520"/>
                <a:chExt cx="304560" cy="7596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68296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75892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83524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91120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987520" y="3962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41560" y="4162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41560" y="4229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641560" y="4292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17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Bus Capacities </a:t>
            </a:r>
            <a:endParaRPr b="0" lang="en-US" sz="44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676520" y="1828800"/>
            <a:ext cx="6400800" cy="457200"/>
            <a:chOff x="1676520" y="1828800"/>
            <a:chExt cx="6400800" cy="457200"/>
          </a:xfrm>
        </p:grpSpPr>
        <p:grpSp>
          <p:nvGrpSpPr>
            <p:cNvPr id="1357" name=""/>
            <p:cNvGrpSpPr/>
            <p:nvPr/>
          </p:nvGrpSpPr>
          <p:grpSpPr>
            <a:xfrm>
              <a:off x="1676520" y="1828800"/>
              <a:ext cx="533160" cy="457200"/>
              <a:chOff x="1676520" y="1828800"/>
              <a:chExt cx="533160" cy="45720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1676520" y="1828800"/>
                <a:ext cx="533160" cy="457200"/>
                <a:chOff x="1676520" y="1828800"/>
                <a:chExt cx="533160" cy="4572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676520" y="18288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76520" y="2057400"/>
                  <a:ext cx="5331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a8a8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1752480" y="2133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730160" y="1866960"/>
                <a:ext cx="4284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2743200" y="1828800"/>
              <a:ext cx="1066320" cy="457200"/>
              <a:chOff x="2743200" y="1828800"/>
              <a:chExt cx="1066320" cy="45720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2743200" y="1828800"/>
                <a:ext cx="533160" cy="457200"/>
                <a:chOff x="2743200" y="1828800"/>
                <a:chExt cx="533160" cy="457200"/>
              </a:xfrm>
            </p:grpSpPr>
            <p:grpSp>
              <p:nvGrpSpPr>
                <p:cNvPr id="1365" name=""/>
                <p:cNvGrpSpPr/>
                <p:nvPr/>
              </p:nvGrpSpPr>
              <p:grpSpPr>
                <a:xfrm>
                  <a:off x="2743200" y="1828800"/>
                  <a:ext cx="533160" cy="457200"/>
                  <a:chOff x="2743200" y="1828800"/>
                  <a:chExt cx="533160" cy="45720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>
                    <a:off x="27432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27432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8" name=""/>
                <p:cNvSpPr/>
                <p:nvPr/>
              </p:nvSpPr>
              <p:spPr>
                <a:xfrm>
                  <a:off x="27968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2863440" y="1905120"/>
                  <a:ext cx="304560" cy="75960"/>
                  <a:chOff x="2863440" y="1905120"/>
                  <a:chExt cx="304560" cy="7596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2863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2939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3015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3091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3168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5" name=""/>
                <p:cNvSpPr/>
                <p:nvPr/>
              </p:nvSpPr>
              <p:spPr>
                <a:xfrm>
                  <a:off x="28220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8220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8220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3276360" y="1828800"/>
                <a:ext cx="533160" cy="457200"/>
                <a:chOff x="3276360" y="1828800"/>
                <a:chExt cx="533160" cy="457200"/>
              </a:xfrm>
            </p:grpSpPr>
            <p:grpSp>
              <p:nvGrpSpPr>
                <p:cNvPr id="1379" name=""/>
                <p:cNvGrpSpPr/>
                <p:nvPr/>
              </p:nvGrpSpPr>
              <p:grpSpPr>
                <a:xfrm>
                  <a:off x="3276360" y="1828800"/>
                  <a:ext cx="533160" cy="457200"/>
                  <a:chOff x="3276360" y="1828800"/>
                  <a:chExt cx="533160" cy="4572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32763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2763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2" name=""/>
                <p:cNvSpPr/>
                <p:nvPr/>
              </p:nvSpPr>
              <p:spPr>
                <a:xfrm>
                  <a:off x="33300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3" name=""/>
                <p:cNvGrpSpPr/>
                <p:nvPr/>
              </p:nvGrpSpPr>
              <p:grpSpPr>
                <a:xfrm>
                  <a:off x="3396600" y="1905120"/>
                  <a:ext cx="304560" cy="75960"/>
                  <a:chOff x="3396600" y="1905120"/>
                  <a:chExt cx="304560" cy="7596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3396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3472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548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3624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3701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9" name=""/>
                <p:cNvSpPr/>
                <p:nvPr/>
              </p:nvSpPr>
              <p:spPr>
                <a:xfrm>
                  <a:off x="33552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3552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3552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2743200" y="1828800"/>
                <a:ext cx="533160" cy="457200"/>
                <a:chOff x="2743200" y="1828800"/>
                <a:chExt cx="533160" cy="457200"/>
              </a:xfrm>
            </p:grpSpPr>
            <p:grpSp>
              <p:nvGrpSpPr>
                <p:cNvPr id="1393" name=""/>
                <p:cNvGrpSpPr/>
                <p:nvPr/>
              </p:nvGrpSpPr>
              <p:grpSpPr>
                <a:xfrm>
                  <a:off x="2743200" y="1828800"/>
                  <a:ext cx="533160" cy="457200"/>
                  <a:chOff x="2743200" y="1828800"/>
                  <a:chExt cx="533160" cy="4572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27432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27432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6" name=""/>
                <p:cNvSpPr/>
                <p:nvPr/>
              </p:nvSpPr>
              <p:spPr>
                <a:xfrm>
                  <a:off x="27968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2863440" y="1905120"/>
                  <a:ext cx="304560" cy="75960"/>
                  <a:chOff x="2863440" y="1905120"/>
                  <a:chExt cx="304560" cy="7596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2863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2939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3015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30916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3168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3" name=""/>
                <p:cNvSpPr/>
                <p:nvPr/>
              </p:nvSpPr>
              <p:spPr>
                <a:xfrm>
                  <a:off x="28220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8220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8220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6" name=""/>
            <p:cNvGrpSpPr/>
            <p:nvPr/>
          </p:nvGrpSpPr>
          <p:grpSpPr>
            <a:xfrm>
              <a:off x="2209680" y="1828800"/>
              <a:ext cx="564480" cy="457200"/>
              <a:chOff x="2209680" y="1828800"/>
              <a:chExt cx="564480" cy="45720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2209680" y="1828800"/>
                <a:ext cx="564480" cy="457200"/>
                <a:chOff x="2209680" y="1828800"/>
                <a:chExt cx="564480" cy="4572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2209680" y="18288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209680" y="2057400"/>
                  <a:ext cx="56448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39ac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0" name=""/>
              <p:cNvSpPr/>
              <p:nvPr/>
            </p:nvSpPr>
            <p:spPr>
              <a:xfrm>
                <a:off x="229032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66560" y="1866960"/>
                <a:ext cx="4539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32600" y="2133720"/>
                <a:ext cx="161280" cy="759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371320" y="1905120"/>
                <a:ext cx="161280" cy="7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809880" y="1828800"/>
              <a:ext cx="1067040" cy="457200"/>
              <a:chOff x="3809880" y="1828800"/>
              <a:chExt cx="1067040" cy="457200"/>
            </a:xfrm>
          </p:grpSpPr>
          <p:grpSp>
            <p:nvGrpSpPr>
              <p:cNvPr id="1415" name=""/>
              <p:cNvGrpSpPr/>
              <p:nvPr/>
            </p:nvGrpSpPr>
            <p:grpSpPr>
              <a:xfrm>
                <a:off x="3809880" y="1828800"/>
                <a:ext cx="533520" cy="457200"/>
                <a:chOff x="3809880" y="1828800"/>
                <a:chExt cx="533520" cy="457200"/>
              </a:xfrm>
            </p:grpSpPr>
            <p:grpSp>
              <p:nvGrpSpPr>
                <p:cNvPr id="1416" name=""/>
                <p:cNvGrpSpPr/>
                <p:nvPr/>
              </p:nvGrpSpPr>
              <p:grpSpPr>
                <a:xfrm>
                  <a:off x="3809880" y="1828800"/>
                  <a:ext cx="533520" cy="457200"/>
                  <a:chOff x="3809880" y="1828800"/>
                  <a:chExt cx="533520" cy="45720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>
                    <a:off x="38098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8098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9" name=""/>
                <p:cNvSpPr/>
                <p:nvPr/>
              </p:nvSpPr>
              <p:spPr>
                <a:xfrm>
                  <a:off x="38638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0" name=""/>
                <p:cNvGrpSpPr/>
                <p:nvPr/>
              </p:nvGrpSpPr>
              <p:grpSpPr>
                <a:xfrm>
                  <a:off x="3930480" y="1905120"/>
                  <a:ext cx="304920" cy="75960"/>
                  <a:chOff x="3930480" y="1905120"/>
                  <a:chExt cx="304920" cy="7596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3930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4006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08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4159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23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"/>
                <p:cNvSpPr/>
                <p:nvPr/>
              </p:nvSpPr>
              <p:spPr>
                <a:xfrm>
                  <a:off x="38890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8890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8890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4343400" y="1828800"/>
                <a:ext cx="533520" cy="457200"/>
                <a:chOff x="4343400" y="1828800"/>
                <a:chExt cx="533520" cy="45720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4343400" y="1828800"/>
                  <a:ext cx="533520" cy="457200"/>
                  <a:chOff x="4343400" y="1828800"/>
                  <a:chExt cx="533520" cy="45720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434340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34340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3" name=""/>
                <p:cNvSpPr/>
                <p:nvPr/>
              </p:nvSpPr>
              <p:spPr>
                <a:xfrm>
                  <a:off x="439740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4" name=""/>
                <p:cNvGrpSpPr/>
                <p:nvPr/>
              </p:nvGrpSpPr>
              <p:grpSpPr>
                <a:xfrm>
                  <a:off x="4464000" y="1905120"/>
                  <a:ext cx="304920" cy="75960"/>
                  <a:chOff x="4464000" y="1905120"/>
                  <a:chExt cx="304920" cy="7596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4464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540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6166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692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7689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0" name=""/>
                <p:cNvSpPr/>
                <p:nvPr/>
              </p:nvSpPr>
              <p:spPr>
                <a:xfrm>
                  <a:off x="442260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42260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42260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809880" y="1828800"/>
                <a:ext cx="533520" cy="457200"/>
                <a:chOff x="3809880" y="1828800"/>
                <a:chExt cx="533520" cy="457200"/>
              </a:xfrm>
            </p:grpSpPr>
            <p:grpSp>
              <p:nvGrpSpPr>
                <p:cNvPr id="1444" name=""/>
                <p:cNvGrpSpPr/>
                <p:nvPr/>
              </p:nvGrpSpPr>
              <p:grpSpPr>
                <a:xfrm>
                  <a:off x="3809880" y="1828800"/>
                  <a:ext cx="533520" cy="457200"/>
                  <a:chOff x="3809880" y="1828800"/>
                  <a:chExt cx="533520" cy="45720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38098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38098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7" name=""/>
                <p:cNvSpPr/>
                <p:nvPr/>
              </p:nvSpPr>
              <p:spPr>
                <a:xfrm>
                  <a:off x="38638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3930480" y="1905120"/>
                  <a:ext cx="304920" cy="75960"/>
                  <a:chOff x="3930480" y="1905120"/>
                  <a:chExt cx="304920" cy="7596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3930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006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08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159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23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38890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38890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8890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876920" y="1828800"/>
              <a:ext cx="1066320" cy="457200"/>
              <a:chOff x="4876920" y="1828800"/>
              <a:chExt cx="1066320" cy="45720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4876920" y="1828800"/>
                <a:ext cx="533160" cy="457200"/>
                <a:chOff x="4876920" y="1828800"/>
                <a:chExt cx="533160" cy="457200"/>
              </a:xfrm>
            </p:grpSpPr>
            <p:grpSp>
              <p:nvGrpSpPr>
                <p:cNvPr id="1459" name=""/>
                <p:cNvGrpSpPr/>
                <p:nvPr/>
              </p:nvGrpSpPr>
              <p:grpSpPr>
                <a:xfrm>
                  <a:off x="4876920" y="1828800"/>
                  <a:ext cx="533160" cy="457200"/>
                  <a:chOff x="4876920" y="1828800"/>
                  <a:chExt cx="533160" cy="45720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487692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487692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2" name=""/>
                <p:cNvSpPr/>
                <p:nvPr/>
              </p:nvSpPr>
              <p:spPr>
                <a:xfrm>
                  <a:off x="493056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4997160" y="1905120"/>
                  <a:ext cx="304560" cy="75960"/>
                  <a:chOff x="4997160" y="1905120"/>
                  <a:chExt cx="304560" cy="7596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4997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507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5149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22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5301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9" name=""/>
                <p:cNvSpPr/>
                <p:nvPr/>
              </p:nvSpPr>
              <p:spPr>
                <a:xfrm>
                  <a:off x="495576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95576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95576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5410080" y="1828800"/>
                <a:ext cx="533160" cy="457200"/>
                <a:chOff x="5410080" y="1828800"/>
                <a:chExt cx="533160" cy="457200"/>
              </a:xfrm>
            </p:grpSpPr>
            <p:grpSp>
              <p:nvGrpSpPr>
                <p:cNvPr id="1473" name=""/>
                <p:cNvGrpSpPr/>
                <p:nvPr/>
              </p:nvGrpSpPr>
              <p:grpSpPr>
                <a:xfrm>
                  <a:off x="5410080" y="1828800"/>
                  <a:ext cx="533160" cy="457200"/>
                  <a:chOff x="5410080" y="1828800"/>
                  <a:chExt cx="533160" cy="45720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541008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541008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6" name=""/>
                <p:cNvSpPr/>
                <p:nvPr/>
              </p:nvSpPr>
              <p:spPr>
                <a:xfrm>
                  <a:off x="546372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5530320" y="1905120"/>
                  <a:ext cx="304560" cy="75960"/>
                  <a:chOff x="5530320" y="1905120"/>
                  <a:chExt cx="304560" cy="7596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5530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56062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6826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5758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5834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3" name=""/>
                <p:cNvSpPr/>
                <p:nvPr/>
              </p:nvSpPr>
              <p:spPr>
                <a:xfrm>
                  <a:off x="548892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48892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48892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4876920" y="1828800"/>
                <a:ext cx="533160" cy="457200"/>
                <a:chOff x="4876920" y="1828800"/>
                <a:chExt cx="533160" cy="457200"/>
              </a:xfrm>
            </p:grpSpPr>
            <p:grpSp>
              <p:nvGrpSpPr>
                <p:cNvPr id="1487" name=""/>
                <p:cNvGrpSpPr/>
                <p:nvPr/>
              </p:nvGrpSpPr>
              <p:grpSpPr>
                <a:xfrm>
                  <a:off x="4876920" y="1828800"/>
                  <a:ext cx="533160" cy="457200"/>
                  <a:chOff x="4876920" y="1828800"/>
                  <a:chExt cx="533160" cy="4572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487692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487692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"/>
                <p:cNvSpPr/>
                <p:nvPr/>
              </p:nvSpPr>
              <p:spPr>
                <a:xfrm>
                  <a:off x="493056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4997160" y="1905120"/>
                  <a:ext cx="304560" cy="75960"/>
                  <a:chOff x="4997160" y="1905120"/>
                  <a:chExt cx="304560" cy="7596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49971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5073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51494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5225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5301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7" name=""/>
                <p:cNvSpPr/>
                <p:nvPr/>
              </p:nvSpPr>
              <p:spPr>
                <a:xfrm>
                  <a:off x="495576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95576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95576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0" name=""/>
            <p:cNvGrpSpPr/>
            <p:nvPr/>
          </p:nvGrpSpPr>
          <p:grpSpPr>
            <a:xfrm>
              <a:off x="5943600" y="1828800"/>
              <a:ext cx="1066320" cy="457200"/>
              <a:chOff x="5943600" y="1828800"/>
              <a:chExt cx="1066320" cy="45720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5943600" y="1828800"/>
                <a:ext cx="533160" cy="457200"/>
                <a:chOff x="5943600" y="1828800"/>
                <a:chExt cx="533160" cy="457200"/>
              </a:xfrm>
            </p:grpSpPr>
            <p:grpSp>
              <p:nvGrpSpPr>
                <p:cNvPr id="1502" name=""/>
                <p:cNvGrpSpPr/>
                <p:nvPr/>
              </p:nvGrpSpPr>
              <p:grpSpPr>
                <a:xfrm>
                  <a:off x="5943600" y="1828800"/>
                  <a:ext cx="533160" cy="457200"/>
                  <a:chOff x="5943600" y="1828800"/>
                  <a:chExt cx="533160" cy="45720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59436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59436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5" name=""/>
                <p:cNvSpPr/>
                <p:nvPr/>
              </p:nvSpPr>
              <p:spPr>
                <a:xfrm>
                  <a:off x="59972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6" name=""/>
                <p:cNvGrpSpPr/>
                <p:nvPr/>
              </p:nvGrpSpPr>
              <p:grpSpPr>
                <a:xfrm>
                  <a:off x="6063840" y="1905120"/>
                  <a:ext cx="304560" cy="75960"/>
                  <a:chOff x="6063840" y="1905120"/>
                  <a:chExt cx="304560" cy="759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6063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139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216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292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6368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2" name=""/>
                <p:cNvSpPr/>
                <p:nvPr/>
              </p:nvSpPr>
              <p:spPr>
                <a:xfrm>
                  <a:off x="60224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0224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0224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6476760" y="1828800"/>
                <a:ext cx="533160" cy="457200"/>
                <a:chOff x="6476760" y="1828800"/>
                <a:chExt cx="533160" cy="457200"/>
              </a:xfrm>
            </p:grpSpPr>
            <p:grpSp>
              <p:nvGrpSpPr>
                <p:cNvPr id="1516" name=""/>
                <p:cNvGrpSpPr/>
                <p:nvPr/>
              </p:nvGrpSpPr>
              <p:grpSpPr>
                <a:xfrm>
                  <a:off x="6476760" y="1828800"/>
                  <a:ext cx="533160" cy="457200"/>
                  <a:chOff x="6476760" y="1828800"/>
                  <a:chExt cx="533160" cy="45720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47676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47676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9" name=""/>
                <p:cNvSpPr/>
                <p:nvPr/>
              </p:nvSpPr>
              <p:spPr>
                <a:xfrm>
                  <a:off x="653040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6597000" y="1905120"/>
                  <a:ext cx="304560" cy="75960"/>
                  <a:chOff x="6597000" y="1905120"/>
                  <a:chExt cx="304560" cy="759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6597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66729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67492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68252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90156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6" name=""/>
                <p:cNvSpPr/>
                <p:nvPr/>
              </p:nvSpPr>
              <p:spPr>
                <a:xfrm>
                  <a:off x="655560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55560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55560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5943600" y="1828800"/>
                <a:ext cx="533160" cy="457200"/>
                <a:chOff x="5943600" y="1828800"/>
                <a:chExt cx="533160" cy="457200"/>
              </a:xfrm>
            </p:grpSpPr>
            <p:grpSp>
              <p:nvGrpSpPr>
                <p:cNvPr id="1530" name=""/>
                <p:cNvGrpSpPr/>
                <p:nvPr/>
              </p:nvGrpSpPr>
              <p:grpSpPr>
                <a:xfrm>
                  <a:off x="5943600" y="1828800"/>
                  <a:ext cx="533160" cy="457200"/>
                  <a:chOff x="5943600" y="1828800"/>
                  <a:chExt cx="533160" cy="45720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>
                    <a:off x="5943600" y="18288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943600" y="2057400"/>
                    <a:ext cx="53316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3" name=""/>
                <p:cNvSpPr/>
                <p:nvPr/>
              </p:nvSpPr>
              <p:spPr>
                <a:xfrm>
                  <a:off x="5997240" y="1866960"/>
                  <a:ext cx="42840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4" name=""/>
                <p:cNvGrpSpPr/>
                <p:nvPr/>
              </p:nvGrpSpPr>
              <p:grpSpPr>
                <a:xfrm>
                  <a:off x="6063840" y="1905120"/>
                  <a:ext cx="304560" cy="75960"/>
                  <a:chOff x="6063840" y="1905120"/>
                  <a:chExt cx="304560" cy="759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60638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6139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62161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62920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368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0" name=""/>
                <p:cNvSpPr/>
                <p:nvPr/>
              </p:nvSpPr>
              <p:spPr>
                <a:xfrm>
                  <a:off x="6022440" y="2104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022440" y="21718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022440" y="2235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3" name=""/>
            <p:cNvGrpSpPr/>
            <p:nvPr/>
          </p:nvGrpSpPr>
          <p:grpSpPr>
            <a:xfrm>
              <a:off x="7010280" y="1828800"/>
              <a:ext cx="1067040" cy="457200"/>
              <a:chOff x="7010280" y="1828800"/>
              <a:chExt cx="1067040" cy="45720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7010280" y="1828800"/>
                <a:ext cx="533520" cy="457200"/>
                <a:chOff x="7010280" y="1828800"/>
                <a:chExt cx="533520" cy="457200"/>
              </a:xfrm>
            </p:grpSpPr>
            <p:grpSp>
              <p:nvGrpSpPr>
                <p:cNvPr id="1545" name=""/>
                <p:cNvGrpSpPr/>
                <p:nvPr/>
              </p:nvGrpSpPr>
              <p:grpSpPr>
                <a:xfrm>
                  <a:off x="7010280" y="1828800"/>
                  <a:ext cx="533520" cy="457200"/>
                  <a:chOff x="7010280" y="1828800"/>
                  <a:chExt cx="533520" cy="45720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70102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70102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>
                  <a:off x="70642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9" name=""/>
                <p:cNvGrpSpPr/>
                <p:nvPr/>
              </p:nvGrpSpPr>
              <p:grpSpPr>
                <a:xfrm>
                  <a:off x="7130880" y="1905120"/>
                  <a:ext cx="304920" cy="75960"/>
                  <a:chOff x="7130880" y="1905120"/>
                  <a:chExt cx="304920" cy="7596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7130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7207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7283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7359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435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5" name=""/>
                <p:cNvSpPr/>
                <p:nvPr/>
              </p:nvSpPr>
              <p:spPr>
                <a:xfrm>
                  <a:off x="70894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0894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70894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7543800" y="1828800"/>
                <a:ext cx="533520" cy="457200"/>
                <a:chOff x="7543800" y="1828800"/>
                <a:chExt cx="533520" cy="457200"/>
              </a:xfrm>
            </p:grpSpPr>
            <p:grpSp>
              <p:nvGrpSpPr>
                <p:cNvPr id="1559" name=""/>
                <p:cNvGrpSpPr/>
                <p:nvPr/>
              </p:nvGrpSpPr>
              <p:grpSpPr>
                <a:xfrm>
                  <a:off x="7543800" y="1828800"/>
                  <a:ext cx="533520" cy="457200"/>
                  <a:chOff x="7543800" y="1828800"/>
                  <a:chExt cx="533520" cy="45720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>
                    <a:off x="754380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754380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2" name=""/>
                <p:cNvSpPr/>
                <p:nvPr/>
              </p:nvSpPr>
              <p:spPr>
                <a:xfrm>
                  <a:off x="759780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7664400" y="1905120"/>
                  <a:ext cx="304920" cy="75960"/>
                  <a:chOff x="7664400" y="1905120"/>
                  <a:chExt cx="304920" cy="7596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76644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77407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81704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78930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9693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762300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62300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62300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7010280" y="1828800"/>
                <a:ext cx="533520" cy="457200"/>
                <a:chOff x="7010280" y="1828800"/>
                <a:chExt cx="533520" cy="457200"/>
              </a:xfrm>
            </p:grpSpPr>
            <p:grpSp>
              <p:nvGrpSpPr>
                <p:cNvPr id="1573" name=""/>
                <p:cNvGrpSpPr/>
                <p:nvPr/>
              </p:nvGrpSpPr>
              <p:grpSpPr>
                <a:xfrm>
                  <a:off x="7010280" y="1828800"/>
                  <a:ext cx="533520" cy="457200"/>
                  <a:chOff x="7010280" y="1828800"/>
                  <a:chExt cx="533520" cy="45720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>
                    <a:off x="7010280" y="18288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010280" y="2057400"/>
                    <a:ext cx="53352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919191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"/>
                <p:cNvSpPr/>
                <p:nvPr/>
              </p:nvSpPr>
              <p:spPr>
                <a:xfrm>
                  <a:off x="7064280" y="1866960"/>
                  <a:ext cx="42876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7" name=""/>
                <p:cNvGrpSpPr/>
                <p:nvPr/>
              </p:nvGrpSpPr>
              <p:grpSpPr>
                <a:xfrm>
                  <a:off x="7130880" y="1905120"/>
                  <a:ext cx="304920" cy="75960"/>
                  <a:chOff x="7130880" y="1905120"/>
                  <a:chExt cx="304920" cy="7596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71308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72072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728352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35948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435800" y="1905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3" name=""/>
                <p:cNvSpPr/>
                <p:nvPr/>
              </p:nvSpPr>
              <p:spPr>
                <a:xfrm>
                  <a:off x="7089480" y="21049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089480" y="21718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089480" y="223524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6" name=""/>
          <p:cNvGrpSpPr/>
          <p:nvPr/>
        </p:nvGrpSpPr>
        <p:grpSpPr>
          <a:xfrm>
            <a:off x="2438280" y="1828800"/>
            <a:ext cx="5943600" cy="4419720"/>
            <a:chOff x="2438280" y="1828800"/>
            <a:chExt cx="5943600" cy="4419720"/>
          </a:xfrm>
        </p:grpSpPr>
        <p:grpSp>
          <p:nvGrpSpPr>
            <p:cNvPr id="1587" name=""/>
            <p:cNvGrpSpPr/>
            <p:nvPr/>
          </p:nvGrpSpPr>
          <p:grpSpPr>
            <a:xfrm>
              <a:off x="2438280" y="1828800"/>
              <a:ext cx="5943600" cy="1905120"/>
              <a:chOff x="2438280" y="1828800"/>
              <a:chExt cx="5943600" cy="1905120"/>
            </a:xfrm>
          </p:grpSpPr>
          <p:cxnSp>
            <p:nvCxnSpPr>
              <p:cNvPr id="1588" name=""/>
              <p:cNvCxnSpPr>
                <a:stCxn id="1589" idx="2"/>
                <a:endCxn id="1590" idx="0"/>
              </p:cNvCxnSpPr>
              <p:nvPr/>
            </p:nvCxnSpPr>
            <p:spPr>
              <a:xfrm rot="5400000">
                <a:off x="4914000" y="-38160"/>
                <a:ext cx="991440" cy="563940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1591" name=""/>
              <p:cNvGrpSpPr/>
              <p:nvPr/>
            </p:nvGrpSpPr>
            <p:grpSpPr>
              <a:xfrm>
                <a:off x="8077320" y="1828800"/>
                <a:ext cx="304560" cy="457200"/>
                <a:chOff x="8077320" y="1828800"/>
                <a:chExt cx="304560" cy="45720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8077320" y="18288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077320" y="205740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153280" y="21337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229600" y="213372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2438280" y="3276720"/>
                <a:ext cx="304560" cy="457200"/>
                <a:chOff x="2438280" y="3276720"/>
                <a:chExt cx="304560" cy="45720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2438280" y="32767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2438280" y="3505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51424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59056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2743200" y="3276720"/>
                <a:ext cx="1066320" cy="457200"/>
                <a:chOff x="2743200" y="3276720"/>
                <a:chExt cx="1066320" cy="457200"/>
              </a:xfrm>
            </p:grpSpPr>
            <p:grpSp>
              <p:nvGrpSpPr>
                <p:cNvPr id="1600" name=""/>
                <p:cNvGrpSpPr/>
                <p:nvPr/>
              </p:nvGrpSpPr>
              <p:grpSpPr>
                <a:xfrm>
                  <a:off x="2743200" y="3276720"/>
                  <a:ext cx="533160" cy="457200"/>
                  <a:chOff x="2743200" y="3276720"/>
                  <a:chExt cx="533160" cy="457200"/>
                </a:xfrm>
              </p:grpSpPr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743200" y="3276720"/>
                    <a:ext cx="533160" cy="457200"/>
                    <a:chOff x="2743200" y="3276720"/>
                    <a:chExt cx="533160" cy="457200"/>
                  </a:xfrm>
                </p:grpSpPr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27432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27432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4" name=""/>
                  <p:cNvSpPr/>
                  <p:nvPr/>
                </p:nvSpPr>
                <p:spPr>
                  <a:xfrm>
                    <a:off x="27968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5" name=""/>
                  <p:cNvGrpSpPr/>
                  <p:nvPr/>
                </p:nvGrpSpPr>
                <p:grpSpPr>
                  <a:xfrm>
                    <a:off x="2863440" y="3353040"/>
                    <a:ext cx="304560" cy="75960"/>
                    <a:chOff x="2863440" y="3353040"/>
                    <a:chExt cx="304560" cy="75960"/>
                  </a:xfrm>
                </p:grpSpPr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2863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2939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3015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30916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3168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1" name=""/>
                  <p:cNvSpPr/>
                  <p:nvPr/>
                </p:nvSpPr>
                <p:spPr>
                  <a:xfrm>
                    <a:off x="28220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28220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8220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3276360" y="3276720"/>
                  <a:ext cx="533160" cy="457200"/>
                  <a:chOff x="3276360" y="3276720"/>
                  <a:chExt cx="533160" cy="457200"/>
                </a:xfrm>
              </p:grpSpPr>
              <p:grpSp>
                <p:nvGrpSpPr>
                  <p:cNvPr id="1615" name=""/>
                  <p:cNvGrpSpPr/>
                  <p:nvPr/>
                </p:nvGrpSpPr>
                <p:grpSpPr>
                  <a:xfrm>
                    <a:off x="3276360" y="3276720"/>
                    <a:ext cx="533160" cy="457200"/>
                    <a:chOff x="3276360" y="3276720"/>
                    <a:chExt cx="533160" cy="457200"/>
                  </a:xfrm>
                </p:grpSpPr>
                <p:sp>
                  <p:nvSpPr>
                    <p:cNvPr id="1616" name=""/>
                    <p:cNvSpPr/>
                    <p:nvPr/>
                  </p:nvSpPr>
                  <p:spPr>
                    <a:xfrm>
                      <a:off x="327636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327636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8" name=""/>
                  <p:cNvSpPr/>
                  <p:nvPr/>
                </p:nvSpPr>
                <p:spPr>
                  <a:xfrm>
                    <a:off x="333000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9" name=""/>
                  <p:cNvGrpSpPr/>
                  <p:nvPr/>
                </p:nvGrpSpPr>
                <p:grpSpPr>
                  <a:xfrm>
                    <a:off x="3396600" y="3353040"/>
                    <a:ext cx="304560" cy="75960"/>
                    <a:chOff x="3396600" y="3353040"/>
                    <a:chExt cx="304560" cy="75960"/>
                  </a:xfrm>
                </p:grpSpPr>
                <p:sp>
                  <p:nvSpPr>
                    <p:cNvPr id="1620" name=""/>
                    <p:cNvSpPr/>
                    <p:nvPr/>
                  </p:nvSpPr>
                  <p:spPr>
                    <a:xfrm>
                      <a:off x="3396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3472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3548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3" name=""/>
                    <p:cNvSpPr/>
                    <p:nvPr/>
                  </p:nvSpPr>
                  <p:spPr>
                    <a:xfrm>
                      <a:off x="3624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3701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5" name=""/>
                  <p:cNvSpPr/>
                  <p:nvPr/>
                </p:nvSpPr>
                <p:spPr>
                  <a:xfrm>
                    <a:off x="335520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5520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335520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8" name=""/>
                <p:cNvGrpSpPr/>
                <p:nvPr/>
              </p:nvGrpSpPr>
              <p:grpSpPr>
                <a:xfrm>
                  <a:off x="2743200" y="3276720"/>
                  <a:ext cx="533160" cy="457200"/>
                  <a:chOff x="2743200" y="3276720"/>
                  <a:chExt cx="533160" cy="457200"/>
                </a:xfrm>
              </p:grpSpPr>
              <p:grpSp>
                <p:nvGrpSpPr>
                  <p:cNvPr id="1629" name=""/>
                  <p:cNvGrpSpPr/>
                  <p:nvPr/>
                </p:nvGrpSpPr>
                <p:grpSpPr>
                  <a:xfrm>
                    <a:off x="2743200" y="3276720"/>
                    <a:ext cx="533160" cy="457200"/>
                    <a:chOff x="2743200" y="3276720"/>
                    <a:chExt cx="533160" cy="457200"/>
                  </a:xfrm>
                </p:grpSpPr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27432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27432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2" name=""/>
                  <p:cNvSpPr/>
                  <p:nvPr/>
                </p:nvSpPr>
                <p:spPr>
                  <a:xfrm>
                    <a:off x="27968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3" name=""/>
                  <p:cNvGrpSpPr/>
                  <p:nvPr/>
                </p:nvGrpSpPr>
                <p:grpSpPr>
                  <a:xfrm>
                    <a:off x="2863440" y="3353040"/>
                    <a:ext cx="304560" cy="75960"/>
                    <a:chOff x="2863440" y="3353040"/>
                    <a:chExt cx="304560" cy="75960"/>
                  </a:xfrm>
                </p:grpSpPr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2863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2939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3015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30916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3168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9" name=""/>
                  <p:cNvSpPr/>
                  <p:nvPr/>
                </p:nvSpPr>
                <p:spPr>
                  <a:xfrm>
                    <a:off x="28220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28220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28220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2" name=""/>
              <p:cNvGrpSpPr/>
              <p:nvPr/>
            </p:nvGrpSpPr>
            <p:grpSpPr>
              <a:xfrm>
                <a:off x="3809880" y="3276720"/>
                <a:ext cx="1067040" cy="457200"/>
                <a:chOff x="3809880" y="3276720"/>
                <a:chExt cx="1067040" cy="45720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3809880" y="3276720"/>
                  <a:ext cx="533520" cy="457200"/>
                  <a:chOff x="3809880" y="3276720"/>
                  <a:chExt cx="533520" cy="457200"/>
                </a:xfrm>
              </p:grpSpPr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3809880" y="3276720"/>
                    <a:ext cx="533520" cy="457200"/>
                    <a:chOff x="3809880" y="3276720"/>
                    <a:chExt cx="533520" cy="45720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38098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38098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47" name=""/>
                  <p:cNvSpPr/>
                  <p:nvPr/>
                </p:nvSpPr>
                <p:spPr>
                  <a:xfrm>
                    <a:off x="38638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8" name=""/>
                  <p:cNvGrpSpPr/>
                  <p:nvPr/>
                </p:nvGrpSpPr>
                <p:grpSpPr>
                  <a:xfrm>
                    <a:off x="3930480" y="3353040"/>
                    <a:ext cx="304920" cy="75960"/>
                    <a:chOff x="3930480" y="3353040"/>
                    <a:chExt cx="304920" cy="75960"/>
                  </a:xfrm>
                </p:grpSpPr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3930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4006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408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4159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423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54" name=""/>
                  <p:cNvSpPr/>
                  <p:nvPr/>
                </p:nvSpPr>
                <p:spPr>
                  <a:xfrm>
                    <a:off x="38890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38890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8890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4343400" y="3276720"/>
                  <a:ext cx="533520" cy="457200"/>
                  <a:chOff x="4343400" y="3276720"/>
                  <a:chExt cx="533520" cy="457200"/>
                </a:xfrm>
              </p:grpSpPr>
              <p:grpSp>
                <p:nvGrpSpPr>
                  <p:cNvPr id="1658" name=""/>
                  <p:cNvGrpSpPr/>
                  <p:nvPr/>
                </p:nvGrpSpPr>
                <p:grpSpPr>
                  <a:xfrm>
                    <a:off x="4343400" y="3276720"/>
                    <a:ext cx="533520" cy="457200"/>
                    <a:chOff x="4343400" y="3276720"/>
                    <a:chExt cx="533520" cy="457200"/>
                  </a:xfrm>
                </p:grpSpPr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434340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434340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1" name=""/>
                  <p:cNvSpPr/>
                  <p:nvPr/>
                </p:nvSpPr>
                <p:spPr>
                  <a:xfrm>
                    <a:off x="439740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2" name=""/>
                  <p:cNvGrpSpPr/>
                  <p:nvPr/>
                </p:nvGrpSpPr>
                <p:grpSpPr>
                  <a:xfrm>
                    <a:off x="4464000" y="3353040"/>
                    <a:ext cx="304920" cy="75960"/>
                    <a:chOff x="4464000" y="3353040"/>
                    <a:chExt cx="304920" cy="75960"/>
                  </a:xfrm>
                </p:grpSpPr>
                <p:sp>
                  <p:nvSpPr>
                    <p:cNvPr id="1663" name=""/>
                    <p:cNvSpPr/>
                    <p:nvPr/>
                  </p:nvSpPr>
                  <p:spPr>
                    <a:xfrm>
                      <a:off x="4464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4" name=""/>
                    <p:cNvSpPr/>
                    <p:nvPr/>
                  </p:nvSpPr>
                  <p:spPr>
                    <a:xfrm>
                      <a:off x="4540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>
                      <a:off x="46166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4692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47689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8" name=""/>
                  <p:cNvSpPr/>
                  <p:nvPr/>
                </p:nvSpPr>
                <p:spPr>
                  <a:xfrm>
                    <a:off x="442260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442260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442260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809880" y="3276720"/>
                  <a:ext cx="533520" cy="457200"/>
                  <a:chOff x="3809880" y="3276720"/>
                  <a:chExt cx="533520" cy="457200"/>
                </a:xfrm>
              </p:grpSpPr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3809880" y="3276720"/>
                    <a:ext cx="533520" cy="457200"/>
                    <a:chOff x="3809880" y="3276720"/>
                    <a:chExt cx="533520" cy="457200"/>
                  </a:xfrm>
                </p:grpSpPr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38098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38098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75" name=""/>
                  <p:cNvSpPr/>
                  <p:nvPr/>
                </p:nvSpPr>
                <p:spPr>
                  <a:xfrm>
                    <a:off x="38638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3930480" y="3353040"/>
                    <a:ext cx="304920" cy="75960"/>
                    <a:chOff x="3930480" y="3353040"/>
                    <a:chExt cx="304920" cy="759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3930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4006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408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4159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423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82" name=""/>
                  <p:cNvSpPr/>
                  <p:nvPr/>
                </p:nvSpPr>
                <p:spPr>
                  <a:xfrm>
                    <a:off x="38890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8890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8890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5" name=""/>
              <p:cNvGrpSpPr/>
              <p:nvPr/>
            </p:nvGrpSpPr>
            <p:grpSpPr>
              <a:xfrm>
                <a:off x="4876920" y="3276720"/>
                <a:ext cx="1066320" cy="457200"/>
                <a:chOff x="4876920" y="3276720"/>
                <a:chExt cx="1066320" cy="457200"/>
              </a:xfrm>
            </p:grpSpPr>
            <p:grpSp>
              <p:nvGrpSpPr>
                <p:cNvPr id="1686" name=""/>
                <p:cNvGrpSpPr/>
                <p:nvPr/>
              </p:nvGrpSpPr>
              <p:grpSpPr>
                <a:xfrm>
                  <a:off x="4876920" y="3276720"/>
                  <a:ext cx="533160" cy="457200"/>
                  <a:chOff x="4876920" y="3276720"/>
                  <a:chExt cx="533160" cy="457200"/>
                </a:xfrm>
              </p:grpSpPr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4876920" y="3276720"/>
                    <a:ext cx="533160" cy="457200"/>
                    <a:chOff x="4876920" y="3276720"/>
                    <a:chExt cx="533160" cy="45720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487692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487692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0" name=""/>
                  <p:cNvSpPr/>
                  <p:nvPr/>
                </p:nvSpPr>
                <p:spPr>
                  <a:xfrm>
                    <a:off x="493056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4997160" y="3353040"/>
                    <a:ext cx="304560" cy="75960"/>
                    <a:chOff x="4997160" y="3353040"/>
                    <a:chExt cx="304560" cy="7596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4997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507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5149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522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5301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7" name=""/>
                  <p:cNvSpPr/>
                  <p:nvPr/>
                </p:nvSpPr>
                <p:spPr>
                  <a:xfrm>
                    <a:off x="495576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495576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495576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0" name=""/>
                <p:cNvGrpSpPr/>
                <p:nvPr/>
              </p:nvGrpSpPr>
              <p:grpSpPr>
                <a:xfrm>
                  <a:off x="5410080" y="3276720"/>
                  <a:ext cx="533160" cy="457200"/>
                  <a:chOff x="5410080" y="3276720"/>
                  <a:chExt cx="533160" cy="457200"/>
                </a:xfrm>
              </p:grpSpPr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410080" y="3276720"/>
                    <a:ext cx="533160" cy="457200"/>
                    <a:chOff x="5410080" y="3276720"/>
                    <a:chExt cx="533160" cy="45720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541008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541008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4" name=""/>
                  <p:cNvSpPr/>
                  <p:nvPr/>
                </p:nvSpPr>
                <p:spPr>
                  <a:xfrm>
                    <a:off x="546372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5530320" y="3353040"/>
                    <a:ext cx="304560" cy="75960"/>
                    <a:chOff x="5530320" y="3353040"/>
                    <a:chExt cx="304560" cy="7596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5530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56062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56826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5758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5834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1" name=""/>
                  <p:cNvSpPr/>
                  <p:nvPr/>
                </p:nvSpPr>
                <p:spPr>
                  <a:xfrm>
                    <a:off x="548892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548892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548892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4876920" y="3276720"/>
                  <a:ext cx="533160" cy="457200"/>
                  <a:chOff x="4876920" y="3276720"/>
                  <a:chExt cx="533160" cy="457200"/>
                </a:xfrm>
              </p:grpSpPr>
              <p:grpSp>
                <p:nvGrpSpPr>
                  <p:cNvPr id="1715" name=""/>
                  <p:cNvGrpSpPr/>
                  <p:nvPr/>
                </p:nvGrpSpPr>
                <p:grpSpPr>
                  <a:xfrm>
                    <a:off x="4876920" y="3276720"/>
                    <a:ext cx="533160" cy="457200"/>
                    <a:chOff x="4876920" y="3276720"/>
                    <a:chExt cx="533160" cy="457200"/>
                  </a:xfrm>
                </p:grpSpPr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487692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487692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8" name=""/>
                  <p:cNvSpPr/>
                  <p:nvPr/>
                </p:nvSpPr>
                <p:spPr>
                  <a:xfrm>
                    <a:off x="493056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9" name=""/>
                  <p:cNvGrpSpPr/>
                  <p:nvPr/>
                </p:nvGrpSpPr>
                <p:grpSpPr>
                  <a:xfrm>
                    <a:off x="4997160" y="3353040"/>
                    <a:ext cx="304560" cy="75960"/>
                    <a:chOff x="4997160" y="3353040"/>
                    <a:chExt cx="304560" cy="75960"/>
                  </a:xfrm>
                </p:grpSpPr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49971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5073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51494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5225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5301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5" name=""/>
                  <p:cNvSpPr/>
                  <p:nvPr/>
                </p:nvSpPr>
                <p:spPr>
                  <a:xfrm>
                    <a:off x="495576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95576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495576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8" name=""/>
              <p:cNvGrpSpPr/>
              <p:nvPr/>
            </p:nvGrpSpPr>
            <p:grpSpPr>
              <a:xfrm>
                <a:off x="5943600" y="3276720"/>
                <a:ext cx="1066320" cy="457200"/>
                <a:chOff x="5943600" y="3276720"/>
                <a:chExt cx="1066320" cy="457200"/>
              </a:xfrm>
            </p:grpSpPr>
            <p:grpSp>
              <p:nvGrpSpPr>
                <p:cNvPr id="1729" name=""/>
                <p:cNvGrpSpPr/>
                <p:nvPr/>
              </p:nvGrpSpPr>
              <p:grpSpPr>
                <a:xfrm>
                  <a:off x="5943600" y="3276720"/>
                  <a:ext cx="533160" cy="457200"/>
                  <a:chOff x="5943600" y="3276720"/>
                  <a:chExt cx="533160" cy="457200"/>
                </a:xfrm>
              </p:grpSpPr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943600" y="3276720"/>
                    <a:ext cx="533160" cy="457200"/>
                    <a:chOff x="5943600" y="3276720"/>
                    <a:chExt cx="533160" cy="45720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59436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59436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3" name=""/>
                  <p:cNvSpPr/>
                  <p:nvPr/>
                </p:nvSpPr>
                <p:spPr>
                  <a:xfrm>
                    <a:off x="59972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6063840" y="3353040"/>
                    <a:ext cx="304560" cy="75960"/>
                    <a:chOff x="6063840" y="3353040"/>
                    <a:chExt cx="304560" cy="7596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6063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6139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6216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6292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6368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0" name=""/>
                  <p:cNvSpPr/>
                  <p:nvPr/>
                </p:nvSpPr>
                <p:spPr>
                  <a:xfrm>
                    <a:off x="60224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60224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60224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6476760" y="3276720"/>
                  <a:ext cx="533160" cy="457200"/>
                  <a:chOff x="6476760" y="3276720"/>
                  <a:chExt cx="533160" cy="457200"/>
                </a:xfrm>
              </p:grpSpPr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6476760" y="3276720"/>
                    <a:ext cx="533160" cy="457200"/>
                    <a:chOff x="6476760" y="3276720"/>
                    <a:chExt cx="533160" cy="45720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647676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647676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7" name=""/>
                  <p:cNvSpPr/>
                  <p:nvPr/>
                </p:nvSpPr>
                <p:spPr>
                  <a:xfrm>
                    <a:off x="653040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6597000" y="3353040"/>
                    <a:ext cx="304560" cy="75960"/>
                    <a:chOff x="6597000" y="3353040"/>
                    <a:chExt cx="304560" cy="7596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6597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66729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>
                      <a:off x="67492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68252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690156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4" name=""/>
                  <p:cNvSpPr/>
                  <p:nvPr/>
                </p:nvSpPr>
                <p:spPr>
                  <a:xfrm>
                    <a:off x="655560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655560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655560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5943600" y="3276720"/>
                  <a:ext cx="533160" cy="457200"/>
                  <a:chOff x="5943600" y="3276720"/>
                  <a:chExt cx="533160" cy="457200"/>
                </a:xfrm>
              </p:grpSpPr>
              <p:grpSp>
                <p:nvGrpSpPr>
                  <p:cNvPr id="1758" name=""/>
                  <p:cNvGrpSpPr/>
                  <p:nvPr/>
                </p:nvGrpSpPr>
                <p:grpSpPr>
                  <a:xfrm>
                    <a:off x="5943600" y="3276720"/>
                    <a:ext cx="533160" cy="457200"/>
                    <a:chOff x="5943600" y="3276720"/>
                    <a:chExt cx="533160" cy="457200"/>
                  </a:xfrm>
                </p:grpSpPr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5943600" y="32767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5943600" y="3505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1" name=""/>
                  <p:cNvSpPr/>
                  <p:nvPr/>
                </p:nvSpPr>
                <p:spPr>
                  <a:xfrm>
                    <a:off x="5997240" y="33148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2" name=""/>
                  <p:cNvGrpSpPr/>
                  <p:nvPr/>
                </p:nvGrpSpPr>
                <p:grpSpPr>
                  <a:xfrm>
                    <a:off x="6063840" y="3353040"/>
                    <a:ext cx="304560" cy="75960"/>
                    <a:chOff x="6063840" y="3353040"/>
                    <a:chExt cx="304560" cy="75960"/>
                  </a:xfrm>
                </p:grpSpPr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60638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6139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62161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62920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6368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8" name=""/>
                  <p:cNvSpPr/>
                  <p:nvPr/>
                </p:nvSpPr>
                <p:spPr>
                  <a:xfrm>
                    <a:off x="6022440" y="3552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6022440" y="3619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6022440" y="36831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1" name=""/>
              <p:cNvGrpSpPr/>
              <p:nvPr/>
            </p:nvGrpSpPr>
            <p:grpSpPr>
              <a:xfrm>
                <a:off x="7010280" y="3276720"/>
                <a:ext cx="1067040" cy="457200"/>
                <a:chOff x="7010280" y="3276720"/>
                <a:chExt cx="1067040" cy="457200"/>
              </a:xfrm>
            </p:grpSpPr>
            <p:grpSp>
              <p:nvGrpSpPr>
                <p:cNvPr id="1772" name=""/>
                <p:cNvGrpSpPr/>
                <p:nvPr/>
              </p:nvGrpSpPr>
              <p:grpSpPr>
                <a:xfrm>
                  <a:off x="7010280" y="3276720"/>
                  <a:ext cx="533520" cy="457200"/>
                  <a:chOff x="7010280" y="3276720"/>
                  <a:chExt cx="533520" cy="457200"/>
                </a:xfrm>
              </p:grpSpPr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7010280" y="3276720"/>
                    <a:ext cx="533520" cy="457200"/>
                    <a:chOff x="7010280" y="3276720"/>
                    <a:chExt cx="533520" cy="457200"/>
                  </a:xfrm>
                </p:grpSpPr>
                <p:sp>
                  <p:nvSpPr>
                    <p:cNvPr id="1774" name=""/>
                    <p:cNvSpPr/>
                    <p:nvPr/>
                  </p:nvSpPr>
                  <p:spPr>
                    <a:xfrm>
                      <a:off x="70102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70102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6" name=""/>
                  <p:cNvSpPr/>
                  <p:nvPr/>
                </p:nvSpPr>
                <p:spPr>
                  <a:xfrm>
                    <a:off x="70642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130880" y="3353040"/>
                    <a:ext cx="304920" cy="75960"/>
                    <a:chOff x="7130880" y="3353040"/>
                    <a:chExt cx="304920" cy="7596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130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72072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2835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359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"/>
                    <p:cNvSpPr/>
                    <p:nvPr/>
                  </p:nvSpPr>
                  <p:spPr>
                    <a:xfrm>
                      <a:off x="7435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83" name=""/>
                  <p:cNvSpPr/>
                  <p:nvPr/>
                </p:nvSpPr>
                <p:spPr>
                  <a:xfrm>
                    <a:off x="70894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70894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70894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7543800" y="3276720"/>
                  <a:ext cx="533520" cy="457200"/>
                  <a:chOff x="7543800" y="3276720"/>
                  <a:chExt cx="533520" cy="457200"/>
                </a:xfrm>
              </p:grpSpPr>
              <p:grpSp>
                <p:nvGrpSpPr>
                  <p:cNvPr id="1787" name=""/>
                  <p:cNvGrpSpPr/>
                  <p:nvPr/>
                </p:nvGrpSpPr>
                <p:grpSpPr>
                  <a:xfrm>
                    <a:off x="7543800" y="3276720"/>
                    <a:ext cx="533520" cy="457200"/>
                    <a:chOff x="7543800" y="3276720"/>
                    <a:chExt cx="533520" cy="457200"/>
                  </a:xfrm>
                </p:grpSpPr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754380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754380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"/>
                  <p:cNvSpPr/>
                  <p:nvPr/>
                </p:nvSpPr>
                <p:spPr>
                  <a:xfrm>
                    <a:off x="759780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7664400" y="3353040"/>
                    <a:ext cx="304920" cy="75960"/>
                    <a:chOff x="7664400" y="3353040"/>
                    <a:chExt cx="304920" cy="7596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76644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77407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781704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78930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79693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7" name=""/>
                  <p:cNvSpPr/>
                  <p:nvPr/>
                </p:nvSpPr>
                <p:spPr>
                  <a:xfrm>
                    <a:off x="762300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762300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762300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0" name=""/>
                <p:cNvGrpSpPr/>
                <p:nvPr/>
              </p:nvGrpSpPr>
              <p:grpSpPr>
                <a:xfrm>
                  <a:off x="7010280" y="3276720"/>
                  <a:ext cx="533520" cy="457200"/>
                  <a:chOff x="7010280" y="3276720"/>
                  <a:chExt cx="533520" cy="457200"/>
                </a:xfrm>
              </p:grpSpPr>
              <p:grpSp>
                <p:nvGrpSpPr>
                  <p:cNvPr id="1801" name=""/>
                  <p:cNvGrpSpPr/>
                  <p:nvPr/>
                </p:nvGrpSpPr>
                <p:grpSpPr>
                  <a:xfrm>
                    <a:off x="7010280" y="3276720"/>
                    <a:ext cx="533520" cy="457200"/>
                    <a:chOff x="7010280" y="3276720"/>
                    <a:chExt cx="533520" cy="457200"/>
                  </a:xfrm>
                </p:grpSpPr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7010280" y="32767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3" name=""/>
                    <p:cNvSpPr/>
                    <p:nvPr/>
                  </p:nvSpPr>
                  <p:spPr>
                    <a:xfrm>
                      <a:off x="7010280" y="3505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04" name=""/>
                  <p:cNvSpPr/>
                  <p:nvPr/>
                </p:nvSpPr>
                <p:spPr>
                  <a:xfrm>
                    <a:off x="7064280" y="33148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5" name=""/>
                  <p:cNvGrpSpPr/>
                  <p:nvPr/>
                </p:nvGrpSpPr>
                <p:grpSpPr>
                  <a:xfrm>
                    <a:off x="7130880" y="3353040"/>
                    <a:ext cx="304920" cy="75960"/>
                    <a:chOff x="7130880" y="3353040"/>
                    <a:chExt cx="304920" cy="75960"/>
                  </a:xfrm>
                </p:grpSpPr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71308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7" name=""/>
                    <p:cNvSpPr/>
                    <p:nvPr/>
                  </p:nvSpPr>
                  <p:spPr>
                    <a:xfrm>
                      <a:off x="72072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728352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>
                      <a:off x="735948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7435800" y="33530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1" name=""/>
                  <p:cNvSpPr/>
                  <p:nvPr/>
                </p:nvSpPr>
                <p:spPr>
                  <a:xfrm>
                    <a:off x="7089480" y="3552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7089480" y="36198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7089480" y="36831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14" name=""/>
            <p:cNvGrpSpPr/>
            <p:nvPr/>
          </p:nvGrpSpPr>
          <p:grpSpPr>
            <a:xfrm>
              <a:off x="2438280" y="3276720"/>
              <a:ext cx="5943600" cy="1904760"/>
              <a:chOff x="2438280" y="3276720"/>
              <a:chExt cx="5943600" cy="1904760"/>
            </a:xfrm>
          </p:grpSpPr>
          <p:cxnSp>
            <p:nvCxnSpPr>
              <p:cNvPr id="1815" name=""/>
              <p:cNvCxnSpPr>
                <a:stCxn id="1816" idx="2"/>
                <a:endCxn id="1817" idx="0"/>
              </p:cNvCxnSpPr>
              <p:nvPr/>
            </p:nvCxnSpPr>
            <p:spPr>
              <a:xfrm rot="5400000">
                <a:off x="4914360" y="1409400"/>
                <a:ext cx="991080" cy="563940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1818" name=""/>
              <p:cNvGrpSpPr/>
              <p:nvPr/>
            </p:nvGrpSpPr>
            <p:grpSpPr>
              <a:xfrm>
                <a:off x="8077320" y="3276720"/>
                <a:ext cx="304560" cy="457200"/>
                <a:chOff x="8077320" y="3276720"/>
                <a:chExt cx="304560" cy="45720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8077320" y="32767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077320" y="3505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15328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229600" y="35816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438280" y="4724280"/>
                <a:ext cx="304560" cy="457200"/>
                <a:chOff x="2438280" y="4724280"/>
                <a:chExt cx="304560" cy="45720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2438280" y="47242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438280" y="49528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51424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9056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2743200" y="4724280"/>
                <a:ext cx="1066320" cy="457200"/>
                <a:chOff x="2743200" y="4724280"/>
                <a:chExt cx="1066320" cy="457200"/>
              </a:xfrm>
            </p:grpSpPr>
            <p:grpSp>
              <p:nvGrpSpPr>
                <p:cNvPr id="1827" name=""/>
                <p:cNvGrpSpPr/>
                <p:nvPr/>
              </p:nvGrpSpPr>
              <p:grpSpPr>
                <a:xfrm>
                  <a:off x="2743200" y="4724280"/>
                  <a:ext cx="533160" cy="457200"/>
                  <a:chOff x="2743200" y="4724280"/>
                  <a:chExt cx="533160" cy="457200"/>
                </a:xfrm>
              </p:grpSpPr>
              <p:grpSp>
                <p:nvGrpSpPr>
                  <p:cNvPr id="1828" name=""/>
                  <p:cNvGrpSpPr/>
                  <p:nvPr/>
                </p:nvGrpSpPr>
                <p:grpSpPr>
                  <a:xfrm>
                    <a:off x="2743200" y="4724280"/>
                    <a:ext cx="533160" cy="457200"/>
                    <a:chOff x="2743200" y="4724280"/>
                    <a:chExt cx="533160" cy="457200"/>
                  </a:xfrm>
                </p:grpSpPr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274320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274320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1" name=""/>
                  <p:cNvSpPr/>
                  <p:nvPr/>
                </p:nvSpPr>
                <p:spPr>
                  <a:xfrm>
                    <a:off x="279684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2" name=""/>
                  <p:cNvGrpSpPr/>
                  <p:nvPr/>
                </p:nvGrpSpPr>
                <p:grpSpPr>
                  <a:xfrm>
                    <a:off x="2863440" y="4800600"/>
                    <a:ext cx="304560" cy="75960"/>
                    <a:chOff x="2863440" y="4800600"/>
                    <a:chExt cx="304560" cy="75960"/>
                  </a:xfrm>
                </p:grpSpPr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2863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2939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3015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30916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3168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8" name=""/>
                  <p:cNvSpPr/>
                  <p:nvPr/>
                </p:nvSpPr>
                <p:spPr>
                  <a:xfrm>
                    <a:off x="282204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282204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282204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1" name=""/>
                <p:cNvGrpSpPr/>
                <p:nvPr/>
              </p:nvGrpSpPr>
              <p:grpSpPr>
                <a:xfrm>
                  <a:off x="3276360" y="4724280"/>
                  <a:ext cx="533160" cy="457200"/>
                  <a:chOff x="3276360" y="4724280"/>
                  <a:chExt cx="533160" cy="457200"/>
                </a:xfrm>
              </p:grpSpPr>
              <p:grpSp>
                <p:nvGrpSpPr>
                  <p:cNvPr id="1842" name=""/>
                  <p:cNvGrpSpPr/>
                  <p:nvPr/>
                </p:nvGrpSpPr>
                <p:grpSpPr>
                  <a:xfrm>
                    <a:off x="3276360" y="4724280"/>
                    <a:ext cx="533160" cy="457200"/>
                    <a:chOff x="3276360" y="4724280"/>
                    <a:chExt cx="533160" cy="457200"/>
                  </a:xfrm>
                </p:grpSpPr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327636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327636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5" name=""/>
                  <p:cNvSpPr/>
                  <p:nvPr/>
                </p:nvSpPr>
                <p:spPr>
                  <a:xfrm>
                    <a:off x="333000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3396600" y="4800600"/>
                    <a:ext cx="304560" cy="75960"/>
                    <a:chOff x="3396600" y="4800600"/>
                    <a:chExt cx="304560" cy="75960"/>
                  </a:xfrm>
                </p:grpSpPr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3396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34725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35488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36248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3701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2" name=""/>
                  <p:cNvSpPr/>
                  <p:nvPr/>
                </p:nvSpPr>
                <p:spPr>
                  <a:xfrm>
                    <a:off x="335520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335520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335520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2743200" y="4724280"/>
                  <a:ext cx="533160" cy="457200"/>
                  <a:chOff x="2743200" y="4724280"/>
                  <a:chExt cx="533160" cy="457200"/>
                </a:xfrm>
              </p:grpSpPr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2743200" y="4724280"/>
                    <a:ext cx="533160" cy="457200"/>
                    <a:chOff x="2743200" y="4724280"/>
                    <a:chExt cx="533160" cy="45720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274320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274320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9" name=""/>
                  <p:cNvSpPr/>
                  <p:nvPr/>
                </p:nvSpPr>
                <p:spPr>
                  <a:xfrm>
                    <a:off x="279684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2863440" y="4800600"/>
                    <a:ext cx="304560" cy="75960"/>
                    <a:chOff x="2863440" y="4800600"/>
                    <a:chExt cx="304560" cy="7596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2863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2939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3015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30916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3168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6" name=""/>
                  <p:cNvSpPr/>
                  <p:nvPr/>
                </p:nvSpPr>
                <p:spPr>
                  <a:xfrm>
                    <a:off x="282204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282204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282204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9" name=""/>
              <p:cNvGrpSpPr/>
              <p:nvPr/>
            </p:nvGrpSpPr>
            <p:grpSpPr>
              <a:xfrm>
                <a:off x="3809880" y="4724280"/>
                <a:ext cx="1067040" cy="457200"/>
                <a:chOff x="3809880" y="4724280"/>
                <a:chExt cx="1067040" cy="457200"/>
              </a:xfrm>
            </p:grpSpPr>
            <p:grpSp>
              <p:nvGrpSpPr>
                <p:cNvPr id="1870" name=""/>
                <p:cNvGrpSpPr/>
                <p:nvPr/>
              </p:nvGrpSpPr>
              <p:grpSpPr>
                <a:xfrm>
                  <a:off x="3809880" y="4724280"/>
                  <a:ext cx="533520" cy="457200"/>
                  <a:chOff x="3809880" y="4724280"/>
                  <a:chExt cx="533520" cy="457200"/>
                </a:xfrm>
              </p:grpSpPr>
              <p:grpSp>
                <p:nvGrpSpPr>
                  <p:cNvPr id="1871" name=""/>
                  <p:cNvGrpSpPr/>
                  <p:nvPr/>
                </p:nvGrpSpPr>
                <p:grpSpPr>
                  <a:xfrm>
                    <a:off x="3809880" y="4724280"/>
                    <a:ext cx="533520" cy="457200"/>
                    <a:chOff x="3809880" y="4724280"/>
                    <a:chExt cx="533520" cy="457200"/>
                  </a:xfrm>
                </p:grpSpPr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380988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380988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4" name=""/>
                  <p:cNvSpPr/>
                  <p:nvPr/>
                </p:nvSpPr>
                <p:spPr>
                  <a:xfrm>
                    <a:off x="386388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3930480" y="4800600"/>
                    <a:ext cx="304920" cy="75960"/>
                    <a:chOff x="3930480" y="4800600"/>
                    <a:chExt cx="304920" cy="7596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39304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40068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408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41590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423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1" name=""/>
                  <p:cNvSpPr/>
                  <p:nvPr/>
                </p:nvSpPr>
                <p:spPr>
                  <a:xfrm>
                    <a:off x="388908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388908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388908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4" name=""/>
                <p:cNvGrpSpPr/>
                <p:nvPr/>
              </p:nvGrpSpPr>
              <p:grpSpPr>
                <a:xfrm>
                  <a:off x="4343400" y="4724280"/>
                  <a:ext cx="533520" cy="457200"/>
                  <a:chOff x="4343400" y="4724280"/>
                  <a:chExt cx="533520" cy="457200"/>
                </a:xfrm>
              </p:grpSpPr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4343400" y="4724280"/>
                    <a:ext cx="533520" cy="457200"/>
                    <a:chOff x="4343400" y="4724280"/>
                    <a:chExt cx="533520" cy="45720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434340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434340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8" name=""/>
                  <p:cNvSpPr/>
                  <p:nvPr/>
                </p:nvSpPr>
                <p:spPr>
                  <a:xfrm>
                    <a:off x="439740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4464000" y="4800600"/>
                    <a:ext cx="304920" cy="75960"/>
                    <a:chOff x="4464000" y="4800600"/>
                    <a:chExt cx="304920" cy="7596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44640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45403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46166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4692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47689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5" name=""/>
                  <p:cNvSpPr/>
                  <p:nvPr/>
                </p:nvSpPr>
                <p:spPr>
                  <a:xfrm>
                    <a:off x="442260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442260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442260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8" name=""/>
                <p:cNvGrpSpPr/>
                <p:nvPr/>
              </p:nvGrpSpPr>
              <p:grpSpPr>
                <a:xfrm>
                  <a:off x="3809880" y="4724280"/>
                  <a:ext cx="533520" cy="457200"/>
                  <a:chOff x="3809880" y="4724280"/>
                  <a:chExt cx="533520" cy="457200"/>
                </a:xfrm>
              </p:grpSpPr>
              <p:grpSp>
                <p:nvGrpSpPr>
                  <p:cNvPr id="1899" name=""/>
                  <p:cNvGrpSpPr/>
                  <p:nvPr/>
                </p:nvGrpSpPr>
                <p:grpSpPr>
                  <a:xfrm>
                    <a:off x="3809880" y="4724280"/>
                    <a:ext cx="533520" cy="457200"/>
                    <a:chOff x="3809880" y="4724280"/>
                    <a:chExt cx="533520" cy="457200"/>
                  </a:xfrm>
                </p:grpSpPr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3809880" y="47242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3809880" y="495288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2" name=""/>
                  <p:cNvSpPr/>
                  <p:nvPr/>
                </p:nvSpPr>
                <p:spPr>
                  <a:xfrm>
                    <a:off x="3863880" y="476244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3" name=""/>
                  <p:cNvGrpSpPr/>
                  <p:nvPr/>
                </p:nvGrpSpPr>
                <p:grpSpPr>
                  <a:xfrm>
                    <a:off x="3930480" y="4800600"/>
                    <a:ext cx="304920" cy="75960"/>
                    <a:chOff x="3930480" y="4800600"/>
                    <a:chExt cx="304920" cy="75960"/>
                  </a:xfrm>
                </p:grpSpPr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39304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40068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408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41590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423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9" name=""/>
                  <p:cNvSpPr/>
                  <p:nvPr/>
                </p:nvSpPr>
                <p:spPr>
                  <a:xfrm>
                    <a:off x="3889080" y="5000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3889080" y="50673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3889080" y="513072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2" name=""/>
              <p:cNvGrpSpPr/>
              <p:nvPr/>
            </p:nvGrpSpPr>
            <p:grpSpPr>
              <a:xfrm>
                <a:off x="4876920" y="4724280"/>
                <a:ext cx="1066320" cy="457200"/>
                <a:chOff x="4876920" y="4724280"/>
                <a:chExt cx="1066320" cy="457200"/>
              </a:xfrm>
            </p:grpSpPr>
            <p:grpSp>
              <p:nvGrpSpPr>
                <p:cNvPr id="1913" name=""/>
                <p:cNvGrpSpPr/>
                <p:nvPr/>
              </p:nvGrpSpPr>
              <p:grpSpPr>
                <a:xfrm>
                  <a:off x="4876920" y="4724280"/>
                  <a:ext cx="533160" cy="457200"/>
                  <a:chOff x="4876920" y="4724280"/>
                  <a:chExt cx="533160" cy="457200"/>
                </a:xfrm>
              </p:grpSpPr>
              <p:grpSp>
                <p:nvGrpSpPr>
                  <p:cNvPr id="1914" name=""/>
                  <p:cNvGrpSpPr/>
                  <p:nvPr/>
                </p:nvGrpSpPr>
                <p:grpSpPr>
                  <a:xfrm>
                    <a:off x="4876920" y="4724280"/>
                    <a:ext cx="533160" cy="457200"/>
                    <a:chOff x="4876920" y="4724280"/>
                    <a:chExt cx="533160" cy="457200"/>
                  </a:xfrm>
                </p:grpSpPr>
                <p:sp>
                  <p:nvSpPr>
                    <p:cNvPr id="1915" name=""/>
                    <p:cNvSpPr/>
                    <p:nvPr/>
                  </p:nvSpPr>
                  <p:spPr>
                    <a:xfrm>
                      <a:off x="487692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>
                      <a:off x="487692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7" name=""/>
                  <p:cNvSpPr/>
                  <p:nvPr/>
                </p:nvSpPr>
                <p:spPr>
                  <a:xfrm>
                    <a:off x="493056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8" name=""/>
                  <p:cNvGrpSpPr/>
                  <p:nvPr/>
                </p:nvGrpSpPr>
                <p:grpSpPr>
                  <a:xfrm>
                    <a:off x="4997160" y="4800600"/>
                    <a:ext cx="304560" cy="75960"/>
                    <a:chOff x="4997160" y="4800600"/>
                    <a:chExt cx="304560" cy="75960"/>
                  </a:xfrm>
                </p:grpSpPr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4997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507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>
                      <a:off x="5149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22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301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4" name=""/>
                  <p:cNvSpPr/>
                  <p:nvPr/>
                </p:nvSpPr>
                <p:spPr>
                  <a:xfrm>
                    <a:off x="495576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495576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495576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5410080" y="4724280"/>
                  <a:ext cx="533160" cy="457200"/>
                  <a:chOff x="5410080" y="4724280"/>
                  <a:chExt cx="533160" cy="457200"/>
                </a:xfrm>
              </p:grpSpPr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5410080" y="4724280"/>
                    <a:ext cx="533160" cy="457200"/>
                    <a:chOff x="5410080" y="4724280"/>
                    <a:chExt cx="533160" cy="45720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>
                      <a:off x="541008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541008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1" name=""/>
                  <p:cNvSpPr/>
                  <p:nvPr/>
                </p:nvSpPr>
                <p:spPr>
                  <a:xfrm>
                    <a:off x="546372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2" name=""/>
                  <p:cNvGrpSpPr/>
                  <p:nvPr/>
                </p:nvGrpSpPr>
                <p:grpSpPr>
                  <a:xfrm>
                    <a:off x="5530320" y="4800600"/>
                    <a:ext cx="304560" cy="75960"/>
                    <a:chOff x="5530320" y="4800600"/>
                    <a:chExt cx="304560" cy="75960"/>
                  </a:xfrm>
                </p:grpSpPr>
                <p:sp>
                  <p:nvSpPr>
                    <p:cNvPr id="1933" name=""/>
                    <p:cNvSpPr/>
                    <p:nvPr/>
                  </p:nvSpPr>
                  <p:spPr>
                    <a:xfrm>
                      <a:off x="55303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4" name=""/>
                    <p:cNvSpPr/>
                    <p:nvPr/>
                  </p:nvSpPr>
                  <p:spPr>
                    <a:xfrm>
                      <a:off x="56062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56826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57585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583488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8" name=""/>
                  <p:cNvSpPr/>
                  <p:nvPr/>
                </p:nvSpPr>
                <p:spPr>
                  <a:xfrm>
                    <a:off x="548892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548892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548892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1" name=""/>
                <p:cNvGrpSpPr/>
                <p:nvPr/>
              </p:nvGrpSpPr>
              <p:grpSpPr>
                <a:xfrm>
                  <a:off x="4876920" y="4724280"/>
                  <a:ext cx="533160" cy="457200"/>
                  <a:chOff x="4876920" y="4724280"/>
                  <a:chExt cx="533160" cy="457200"/>
                </a:xfrm>
              </p:grpSpPr>
              <p:grpSp>
                <p:nvGrpSpPr>
                  <p:cNvPr id="1942" name=""/>
                  <p:cNvGrpSpPr/>
                  <p:nvPr/>
                </p:nvGrpSpPr>
                <p:grpSpPr>
                  <a:xfrm>
                    <a:off x="4876920" y="4724280"/>
                    <a:ext cx="533160" cy="457200"/>
                    <a:chOff x="4876920" y="4724280"/>
                    <a:chExt cx="533160" cy="457200"/>
                  </a:xfrm>
                </p:grpSpPr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4876920" y="47242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4876920" y="495288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5" name=""/>
                  <p:cNvSpPr/>
                  <p:nvPr/>
                </p:nvSpPr>
                <p:spPr>
                  <a:xfrm>
                    <a:off x="4930560" y="476244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4997160" y="4800600"/>
                    <a:ext cx="304560" cy="75960"/>
                    <a:chOff x="4997160" y="4800600"/>
                    <a:chExt cx="304560" cy="7596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>
                      <a:off x="499716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50731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14944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522540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5301720" y="480060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2" name=""/>
                  <p:cNvSpPr/>
                  <p:nvPr/>
                </p:nvSpPr>
                <p:spPr>
                  <a:xfrm>
                    <a:off x="4955760" y="5000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4955760" y="506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4955760" y="5130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55" name=""/>
            <p:cNvGrpSpPr/>
            <p:nvPr/>
          </p:nvGrpSpPr>
          <p:grpSpPr>
            <a:xfrm>
              <a:off x="2438280" y="4724280"/>
              <a:ext cx="3809880" cy="1524240"/>
              <a:chOff x="2438280" y="4724280"/>
              <a:chExt cx="3809880" cy="1524240"/>
            </a:xfrm>
          </p:grpSpPr>
          <p:grpSp>
            <p:nvGrpSpPr>
              <p:cNvPr id="1956" name=""/>
              <p:cNvGrpSpPr/>
              <p:nvPr/>
            </p:nvGrpSpPr>
            <p:grpSpPr>
              <a:xfrm>
                <a:off x="2743200" y="5791320"/>
                <a:ext cx="1066320" cy="457200"/>
                <a:chOff x="2743200" y="5791320"/>
                <a:chExt cx="1066320" cy="457200"/>
              </a:xfrm>
            </p:grpSpPr>
            <p:grpSp>
              <p:nvGrpSpPr>
                <p:cNvPr id="1957" name=""/>
                <p:cNvGrpSpPr/>
                <p:nvPr/>
              </p:nvGrpSpPr>
              <p:grpSpPr>
                <a:xfrm>
                  <a:off x="2743200" y="5791320"/>
                  <a:ext cx="533160" cy="457200"/>
                  <a:chOff x="2743200" y="5791320"/>
                  <a:chExt cx="533160" cy="457200"/>
                </a:xfrm>
              </p:grpSpPr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2743200" y="5791320"/>
                    <a:ext cx="533160" cy="457200"/>
                    <a:chOff x="2743200" y="5791320"/>
                    <a:chExt cx="533160" cy="45720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>
                      <a:off x="274320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274320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1" name=""/>
                  <p:cNvSpPr/>
                  <p:nvPr/>
                </p:nvSpPr>
                <p:spPr>
                  <a:xfrm>
                    <a:off x="279684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2" name=""/>
                  <p:cNvGrpSpPr/>
                  <p:nvPr/>
                </p:nvGrpSpPr>
                <p:grpSpPr>
                  <a:xfrm>
                    <a:off x="2863440" y="5867640"/>
                    <a:ext cx="304560" cy="75960"/>
                    <a:chOff x="2863440" y="5867640"/>
                    <a:chExt cx="304560" cy="75960"/>
                  </a:xfrm>
                </p:grpSpPr>
                <p:sp>
                  <p:nvSpPr>
                    <p:cNvPr id="1963" name=""/>
                    <p:cNvSpPr/>
                    <p:nvPr/>
                  </p:nvSpPr>
                  <p:spPr>
                    <a:xfrm>
                      <a:off x="28634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4" name=""/>
                    <p:cNvSpPr/>
                    <p:nvPr/>
                  </p:nvSpPr>
                  <p:spPr>
                    <a:xfrm>
                      <a:off x="2939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>
                      <a:off x="30157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>
                      <a:off x="30916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7" name=""/>
                    <p:cNvSpPr/>
                    <p:nvPr/>
                  </p:nvSpPr>
                  <p:spPr>
                    <a:xfrm>
                      <a:off x="3168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8" name=""/>
                  <p:cNvSpPr/>
                  <p:nvPr/>
                </p:nvSpPr>
                <p:spPr>
                  <a:xfrm>
                    <a:off x="282204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282204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282204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3276360" y="5791320"/>
                  <a:ext cx="533160" cy="457200"/>
                  <a:chOff x="3276360" y="5791320"/>
                  <a:chExt cx="533160" cy="457200"/>
                </a:xfrm>
              </p:grpSpPr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3276360" y="5791320"/>
                    <a:ext cx="533160" cy="457200"/>
                    <a:chOff x="3276360" y="5791320"/>
                    <a:chExt cx="533160" cy="45720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>
                      <a:off x="327636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327636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5" name=""/>
                  <p:cNvSpPr/>
                  <p:nvPr/>
                </p:nvSpPr>
                <p:spPr>
                  <a:xfrm>
                    <a:off x="333000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6" name=""/>
                  <p:cNvGrpSpPr/>
                  <p:nvPr/>
                </p:nvGrpSpPr>
                <p:grpSpPr>
                  <a:xfrm>
                    <a:off x="3396600" y="5867640"/>
                    <a:ext cx="304560" cy="75960"/>
                    <a:chOff x="3396600" y="5867640"/>
                    <a:chExt cx="304560" cy="75960"/>
                  </a:xfrm>
                </p:grpSpPr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33966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>
                      <a:off x="347256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35488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36248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370116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2" name=""/>
                  <p:cNvSpPr/>
                  <p:nvPr/>
                </p:nvSpPr>
                <p:spPr>
                  <a:xfrm>
                    <a:off x="335520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35520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35520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5" name=""/>
                <p:cNvGrpSpPr/>
                <p:nvPr/>
              </p:nvGrpSpPr>
              <p:grpSpPr>
                <a:xfrm>
                  <a:off x="2743200" y="5791320"/>
                  <a:ext cx="533160" cy="457200"/>
                  <a:chOff x="2743200" y="5791320"/>
                  <a:chExt cx="533160" cy="457200"/>
                </a:xfrm>
              </p:grpSpPr>
              <p:grpSp>
                <p:nvGrpSpPr>
                  <p:cNvPr id="1986" name=""/>
                  <p:cNvGrpSpPr/>
                  <p:nvPr/>
                </p:nvGrpSpPr>
                <p:grpSpPr>
                  <a:xfrm>
                    <a:off x="2743200" y="5791320"/>
                    <a:ext cx="533160" cy="457200"/>
                    <a:chOff x="2743200" y="5791320"/>
                    <a:chExt cx="533160" cy="457200"/>
                  </a:xfrm>
                </p:grpSpPr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2743200" y="57913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2743200" y="6019920"/>
                      <a:ext cx="53316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9" name=""/>
                  <p:cNvSpPr/>
                  <p:nvPr/>
                </p:nvSpPr>
                <p:spPr>
                  <a:xfrm>
                    <a:off x="2796840" y="5829480"/>
                    <a:ext cx="42840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2863440" y="5867640"/>
                    <a:ext cx="304560" cy="75960"/>
                    <a:chOff x="2863440" y="5867640"/>
                    <a:chExt cx="304560" cy="7596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>
                      <a:off x="28634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>
                      <a:off x="2939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>
                      <a:off x="30157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30916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3168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6" name=""/>
                  <p:cNvSpPr/>
                  <p:nvPr/>
                </p:nvSpPr>
                <p:spPr>
                  <a:xfrm>
                    <a:off x="2822040" y="6067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2822040" y="6134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2822040" y="6197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9" name=""/>
              <p:cNvGrpSpPr/>
              <p:nvPr/>
            </p:nvGrpSpPr>
            <p:grpSpPr>
              <a:xfrm>
                <a:off x="3809880" y="5791320"/>
                <a:ext cx="1067040" cy="457200"/>
                <a:chOff x="3809880" y="5791320"/>
                <a:chExt cx="1067040" cy="457200"/>
              </a:xfrm>
            </p:grpSpPr>
            <p:grpSp>
              <p:nvGrpSpPr>
                <p:cNvPr id="2000" name=""/>
                <p:cNvGrpSpPr/>
                <p:nvPr/>
              </p:nvGrpSpPr>
              <p:grpSpPr>
                <a:xfrm>
                  <a:off x="3809880" y="5791320"/>
                  <a:ext cx="533520" cy="457200"/>
                  <a:chOff x="3809880" y="5791320"/>
                  <a:chExt cx="533520" cy="457200"/>
                </a:xfrm>
              </p:grpSpPr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3809880" y="5791320"/>
                    <a:ext cx="533520" cy="457200"/>
                    <a:chOff x="3809880" y="5791320"/>
                    <a:chExt cx="533520" cy="45720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>
                      <a:off x="380988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>
                      <a:off x="380988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4" name=""/>
                  <p:cNvSpPr/>
                  <p:nvPr/>
                </p:nvSpPr>
                <p:spPr>
                  <a:xfrm>
                    <a:off x="386388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3930480" y="5867640"/>
                    <a:ext cx="304920" cy="75960"/>
                    <a:chOff x="3930480" y="5867640"/>
                    <a:chExt cx="304920" cy="7596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39304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40068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40831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41590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4235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11" name=""/>
                  <p:cNvSpPr/>
                  <p:nvPr/>
                </p:nvSpPr>
                <p:spPr>
                  <a:xfrm>
                    <a:off x="388908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388908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388908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4343400" y="5791320"/>
                  <a:ext cx="533520" cy="457200"/>
                  <a:chOff x="4343400" y="5791320"/>
                  <a:chExt cx="533520" cy="457200"/>
                </a:xfrm>
              </p:grpSpPr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4343400" y="5791320"/>
                    <a:ext cx="533520" cy="457200"/>
                    <a:chOff x="4343400" y="5791320"/>
                    <a:chExt cx="533520" cy="45720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434340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434340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18" name=""/>
                  <p:cNvSpPr/>
                  <p:nvPr/>
                </p:nvSpPr>
                <p:spPr>
                  <a:xfrm>
                    <a:off x="439740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4464000" y="5867640"/>
                    <a:ext cx="304920" cy="75960"/>
                    <a:chOff x="4464000" y="5867640"/>
                    <a:chExt cx="304920" cy="7596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44640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45403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2" name=""/>
                    <p:cNvSpPr/>
                    <p:nvPr/>
                  </p:nvSpPr>
                  <p:spPr>
                    <a:xfrm>
                      <a:off x="461664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46926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47689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5" name=""/>
                  <p:cNvSpPr/>
                  <p:nvPr/>
                </p:nvSpPr>
                <p:spPr>
                  <a:xfrm>
                    <a:off x="442260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442260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442260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3809880" y="5791320"/>
                  <a:ext cx="533520" cy="457200"/>
                  <a:chOff x="3809880" y="5791320"/>
                  <a:chExt cx="533520" cy="457200"/>
                </a:xfrm>
              </p:grpSpPr>
              <p:grpSp>
                <p:nvGrpSpPr>
                  <p:cNvPr id="2029" name=""/>
                  <p:cNvGrpSpPr/>
                  <p:nvPr/>
                </p:nvGrpSpPr>
                <p:grpSpPr>
                  <a:xfrm>
                    <a:off x="3809880" y="5791320"/>
                    <a:ext cx="533520" cy="457200"/>
                    <a:chOff x="3809880" y="5791320"/>
                    <a:chExt cx="533520" cy="457200"/>
                  </a:xfrm>
                </p:grpSpPr>
                <p:sp>
                  <p:nvSpPr>
                    <p:cNvPr id="2030" name=""/>
                    <p:cNvSpPr/>
                    <p:nvPr/>
                  </p:nvSpPr>
                  <p:spPr>
                    <a:xfrm>
                      <a:off x="3809880" y="57913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3809880" y="6019920"/>
                      <a:ext cx="533520" cy="228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919191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2" name=""/>
                  <p:cNvSpPr/>
                  <p:nvPr/>
                </p:nvSpPr>
                <p:spPr>
                  <a:xfrm>
                    <a:off x="3863880" y="5829480"/>
                    <a:ext cx="428760" cy="152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33" name=""/>
                  <p:cNvGrpSpPr/>
                  <p:nvPr/>
                </p:nvGrpSpPr>
                <p:grpSpPr>
                  <a:xfrm>
                    <a:off x="3930480" y="5867640"/>
                    <a:ext cx="304920" cy="75960"/>
                    <a:chOff x="3930480" y="5867640"/>
                    <a:chExt cx="304920" cy="75960"/>
                  </a:xfrm>
                </p:grpSpPr>
                <p:sp>
                  <p:nvSpPr>
                    <p:cNvPr id="2034" name=""/>
                    <p:cNvSpPr/>
                    <p:nvPr/>
                  </p:nvSpPr>
                  <p:spPr>
                    <a:xfrm>
                      <a:off x="39304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40068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>
                      <a:off x="408312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7" name=""/>
                    <p:cNvSpPr/>
                    <p:nvPr/>
                  </p:nvSpPr>
                  <p:spPr>
                    <a:xfrm>
                      <a:off x="415908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8" name=""/>
                    <p:cNvSpPr/>
                    <p:nvPr/>
                  </p:nvSpPr>
                  <p:spPr>
                    <a:xfrm>
                      <a:off x="4235400" y="58676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9" name=""/>
                  <p:cNvSpPr/>
                  <p:nvPr/>
                </p:nvSpPr>
                <p:spPr>
                  <a:xfrm>
                    <a:off x="3889080" y="60674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3889080" y="613440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3889080" y="6197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2042" name=""/>
              <p:cNvCxnSpPr>
                <a:stCxn id="2043" idx="2"/>
                <a:endCxn id="2044" idx="0"/>
              </p:cNvCxnSpPr>
              <p:nvPr/>
            </p:nvCxnSpPr>
            <p:spPr>
              <a:xfrm rot="5400000">
                <a:off x="4037760" y="3733920"/>
                <a:ext cx="610560" cy="3505680"/>
              </a:xfrm>
              <a:prstGeom prst="bentConnector3">
                <a:avLst>
                  <a:gd name="adj1" fmla="val 49970"/>
                </a:avLst>
              </a:prstGeom>
              <a:ln w="28440">
                <a:solidFill>
                  <a:srgbClr val="ff6600"/>
                </a:solidFill>
                <a:miter/>
              </a:ln>
            </p:spPr>
          </p:cxnSp>
          <p:grpSp>
            <p:nvGrpSpPr>
              <p:cNvPr id="2045" name=""/>
              <p:cNvGrpSpPr/>
              <p:nvPr/>
            </p:nvGrpSpPr>
            <p:grpSpPr>
              <a:xfrm>
                <a:off x="5943600" y="4724280"/>
                <a:ext cx="304560" cy="457200"/>
                <a:chOff x="5943600" y="4724280"/>
                <a:chExt cx="304560" cy="45720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5943600" y="47242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5943600" y="495288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01956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095880" y="502920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2438280" y="5791320"/>
                <a:ext cx="304560" cy="457200"/>
                <a:chOff x="2438280" y="5791320"/>
                <a:chExt cx="304560" cy="45720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2438280" y="57913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438280" y="6019920"/>
                  <a:ext cx="30456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514240" y="60962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590560" y="6096240"/>
                  <a:ext cx="76320" cy="759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3" name=""/>
          <p:cNvGrpSpPr/>
          <p:nvPr/>
        </p:nvGrpSpPr>
        <p:grpSpPr>
          <a:xfrm>
            <a:off x="2991600" y="1523880"/>
            <a:ext cx="1326960" cy="4299840"/>
            <a:chOff x="2991600" y="1523880"/>
            <a:chExt cx="1326960" cy="4299840"/>
          </a:xfrm>
        </p:grpSpPr>
        <p:sp>
          <p:nvSpPr>
            <p:cNvPr id="2054" name=""/>
            <p:cNvSpPr/>
            <p:nvPr/>
          </p:nvSpPr>
          <p:spPr>
            <a:xfrm>
              <a:off x="3067920" y="1523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067920" y="294012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991600" y="43876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991600" y="548640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2819520" y="1143000"/>
            <a:ext cx="5257800" cy="337320"/>
            <a:chOff x="2819520" y="1143000"/>
            <a:chExt cx="5257800" cy="337320"/>
          </a:xfrm>
        </p:grpSpPr>
        <p:sp>
          <p:nvSpPr>
            <p:cNvPr id="2059" name=""/>
            <p:cNvSpPr/>
            <p:nvPr/>
          </p:nvSpPr>
          <p:spPr>
            <a:xfrm>
              <a:off x="2819520" y="1295280"/>
              <a:ext cx="1523880" cy="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53080" y="1295280"/>
              <a:ext cx="1524240" cy="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508640" y="114300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 modules 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2" name=""/>
          <p:cNvGrpSpPr/>
          <p:nvPr/>
        </p:nvGrpSpPr>
        <p:grpSpPr>
          <a:xfrm>
            <a:off x="422640" y="2057400"/>
            <a:ext cx="1727640" cy="4267080"/>
            <a:chOff x="422640" y="2057400"/>
            <a:chExt cx="1727640" cy="4267080"/>
          </a:xfrm>
        </p:grpSpPr>
        <p:sp>
          <p:nvSpPr>
            <p:cNvPr id="2063" name=""/>
            <p:cNvSpPr/>
            <p:nvPr/>
          </p:nvSpPr>
          <p:spPr>
            <a:xfrm>
              <a:off x="422640" y="3809880"/>
              <a:ext cx="1727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gments ma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95280" y="2057400"/>
              <a:ext cx="0" cy="175248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1295280" y="4495680"/>
              <a:ext cx="0" cy="1828800"/>
            </a:xfrm>
            <a:prstGeom prst="line">
              <a:avLst/>
            </a:prstGeom>
            <a:ln w="2232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6" name=""/>
          <p:cNvSpPr/>
          <p:nvPr/>
        </p:nvSpPr>
        <p:spPr>
          <a:xfrm>
            <a:off x="6438960" y="4648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 modules maximum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1:51:05Z</dcterms:created>
  <dc:creator>Luiz Francisco Gerbase</dc:creator>
  <dc:description/>
  <dc:language>en-US</dc:language>
  <cp:lastModifiedBy>Luiz Gerbase</cp:lastModifiedBy>
  <cp:lastPrinted>1999-12-31T13:48:09Z</cp:lastPrinted>
  <dcterms:modified xsi:type="dcterms:W3CDTF">2000-12-10T18:01:41Z</dcterms:modified>
  <cp:revision>296</cp:revision>
  <dc:subject/>
  <dc:title>Slide sem título </dc:title>
</cp:coreProperties>
</file>