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23.png" ContentType="image/png"/>
  <Override PartName="/ppt/media/image6.wmf" ContentType="image/x-wmf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wmf" ContentType="image/x-wmf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715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73160"/>
            <a:ext cx="5715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5080" y="106668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7316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85080" y="377316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1839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389320" y="1066680"/>
            <a:ext cx="1839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321440" y="1066680"/>
            <a:ext cx="1839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73160"/>
            <a:ext cx="1839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389320" y="3773160"/>
            <a:ext cx="1839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321440" y="3773160"/>
            <a:ext cx="1839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57150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715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788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385080" y="1066680"/>
            <a:ext cx="2788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385080" y="1066680"/>
            <a:ext cx="2788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7316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788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385080" y="106668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385080" y="377316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385080" y="106668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73160"/>
            <a:ext cx="5715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5715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0" y="914400"/>
            <a:ext cx="8610480" cy="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capa" descr=""/>
          <p:cNvPicPr/>
          <p:nvPr/>
        </p:nvPicPr>
        <p:blipFill>
          <a:blip r:embed="rId2"/>
          <a:stretch/>
        </p:blipFill>
        <p:spPr>
          <a:xfrm>
            <a:off x="7162920" y="6095880"/>
            <a:ext cx="1790640" cy="76212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8381880" y="457200"/>
            <a:ext cx="457200" cy="457200"/>
            <a:chOff x="8381880" y="457200"/>
            <a:chExt cx="457200" cy="457200"/>
          </a:xfrm>
        </p:grpSpPr>
        <p:sp>
          <p:nvSpPr>
            <p:cNvPr id="6" name=""/>
            <p:cNvSpPr/>
            <p:nvPr/>
          </p:nvSpPr>
          <p:spPr>
            <a:xfrm>
              <a:off x="8381880" y="457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62520" y="510840"/>
              <a:ext cx="188280" cy="188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6.wmf"/><Relationship Id="rId4" Type="http://schemas.openxmlformats.org/officeDocument/2006/relationships/image" Target="../media/image1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ogocapa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010280" cy="29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Base Ponto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2068" name="altus04b" descr=""/>
          <p:cNvPicPr/>
          <p:nvPr/>
        </p:nvPicPr>
        <p:blipFill>
          <a:blip r:embed="rId1"/>
          <a:stretch/>
        </p:blipFill>
        <p:spPr>
          <a:xfrm>
            <a:off x="5791320" y="1066680"/>
            <a:ext cx="3124080" cy="4881600"/>
          </a:xfrm>
          <a:prstGeom prst="rect">
            <a:avLst/>
          </a:prstGeom>
          <a:ln w="0">
            <a:noFill/>
          </a:ln>
        </p:spPr>
      </p:pic>
      <p:grpSp>
        <p:nvGrpSpPr>
          <p:cNvPr id="2069" name=""/>
          <p:cNvGrpSpPr/>
          <p:nvPr/>
        </p:nvGrpSpPr>
        <p:grpSpPr>
          <a:xfrm>
            <a:off x="380880" y="2133720"/>
            <a:ext cx="6172200" cy="1523880"/>
            <a:chOff x="380880" y="2133720"/>
            <a:chExt cx="6172200" cy="1523880"/>
          </a:xfrm>
        </p:grpSpPr>
        <p:sp>
          <p:nvSpPr>
            <p:cNvPr id="2070" name=""/>
            <p:cNvSpPr/>
            <p:nvPr/>
          </p:nvSpPr>
          <p:spPr>
            <a:xfrm>
              <a:off x="380880" y="2133720"/>
              <a:ext cx="4953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Chave mecânica com um código para cada tipo de módu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257800" y="2438280"/>
              <a:ext cx="1295280" cy="1219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2" name=""/>
          <p:cNvGrpSpPr/>
          <p:nvPr/>
        </p:nvGrpSpPr>
        <p:grpSpPr>
          <a:xfrm>
            <a:off x="380880" y="990720"/>
            <a:ext cx="5943600" cy="1143000"/>
            <a:chOff x="380880" y="990720"/>
            <a:chExt cx="5943600" cy="1143000"/>
          </a:xfrm>
        </p:grpSpPr>
        <p:sp>
          <p:nvSpPr>
            <p:cNvPr id="2073" name=""/>
            <p:cNvSpPr/>
            <p:nvPr/>
          </p:nvSpPr>
          <p:spPr>
            <a:xfrm>
              <a:off x="5257800" y="1295280"/>
              <a:ext cx="106668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80880" y="990720"/>
              <a:ext cx="4953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Troca a quente do módulo sem afetar a fiação de camp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80880" y="4114800"/>
            <a:ext cx="6248520" cy="762120"/>
            <a:chOff x="380880" y="4114800"/>
            <a:chExt cx="6248520" cy="762120"/>
          </a:xfrm>
        </p:grpSpPr>
        <p:sp>
          <p:nvSpPr>
            <p:cNvPr id="2076" name=""/>
            <p:cNvSpPr/>
            <p:nvPr/>
          </p:nvSpPr>
          <p:spPr>
            <a:xfrm>
              <a:off x="5257800" y="4419720"/>
              <a:ext cx="137160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80880" y="4114800"/>
              <a:ext cx="5029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66ff"/>
                  </a:solidFill>
                  <a:latin typeface="Tahoma"/>
                </a:rPr>
                <a:t>Bornes com parafuso ou m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380880" y="3124080"/>
            <a:ext cx="6019920" cy="914400"/>
            <a:chOff x="380880" y="3124080"/>
            <a:chExt cx="6019920" cy="914400"/>
          </a:xfrm>
        </p:grpSpPr>
        <p:sp>
          <p:nvSpPr>
            <p:cNvPr id="2079" name=""/>
            <p:cNvSpPr/>
            <p:nvPr/>
          </p:nvSpPr>
          <p:spPr>
            <a:xfrm>
              <a:off x="380880" y="3124080"/>
              <a:ext cx="4892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Opção com e sem fusíveis para qualquer tipo de módu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257800" y="3352680"/>
              <a:ext cx="114300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380880" y="4876920"/>
            <a:ext cx="6400800" cy="1279440"/>
            <a:chOff x="380880" y="4876920"/>
            <a:chExt cx="6400800" cy="1279440"/>
          </a:xfrm>
        </p:grpSpPr>
        <p:sp>
          <p:nvSpPr>
            <p:cNvPr id="2082" name=""/>
            <p:cNvSpPr/>
            <p:nvPr/>
          </p:nvSpPr>
          <p:spPr>
            <a:xfrm flipV="1">
              <a:off x="5334120" y="5181120"/>
              <a:ext cx="1447560" cy="381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80880" y="4876920"/>
              <a:ext cx="502920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Identificação do borne integrad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Alta densidade de conexão : 16 pontos em 10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ahoma"/>
              </a:rPr>
              <a:t>Barramento GBL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Endereçamento e identificação </a:t>
            </a:r>
            <a:r>
              <a:rPr b="0" lang="pt-BR" sz="2400" spc="-1" strike="noStrike">
                <a:solidFill>
                  <a:srgbClr val="ff3300"/>
                </a:solidFill>
                <a:latin typeface="Tahoma"/>
              </a:rPr>
              <a:t>automática</a:t>
            </a: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 de módulo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Troca </a:t>
            </a:r>
            <a:r>
              <a:rPr b="0" lang="pt-BR" sz="2400" spc="-1" strike="noStrike">
                <a:solidFill>
                  <a:srgbClr val="ff3300"/>
                </a:solidFill>
                <a:latin typeface="Tahoma"/>
              </a:rPr>
              <a:t>quente</a:t>
            </a: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 de qualquer módulo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Barramento serial de </a:t>
            </a:r>
            <a:r>
              <a:rPr b="0" lang="pt-BR" sz="2400" spc="-1" strike="noStrike">
                <a:solidFill>
                  <a:srgbClr val="ff3300"/>
                </a:solidFill>
                <a:latin typeface="Tahoma"/>
              </a:rPr>
              <a:t>12Mbaud</a:t>
            </a: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, varredura de 0,45 ms para 480 ponto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Conecta até </a:t>
            </a:r>
            <a:r>
              <a:rPr b="0" lang="pt-BR" sz="2400" spc="-1" strike="noStrike">
                <a:solidFill>
                  <a:srgbClr val="ff3300"/>
                </a:solidFill>
                <a:latin typeface="Tahoma"/>
              </a:rPr>
              <a:t>30 módulos</a:t>
            </a: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 X 16 pontos = 480 ponto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Implementação totalmente em hardware com uso de chips dedicado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2086" name=""/>
          <p:cNvGrpSpPr/>
          <p:nvPr/>
        </p:nvGrpSpPr>
        <p:grpSpPr>
          <a:xfrm>
            <a:off x="1981080" y="5388120"/>
            <a:ext cx="1185840" cy="1011600"/>
            <a:chOff x="1981080" y="5388120"/>
            <a:chExt cx="1185840" cy="1011600"/>
          </a:xfrm>
        </p:grpSpPr>
        <p:grpSp>
          <p:nvGrpSpPr>
            <p:cNvPr id="2087" name=""/>
            <p:cNvGrpSpPr/>
            <p:nvPr/>
          </p:nvGrpSpPr>
          <p:grpSpPr>
            <a:xfrm>
              <a:off x="1981080" y="5388120"/>
              <a:ext cx="1180440" cy="1011600"/>
              <a:chOff x="1981080" y="5388120"/>
              <a:chExt cx="1180440" cy="1011600"/>
            </a:xfrm>
          </p:grpSpPr>
          <p:grpSp>
            <p:nvGrpSpPr>
              <p:cNvPr id="2088" name=""/>
              <p:cNvGrpSpPr/>
              <p:nvPr/>
            </p:nvGrpSpPr>
            <p:grpSpPr>
              <a:xfrm>
                <a:off x="1981080" y="5388120"/>
                <a:ext cx="1180440" cy="1011600"/>
                <a:chOff x="1981080" y="5388120"/>
                <a:chExt cx="1180440" cy="1011600"/>
              </a:xfrm>
            </p:grpSpPr>
            <p:sp>
              <p:nvSpPr>
                <p:cNvPr id="2089" name=""/>
                <p:cNvSpPr/>
                <p:nvPr/>
              </p:nvSpPr>
              <p:spPr>
                <a:xfrm>
                  <a:off x="1981080" y="5388120"/>
                  <a:ext cx="1180440" cy="50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1981080" y="5893920"/>
                  <a:ext cx="1180440" cy="50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1" name=""/>
              <p:cNvSpPr/>
              <p:nvPr/>
            </p:nvSpPr>
            <p:spPr>
              <a:xfrm>
                <a:off x="2157120" y="599904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157120" y="614844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157120" y="628812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4" name=""/>
            <p:cNvSpPr/>
            <p:nvPr/>
          </p:nvSpPr>
          <p:spPr>
            <a:xfrm flipV="1">
              <a:off x="1981080" y="5470560"/>
              <a:ext cx="1185840" cy="1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819520" y="5486400"/>
              <a:ext cx="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743200" y="5562360"/>
              <a:ext cx="237960" cy="23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3157560" y="5388120"/>
            <a:ext cx="1185840" cy="1011600"/>
            <a:chOff x="3157560" y="5388120"/>
            <a:chExt cx="1185840" cy="1011600"/>
          </a:xfrm>
        </p:grpSpPr>
        <p:grpSp>
          <p:nvGrpSpPr>
            <p:cNvPr id="2098" name=""/>
            <p:cNvGrpSpPr/>
            <p:nvPr/>
          </p:nvGrpSpPr>
          <p:grpSpPr>
            <a:xfrm>
              <a:off x="3157560" y="5388120"/>
              <a:ext cx="1180440" cy="1011600"/>
              <a:chOff x="3157560" y="5388120"/>
              <a:chExt cx="1180440" cy="1011600"/>
            </a:xfrm>
          </p:grpSpPr>
          <p:grpSp>
            <p:nvGrpSpPr>
              <p:cNvPr id="2099" name=""/>
              <p:cNvGrpSpPr/>
              <p:nvPr/>
            </p:nvGrpSpPr>
            <p:grpSpPr>
              <a:xfrm>
                <a:off x="3157560" y="5388120"/>
                <a:ext cx="1180440" cy="1011600"/>
                <a:chOff x="3157560" y="5388120"/>
                <a:chExt cx="1180440" cy="1011600"/>
              </a:xfrm>
            </p:grpSpPr>
            <p:sp>
              <p:nvSpPr>
                <p:cNvPr id="2100" name=""/>
                <p:cNvSpPr/>
                <p:nvPr/>
              </p:nvSpPr>
              <p:spPr>
                <a:xfrm>
                  <a:off x="3157560" y="5388120"/>
                  <a:ext cx="1180440" cy="50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3157560" y="5893920"/>
                  <a:ext cx="1180440" cy="50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2" name=""/>
              <p:cNvSpPr/>
              <p:nvPr/>
            </p:nvSpPr>
            <p:spPr>
              <a:xfrm>
                <a:off x="3333600" y="599904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333600" y="614844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333600" y="628812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5" name=""/>
            <p:cNvSpPr/>
            <p:nvPr/>
          </p:nvSpPr>
          <p:spPr>
            <a:xfrm flipV="1">
              <a:off x="3157560" y="5470560"/>
              <a:ext cx="1185840" cy="1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996000" y="5486400"/>
              <a:ext cx="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919680" y="5562360"/>
              <a:ext cx="237960" cy="23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8" name=""/>
          <p:cNvGrpSpPr/>
          <p:nvPr/>
        </p:nvGrpSpPr>
        <p:grpSpPr>
          <a:xfrm>
            <a:off x="4343400" y="5388120"/>
            <a:ext cx="1185840" cy="1011600"/>
            <a:chOff x="4343400" y="5388120"/>
            <a:chExt cx="1185840" cy="1011600"/>
          </a:xfrm>
        </p:grpSpPr>
        <p:grpSp>
          <p:nvGrpSpPr>
            <p:cNvPr id="2109" name=""/>
            <p:cNvGrpSpPr/>
            <p:nvPr/>
          </p:nvGrpSpPr>
          <p:grpSpPr>
            <a:xfrm>
              <a:off x="4343400" y="5388120"/>
              <a:ext cx="1180440" cy="1011600"/>
              <a:chOff x="4343400" y="5388120"/>
              <a:chExt cx="1180440" cy="1011600"/>
            </a:xfrm>
          </p:grpSpPr>
          <p:grpSp>
            <p:nvGrpSpPr>
              <p:cNvPr id="2110" name=""/>
              <p:cNvGrpSpPr/>
              <p:nvPr/>
            </p:nvGrpSpPr>
            <p:grpSpPr>
              <a:xfrm>
                <a:off x="4343400" y="5388120"/>
                <a:ext cx="1180440" cy="1011600"/>
                <a:chOff x="4343400" y="5388120"/>
                <a:chExt cx="1180440" cy="1011600"/>
              </a:xfrm>
            </p:grpSpPr>
            <p:sp>
              <p:nvSpPr>
                <p:cNvPr id="2111" name=""/>
                <p:cNvSpPr/>
                <p:nvPr/>
              </p:nvSpPr>
              <p:spPr>
                <a:xfrm>
                  <a:off x="4343400" y="5388120"/>
                  <a:ext cx="1180440" cy="50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4343400" y="5893920"/>
                  <a:ext cx="1180440" cy="50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3" name=""/>
              <p:cNvSpPr/>
              <p:nvPr/>
            </p:nvSpPr>
            <p:spPr>
              <a:xfrm>
                <a:off x="4519440" y="599904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4519440" y="614844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4519440" y="628812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6" name=""/>
            <p:cNvSpPr/>
            <p:nvPr/>
          </p:nvSpPr>
          <p:spPr>
            <a:xfrm flipV="1">
              <a:off x="4343400" y="5470560"/>
              <a:ext cx="1185840" cy="1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181840" y="5486400"/>
              <a:ext cx="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105520" y="5562360"/>
              <a:ext cx="237960" cy="23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9" name=""/>
          <p:cNvGrpSpPr/>
          <p:nvPr/>
        </p:nvGrpSpPr>
        <p:grpSpPr>
          <a:xfrm>
            <a:off x="5486400" y="5388120"/>
            <a:ext cx="1185840" cy="1011600"/>
            <a:chOff x="5486400" y="5388120"/>
            <a:chExt cx="1185840" cy="1011600"/>
          </a:xfrm>
        </p:grpSpPr>
        <p:grpSp>
          <p:nvGrpSpPr>
            <p:cNvPr id="2120" name=""/>
            <p:cNvGrpSpPr/>
            <p:nvPr/>
          </p:nvGrpSpPr>
          <p:grpSpPr>
            <a:xfrm>
              <a:off x="5486400" y="5388120"/>
              <a:ext cx="1180440" cy="1011600"/>
              <a:chOff x="5486400" y="5388120"/>
              <a:chExt cx="1180440" cy="1011600"/>
            </a:xfrm>
          </p:grpSpPr>
          <p:grpSp>
            <p:nvGrpSpPr>
              <p:cNvPr id="2121" name=""/>
              <p:cNvGrpSpPr/>
              <p:nvPr/>
            </p:nvGrpSpPr>
            <p:grpSpPr>
              <a:xfrm>
                <a:off x="5486400" y="5388120"/>
                <a:ext cx="1180440" cy="1011600"/>
                <a:chOff x="5486400" y="5388120"/>
                <a:chExt cx="1180440" cy="1011600"/>
              </a:xfrm>
            </p:grpSpPr>
            <p:sp>
              <p:nvSpPr>
                <p:cNvPr id="2122" name=""/>
                <p:cNvSpPr/>
                <p:nvPr/>
              </p:nvSpPr>
              <p:spPr>
                <a:xfrm>
                  <a:off x="5486400" y="5388120"/>
                  <a:ext cx="1180440" cy="50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5486400" y="5893920"/>
                  <a:ext cx="1180440" cy="50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4" name=""/>
              <p:cNvSpPr/>
              <p:nvPr/>
            </p:nvSpPr>
            <p:spPr>
              <a:xfrm>
                <a:off x="5662440" y="599904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662440" y="614844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662440" y="628812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7" name=""/>
            <p:cNvSpPr/>
            <p:nvPr/>
          </p:nvSpPr>
          <p:spPr>
            <a:xfrm flipV="1">
              <a:off x="5486400" y="5470560"/>
              <a:ext cx="1185840" cy="1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324840" y="5486400"/>
              <a:ext cx="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248520" y="5562360"/>
              <a:ext cx="237960" cy="23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0" name=""/>
          <p:cNvGrpSpPr/>
          <p:nvPr/>
        </p:nvGrpSpPr>
        <p:grpSpPr>
          <a:xfrm>
            <a:off x="800280" y="5388120"/>
            <a:ext cx="1180080" cy="1011600"/>
            <a:chOff x="800280" y="5388120"/>
            <a:chExt cx="1180080" cy="1011600"/>
          </a:xfrm>
        </p:grpSpPr>
        <p:grpSp>
          <p:nvGrpSpPr>
            <p:cNvPr id="2131" name=""/>
            <p:cNvGrpSpPr/>
            <p:nvPr/>
          </p:nvGrpSpPr>
          <p:grpSpPr>
            <a:xfrm>
              <a:off x="800280" y="5388120"/>
              <a:ext cx="1180080" cy="1011600"/>
              <a:chOff x="800280" y="5388120"/>
              <a:chExt cx="1180080" cy="1011600"/>
            </a:xfrm>
          </p:grpSpPr>
          <p:sp>
            <p:nvSpPr>
              <p:cNvPr id="2132" name=""/>
              <p:cNvSpPr/>
              <p:nvPr/>
            </p:nvSpPr>
            <p:spPr>
              <a:xfrm>
                <a:off x="800280" y="5388120"/>
                <a:ext cx="1180080" cy="5058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739a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800280" y="5893920"/>
                <a:ext cx="1180080" cy="5058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739a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4" name=""/>
            <p:cNvSpPr/>
            <p:nvPr/>
          </p:nvSpPr>
          <p:spPr>
            <a:xfrm>
              <a:off x="968040" y="6116760"/>
              <a:ext cx="338040" cy="169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1474560" y="6116760"/>
              <a:ext cx="337680" cy="169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604880" y="5489640"/>
              <a:ext cx="361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638000" y="54943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562040" y="5540400"/>
              <a:ext cx="237600" cy="23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9" name=""/>
          <p:cNvGrpSpPr/>
          <p:nvPr/>
        </p:nvGrpSpPr>
        <p:grpSpPr>
          <a:xfrm>
            <a:off x="5105520" y="4952880"/>
            <a:ext cx="1600200" cy="274680"/>
            <a:chOff x="5105520" y="4952880"/>
            <a:chExt cx="1600200" cy="274680"/>
          </a:xfrm>
        </p:grpSpPr>
        <p:sp>
          <p:nvSpPr>
            <p:cNvPr id="2140" name=""/>
            <p:cNvSpPr/>
            <p:nvPr/>
          </p:nvSpPr>
          <p:spPr>
            <a:xfrm>
              <a:off x="5105520" y="4952880"/>
              <a:ext cx="160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115600" y="4957920"/>
              <a:ext cx="383760" cy="269640"/>
            </a:xfrm>
            <a:custGeom>
              <a:avLst/>
              <a:gdLst/>
              <a:ahLst/>
              <a:rect l="l" t="t" r="r" b="b"/>
              <a:pathLst>
                <a:path w="265" h="217">
                  <a:moveTo>
                    <a:pt x="0" y="217"/>
                  </a:moveTo>
                  <a:lnTo>
                    <a:pt x="125" y="107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265" y="107"/>
                  </a:lnTo>
                  <a:lnTo>
                    <a:pt x="133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511240" y="4957920"/>
              <a:ext cx="383760" cy="269640"/>
            </a:xfrm>
            <a:custGeom>
              <a:avLst/>
              <a:gdLst/>
              <a:ahLst/>
              <a:rect l="l" t="t" r="r" b="b"/>
              <a:pathLst>
                <a:path w="265" h="217">
                  <a:moveTo>
                    <a:pt x="0" y="217"/>
                  </a:moveTo>
                  <a:lnTo>
                    <a:pt x="132" y="107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265" y="107"/>
                  </a:lnTo>
                  <a:lnTo>
                    <a:pt x="14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7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05440" y="4957920"/>
              <a:ext cx="394200" cy="269640"/>
            </a:xfrm>
            <a:custGeom>
              <a:avLst/>
              <a:gdLst/>
              <a:ahLst/>
              <a:rect l="l" t="t" r="r" b="b"/>
              <a:pathLst>
                <a:path w="272" h="217">
                  <a:moveTo>
                    <a:pt x="0" y="217"/>
                  </a:moveTo>
                  <a:lnTo>
                    <a:pt x="132" y="107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272" y="107"/>
                  </a:lnTo>
                  <a:lnTo>
                    <a:pt x="14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cc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311520" y="4957920"/>
              <a:ext cx="383760" cy="269640"/>
            </a:xfrm>
            <a:custGeom>
              <a:avLst/>
              <a:gdLst/>
              <a:ahLst/>
              <a:rect l="l" t="t" r="r" b="b"/>
              <a:pathLst>
                <a:path w="265" h="217">
                  <a:moveTo>
                    <a:pt x="0" y="217"/>
                  </a:moveTo>
                  <a:lnTo>
                    <a:pt x="132" y="107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265" y="107"/>
                  </a:lnTo>
                  <a:lnTo>
                    <a:pt x="14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5" name=""/>
          <p:cNvGrpSpPr/>
          <p:nvPr/>
        </p:nvGrpSpPr>
        <p:grpSpPr>
          <a:xfrm>
            <a:off x="1981080" y="4952880"/>
            <a:ext cx="1524240" cy="274680"/>
            <a:chOff x="1981080" y="4952880"/>
            <a:chExt cx="1524240" cy="274680"/>
          </a:xfrm>
        </p:grpSpPr>
        <p:sp>
          <p:nvSpPr>
            <p:cNvPr id="2146" name=""/>
            <p:cNvSpPr/>
            <p:nvPr/>
          </p:nvSpPr>
          <p:spPr>
            <a:xfrm flipH="1">
              <a:off x="1981080" y="4952880"/>
              <a:ext cx="152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3130200" y="4957920"/>
              <a:ext cx="365400" cy="269640"/>
            </a:xfrm>
            <a:custGeom>
              <a:avLst/>
              <a:gdLst/>
              <a:ahLst/>
              <a:rect l="l" t="t" r="r" b="b"/>
              <a:pathLst>
                <a:path w="265" h="217">
                  <a:moveTo>
                    <a:pt x="0" y="217"/>
                  </a:moveTo>
                  <a:lnTo>
                    <a:pt x="125" y="107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265" y="107"/>
                  </a:lnTo>
                  <a:lnTo>
                    <a:pt x="133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2752920" y="4957920"/>
              <a:ext cx="365400" cy="269640"/>
            </a:xfrm>
            <a:custGeom>
              <a:avLst/>
              <a:gdLst/>
              <a:ahLst/>
              <a:rect l="l" t="t" r="r" b="b"/>
              <a:pathLst>
                <a:path w="265" h="217">
                  <a:moveTo>
                    <a:pt x="0" y="217"/>
                  </a:moveTo>
                  <a:lnTo>
                    <a:pt x="132" y="107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265" y="107"/>
                  </a:lnTo>
                  <a:lnTo>
                    <a:pt x="14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7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>
              <a:off x="2367360" y="4957920"/>
              <a:ext cx="375480" cy="269640"/>
            </a:xfrm>
            <a:custGeom>
              <a:avLst/>
              <a:gdLst/>
              <a:ahLst/>
              <a:rect l="l" t="t" r="r" b="b"/>
              <a:pathLst>
                <a:path w="272" h="217">
                  <a:moveTo>
                    <a:pt x="0" y="217"/>
                  </a:moveTo>
                  <a:lnTo>
                    <a:pt x="132" y="107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272" y="107"/>
                  </a:lnTo>
                  <a:lnTo>
                    <a:pt x="14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cc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>
              <a:off x="1990800" y="4957920"/>
              <a:ext cx="365400" cy="269640"/>
            </a:xfrm>
            <a:custGeom>
              <a:avLst/>
              <a:gdLst/>
              <a:ahLst/>
              <a:rect l="l" t="t" r="r" b="b"/>
              <a:pathLst>
                <a:path w="265" h="217">
                  <a:moveTo>
                    <a:pt x="0" y="217"/>
                  </a:moveTo>
                  <a:lnTo>
                    <a:pt x="132" y="107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265" y="107"/>
                  </a:lnTo>
                  <a:lnTo>
                    <a:pt x="14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1" name=""/>
          <p:cNvSpPr/>
          <p:nvPr/>
        </p:nvSpPr>
        <p:spPr>
          <a:xfrm>
            <a:off x="3513960" y="48769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2Mba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ff"/>
                </a:solidFill>
                <a:latin typeface="Tahoma"/>
              </a:rPr>
              <a:t>Vantagens na montagem</a:t>
            </a:r>
            <a:endParaRPr b="0" lang="en-US" sz="80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2154" name="logocapa" descr=""/>
          <p:cNvPicPr/>
          <p:nvPr/>
        </p:nvPicPr>
        <p:blipFill>
          <a:blip r:embed="rId1"/>
          <a:stretch/>
        </p:blipFill>
        <p:spPr>
          <a:xfrm>
            <a:off x="7162920" y="6093000"/>
            <a:ext cx="1790640" cy="761760"/>
          </a:xfrm>
          <a:prstGeom prst="rect">
            <a:avLst/>
          </a:prstGeom>
          <a:ln w="0">
            <a:noFill/>
          </a:ln>
        </p:spPr>
      </p:pic>
      <p:grpSp>
        <p:nvGrpSpPr>
          <p:cNvPr id="2155" name=""/>
          <p:cNvGrpSpPr/>
          <p:nvPr/>
        </p:nvGrpSpPr>
        <p:grpSpPr>
          <a:xfrm>
            <a:off x="7924680" y="3200400"/>
            <a:ext cx="685800" cy="685800"/>
            <a:chOff x="7924680" y="3200400"/>
            <a:chExt cx="685800" cy="685800"/>
          </a:xfrm>
        </p:grpSpPr>
        <p:sp>
          <p:nvSpPr>
            <p:cNvPr id="2156" name=""/>
            <p:cNvSpPr/>
            <p:nvPr/>
          </p:nvSpPr>
          <p:spPr>
            <a:xfrm>
              <a:off x="7924680" y="320040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045640" y="3281040"/>
              <a:ext cx="282240" cy="282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3809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Grande fiação entre controlador e borne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Identificação onerosa com anilha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Grande número de bornes - 2 por ponto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Fiação complexa da fonte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Uso de calhas para fiação interna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Projeto elétrico volumoso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Armário tradicional...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160" name=""/>
          <p:cNvSpPr/>
          <p:nvPr/>
        </p:nvSpPr>
        <p:spPr>
          <a:xfrm flipH="1">
            <a:off x="6180120" y="2743200"/>
            <a:ext cx="982800" cy="1704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 flipH="1">
            <a:off x="6479640" y="2743200"/>
            <a:ext cx="682920" cy="1704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6777000" y="2743200"/>
            <a:ext cx="385920" cy="1704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flipH="1">
            <a:off x="6933960" y="2743200"/>
            <a:ext cx="228600" cy="1704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5683320" y="3886200"/>
            <a:ext cx="695160" cy="561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683320" y="3886200"/>
            <a:ext cx="995400" cy="561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7571880" y="2743200"/>
            <a:ext cx="47880" cy="1704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7620120" y="2743200"/>
            <a:ext cx="350640" cy="1704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7924680" y="2743200"/>
            <a:ext cx="639720" cy="172872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7924680" y="2743200"/>
            <a:ext cx="244440" cy="1704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7175160" y="2743200"/>
            <a:ext cx="444600" cy="1704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683320" y="3886200"/>
            <a:ext cx="1690560" cy="561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5683320" y="3886200"/>
            <a:ext cx="2682720" cy="561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5683320" y="3886200"/>
            <a:ext cx="2089080" cy="561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 flipV="1">
            <a:off x="5724360" y="3695400"/>
            <a:ext cx="0" cy="22860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5568840" y="3390840"/>
            <a:ext cx="311400" cy="304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8e8e5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 flipH="1" flipV="1">
            <a:off x="5715000" y="2742840"/>
            <a:ext cx="9360" cy="64764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715000" y="2743200"/>
            <a:ext cx="131760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6999120" y="2895480"/>
            <a:ext cx="781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28020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651348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674676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97860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713412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752328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791064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814392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845352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155000" y="289548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7543800" y="28954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848720" y="289548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 flipH="1">
            <a:off x="7924680" y="2895480"/>
            <a:ext cx="8568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114800" y="5118120"/>
            <a:ext cx="129528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dentific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038480" y="1307880"/>
            <a:ext cx="129564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038480" y="3289320"/>
            <a:ext cx="76212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038480" y="4279680"/>
            <a:ext cx="91440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il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6" name=""/>
          <p:cNvGrpSpPr/>
          <p:nvPr/>
        </p:nvGrpSpPr>
        <p:grpSpPr>
          <a:xfrm>
            <a:off x="6095880" y="4572000"/>
            <a:ext cx="2590920" cy="533520"/>
            <a:chOff x="6095880" y="4572000"/>
            <a:chExt cx="2590920" cy="533520"/>
          </a:xfrm>
        </p:grpSpPr>
        <p:grpSp>
          <p:nvGrpSpPr>
            <p:cNvPr id="2197" name=""/>
            <p:cNvGrpSpPr/>
            <p:nvPr/>
          </p:nvGrpSpPr>
          <p:grpSpPr>
            <a:xfrm>
              <a:off x="6095880" y="4572000"/>
              <a:ext cx="152640" cy="533520"/>
              <a:chOff x="6095880" y="4572000"/>
              <a:chExt cx="152640" cy="533520"/>
            </a:xfrm>
          </p:grpSpPr>
          <p:sp>
            <p:nvSpPr>
              <p:cNvPr id="2198" name=""/>
              <p:cNvSpPr/>
              <p:nvPr/>
            </p:nvSpPr>
            <p:spPr>
              <a:xfrm>
                <a:off x="6095880" y="4572000"/>
                <a:ext cx="15264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6095880" y="4876200"/>
                <a:ext cx="15264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134040" y="499104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134040" y="461016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2" name=""/>
            <p:cNvGrpSpPr/>
            <p:nvPr/>
          </p:nvGrpSpPr>
          <p:grpSpPr>
            <a:xfrm>
              <a:off x="6248520" y="4572000"/>
              <a:ext cx="152280" cy="533520"/>
              <a:chOff x="6248520" y="4572000"/>
              <a:chExt cx="152280" cy="533520"/>
            </a:xfrm>
          </p:grpSpPr>
          <p:sp>
            <p:nvSpPr>
              <p:cNvPr id="2203" name=""/>
              <p:cNvSpPr/>
              <p:nvPr/>
            </p:nvSpPr>
            <p:spPr>
              <a:xfrm>
                <a:off x="624852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V="1">
                <a:off x="624852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628632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28632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7" name=""/>
            <p:cNvGrpSpPr/>
            <p:nvPr/>
          </p:nvGrpSpPr>
          <p:grpSpPr>
            <a:xfrm>
              <a:off x="6400800" y="4572000"/>
              <a:ext cx="152280" cy="533520"/>
              <a:chOff x="6400800" y="4572000"/>
              <a:chExt cx="152280" cy="533520"/>
            </a:xfrm>
          </p:grpSpPr>
          <p:sp>
            <p:nvSpPr>
              <p:cNvPr id="2208" name=""/>
              <p:cNvSpPr/>
              <p:nvPr/>
            </p:nvSpPr>
            <p:spPr>
              <a:xfrm>
                <a:off x="640080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640080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43860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43860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"/>
            <p:cNvGrpSpPr/>
            <p:nvPr/>
          </p:nvGrpSpPr>
          <p:grpSpPr>
            <a:xfrm>
              <a:off x="6553080" y="4572000"/>
              <a:ext cx="152640" cy="533520"/>
              <a:chOff x="6553080" y="4572000"/>
              <a:chExt cx="152640" cy="533520"/>
            </a:xfrm>
          </p:grpSpPr>
          <p:sp>
            <p:nvSpPr>
              <p:cNvPr id="2213" name=""/>
              <p:cNvSpPr/>
              <p:nvPr/>
            </p:nvSpPr>
            <p:spPr>
              <a:xfrm>
                <a:off x="6553080" y="4572000"/>
                <a:ext cx="15264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6553080" y="4876200"/>
                <a:ext cx="15264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591240" y="499104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591240" y="461016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7" name=""/>
            <p:cNvGrpSpPr/>
            <p:nvPr/>
          </p:nvGrpSpPr>
          <p:grpSpPr>
            <a:xfrm>
              <a:off x="6705720" y="4572000"/>
              <a:ext cx="152280" cy="533520"/>
              <a:chOff x="6705720" y="4572000"/>
              <a:chExt cx="152280" cy="533520"/>
            </a:xfrm>
          </p:grpSpPr>
          <p:sp>
            <p:nvSpPr>
              <p:cNvPr id="2218" name=""/>
              <p:cNvSpPr/>
              <p:nvPr/>
            </p:nvSpPr>
            <p:spPr>
              <a:xfrm>
                <a:off x="670572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flipV="1">
                <a:off x="670572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74352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74352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"/>
            <p:cNvGrpSpPr/>
            <p:nvPr/>
          </p:nvGrpSpPr>
          <p:grpSpPr>
            <a:xfrm>
              <a:off x="6858000" y="4572000"/>
              <a:ext cx="152280" cy="533520"/>
              <a:chOff x="6858000" y="4572000"/>
              <a:chExt cx="152280" cy="533520"/>
            </a:xfrm>
          </p:grpSpPr>
          <p:sp>
            <p:nvSpPr>
              <p:cNvPr id="2223" name=""/>
              <p:cNvSpPr/>
              <p:nvPr/>
            </p:nvSpPr>
            <p:spPr>
              <a:xfrm>
                <a:off x="685800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V="1">
                <a:off x="685800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89580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89580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7" name=""/>
            <p:cNvGrpSpPr/>
            <p:nvPr/>
          </p:nvGrpSpPr>
          <p:grpSpPr>
            <a:xfrm>
              <a:off x="7010280" y="4572000"/>
              <a:ext cx="152640" cy="533520"/>
              <a:chOff x="7010280" y="4572000"/>
              <a:chExt cx="152640" cy="533520"/>
            </a:xfrm>
          </p:grpSpPr>
          <p:sp>
            <p:nvSpPr>
              <p:cNvPr id="2228" name=""/>
              <p:cNvSpPr/>
              <p:nvPr/>
            </p:nvSpPr>
            <p:spPr>
              <a:xfrm>
                <a:off x="7010280" y="4572000"/>
                <a:ext cx="15264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7010280" y="4876200"/>
                <a:ext cx="15264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048440" y="499104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048440" y="461016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"/>
            <p:cNvGrpSpPr/>
            <p:nvPr/>
          </p:nvGrpSpPr>
          <p:grpSpPr>
            <a:xfrm>
              <a:off x="7162920" y="4572000"/>
              <a:ext cx="152280" cy="533520"/>
              <a:chOff x="7162920" y="4572000"/>
              <a:chExt cx="152280" cy="533520"/>
            </a:xfrm>
          </p:grpSpPr>
          <p:sp>
            <p:nvSpPr>
              <p:cNvPr id="2233" name=""/>
              <p:cNvSpPr/>
              <p:nvPr/>
            </p:nvSpPr>
            <p:spPr>
              <a:xfrm>
                <a:off x="716292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flipV="1">
                <a:off x="716292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20072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20072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7" name=""/>
            <p:cNvGrpSpPr/>
            <p:nvPr/>
          </p:nvGrpSpPr>
          <p:grpSpPr>
            <a:xfrm>
              <a:off x="7315200" y="4572000"/>
              <a:ext cx="152280" cy="533520"/>
              <a:chOff x="7315200" y="4572000"/>
              <a:chExt cx="152280" cy="533520"/>
            </a:xfrm>
          </p:grpSpPr>
          <p:sp>
            <p:nvSpPr>
              <p:cNvPr id="2238" name=""/>
              <p:cNvSpPr/>
              <p:nvPr/>
            </p:nvSpPr>
            <p:spPr>
              <a:xfrm>
                <a:off x="731520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V="1">
                <a:off x="731520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35300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35300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7467480" y="4572000"/>
              <a:ext cx="152640" cy="533520"/>
              <a:chOff x="7467480" y="4572000"/>
              <a:chExt cx="152640" cy="533520"/>
            </a:xfrm>
          </p:grpSpPr>
          <p:sp>
            <p:nvSpPr>
              <p:cNvPr id="2243" name=""/>
              <p:cNvSpPr/>
              <p:nvPr/>
            </p:nvSpPr>
            <p:spPr>
              <a:xfrm>
                <a:off x="7467480" y="4572000"/>
                <a:ext cx="15264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V="1">
                <a:off x="7467480" y="4876200"/>
                <a:ext cx="15264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505640" y="499104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505640" y="461016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7" name=""/>
            <p:cNvGrpSpPr/>
            <p:nvPr/>
          </p:nvGrpSpPr>
          <p:grpSpPr>
            <a:xfrm>
              <a:off x="7772400" y="4572000"/>
              <a:ext cx="152280" cy="533520"/>
              <a:chOff x="7772400" y="4572000"/>
              <a:chExt cx="152280" cy="533520"/>
            </a:xfrm>
          </p:grpSpPr>
          <p:sp>
            <p:nvSpPr>
              <p:cNvPr id="2248" name=""/>
              <p:cNvSpPr/>
              <p:nvPr/>
            </p:nvSpPr>
            <p:spPr>
              <a:xfrm>
                <a:off x="777240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V="1">
                <a:off x="777240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81020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81020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2" name=""/>
            <p:cNvGrpSpPr/>
            <p:nvPr/>
          </p:nvGrpSpPr>
          <p:grpSpPr>
            <a:xfrm>
              <a:off x="7620120" y="4572000"/>
              <a:ext cx="152280" cy="533520"/>
              <a:chOff x="7620120" y="4572000"/>
              <a:chExt cx="152280" cy="533520"/>
            </a:xfrm>
          </p:grpSpPr>
          <p:sp>
            <p:nvSpPr>
              <p:cNvPr id="2253" name=""/>
              <p:cNvSpPr/>
              <p:nvPr/>
            </p:nvSpPr>
            <p:spPr>
              <a:xfrm>
                <a:off x="762012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762012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65792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65792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7" name=""/>
            <p:cNvGrpSpPr/>
            <p:nvPr/>
          </p:nvGrpSpPr>
          <p:grpSpPr>
            <a:xfrm>
              <a:off x="7924680" y="4572000"/>
              <a:ext cx="152640" cy="533520"/>
              <a:chOff x="7924680" y="4572000"/>
              <a:chExt cx="152640" cy="533520"/>
            </a:xfrm>
          </p:grpSpPr>
          <p:sp>
            <p:nvSpPr>
              <p:cNvPr id="2258" name=""/>
              <p:cNvSpPr/>
              <p:nvPr/>
            </p:nvSpPr>
            <p:spPr>
              <a:xfrm>
                <a:off x="7924680" y="4572000"/>
                <a:ext cx="15264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7924680" y="4876200"/>
                <a:ext cx="15264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962840" y="499104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962840" y="461016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2" name=""/>
            <p:cNvGrpSpPr/>
            <p:nvPr/>
          </p:nvGrpSpPr>
          <p:grpSpPr>
            <a:xfrm>
              <a:off x="8077320" y="4572000"/>
              <a:ext cx="152280" cy="533520"/>
              <a:chOff x="8077320" y="4572000"/>
              <a:chExt cx="152280" cy="533520"/>
            </a:xfrm>
          </p:grpSpPr>
          <p:sp>
            <p:nvSpPr>
              <p:cNvPr id="2263" name=""/>
              <p:cNvSpPr/>
              <p:nvPr/>
            </p:nvSpPr>
            <p:spPr>
              <a:xfrm>
                <a:off x="807732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V="1">
                <a:off x="807732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811512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811512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8229600" y="4572000"/>
              <a:ext cx="152280" cy="533520"/>
              <a:chOff x="8229600" y="4572000"/>
              <a:chExt cx="152280" cy="533520"/>
            </a:xfrm>
          </p:grpSpPr>
          <p:sp>
            <p:nvSpPr>
              <p:cNvPr id="2268" name=""/>
              <p:cNvSpPr/>
              <p:nvPr/>
            </p:nvSpPr>
            <p:spPr>
              <a:xfrm>
                <a:off x="822960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V="1">
                <a:off x="822960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826740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826740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2" name=""/>
            <p:cNvGrpSpPr/>
            <p:nvPr/>
          </p:nvGrpSpPr>
          <p:grpSpPr>
            <a:xfrm>
              <a:off x="8381880" y="4572000"/>
              <a:ext cx="152640" cy="533520"/>
              <a:chOff x="8381880" y="4572000"/>
              <a:chExt cx="152640" cy="533520"/>
            </a:xfrm>
          </p:grpSpPr>
          <p:sp>
            <p:nvSpPr>
              <p:cNvPr id="2273" name=""/>
              <p:cNvSpPr/>
              <p:nvPr/>
            </p:nvSpPr>
            <p:spPr>
              <a:xfrm>
                <a:off x="8381880" y="4572000"/>
                <a:ext cx="15264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flipV="1">
                <a:off x="8381880" y="4876200"/>
                <a:ext cx="15264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8420040" y="499104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420040" y="461016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7" name=""/>
            <p:cNvGrpSpPr/>
            <p:nvPr/>
          </p:nvGrpSpPr>
          <p:grpSpPr>
            <a:xfrm>
              <a:off x="8534520" y="4572000"/>
              <a:ext cx="152280" cy="533520"/>
              <a:chOff x="8534520" y="4572000"/>
              <a:chExt cx="152280" cy="533520"/>
            </a:xfrm>
          </p:grpSpPr>
          <p:sp>
            <p:nvSpPr>
              <p:cNvPr id="2278" name=""/>
              <p:cNvSpPr/>
              <p:nvPr/>
            </p:nvSpPr>
            <p:spPr>
              <a:xfrm>
                <a:off x="853452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853452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57232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857232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2" name=""/>
          <p:cNvSpPr/>
          <p:nvPr/>
        </p:nvSpPr>
        <p:spPr>
          <a:xfrm>
            <a:off x="617220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47712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78168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08660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739152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769608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800100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830592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861048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114800" y="4660920"/>
            <a:ext cx="76212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Bor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4114800" y="5575320"/>
            <a:ext cx="76212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mp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038480" y="3832200"/>
            <a:ext cx="137160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ação Fo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4038480" y="2817720"/>
            <a:ext cx="152424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ação inte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 flipH="1">
            <a:off x="7620120" y="2895480"/>
            <a:ext cx="8568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flipH="1">
            <a:off x="7086600" y="2895480"/>
            <a:ext cx="8568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038480" y="1841400"/>
            <a:ext cx="137160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ação Fo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114800" y="2374920"/>
            <a:ext cx="76212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il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9" name=""/>
          <p:cNvGrpSpPr/>
          <p:nvPr/>
        </p:nvGrpSpPr>
        <p:grpSpPr>
          <a:xfrm>
            <a:off x="6553080" y="1523880"/>
            <a:ext cx="419040" cy="1142640"/>
            <a:chOff x="6553080" y="1523880"/>
            <a:chExt cx="419040" cy="1142640"/>
          </a:xfrm>
        </p:grpSpPr>
        <p:sp>
          <p:nvSpPr>
            <p:cNvPr id="2300" name=""/>
            <p:cNvSpPr/>
            <p:nvPr/>
          </p:nvSpPr>
          <p:spPr>
            <a:xfrm>
              <a:off x="6553080" y="1523880"/>
              <a:ext cx="419040" cy="1142640"/>
            </a:xfrm>
            <a:prstGeom prst="rect">
              <a:avLst/>
            </a:pr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657840" y="1866600"/>
              <a:ext cx="104400" cy="571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657840" y="163764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3" name=""/>
          <p:cNvGrpSpPr/>
          <p:nvPr/>
        </p:nvGrpSpPr>
        <p:grpSpPr>
          <a:xfrm>
            <a:off x="6858000" y="1523880"/>
            <a:ext cx="837360" cy="1142280"/>
            <a:chOff x="6858000" y="1523880"/>
            <a:chExt cx="837360" cy="1142280"/>
          </a:xfrm>
        </p:grpSpPr>
        <p:grpSp>
          <p:nvGrpSpPr>
            <p:cNvPr id="2304" name=""/>
            <p:cNvGrpSpPr/>
            <p:nvPr/>
          </p:nvGrpSpPr>
          <p:grpSpPr>
            <a:xfrm>
              <a:off x="6858000" y="1523880"/>
              <a:ext cx="208800" cy="1142280"/>
              <a:chOff x="6858000" y="1523880"/>
              <a:chExt cx="208800" cy="1142280"/>
            </a:xfrm>
          </p:grpSpPr>
          <p:sp>
            <p:nvSpPr>
              <p:cNvPr id="2305" name=""/>
              <p:cNvSpPr/>
              <p:nvPr/>
            </p:nvSpPr>
            <p:spPr>
              <a:xfrm>
                <a:off x="6858000" y="1523880"/>
                <a:ext cx="208800" cy="11422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962760" y="1904760"/>
                <a:ext cx="0" cy="66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7" name=""/>
            <p:cNvGrpSpPr/>
            <p:nvPr/>
          </p:nvGrpSpPr>
          <p:grpSpPr>
            <a:xfrm>
              <a:off x="7067160" y="1523880"/>
              <a:ext cx="209160" cy="1142280"/>
              <a:chOff x="7067160" y="1523880"/>
              <a:chExt cx="209160" cy="1142280"/>
            </a:xfrm>
          </p:grpSpPr>
          <p:sp>
            <p:nvSpPr>
              <p:cNvPr id="2308" name=""/>
              <p:cNvSpPr/>
              <p:nvPr/>
            </p:nvSpPr>
            <p:spPr>
              <a:xfrm>
                <a:off x="7067160" y="1523880"/>
                <a:ext cx="209160" cy="11422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171920" y="1904760"/>
                <a:ext cx="0" cy="66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0" name=""/>
            <p:cNvGrpSpPr/>
            <p:nvPr/>
          </p:nvGrpSpPr>
          <p:grpSpPr>
            <a:xfrm>
              <a:off x="7277040" y="1523880"/>
              <a:ext cx="208800" cy="1142280"/>
              <a:chOff x="7277040" y="1523880"/>
              <a:chExt cx="208800" cy="1142280"/>
            </a:xfrm>
          </p:grpSpPr>
          <p:sp>
            <p:nvSpPr>
              <p:cNvPr id="2311" name=""/>
              <p:cNvSpPr/>
              <p:nvPr/>
            </p:nvSpPr>
            <p:spPr>
              <a:xfrm>
                <a:off x="7277040" y="1523880"/>
                <a:ext cx="208800" cy="11422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381800" y="1904760"/>
                <a:ext cx="0" cy="66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3" name=""/>
            <p:cNvGrpSpPr/>
            <p:nvPr/>
          </p:nvGrpSpPr>
          <p:grpSpPr>
            <a:xfrm>
              <a:off x="7486560" y="1523880"/>
              <a:ext cx="208800" cy="1142280"/>
              <a:chOff x="7486560" y="1523880"/>
              <a:chExt cx="208800" cy="1142280"/>
            </a:xfrm>
          </p:grpSpPr>
          <p:sp>
            <p:nvSpPr>
              <p:cNvPr id="2314" name=""/>
              <p:cNvSpPr/>
              <p:nvPr/>
            </p:nvSpPr>
            <p:spPr>
              <a:xfrm>
                <a:off x="7486560" y="1523880"/>
                <a:ext cx="208800" cy="11422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591320" y="1904760"/>
                <a:ext cx="0" cy="66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6" name=""/>
          <p:cNvGrpSpPr/>
          <p:nvPr/>
        </p:nvGrpSpPr>
        <p:grpSpPr>
          <a:xfrm>
            <a:off x="7467480" y="1523880"/>
            <a:ext cx="837360" cy="1142280"/>
            <a:chOff x="7467480" y="1523880"/>
            <a:chExt cx="837360" cy="1142280"/>
          </a:xfrm>
        </p:grpSpPr>
        <p:grpSp>
          <p:nvGrpSpPr>
            <p:cNvPr id="2317" name=""/>
            <p:cNvGrpSpPr/>
            <p:nvPr/>
          </p:nvGrpSpPr>
          <p:grpSpPr>
            <a:xfrm>
              <a:off x="7467480" y="1523880"/>
              <a:ext cx="208800" cy="1142280"/>
              <a:chOff x="7467480" y="1523880"/>
              <a:chExt cx="208800" cy="1142280"/>
            </a:xfrm>
          </p:grpSpPr>
          <p:sp>
            <p:nvSpPr>
              <p:cNvPr id="2318" name=""/>
              <p:cNvSpPr/>
              <p:nvPr/>
            </p:nvSpPr>
            <p:spPr>
              <a:xfrm>
                <a:off x="7467480" y="1523880"/>
                <a:ext cx="208800" cy="11422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572240" y="1904760"/>
                <a:ext cx="0" cy="66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7676640" y="1523880"/>
              <a:ext cx="209520" cy="1142280"/>
              <a:chOff x="7676640" y="1523880"/>
              <a:chExt cx="209520" cy="1142280"/>
            </a:xfrm>
          </p:grpSpPr>
          <p:sp>
            <p:nvSpPr>
              <p:cNvPr id="2321" name=""/>
              <p:cNvSpPr/>
              <p:nvPr/>
            </p:nvSpPr>
            <p:spPr>
              <a:xfrm>
                <a:off x="7676640" y="1523880"/>
                <a:ext cx="209520" cy="11422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781760" y="1904760"/>
                <a:ext cx="0" cy="66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7886880" y="1523880"/>
              <a:ext cx="208800" cy="1142280"/>
              <a:chOff x="7886880" y="1523880"/>
              <a:chExt cx="208800" cy="1142280"/>
            </a:xfrm>
          </p:grpSpPr>
          <p:sp>
            <p:nvSpPr>
              <p:cNvPr id="2324" name=""/>
              <p:cNvSpPr/>
              <p:nvPr/>
            </p:nvSpPr>
            <p:spPr>
              <a:xfrm>
                <a:off x="7886880" y="1523880"/>
                <a:ext cx="208800" cy="11422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991640" y="1904760"/>
                <a:ext cx="0" cy="66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8096040" y="1523880"/>
              <a:ext cx="208800" cy="1142280"/>
              <a:chOff x="8096040" y="1523880"/>
              <a:chExt cx="208800" cy="1142280"/>
            </a:xfrm>
          </p:grpSpPr>
          <p:sp>
            <p:nvSpPr>
              <p:cNvPr id="2327" name=""/>
              <p:cNvSpPr/>
              <p:nvPr/>
            </p:nvSpPr>
            <p:spPr>
              <a:xfrm>
                <a:off x="8096040" y="1523880"/>
                <a:ext cx="208800" cy="11422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200800" y="1904760"/>
                <a:ext cx="0" cy="66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Armário  Ponto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ahoma"/>
              </a:rPr>
              <a:t>Eliminação</a:t>
            </a: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 do borne de campo e fiação associada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Redução do </a:t>
            </a:r>
            <a:r>
              <a:rPr b="0" lang="pt-BR" sz="2400" spc="-1" strike="noStrike">
                <a:solidFill>
                  <a:srgbClr val="ff3300"/>
                </a:solidFill>
                <a:latin typeface="Tahoma"/>
              </a:rPr>
              <a:t>tamanho</a:t>
            </a: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 do pain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Redução de </a:t>
            </a:r>
            <a:r>
              <a:rPr b="0" lang="pt-BR" sz="2400" spc="-1" strike="noStrike">
                <a:solidFill>
                  <a:srgbClr val="ff3300"/>
                </a:solidFill>
                <a:latin typeface="Tahoma"/>
              </a:rPr>
              <a:t>custo</a:t>
            </a: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 de materiais: Painel, Bornes, Fiação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Redução de custo de mão de obra: </a:t>
            </a:r>
            <a:r>
              <a:rPr b="0" lang="pt-BR" sz="2400" spc="-1" strike="noStrike">
                <a:solidFill>
                  <a:srgbClr val="ff3300"/>
                </a:solidFill>
                <a:latin typeface="Tahoma"/>
              </a:rPr>
              <a:t>Projeto</a:t>
            </a: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, Montagem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Redução de </a:t>
            </a:r>
            <a:r>
              <a:rPr b="0" lang="pt-BR" sz="2400" spc="-1" strike="noStrike">
                <a:solidFill>
                  <a:srgbClr val="ff3300"/>
                </a:solidFill>
                <a:latin typeface="Tahoma"/>
              </a:rPr>
              <a:t>tempo</a:t>
            </a: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 de Montagem !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ahoma"/>
              </a:rPr>
              <a:t>Simplificação</a:t>
            </a: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 da montagem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2331" name=""/>
          <p:cNvGrpSpPr/>
          <p:nvPr/>
        </p:nvGrpSpPr>
        <p:grpSpPr>
          <a:xfrm>
            <a:off x="4876920" y="1460160"/>
            <a:ext cx="3968280" cy="2425680"/>
            <a:chOff x="4876920" y="1460160"/>
            <a:chExt cx="3968280" cy="2425680"/>
          </a:xfrm>
        </p:grpSpPr>
        <p:sp>
          <p:nvSpPr>
            <p:cNvPr id="2332" name=""/>
            <p:cNvSpPr/>
            <p:nvPr/>
          </p:nvSpPr>
          <p:spPr>
            <a:xfrm>
              <a:off x="8534160" y="2895480"/>
              <a:ext cx="311040" cy="3045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a8a8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019560" y="1460160"/>
              <a:ext cx="1295280" cy="2350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dentificaçã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543800" y="1460160"/>
              <a:ext cx="761400" cy="2350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858000" y="3200400"/>
              <a:ext cx="0" cy="68544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162560" y="3200400"/>
              <a:ext cx="0" cy="68544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467480" y="3200400"/>
              <a:ext cx="0" cy="68544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772400" y="3200400"/>
              <a:ext cx="0" cy="68544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076960" y="3200400"/>
              <a:ext cx="0" cy="68544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029200" y="3364920"/>
              <a:ext cx="761400" cy="2350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amp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1" name=""/>
            <p:cNvGrpSpPr/>
            <p:nvPr/>
          </p:nvGrpSpPr>
          <p:grpSpPr>
            <a:xfrm>
              <a:off x="6629400" y="2438280"/>
              <a:ext cx="1066320" cy="532800"/>
              <a:chOff x="6629400" y="2438280"/>
              <a:chExt cx="1066320" cy="532800"/>
            </a:xfrm>
          </p:grpSpPr>
          <p:grpSp>
            <p:nvGrpSpPr>
              <p:cNvPr id="2342" name=""/>
              <p:cNvGrpSpPr/>
              <p:nvPr/>
            </p:nvGrpSpPr>
            <p:grpSpPr>
              <a:xfrm>
                <a:off x="6629400" y="2438280"/>
                <a:ext cx="533160" cy="532800"/>
                <a:chOff x="6629400" y="2438280"/>
                <a:chExt cx="533160" cy="532800"/>
              </a:xfrm>
            </p:grpSpPr>
            <p:grpSp>
              <p:nvGrpSpPr>
                <p:cNvPr id="2343" name=""/>
                <p:cNvGrpSpPr/>
                <p:nvPr/>
              </p:nvGrpSpPr>
              <p:grpSpPr>
                <a:xfrm>
                  <a:off x="6629400" y="2438280"/>
                  <a:ext cx="533160" cy="532800"/>
                  <a:chOff x="6629400" y="2438280"/>
                  <a:chExt cx="533160" cy="532800"/>
                </a:xfrm>
              </p:grpSpPr>
              <p:sp>
                <p:nvSpPr>
                  <p:cNvPr id="2344" name=""/>
                  <p:cNvSpPr/>
                  <p:nvPr/>
                </p:nvSpPr>
                <p:spPr>
                  <a:xfrm>
                    <a:off x="6629400" y="2438280"/>
                    <a:ext cx="533160" cy="308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>
                    <a:off x="6629400" y="2746800"/>
                    <a:ext cx="533160" cy="224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6" name=""/>
                <p:cNvGrpSpPr/>
                <p:nvPr/>
              </p:nvGrpSpPr>
              <p:grpSpPr>
                <a:xfrm>
                  <a:off x="6629400" y="2438280"/>
                  <a:ext cx="533160" cy="532800"/>
                  <a:chOff x="6629400" y="2438280"/>
                  <a:chExt cx="533160" cy="532800"/>
                </a:xfrm>
              </p:grpSpPr>
              <p:sp>
                <p:nvSpPr>
                  <p:cNvPr id="2347" name=""/>
                  <p:cNvSpPr/>
                  <p:nvPr/>
                </p:nvSpPr>
                <p:spPr>
                  <a:xfrm>
                    <a:off x="6629400" y="2438280"/>
                    <a:ext cx="533160" cy="308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6629400" y="2746800"/>
                    <a:ext cx="533160" cy="224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9" name=""/>
                <p:cNvSpPr/>
                <p:nvPr/>
              </p:nvSpPr>
              <p:spPr>
                <a:xfrm>
                  <a:off x="6677640" y="2466000"/>
                  <a:ext cx="436320" cy="252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6750360" y="2494080"/>
                  <a:ext cx="0" cy="19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6798960" y="2494080"/>
                  <a:ext cx="0" cy="19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6847560" y="2494080"/>
                  <a:ext cx="0" cy="19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6896160" y="2494080"/>
                  <a:ext cx="0" cy="19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6944400" y="2494080"/>
                  <a:ext cx="0" cy="19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6993000" y="2494080"/>
                  <a:ext cx="0" cy="19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7041600" y="2494080"/>
                  <a:ext cx="0" cy="19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6677640" y="2802960"/>
                  <a:ext cx="43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6677640" y="2859120"/>
                  <a:ext cx="43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6677640" y="2915280"/>
                  <a:ext cx="43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0" name=""/>
              <p:cNvGrpSpPr/>
              <p:nvPr/>
            </p:nvGrpSpPr>
            <p:grpSpPr>
              <a:xfrm>
                <a:off x="7162560" y="2438280"/>
                <a:ext cx="533160" cy="532800"/>
                <a:chOff x="7162560" y="2438280"/>
                <a:chExt cx="533160" cy="532800"/>
              </a:xfrm>
            </p:grpSpPr>
            <p:grpSp>
              <p:nvGrpSpPr>
                <p:cNvPr id="2361" name=""/>
                <p:cNvGrpSpPr/>
                <p:nvPr/>
              </p:nvGrpSpPr>
              <p:grpSpPr>
                <a:xfrm>
                  <a:off x="7162560" y="2438280"/>
                  <a:ext cx="533160" cy="532800"/>
                  <a:chOff x="7162560" y="2438280"/>
                  <a:chExt cx="533160" cy="532800"/>
                </a:xfrm>
              </p:grpSpPr>
              <p:sp>
                <p:nvSpPr>
                  <p:cNvPr id="2362" name=""/>
                  <p:cNvSpPr/>
                  <p:nvPr/>
                </p:nvSpPr>
                <p:spPr>
                  <a:xfrm>
                    <a:off x="7162560" y="2438280"/>
                    <a:ext cx="533160" cy="308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7162560" y="2746800"/>
                    <a:ext cx="533160" cy="224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4" name=""/>
                <p:cNvGrpSpPr/>
                <p:nvPr/>
              </p:nvGrpSpPr>
              <p:grpSpPr>
                <a:xfrm>
                  <a:off x="7162560" y="2438280"/>
                  <a:ext cx="533160" cy="532800"/>
                  <a:chOff x="7162560" y="2438280"/>
                  <a:chExt cx="533160" cy="532800"/>
                </a:xfrm>
              </p:grpSpPr>
              <p:sp>
                <p:nvSpPr>
                  <p:cNvPr id="2365" name=""/>
                  <p:cNvSpPr/>
                  <p:nvPr/>
                </p:nvSpPr>
                <p:spPr>
                  <a:xfrm>
                    <a:off x="7162560" y="2438280"/>
                    <a:ext cx="533160" cy="308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7162560" y="2746800"/>
                    <a:ext cx="533160" cy="224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7" name=""/>
                <p:cNvSpPr/>
                <p:nvPr/>
              </p:nvSpPr>
              <p:spPr>
                <a:xfrm>
                  <a:off x="7210800" y="2466000"/>
                  <a:ext cx="436320" cy="252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7283520" y="2494080"/>
                  <a:ext cx="0" cy="19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7332120" y="2494080"/>
                  <a:ext cx="0" cy="19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7380720" y="2494080"/>
                  <a:ext cx="0" cy="19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7429320" y="2494080"/>
                  <a:ext cx="0" cy="19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7477560" y="2494080"/>
                  <a:ext cx="0" cy="19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7526160" y="2494080"/>
                  <a:ext cx="0" cy="19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7574760" y="2494080"/>
                  <a:ext cx="0" cy="19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7210800" y="2802960"/>
                  <a:ext cx="43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7210800" y="2859120"/>
                  <a:ext cx="43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7210800" y="2915280"/>
                  <a:ext cx="43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8" name=""/>
            <p:cNvGrpSpPr/>
            <p:nvPr/>
          </p:nvGrpSpPr>
          <p:grpSpPr>
            <a:xfrm>
              <a:off x="7696080" y="2438280"/>
              <a:ext cx="533160" cy="532800"/>
              <a:chOff x="7696080" y="2438280"/>
              <a:chExt cx="533160" cy="532800"/>
            </a:xfrm>
          </p:grpSpPr>
          <p:grpSp>
            <p:nvGrpSpPr>
              <p:cNvPr id="2379" name=""/>
              <p:cNvGrpSpPr/>
              <p:nvPr/>
            </p:nvGrpSpPr>
            <p:grpSpPr>
              <a:xfrm>
                <a:off x="7696080" y="2438280"/>
                <a:ext cx="533160" cy="532800"/>
                <a:chOff x="7696080" y="2438280"/>
                <a:chExt cx="533160" cy="532800"/>
              </a:xfrm>
            </p:grpSpPr>
            <p:sp>
              <p:nvSpPr>
                <p:cNvPr id="2380" name=""/>
                <p:cNvSpPr/>
                <p:nvPr/>
              </p:nvSpPr>
              <p:spPr>
                <a:xfrm>
                  <a:off x="7696080" y="2438280"/>
                  <a:ext cx="533160" cy="30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7696080" y="2746800"/>
                  <a:ext cx="533160" cy="224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2" name=""/>
              <p:cNvGrpSpPr/>
              <p:nvPr/>
            </p:nvGrpSpPr>
            <p:grpSpPr>
              <a:xfrm>
                <a:off x="7696080" y="2438280"/>
                <a:ext cx="533160" cy="532800"/>
                <a:chOff x="7696080" y="2438280"/>
                <a:chExt cx="533160" cy="532800"/>
              </a:xfrm>
            </p:grpSpPr>
            <p:sp>
              <p:nvSpPr>
                <p:cNvPr id="2383" name=""/>
                <p:cNvSpPr/>
                <p:nvPr/>
              </p:nvSpPr>
              <p:spPr>
                <a:xfrm>
                  <a:off x="7696080" y="2438280"/>
                  <a:ext cx="533160" cy="30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7696080" y="2746800"/>
                  <a:ext cx="533160" cy="224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5" name=""/>
              <p:cNvSpPr/>
              <p:nvPr/>
            </p:nvSpPr>
            <p:spPr>
              <a:xfrm>
                <a:off x="7744320" y="2466000"/>
                <a:ext cx="436320" cy="25236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817040" y="249408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865640" y="249408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914240" y="249408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962840" y="249408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8011080" y="249408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8059680" y="249408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8108280" y="249408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744320" y="2802960"/>
                <a:ext cx="43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744320" y="2859120"/>
                <a:ext cx="43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744320" y="2915280"/>
                <a:ext cx="43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6" name=""/>
            <p:cNvGrpSpPr/>
            <p:nvPr/>
          </p:nvGrpSpPr>
          <p:grpSpPr>
            <a:xfrm>
              <a:off x="6095880" y="2438280"/>
              <a:ext cx="533160" cy="532800"/>
              <a:chOff x="6095880" y="2438280"/>
              <a:chExt cx="533160" cy="532800"/>
            </a:xfrm>
          </p:grpSpPr>
          <p:grpSp>
            <p:nvGrpSpPr>
              <p:cNvPr id="2397" name=""/>
              <p:cNvGrpSpPr/>
              <p:nvPr/>
            </p:nvGrpSpPr>
            <p:grpSpPr>
              <a:xfrm>
                <a:off x="6095880" y="2438280"/>
                <a:ext cx="533160" cy="532800"/>
                <a:chOff x="6095880" y="2438280"/>
                <a:chExt cx="533160" cy="532800"/>
              </a:xfrm>
            </p:grpSpPr>
            <p:sp>
              <p:nvSpPr>
                <p:cNvPr id="2398" name=""/>
                <p:cNvSpPr/>
                <p:nvPr/>
              </p:nvSpPr>
              <p:spPr>
                <a:xfrm>
                  <a:off x="6095880" y="2438280"/>
                  <a:ext cx="533160" cy="30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698db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6095880" y="2746800"/>
                  <a:ext cx="533160" cy="224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698db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0" name=""/>
              <p:cNvGrpSpPr/>
              <p:nvPr/>
            </p:nvGrpSpPr>
            <p:grpSpPr>
              <a:xfrm>
                <a:off x="6095880" y="2438280"/>
                <a:ext cx="533160" cy="532800"/>
                <a:chOff x="6095880" y="2438280"/>
                <a:chExt cx="533160" cy="532800"/>
              </a:xfrm>
            </p:grpSpPr>
            <p:sp>
              <p:nvSpPr>
                <p:cNvPr id="2401" name=""/>
                <p:cNvSpPr/>
                <p:nvPr/>
              </p:nvSpPr>
              <p:spPr>
                <a:xfrm>
                  <a:off x="6095880" y="2438280"/>
                  <a:ext cx="533160" cy="30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698db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6095880" y="2746800"/>
                  <a:ext cx="533160" cy="224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698db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3" name=""/>
              <p:cNvSpPr/>
              <p:nvPr/>
            </p:nvSpPr>
            <p:spPr>
              <a:xfrm>
                <a:off x="6171840" y="2819160"/>
                <a:ext cx="152640" cy="75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400440" y="2819160"/>
                <a:ext cx="152640" cy="75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40160" y="2482560"/>
                <a:ext cx="438120" cy="21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171840" y="2533320"/>
                <a:ext cx="30492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7" name=""/>
            <p:cNvGrpSpPr/>
            <p:nvPr/>
          </p:nvGrpSpPr>
          <p:grpSpPr>
            <a:xfrm>
              <a:off x="5562360" y="2438280"/>
              <a:ext cx="533160" cy="532800"/>
              <a:chOff x="5562360" y="2438280"/>
              <a:chExt cx="533160" cy="532800"/>
            </a:xfrm>
          </p:grpSpPr>
          <p:grpSp>
            <p:nvGrpSpPr>
              <p:cNvPr id="2408" name=""/>
              <p:cNvGrpSpPr/>
              <p:nvPr/>
            </p:nvGrpSpPr>
            <p:grpSpPr>
              <a:xfrm>
                <a:off x="5562360" y="2438280"/>
                <a:ext cx="533160" cy="532800"/>
                <a:chOff x="5562360" y="2438280"/>
                <a:chExt cx="533160" cy="532800"/>
              </a:xfrm>
            </p:grpSpPr>
            <p:sp>
              <p:nvSpPr>
                <p:cNvPr id="2409" name=""/>
                <p:cNvSpPr/>
                <p:nvPr/>
              </p:nvSpPr>
              <p:spPr>
                <a:xfrm>
                  <a:off x="5562360" y="2438280"/>
                  <a:ext cx="533160" cy="30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5562360" y="2746800"/>
                  <a:ext cx="533160" cy="224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1" name=""/>
              <p:cNvGrpSpPr/>
              <p:nvPr/>
            </p:nvGrpSpPr>
            <p:grpSpPr>
              <a:xfrm>
                <a:off x="5562360" y="2438280"/>
                <a:ext cx="533160" cy="532800"/>
                <a:chOff x="5562360" y="2438280"/>
                <a:chExt cx="533160" cy="532800"/>
              </a:xfrm>
            </p:grpSpPr>
            <p:sp>
              <p:nvSpPr>
                <p:cNvPr id="2412" name=""/>
                <p:cNvSpPr/>
                <p:nvPr/>
              </p:nvSpPr>
              <p:spPr>
                <a:xfrm>
                  <a:off x="5562360" y="2438280"/>
                  <a:ext cx="533160" cy="30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5562360" y="2746800"/>
                  <a:ext cx="533160" cy="224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4" name=""/>
              <p:cNvSpPr/>
              <p:nvPr/>
            </p:nvSpPr>
            <p:spPr>
              <a:xfrm>
                <a:off x="5638320" y="2819160"/>
                <a:ext cx="75600" cy="763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606280" y="2482560"/>
                <a:ext cx="438120" cy="2160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1c17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6" name=""/>
            <p:cNvSpPr/>
            <p:nvPr/>
          </p:nvSpPr>
          <p:spPr>
            <a:xfrm>
              <a:off x="4876920" y="1917000"/>
              <a:ext cx="1295280" cy="2350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ntrolad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686800" y="3200400"/>
              <a:ext cx="0" cy="15192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686800" y="2743200"/>
              <a:ext cx="0" cy="15192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8381880" y="3352680"/>
              <a:ext cx="30456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H="1">
              <a:off x="8229240" y="2743200"/>
              <a:ext cx="45684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8381880" y="2895480"/>
              <a:ext cx="0" cy="45684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>
              <a:off x="8229600" y="2895480"/>
              <a:ext cx="15192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Redução de tamanho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6400440" y="2971800"/>
            <a:ext cx="2438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Área 20% menor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Profundidade 47% menor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Volume 50% menor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2425" name=""/>
          <p:cNvGrpSpPr/>
          <p:nvPr/>
        </p:nvGrpSpPr>
        <p:grpSpPr>
          <a:xfrm>
            <a:off x="228600" y="1905120"/>
            <a:ext cx="2641680" cy="4267080"/>
            <a:chOff x="228600" y="1905120"/>
            <a:chExt cx="2641680" cy="4267080"/>
          </a:xfrm>
        </p:grpSpPr>
        <p:grpSp>
          <p:nvGrpSpPr>
            <p:cNvPr id="2426" name=""/>
            <p:cNvGrpSpPr/>
            <p:nvPr/>
          </p:nvGrpSpPr>
          <p:grpSpPr>
            <a:xfrm>
              <a:off x="228600" y="1905120"/>
              <a:ext cx="2641680" cy="4267080"/>
              <a:chOff x="228600" y="1905120"/>
              <a:chExt cx="2641680" cy="4267080"/>
            </a:xfrm>
          </p:grpSpPr>
          <p:grpSp>
            <p:nvGrpSpPr>
              <p:cNvPr id="2427" name=""/>
              <p:cNvGrpSpPr/>
              <p:nvPr/>
            </p:nvGrpSpPr>
            <p:grpSpPr>
              <a:xfrm>
                <a:off x="228600" y="1905120"/>
                <a:ext cx="2641680" cy="4267080"/>
                <a:chOff x="228600" y="1905120"/>
                <a:chExt cx="2641680" cy="4267080"/>
              </a:xfrm>
            </p:grpSpPr>
            <p:sp>
              <p:nvSpPr>
                <p:cNvPr id="2428" name=""/>
                <p:cNvSpPr/>
                <p:nvPr/>
              </p:nvSpPr>
              <p:spPr>
                <a:xfrm>
                  <a:off x="228600" y="1905120"/>
                  <a:ext cx="2641680" cy="42670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327960" y="2006640"/>
                  <a:ext cx="2442240" cy="4013280"/>
                </a:xfrm>
                <a:prstGeom prst="rect">
                  <a:avLst/>
                </a:prstGeom>
                <a:solidFill>
                  <a:srgbClr val="ffc8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0" name=""/>
              <p:cNvGrpSpPr/>
              <p:nvPr/>
            </p:nvGrpSpPr>
            <p:grpSpPr>
              <a:xfrm>
                <a:off x="428040" y="2311200"/>
                <a:ext cx="249120" cy="609480"/>
                <a:chOff x="428040" y="2311200"/>
                <a:chExt cx="249120" cy="609480"/>
              </a:xfrm>
            </p:grpSpPr>
            <p:sp>
              <p:nvSpPr>
                <p:cNvPr id="2431" name=""/>
                <p:cNvSpPr/>
                <p:nvPr/>
              </p:nvSpPr>
              <p:spPr>
                <a:xfrm>
                  <a:off x="428040" y="2311200"/>
                  <a:ext cx="24912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7a7a7"/>
                    </a:gs>
                    <a:gs pos="100000">
                      <a:srgbClr val="dddddd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490320" y="2494080"/>
                  <a:ext cx="619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490320" y="2371680"/>
                  <a:ext cx="0" cy="60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4" name=""/>
              <p:cNvGrpSpPr/>
              <p:nvPr/>
            </p:nvGrpSpPr>
            <p:grpSpPr>
              <a:xfrm>
                <a:off x="677160" y="2311200"/>
                <a:ext cx="348480" cy="609480"/>
                <a:chOff x="677160" y="2311200"/>
                <a:chExt cx="348480" cy="609480"/>
              </a:xfrm>
            </p:grpSpPr>
            <p:grpSp>
              <p:nvGrpSpPr>
                <p:cNvPr id="2435" name=""/>
                <p:cNvGrpSpPr/>
                <p:nvPr/>
              </p:nvGrpSpPr>
              <p:grpSpPr>
                <a:xfrm>
                  <a:off x="677160" y="2311200"/>
                  <a:ext cx="116280" cy="609480"/>
                  <a:chOff x="677160" y="2311200"/>
                  <a:chExt cx="116280" cy="609480"/>
                </a:xfrm>
              </p:grpSpPr>
              <p:sp>
                <p:nvSpPr>
                  <p:cNvPr id="2436" name=""/>
                  <p:cNvSpPr/>
                  <p:nvPr/>
                </p:nvSpPr>
                <p:spPr>
                  <a:xfrm>
                    <a:off x="677160" y="2311200"/>
                    <a:ext cx="11628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>
                    <a:off x="73548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8" name=""/>
                <p:cNvGrpSpPr/>
                <p:nvPr/>
              </p:nvGrpSpPr>
              <p:grpSpPr>
                <a:xfrm>
                  <a:off x="793440" y="2311200"/>
                  <a:ext cx="115920" cy="609480"/>
                  <a:chOff x="793440" y="2311200"/>
                  <a:chExt cx="115920" cy="609480"/>
                </a:xfrm>
              </p:grpSpPr>
              <p:sp>
                <p:nvSpPr>
                  <p:cNvPr id="2439" name=""/>
                  <p:cNvSpPr/>
                  <p:nvPr/>
                </p:nvSpPr>
                <p:spPr>
                  <a:xfrm>
                    <a:off x="793440" y="2311200"/>
                    <a:ext cx="11592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0" name=""/>
                  <p:cNvSpPr/>
                  <p:nvPr/>
                </p:nvSpPr>
                <p:spPr>
                  <a:xfrm>
                    <a:off x="85140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1" name=""/>
                <p:cNvGrpSpPr/>
                <p:nvPr/>
              </p:nvGrpSpPr>
              <p:grpSpPr>
                <a:xfrm>
                  <a:off x="909720" y="2311200"/>
                  <a:ext cx="115920" cy="609480"/>
                  <a:chOff x="909720" y="2311200"/>
                  <a:chExt cx="115920" cy="609480"/>
                </a:xfrm>
              </p:grpSpPr>
              <p:sp>
                <p:nvSpPr>
                  <p:cNvPr id="2442" name=""/>
                  <p:cNvSpPr/>
                  <p:nvPr/>
                </p:nvSpPr>
                <p:spPr>
                  <a:xfrm>
                    <a:off x="909720" y="2311200"/>
                    <a:ext cx="11592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>
                    <a:off x="96768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4" name=""/>
              <p:cNvGrpSpPr/>
              <p:nvPr/>
            </p:nvGrpSpPr>
            <p:grpSpPr>
              <a:xfrm>
                <a:off x="1026000" y="2311200"/>
                <a:ext cx="348120" cy="609480"/>
                <a:chOff x="1026000" y="2311200"/>
                <a:chExt cx="348120" cy="609480"/>
              </a:xfrm>
            </p:grpSpPr>
            <p:grpSp>
              <p:nvGrpSpPr>
                <p:cNvPr id="2445" name=""/>
                <p:cNvGrpSpPr/>
                <p:nvPr/>
              </p:nvGrpSpPr>
              <p:grpSpPr>
                <a:xfrm>
                  <a:off x="1026000" y="2311200"/>
                  <a:ext cx="116280" cy="609480"/>
                  <a:chOff x="1026000" y="2311200"/>
                  <a:chExt cx="116280" cy="609480"/>
                </a:xfrm>
              </p:grpSpPr>
              <p:sp>
                <p:nvSpPr>
                  <p:cNvPr id="2446" name=""/>
                  <p:cNvSpPr/>
                  <p:nvPr/>
                </p:nvSpPr>
                <p:spPr>
                  <a:xfrm>
                    <a:off x="1026000" y="2311200"/>
                    <a:ext cx="11628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7" name=""/>
                  <p:cNvSpPr/>
                  <p:nvPr/>
                </p:nvSpPr>
                <p:spPr>
                  <a:xfrm>
                    <a:off x="108432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8" name=""/>
                <p:cNvGrpSpPr/>
                <p:nvPr/>
              </p:nvGrpSpPr>
              <p:grpSpPr>
                <a:xfrm>
                  <a:off x="1142280" y="2311200"/>
                  <a:ext cx="115920" cy="609480"/>
                  <a:chOff x="1142280" y="2311200"/>
                  <a:chExt cx="115920" cy="609480"/>
                </a:xfrm>
              </p:grpSpPr>
              <p:sp>
                <p:nvSpPr>
                  <p:cNvPr id="2449" name=""/>
                  <p:cNvSpPr/>
                  <p:nvPr/>
                </p:nvSpPr>
                <p:spPr>
                  <a:xfrm>
                    <a:off x="1142280" y="2311200"/>
                    <a:ext cx="11592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>
                    <a:off x="120024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1" name=""/>
                <p:cNvGrpSpPr/>
                <p:nvPr/>
              </p:nvGrpSpPr>
              <p:grpSpPr>
                <a:xfrm>
                  <a:off x="1258200" y="2311200"/>
                  <a:ext cx="115920" cy="609480"/>
                  <a:chOff x="1258200" y="2311200"/>
                  <a:chExt cx="115920" cy="609480"/>
                </a:xfrm>
              </p:grpSpPr>
              <p:sp>
                <p:nvSpPr>
                  <p:cNvPr id="2452" name=""/>
                  <p:cNvSpPr/>
                  <p:nvPr/>
                </p:nvSpPr>
                <p:spPr>
                  <a:xfrm>
                    <a:off x="1258200" y="2311200"/>
                    <a:ext cx="11592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"/>
                  <p:cNvSpPr/>
                  <p:nvPr/>
                </p:nvSpPr>
                <p:spPr>
                  <a:xfrm>
                    <a:off x="131616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4" name=""/>
              <p:cNvGrpSpPr/>
              <p:nvPr/>
            </p:nvGrpSpPr>
            <p:grpSpPr>
              <a:xfrm>
                <a:off x="1374840" y="2311200"/>
                <a:ext cx="348480" cy="609480"/>
                <a:chOff x="1374840" y="2311200"/>
                <a:chExt cx="348480" cy="609480"/>
              </a:xfrm>
            </p:grpSpPr>
            <p:grpSp>
              <p:nvGrpSpPr>
                <p:cNvPr id="2455" name=""/>
                <p:cNvGrpSpPr/>
                <p:nvPr/>
              </p:nvGrpSpPr>
              <p:grpSpPr>
                <a:xfrm>
                  <a:off x="1374840" y="2311200"/>
                  <a:ext cx="116280" cy="609480"/>
                  <a:chOff x="1374840" y="2311200"/>
                  <a:chExt cx="116280" cy="609480"/>
                </a:xfrm>
              </p:grpSpPr>
              <p:sp>
                <p:nvSpPr>
                  <p:cNvPr id="2456" name=""/>
                  <p:cNvSpPr/>
                  <p:nvPr/>
                </p:nvSpPr>
                <p:spPr>
                  <a:xfrm>
                    <a:off x="1374840" y="2311200"/>
                    <a:ext cx="11628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>
                    <a:off x="143316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8" name=""/>
                <p:cNvGrpSpPr/>
                <p:nvPr/>
              </p:nvGrpSpPr>
              <p:grpSpPr>
                <a:xfrm>
                  <a:off x="1491120" y="2311200"/>
                  <a:ext cx="115920" cy="609480"/>
                  <a:chOff x="1491120" y="2311200"/>
                  <a:chExt cx="115920" cy="609480"/>
                </a:xfrm>
              </p:grpSpPr>
              <p:sp>
                <p:nvSpPr>
                  <p:cNvPr id="2459" name=""/>
                  <p:cNvSpPr/>
                  <p:nvPr/>
                </p:nvSpPr>
                <p:spPr>
                  <a:xfrm>
                    <a:off x="1491120" y="2311200"/>
                    <a:ext cx="11592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154908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1" name=""/>
                <p:cNvGrpSpPr/>
                <p:nvPr/>
              </p:nvGrpSpPr>
              <p:grpSpPr>
                <a:xfrm>
                  <a:off x="1607400" y="2311200"/>
                  <a:ext cx="115920" cy="609480"/>
                  <a:chOff x="1607400" y="2311200"/>
                  <a:chExt cx="115920" cy="609480"/>
                </a:xfrm>
              </p:grpSpPr>
              <p:sp>
                <p:nvSpPr>
                  <p:cNvPr id="2462" name=""/>
                  <p:cNvSpPr/>
                  <p:nvPr/>
                </p:nvSpPr>
                <p:spPr>
                  <a:xfrm>
                    <a:off x="1607400" y="2311200"/>
                    <a:ext cx="11592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3" name=""/>
                  <p:cNvSpPr/>
                  <p:nvPr/>
                </p:nvSpPr>
                <p:spPr>
                  <a:xfrm>
                    <a:off x="166536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64" name=""/>
              <p:cNvGrpSpPr/>
              <p:nvPr/>
            </p:nvGrpSpPr>
            <p:grpSpPr>
              <a:xfrm>
                <a:off x="1723680" y="2311200"/>
                <a:ext cx="348480" cy="609480"/>
                <a:chOff x="1723680" y="2311200"/>
                <a:chExt cx="348480" cy="609480"/>
              </a:xfrm>
            </p:grpSpPr>
            <p:grpSp>
              <p:nvGrpSpPr>
                <p:cNvPr id="2465" name=""/>
                <p:cNvGrpSpPr/>
                <p:nvPr/>
              </p:nvGrpSpPr>
              <p:grpSpPr>
                <a:xfrm>
                  <a:off x="1723680" y="2311200"/>
                  <a:ext cx="116280" cy="609480"/>
                  <a:chOff x="1723680" y="2311200"/>
                  <a:chExt cx="116280" cy="609480"/>
                </a:xfrm>
              </p:grpSpPr>
              <p:sp>
                <p:nvSpPr>
                  <p:cNvPr id="2466" name=""/>
                  <p:cNvSpPr/>
                  <p:nvPr/>
                </p:nvSpPr>
                <p:spPr>
                  <a:xfrm>
                    <a:off x="1723680" y="2311200"/>
                    <a:ext cx="11628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178200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8" name=""/>
                <p:cNvGrpSpPr/>
                <p:nvPr/>
              </p:nvGrpSpPr>
              <p:grpSpPr>
                <a:xfrm>
                  <a:off x="1839960" y="2311200"/>
                  <a:ext cx="115920" cy="609480"/>
                  <a:chOff x="1839960" y="2311200"/>
                  <a:chExt cx="115920" cy="609480"/>
                </a:xfrm>
              </p:grpSpPr>
              <p:sp>
                <p:nvSpPr>
                  <p:cNvPr id="2469" name=""/>
                  <p:cNvSpPr/>
                  <p:nvPr/>
                </p:nvSpPr>
                <p:spPr>
                  <a:xfrm>
                    <a:off x="1839960" y="2311200"/>
                    <a:ext cx="11592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>
                    <a:off x="189792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1" name=""/>
                <p:cNvGrpSpPr/>
                <p:nvPr/>
              </p:nvGrpSpPr>
              <p:grpSpPr>
                <a:xfrm>
                  <a:off x="1956240" y="2311200"/>
                  <a:ext cx="115920" cy="609480"/>
                  <a:chOff x="1956240" y="2311200"/>
                  <a:chExt cx="115920" cy="609480"/>
                </a:xfrm>
              </p:grpSpPr>
              <p:sp>
                <p:nvSpPr>
                  <p:cNvPr id="2472" name=""/>
                  <p:cNvSpPr/>
                  <p:nvPr/>
                </p:nvSpPr>
                <p:spPr>
                  <a:xfrm>
                    <a:off x="1956240" y="2311200"/>
                    <a:ext cx="11592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>
                    <a:off x="201420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74" name=""/>
              <p:cNvSpPr/>
              <p:nvPr/>
            </p:nvSpPr>
            <p:spPr>
              <a:xfrm rot="5400000">
                <a:off x="1371600" y="2129760"/>
                <a:ext cx="304560" cy="22928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624320" y="3429000"/>
                <a:ext cx="398520" cy="24890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378000" y="3429000"/>
                <a:ext cx="99360" cy="24890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2521440" y="3429000"/>
                <a:ext cx="149400" cy="24890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926280" y="3429000"/>
                <a:ext cx="199440" cy="24890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9" name=""/>
              <p:cNvGrpSpPr/>
              <p:nvPr/>
            </p:nvGrpSpPr>
            <p:grpSpPr>
              <a:xfrm>
                <a:off x="2172960" y="4140000"/>
                <a:ext cx="199080" cy="355320"/>
                <a:chOff x="2172960" y="4140000"/>
                <a:chExt cx="199080" cy="355320"/>
              </a:xfrm>
            </p:grpSpPr>
            <p:sp>
              <p:nvSpPr>
                <p:cNvPr id="2480" name=""/>
                <p:cNvSpPr/>
                <p:nvPr/>
              </p:nvSpPr>
              <p:spPr>
                <a:xfrm rot="5400000">
                  <a:off x="2247120" y="406548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rot="5400000">
                  <a:off x="2247120" y="411624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 rot="5400000">
                  <a:off x="2247120" y="416736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rot="5400000">
                  <a:off x="2247120" y="421776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 rot="5400000">
                  <a:off x="2247120" y="426888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rot="5400000">
                  <a:off x="2247120" y="432000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 rot="5400000">
                  <a:off x="2247120" y="437040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7" name=""/>
              <p:cNvGrpSpPr/>
              <p:nvPr/>
            </p:nvGrpSpPr>
            <p:grpSpPr>
              <a:xfrm>
                <a:off x="2172960" y="4495680"/>
                <a:ext cx="199080" cy="355320"/>
                <a:chOff x="2172960" y="4495680"/>
                <a:chExt cx="199080" cy="355320"/>
              </a:xfrm>
            </p:grpSpPr>
            <p:sp>
              <p:nvSpPr>
                <p:cNvPr id="2488" name=""/>
                <p:cNvSpPr/>
                <p:nvPr/>
              </p:nvSpPr>
              <p:spPr>
                <a:xfrm rot="5400000">
                  <a:off x="2247120" y="442116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rot="5400000">
                  <a:off x="2247120" y="447192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rot="5400000">
                  <a:off x="2247120" y="452304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rot="5400000">
                  <a:off x="2247120" y="457344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rot="5400000">
                  <a:off x="2247120" y="462456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rot="5400000">
                  <a:off x="2247120" y="467568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rot="5400000">
                  <a:off x="2247120" y="472608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5" name=""/>
              <p:cNvGrpSpPr/>
              <p:nvPr/>
            </p:nvGrpSpPr>
            <p:grpSpPr>
              <a:xfrm>
                <a:off x="2171520" y="5561640"/>
                <a:ext cx="198720" cy="354960"/>
                <a:chOff x="2171520" y="5561640"/>
                <a:chExt cx="198720" cy="354960"/>
              </a:xfrm>
            </p:grpSpPr>
            <p:sp>
              <p:nvSpPr>
                <p:cNvPr id="2496" name=""/>
                <p:cNvSpPr/>
                <p:nvPr/>
              </p:nvSpPr>
              <p:spPr>
                <a:xfrm rot="5400000">
                  <a:off x="2245680" y="548748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rot="5400000">
                  <a:off x="2245320" y="553788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rot="5400000">
                  <a:off x="2245320" y="558900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rot="5400000">
                  <a:off x="2245680" y="563976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rot="5400000">
                  <a:off x="2245320" y="569052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rot="5400000">
                  <a:off x="2245320" y="574128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rot="5400000">
                  <a:off x="2245680" y="579204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3" name=""/>
              <p:cNvGrpSpPr/>
              <p:nvPr/>
            </p:nvGrpSpPr>
            <p:grpSpPr>
              <a:xfrm>
                <a:off x="2171520" y="5205960"/>
                <a:ext cx="198720" cy="355320"/>
                <a:chOff x="2171520" y="5205960"/>
                <a:chExt cx="198720" cy="355320"/>
              </a:xfrm>
            </p:grpSpPr>
            <p:sp>
              <p:nvSpPr>
                <p:cNvPr id="2504" name=""/>
                <p:cNvSpPr/>
                <p:nvPr/>
              </p:nvSpPr>
              <p:spPr>
                <a:xfrm rot="5400000">
                  <a:off x="2245680" y="513180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rot="5400000">
                  <a:off x="2245320" y="518220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rot="5400000">
                  <a:off x="2245320" y="523332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 rot="5400000">
                  <a:off x="2245680" y="528408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 rot="5400000">
                  <a:off x="2245320" y="533484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 rot="5400000">
                  <a:off x="2245320" y="538596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rot="5400000">
                  <a:off x="2245680" y="543672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1" name=""/>
              <p:cNvGrpSpPr/>
              <p:nvPr/>
            </p:nvGrpSpPr>
            <p:grpSpPr>
              <a:xfrm>
                <a:off x="2171520" y="4850280"/>
                <a:ext cx="198720" cy="355320"/>
                <a:chOff x="2171520" y="4850280"/>
                <a:chExt cx="198720" cy="355320"/>
              </a:xfrm>
            </p:grpSpPr>
            <p:sp>
              <p:nvSpPr>
                <p:cNvPr id="2512" name=""/>
                <p:cNvSpPr/>
                <p:nvPr/>
              </p:nvSpPr>
              <p:spPr>
                <a:xfrm rot="5400000">
                  <a:off x="2245680" y="477612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rot="5400000">
                  <a:off x="2245320" y="482652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rot="5400000">
                  <a:off x="2245320" y="487764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 rot="5400000">
                  <a:off x="2245680" y="492840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 rot="5400000">
                  <a:off x="2245320" y="497916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rot="5400000">
                  <a:off x="2245320" y="503028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rot="5400000">
                  <a:off x="2245680" y="508104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9" name=""/>
              <p:cNvGrpSpPr/>
              <p:nvPr/>
            </p:nvGrpSpPr>
            <p:grpSpPr>
              <a:xfrm>
                <a:off x="1275120" y="3429000"/>
                <a:ext cx="199440" cy="2488320"/>
                <a:chOff x="1275120" y="3429000"/>
                <a:chExt cx="199440" cy="2488320"/>
              </a:xfrm>
            </p:grpSpPr>
            <p:grpSp>
              <p:nvGrpSpPr>
                <p:cNvPr id="2520" name=""/>
                <p:cNvGrpSpPr/>
                <p:nvPr/>
              </p:nvGrpSpPr>
              <p:grpSpPr>
                <a:xfrm>
                  <a:off x="1275120" y="3429000"/>
                  <a:ext cx="198720" cy="354960"/>
                  <a:chOff x="1275120" y="3429000"/>
                  <a:chExt cx="198720" cy="354960"/>
                </a:xfrm>
              </p:grpSpPr>
              <p:sp>
                <p:nvSpPr>
                  <p:cNvPr id="2521" name=""/>
                  <p:cNvSpPr/>
                  <p:nvPr/>
                </p:nvSpPr>
                <p:spPr>
                  <a:xfrm rot="5400000">
                    <a:off x="1349280" y="335484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 rot="5400000">
                    <a:off x="1348920" y="34052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 rot="5400000">
                    <a:off x="1348920" y="345636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 rot="5400000">
                    <a:off x="1349280" y="350712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 rot="5400000">
                    <a:off x="1348920" y="355788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 rot="5400000">
                    <a:off x="1348920" y="36086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 rot="5400000">
                    <a:off x="1349280" y="365940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8" name=""/>
                <p:cNvGrpSpPr/>
                <p:nvPr/>
              </p:nvGrpSpPr>
              <p:grpSpPr>
                <a:xfrm>
                  <a:off x="1275840" y="3785400"/>
                  <a:ext cx="198720" cy="354960"/>
                  <a:chOff x="1275840" y="3785400"/>
                  <a:chExt cx="198720" cy="354960"/>
                </a:xfrm>
              </p:grpSpPr>
              <p:sp>
                <p:nvSpPr>
                  <p:cNvPr id="2529" name=""/>
                  <p:cNvSpPr/>
                  <p:nvPr/>
                </p:nvSpPr>
                <p:spPr>
                  <a:xfrm rot="5400000">
                    <a:off x="1350000" y="371124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 rot="5400000">
                    <a:off x="1349640" y="37616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 rot="5400000">
                    <a:off x="1349640" y="381276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 rot="5400000">
                    <a:off x="1350000" y="386352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 rot="5400000">
                    <a:off x="1349640" y="391428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 rot="5400000">
                    <a:off x="1349640" y="39650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 rot="5400000">
                    <a:off x="1350000" y="401580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6" name=""/>
                <p:cNvGrpSpPr/>
                <p:nvPr/>
              </p:nvGrpSpPr>
              <p:grpSpPr>
                <a:xfrm>
                  <a:off x="1275120" y="4140000"/>
                  <a:ext cx="198720" cy="354960"/>
                  <a:chOff x="1275120" y="4140000"/>
                  <a:chExt cx="198720" cy="354960"/>
                </a:xfrm>
              </p:grpSpPr>
              <p:sp>
                <p:nvSpPr>
                  <p:cNvPr id="2537" name=""/>
                  <p:cNvSpPr/>
                  <p:nvPr/>
                </p:nvSpPr>
                <p:spPr>
                  <a:xfrm rot="5400000">
                    <a:off x="1349280" y="406584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 rot="5400000">
                    <a:off x="1348920" y="41162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 rot="5400000">
                    <a:off x="1348920" y="416736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 rot="5400000">
                    <a:off x="1349280" y="421812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 rot="5400000">
                    <a:off x="1348920" y="426888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 rot="5400000">
                    <a:off x="1348920" y="43196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 rot="5400000">
                    <a:off x="1349280" y="437040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4" name=""/>
                <p:cNvGrpSpPr/>
                <p:nvPr/>
              </p:nvGrpSpPr>
              <p:grpSpPr>
                <a:xfrm>
                  <a:off x="1275840" y="4496400"/>
                  <a:ext cx="198720" cy="354960"/>
                  <a:chOff x="1275840" y="4496400"/>
                  <a:chExt cx="198720" cy="354960"/>
                </a:xfrm>
              </p:grpSpPr>
              <p:sp>
                <p:nvSpPr>
                  <p:cNvPr id="2545" name=""/>
                  <p:cNvSpPr/>
                  <p:nvPr/>
                </p:nvSpPr>
                <p:spPr>
                  <a:xfrm rot="5400000">
                    <a:off x="1350000" y="442224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 rot="5400000">
                    <a:off x="1349640" y="44726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 rot="5400000">
                    <a:off x="1349640" y="452376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 rot="5400000">
                    <a:off x="1350000" y="457452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 rot="5400000">
                    <a:off x="1349640" y="462528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0" name=""/>
                  <p:cNvSpPr/>
                  <p:nvPr/>
                </p:nvSpPr>
                <p:spPr>
                  <a:xfrm rot="5400000">
                    <a:off x="1349640" y="46760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 rot="5400000">
                    <a:off x="1350000" y="472680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2" name=""/>
                <p:cNvGrpSpPr/>
                <p:nvPr/>
              </p:nvGrpSpPr>
              <p:grpSpPr>
                <a:xfrm>
                  <a:off x="1275120" y="5562360"/>
                  <a:ext cx="198720" cy="354960"/>
                  <a:chOff x="1275120" y="5562360"/>
                  <a:chExt cx="198720" cy="354960"/>
                </a:xfrm>
              </p:grpSpPr>
              <p:sp>
                <p:nvSpPr>
                  <p:cNvPr id="2553" name=""/>
                  <p:cNvSpPr/>
                  <p:nvPr/>
                </p:nvSpPr>
                <p:spPr>
                  <a:xfrm rot="5400000">
                    <a:off x="1349280" y="548820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4" name=""/>
                  <p:cNvSpPr/>
                  <p:nvPr/>
                </p:nvSpPr>
                <p:spPr>
                  <a:xfrm rot="5400000">
                    <a:off x="1348920" y="553860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 rot="5400000">
                    <a:off x="1348920" y="558972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 rot="5400000">
                    <a:off x="1349280" y="564048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 rot="5400000">
                    <a:off x="1348920" y="56912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 rot="5400000">
                    <a:off x="1348920" y="574200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 rot="5400000">
                    <a:off x="1349280" y="579276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0" name=""/>
                <p:cNvGrpSpPr/>
                <p:nvPr/>
              </p:nvGrpSpPr>
              <p:grpSpPr>
                <a:xfrm>
                  <a:off x="1275120" y="5206680"/>
                  <a:ext cx="198720" cy="354960"/>
                  <a:chOff x="1275120" y="5206680"/>
                  <a:chExt cx="198720" cy="354960"/>
                </a:xfrm>
              </p:grpSpPr>
              <p:sp>
                <p:nvSpPr>
                  <p:cNvPr id="2561" name=""/>
                  <p:cNvSpPr/>
                  <p:nvPr/>
                </p:nvSpPr>
                <p:spPr>
                  <a:xfrm rot="5400000">
                    <a:off x="1349280" y="513252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 rot="5400000">
                    <a:off x="1348920" y="518292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 rot="5400000">
                    <a:off x="1348920" y="52340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 rot="5400000">
                    <a:off x="1349280" y="528480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 rot="5400000">
                    <a:off x="1348920" y="533556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 rot="5400000">
                    <a:off x="1348920" y="538632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 rot="5400000">
                    <a:off x="1349280" y="543708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8" name=""/>
                <p:cNvGrpSpPr/>
                <p:nvPr/>
              </p:nvGrpSpPr>
              <p:grpSpPr>
                <a:xfrm>
                  <a:off x="1275120" y="4851360"/>
                  <a:ext cx="198720" cy="354960"/>
                  <a:chOff x="1275120" y="4851360"/>
                  <a:chExt cx="198720" cy="354960"/>
                </a:xfrm>
              </p:grpSpPr>
              <p:sp>
                <p:nvSpPr>
                  <p:cNvPr id="2569" name=""/>
                  <p:cNvSpPr/>
                  <p:nvPr/>
                </p:nvSpPr>
                <p:spPr>
                  <a:xfrm rot="5400000">
                    <a:off x="1349280" y="477720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 rot="5400000">
                    <a:off x="1348920" y="482760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 rot="5400000">
                    <a:off x="1348920" y="487872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 rot="5400000">
                    <a:off x="1349280" y="492948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 rot="5400000">
                    <a:off x="1348920" y="49802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 rot="5400000">
                    <a:off x="1348920" y="503100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 rot="5400000">
                    <a:off x="1349280" y="508176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6" name=""/>
              <p:cNvGrpSpPr/>
              <p:nvPr/>
            </p:nvGrpSpPr>
            <p:grpSpPr>
              <a:xfrm>
                <a:off x="627480" y="5207040"/>
                <a:ext cx="199080" cy="355320"/>
                <a:chOff x="627480" y="5207040"/>
                <a:chExt cx="199080" cy="355320"/>
              </a:xfrm>
            </p:grpSpPr>
            <p:sp>
              <p:nvSpPr>
                <p:cNvPr id="2577" name=""/>
                <p:cNvSpPr/>
                <p:nvPr/>
              </p:nvSpPr>
              <p:spPr>
                <a:xfrm rot="5400000">
                  <a:off x="701640" y="5132520"/>
                  <a:ext cx="5040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rot="5400000">
                  <a:off x="701640" y="5183280"/>
                  <a:ext cx="5076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rot="5400000">
                  <a:off x="701640" y="5234400"/>
                  <a:ext cx="5076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rot="5400000">
                  <a:off x="701640" y="5284800"/>
                  <a:ext cx="5040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 rot="5400000">
                  <a:off x="701640" y="5335920"/>
                  <a:ext cx="5076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 rot="5400000">
                  <a:off x="701640" y="5387040"/>
                  <a:ext cx="5076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rot="5400000">
                  <a:off x="701640" y="5437440"/>
                  <a:ext cx="5040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4" name=""/>
              <p:cNvGrpSpPr/>
              <p:nvPr/>
            </p:nvGrpSpPr>
            <p:grpSpPr>
              <a:xfrm>
                <a:off x="627480" y="5562720"/>
                <a:ext cx="199080" cy="355320"/>
                <a:chOff x="627480" y="5562720"/>
                <a:chExt cx="199080" cy="355320"/>
              </a:xfrm>
            </p:grpSpPr>
            <p:sp>
              <p:nvSpPr>
                <p:cNvPr id="2585" name=""/>
                <p:cNvSpPr/>
                <p:nvPr/>
              </p:nvSpPr>
              <p:spPr>
                <a:xfrm rot="5400000">
                  <a:off x="701640" y="5488200"/>
                  <a:ext cx="5040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rot="5400000">
                  <a:off x="701640" y="5538960"/>
                  <a:ext cx="5076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rot="5400000">
                  <a:off x="701640" y="5590080"/>
                  <a:ext cx="5076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rot="5400000">
                  <a:off x="701640" y="5640480"/>
                  <a:ext cx="5040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rot="5400000">
                  <a:off x="701640" y="5691600"/>
                  <a:ext cx="5076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rot="5400000">
                  <a:off x="701640" y="5742720"/>
                  <a:ext cx="5076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rot="5400000">
                  <a:off x="701640" y="5793120"/>
                  <a:ext cx="5040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2" name=""/>
              <p:cNvGrpSpPr/>
              <p:nvPr/>
            </p:nvGrpSpPr>
            <p:grpSpPr>
              <a:xfrm>
                <a:off x="515160" y="3530520"/>
                <a:ext cx="324000" cy="457200"/>
                <a:chOff x="515160" y="3530520"/>
                <a:chExt cx="324000" cy="457200"/>
              </a:xfrm>
            </p:grpSpPr>
            <p:sp>
              <p:nvSpPr>
                <p:cNvPr id="2593" name=""/>
                <p:cNvSpPr/>
                <p:nvPr/>
              </p:nvSpPr>
              <p:spPr>
                <a:xfrm>
                  <a:off x="632520" y="3530520"/>
                  <a:ext cx="19908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82200" y="3886200"/>
                  <a:ext cx="99720" cy="50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729000" y="3568680"/>
                  <a:ext cx="0" cy="5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702000" y="3596040"/>
                  <a:ext cx="5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702000" y="3733560"/>
                  <a:ext cx="5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515160" y="3587400"/>
                  <a:ext cx="324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2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9" name=""/>
              <p:cNvGrpSpPr/>
              <p:nvPr/>
            </p:nvGrpSpPr>
            <p:grpSpPr>
              <a:xfrm>
                <a:off x="2172960" y="3784680"/>
                <a:ext cx="199080" cy="354960"/>
                <a:chOff x="2172960" y="3784680"/>
                <a:chExt cx="199080" cy="354960"/>
              </a:xfrm>
            </p:grpSpPr>
            <p:sp>
              <p:nvSpPr>
                <p:cNvPr id="2600" name=""/>
                <p:cNvSpPr/>
                <p:nvPr/>
              </p:nvSpPr>
              <p:spPr>
                <a:xfrm rot="5400000">
                  <a:off x="2247120" y="371016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rot="5400000">
                  <a:off x="2247120" y="376092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rot="5400000">
                  <a:off x="2247120" y="381204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rot="5400000">
                  <a:off x="2247120" y="386244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rot="5400000">
                  <a:off x="2247120" y="391356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rot="5400000">
                  <a:off x="2247120" y="396432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 rot="5400000">
                  <a:off x="2247120" y="401472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7" name=""/>
              <p:cNvGrpSpPr/>
              <p:nvPr/>
            </p:nvGrpSpPr>
            <p:grpSpPr>
              <a:xfrm>
                <a:off x="2172960" y="3429000"/>
                <a:ext cx="199080" cy="355320"/>
                <a:chOff x="2172960" y="3429000"/>
                <a:chExt cx="199080" cy="355320"/>
              </a:xfrm>
            </p:grpSpPr>
            <p:sp>
              <p:nvSpPr>
                <p:cNvPr id="2608" name=""/>
                <p:cNvSpPr/>
                <p:nvPr/>
              </p:nvSpPr>
              <p:spPr>
                <a:xfrm rot="5400000">
                  <a:off x="2247120" y="335448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rot="5400000">
                  <a:off x="2247120" y="340524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rot="5400000">
                  <a:off x="2247120" y="345636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rot="5400000">
                  <a:off x="2247120" y="350676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rot="5400000">
                  <a:off x="2247120" y="355788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rot="5400000">
                  <a:off x="2247120" y="360900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rot="5400000">
                  <a:off x="2247120" y="365940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5" name=""/>
              <p:cNvSpPr/>
              <p:nvPr/>
            </p:nvSpPr>
            <p:spPr>
              <a:xfrm>
                <a:off x="1345680" y="5618880"/>
                <a:ext cx="1846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239920" y="5618880"/>
                <a:ext cx="183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7" name=""/>
              <p:cNvGrpSpPr/>
              <p:nvPr/>
            </p:nvGrpSpPr>
            <p:grpSpPr>
              <a:xfrm>
                <a:off x="627120" y="4089600"/>
                <a:ext cx="199440" cy="457200"/>
                <a:chOff x="627120" y="4089600"/>
                <a:chExt cx="199440" cy="457200"/>
              </a:xfrm>
            </p:grpSpPr>
            <p:sp>
              <p:nvSpPr>
                <p:cNvPr id="2618" name=""/>
                <p:cNvSpPr/>
                <p:nvPr/>
              </p:nvSpPr>
              <p:spPr>
                <a:xfrm>
                  <a:off x="627120" y="4089600"/>
                  <a:ext cx="1994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664560" y="4248000"/>
                  <a:ext cx="124560" cy="1332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0" name=""/>
              <p:cNvGrpSpPr/>
              <p:nvPr/>
            </p:nvGrpSpPr>
            <p:grpSpPr>
              <a:xfrm>
                <a:off x="627120" y="4648320"/>
                <a:ext cx="199440" cy="457200"/>
                <a:chOff x="627120" y="4648320"/>
                <a:chExt cx="199440" cy="457200"/>
              </a:xfrm>
            </p:grpSpPr>
            <p:sp>
              <p:nvSpPr>
                <p:cNvPr id="2621" name=""/>
                <p:cNvSpPr/>
                <p:nvPr/>
              </p:nvSpPr>
              <p:spPr>
                <a:xfrm>
                  <a:off x="627120" y="4648320"/>
                  <a:ext cx="1994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676800" y="4749840"/>
                  <a:ext cx="99720" cy="2538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23" name=""/>
            <p:cNvSpPr/>
            <p:nvPr/>
          </p:nvSpPr>
          <p:spPr>
            <a:xfrm>
              <a:off x="641520" y="20066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4" name=""/>
          <p:cNvSpPr/>
          <p:nvPr/>
        </p:nvSpPr>
        <p:spPr>
          <a:xfrm>
            <a:off x="3886200" y="106668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Tahoma"/>
              </a:rPr>
              <a:t>Controladores com 192 Pontos de E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2895480" y="14479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2808720" y="2017800"/>
            <a:ext cx="4852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5862960" y="2930040"/>
            <a:ext cx="48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3266280" y="61722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370440" y="61722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2785320" y="1309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740920" y="2170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 flipV="1">
            <a:off x="5940360" y="2409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3" name=""/>
          <p:cNvGrpSpPr/>
          <p:nvPr/>
        </p:nvGrpSpPr>
        <p:grpSpPr>
          <a:xfrm>
            <a:off x="3276720" y="2743200"/>
            <a:ext cx="2643120" cy="3402000"/>
            <a:chOff x="3276720" y="2743200"/>
            <a:chExt cx="2643120" cy="3402000"/>
          </a:xfrm>
        </p:grpSpPr>
        <p:sp>
          <p:nvSpPr>
            <p:cNvPr id="2634" name=""/>
            <p:cNvSpPr/>
            <p:nvPr/>
          </p:nvSpPr>
          <p:spPr>
            <a:xfrm>
              <a:off x="3276720" y="2743200"/>
              <a:ext cx="2643120" cy="3402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376080" y="2844720"/>
              <a:ext cx="2443680" cy="3198600"/>
            </a:xfrm>
            <a:prstGeom prst="rect">
              <a:avLst/>
            </a:prstGeom>
            <a:solidFill>
              <a:srgbClr val="ffc8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6" name=""/>
            <p:cNvGrpSpPr/>
            <p:nvPr/>
          </p:nvGrpSpPr>
          <p:grpSpPr>
            <a:xfrm>
              <a:off x="3575520" y="5688360"/>
              <a:ext cx="348840" cy="202680"/>
              <a:chOff x="3575520" y="5688360"/>
              <a:chExt cx="348840" cy="202680"/>
            </a:xfrm>
          </p:grpSpPr>
          <p:sp>
            <p:nvSpPr>
              <p:cNvPr id="2637" name=""/>
              <p:cNvSpPr/>
              <p:nvPr/>
            </p:nvSpPr>
            <p:spPr>
              <a:xfrm rot="10800000">
                <a:off x="3874680" y="5688360"/>
                <a:ext cx="49680" cy="202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rot="10800000">
                <a:off x="3825000" y="5688360"/>
                <a:ext cx="49680" cy="202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rot="10800000">
                <a:off x="3775320" y="5688360"/>
                <a:ext cx="49680" cy="202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rot="10800000">
                <a:off x="3725280" y="5688360"/>
                <a:ext cx="49680" cy="202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rot="10800000">
                <a:off x="3675600" y="5688360"/>
                <a:ext cx="49680" cy="202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rot="10800000">
                <a:off x="3625560" y="5688360"/>
                <a:ext cx="49680" cy="202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rot="10800000">
                <a:off x="3575520" y="5688360"/>
                <a:ext cx="49680" cy="202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4" name=""/>
            <p:cNvGrpSpPr/>
            <p:nvPr/>
          </p:nvGrpSpPr>
          <p:grpSpPr>
            <a:xfrm>
              <a:off x="3576240" y="3708000"/>
              <a:ext cx="199080" cy="354960"/>
              <a:chOff x="3576240" y="3708000"/>
              <a:chExt cx="199080" cy="354960"/>
            </a:xfrm>
          </p:grpSpPr>
          <p:sp>
            <p:nvSpPr>
              <p:cNvPr id="2645" name=""/>
              <p:cNvSpPr/>
              <p:nvPr/>
            </p:nvSpPr>
            <p:spPr>
              <a:xfrm rot="5400000">
                <a:off x="3650400" y="3633480"/>
                <a:ext cx="50400" cy="1990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 rot="5400000">
                <a:off x="3650400" y="3684240"/>
                <a:ext cx="50760" cy="1990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rot="5400000">
                <a:off x="3650400" y="3735360"/>
                <a:ext cx="50760" cy="1990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rot="5400000">
                <a:off x="3650400" y="3785760"/>
                <a:ext cx="50400" cy="1990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rot="5400000">
                <a:off x="3650400" y="3836880"/>
                <a:ext cx="50760" cy="1990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rot="5400000">
                <a:off x="3650400" y="3887640"/>
                <a:ext cx="50760" cy="1990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rot="5400000">
                <a:off x="3650400" y="3938040"/>
                <a:ext cx="50400" cy="1990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2" name=""/>
            <p:cNvGrpSpPr/>
            <p:nvPr/>
          </p:nvGrpSpPr>
          <p:grpSpPr>
            <a:xfrm>
              <a:off x="3462120" y="3149280"/>
              <a:ext cx="324000" cy="456840"/>
              <a:chOff x="3462120" y="3149280"/>
              <a:chExt cx="324000" cy="456840"/>
            </a:xfrm>
          </p:grpSpPr>
          <p:sp>
            <p:nvSpPr>
              <p:cNvPr id="2653" name=""/>
              <p:cNvSpPr/>
              <p:nvPr/>
            </p:nvSpPr>
            <p:spPr>
              <a:xfrm>
                <a:off x="3568320" y="3149280"/>
                <a:ext cx="199080" cy="4568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a8a8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3618000" y="3504600"/>
                <a:ext cx="99720" cy="50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3664800" y="3187080"/>
                <a:ext cx="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637800" y="3214440"/>
                <a:ext cx="5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3637800" y="3352320"/>
                <a:ext cx="5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3462120" y="3208320"/>
                <a:ext cx="324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9" name=""/>
            <p:cNvSpPr/>
            <p:nvPr/>
          </p:nvSpPr>
          <p:spPr>
            <a:xfrm>
              <a:off x="3426120" y="2895480"/>
              <a:ext cx="2343960" cy="203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024800" y="3098520"/>
              <a:ext cx="299160" cy="2792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470920" y="3098520"/>
              <a:ext cx="299160" cy="2792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426120" y="3098520"/>
              <a:ext cx="99360" cy="2792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3" name=""/>
            <p:cNvGrpSpPr/>
            <p:nvPr/>
          </p:nvGrpSpPr>
          <p:grpSpPr>
            <a:xfrm>
              <a:off x="3575880" y="4977360"/>
              <a:ext cx="199440" cy="456840"/>
              <a:chOff x="3575880" y="4977360"/>
              <a:chExt cx="199440" cy="456840"/>
            </a:xfrm>
          </p:grpSpPr>
          <p:sp>
            <p:nvSpPr>
              <p:cNvPr id="2664" name=""/>
              <p:cNvSpPr/>
              <p:nvPr/>
            </p:nvSpPr>
            <p:spPr>
              <a:xfrm>
                <a:off x="3575880" y="4977360"/>
                <a:ext cx="199440" cy="4568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a8a8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3613320" y="5135760"/>
                <a:ext cx="124560" cy="1332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6" name=""/>
            <p:cNvGrpSpPr/>
            <p:nvPr/>
          </p:nvGrpSpPr>
          <p:grpSpPr>
            <a:xfrm>
              <a:off x="3775320" y="4977360"/>
              <a:ext cx="199080" cy="456840"/>
              <a:chOff x="3775320" y="4977360"/>
              <a:chExt cx="199080" cy="456840"/>
            </a:xfrm>
          </p:grpSpPr>
          <p:sp>
            <p:nvSpPr>
              <p:cNvPr id="2667" name=""/>
              <p:cNvSpPr/>
              <p:nvPr/>
            </p:nvSpPr>
            <p:spPr>
              <a:xfrm>
                <a:off x="3775320" y="4977360"/>
                <a:ext cx="199080" cy="4568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a8a8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3825000" y="5078520"/>
                <a:ext cx="99720" cy="253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9" name=""/>
            <p:cNvGrpSpPr/>
            <p:nvPr/>
          </p:nvGrpSpPr>
          <p:grpSpPr>
            <a:xfrm>
              <a:off x="4422960" y="3200040"/>
              <a:ext cx="399600" cy="2690640"/>
              <a:chOff x="4422960" y="3200040"/>
              <a:chExt cx="399600" cy="2690640"/>
            </a:xfrm>
          </p:grpSpPr>
          <p:grpSp>
            <p:nvGrpSpPr>
              <p:cNvPr id="2670" name=""/>
              <p:cNvGrpSpPr/>
              <p:nvPr/>
            </p:nvGrpSpPr>
            <p:grpSpPr>
              <a:xfrm>
                <a:off x="4523400" y="3200040"/>
                <a:ext cx="298800" cy="355320"/>
                <a:chOff x="4523400" y="3200040"/>
                <a:chExt cx="298800" cy="355320"/>
              </a:xfrm>
            </p:grpSpPr>
            <p:grpSp>
              <p:nvGrpSpPr>
                <p:cNvPr id="2671" name=""/>
                <p:cNvGrpSpPr/>
                <p:nvPr/>
              </p:nvGrpSpPr>
              <p:grpSpPr>
                <a:xfrm>
                  <a:off x="4523400" y="3200040"/>
                  <a:ext cx="298800" cy="355320"/>
                  <a:chOff x="4523400" y="3200040"/>
                  <a:chExt cx="298800" cy="355320"/>
                </a:xfrm>
              </p:grpSpPr>
              <p:sp>
                <p:nvSpPr>
                  <p:cNvPr id="2672" name=""/>
                  <p:cNvSpPr/>
                  <p:nvPr/>
                </p:nvSpPr>
                <p:spPr>
                  <a:xfrm rot="5400000">
                    <a:off x="4569840" y="3303000"/>
                    <a:ext cx="35532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a8a8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 rot="5400000">
                    <a:off x="4420440" y="3303000"/>
                    <a:ext cx="35532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a8a8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4" name=""/>
                <p:cNvSpPr/>
                <p:nvPr/>
              </p:nvSpPr>
              <p:spPr>
                <a:xfrm rot="5400000">
                  <a:off x="4572720" y="3251160"/>
                  <a:ext cx="50760" cy="496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rot="5400000">
                  <a:off x="4604760" y="3328560"/>
                  <a:ext cx="285480" cy="99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6" name=""/>
              <p:cNvGrpSpPr/>
              <p:nvPr/>
            </p:nvGrpSpPr>
            <p:grpSpPr>
              <a:xfrm>
                <a:off x="4523400" y="3555360"/>
                <a:ext cx="298800" cy="355320"/>
                <a:chOff x="4523400" y="3555360"/>
                <a:chExt cx="298800" cy="355320"/>
              </a:xfrm>
            </p:grpSpPr>
            <p:grpSp>
              <p:nvGrpSpPr>
                <p:cNvPr id="2677" name=""/>
                <p:cNvGrpSpPr/>
                <p:nvPr/>
              </p:nvGrpSpPr>
              <p:grpSpPr>
                <a:xfrm>
                  <a:off x="4523400" y="3555360"/>
                  <a:ext cx="298800" cy="355320"/>
                  <a:chOff x="4523400" y="3555360"/>
                  <a:chExt cx="298800" cy="355320"/>
                </a:xfrm>
              </p:grpSpPr>
              <p:sp>
                <p:nvSpPr>
                  <p:cNvPr id="2678" name=""/>
                  <p:cNvSpPr/>
                  <p:nvPr/>
                </p:nvSpPr>
                <p:spPr>
                  <a:xfrm rot="5400000">
                    <a:off x="4569840" y="3658320"/>
                    <a:ext cx="35532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ccff"/>
                      </a:gs>
                      <a:gs pos="100000">
                        <a:srgbClr val="739ac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 rot="5400000">
                    <a:off x="4420440" y="3658320"/>
                    <a:ext cx="35532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ccff"/>
                      </a:gs>
                      <a:gs pos="100000">
                        <a:srgbClr val="739ac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80" name=""/>
                <p:cNvSpPr/>
                <p:nvPr/>
              </p:nvSpPr>
              <p:spPr>
                <a:xfrm rot="5400000">
                  <a:off x="4547160" y="3631680"/>
                  <a:ext cx="101160" cy="496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 rot="5400000">
                  <a:off x="4604760" y="3683880"/>
                  <a:ext cx="285480" cy="99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 rot="5400000">
                  <a:off x="4547160" y="3783960"/>
                  <a:ext cx="101160" cy="496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rot="5400000">
                  <a:off x="4696920" y="3682440"/>
                  <a:ext cx="101160" cy="49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4522320" y="5687640"/>
                <a:ext cx="298800" cy="203040"/>
                <a:chOff x="4522320" y="5687640"/>
                <a:chExt cx="298800" cy="203040"/>
              </a:xfrm>
            </p:grpSpPr>
            <p:sp>
              <p:nvSpPr>
                <p:cNvPr id="2685" name=""/>
                <p:cNvSpPr/>
                <p:nvPr/>
              </p:nvSpPr>
              <p:spPr>
                <a:xfrm rot="5400000">
                  <a:off x="4644720" y="5714280"/>
                  <a:ext cx="203040" cy="14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rot="5400000">
                  <a:off x="4495320" y="5714280"/>
                  <a:ext cx="203040" cy="14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rot="5400000">
                  <a:off x="4571280" y="5738400"/>
                  <a:ext cx="50760" cy="496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rot="5400000">
                  <a:off x="4571280" y="5789520"/>
                  <a:ext cx="50760" cy="496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9" name=""/>
              <p:cNvGrpSpPr/>
              <p:nvPr/>
            </p:nvGrpSpPr>
            <p:grpSpPr>
              <a:xfrm>
                <a:off x="4424040" y="3910680"/>
                <a:ext cx="398520" cy="710640"/>
                <a:chOff x="4424040" y="3910680"/>
                <a:chExt cx="398520" cy="710640"/>
              </a:xfrm>
            </p:grpSpPr>
            <p:grpSp>
              <p:nvGrpSpPr>
                <p:cNvPr id="2690" name=""/>
                <p:cNvGrpSpPr/>
                <p:nvPr/>
              </p:nvGrpSpPr>
              <p:grpSpPr>
                <a:xfrm>
                  <a:off x="4424040" y="3910680"/>
                  <a:ext cx="398520" cy="355320"/>
                  <a:chOff x="4424040" y="3910680"/>
                  <a:chExt cx="398520" cy="355320"/>
                </a:xfrm>
              </p:grpSpPr>
              <p:sp>
                <p:nvSpPr>
                  <p:cNvPr id="2691" name=""/>
                  <p:cNvSpPr/>
                  <p:nvPr/>
                </p:nvSpPr>
                <p:spPr>
                  <a:xfrm rot="5400000">
                    <a:off x="4570200" y="4013640"/>
                    <a:ext cx="35532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2" name=""/>
                  <p:cNvSpPr/>
                  <p:nvPr/>
                </p:nvSpPr>
                <p:spPr>
                  <a:xfrm rot="5400000">
                    <a:off x="4605120" y="4039200"/>
                    <a:ext cx="285480" cy="99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93" name=""/>
                  <p:cNvGrpSpPr/>
                  <p:nvPr/>
                </p:nvGrpSpPr>
                <p:grpSpPr>
                  <a:xfrm>
                    <a:off x="4723200" y="3990960"/>
                    <a:ext cx="49680" cy="203040"/>
                    <a:chOff x="4723200" y="3990960"/>
                    <a:chExt cx="49680" cy="203040"/>
                  </a:xfrm>
                </p:grpSpPr>
                <p:sp>
                  <p:nvSpPr>
                    <p:cNvPr id="2694" name=""/>
                    <p:cNvSpPr/>
                    <p:nvPr/>
                  </p:nvSpPr>
                  <p:spPr>
                    <a:xfrm flipH="1">
                      <a:off x="4723200" y="399096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5" name=""/>
                    <p:cNvSpPr/>
                    <p:nvPr/>
                  </p:nvSpPr>
                  <p:spPr>
                    <a:xfrm flipH="1">
                      <a:off x="4723200" y="404172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6" name=""/>
                    <p:cNvSpPr/>
                    <p:nvPr/>
                  </p:nvSpPr>
                  <p:spPr>
                    <a:xfrm flipH="1">
                      <a:off x="4723200" y="409248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7" name=""/>
                    <p:cNvSpPr/>
                    <p:nvPr/>
                  </p:nvSpPr>
                  <p:spPr>
                    <a:xfrm flipH="1">
                      <a:off x="4723200" y="414324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8" name=""/>
                    <p:cNvSpPr/>
                    <p:nvPr/>
                  </p:nvSpPr>
                  <p:spPr>
                    <a:xfrm flipH="1">
                      <a:off x="4723200" y="419400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9" name=""/>
                  <p:cNvGrpSpPr/>
                  <p:nvPr/>
                </p:nvGrpSpPr>
                <p:grpSpPr>
                  <a:xfrm>
                    <a:off x="4424040" y="3910680"/>
                    <a:ext cx="149400" cy="355320"/>
                    <a:chOff x="4424040" y="3910680"/>
                    <a:chExt cx="149400" cy="355320"/>
                  </a:xfrm>
                </p:grpSpPr>
                <p:sp>
                  <p:nvSpPr>
                    <p:cNvPr id="2700" name=""/>
                    <p:cNvSpPr/>
                    <p:nvPr/>
                  </p:nvSpPr>
                  <p:spPr>
                    <a:xfrm rot="5400000">
                      <a:off x="4321080" y="4013640"/>
                      <a:ext cx="35532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1" name=""/>
                    <p:cNvSpPr/>
                    <p:nvPr/>
                  </p:nvSpPr>
                  <p:spPr>
                    <a:xfrm>
                      <a:off x="4542480" y="396360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2" name=""/>
                    <p:cNvSpPr/>
                    <p:nvPr/>
                  </p:nvSpPr>
                  <p:spPr>
                    <a:xfrm>
                      <a:off x="4498920" y="396360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3" name=""/>
                    <p:cNvSpPr/>
                    <p:nvPr/>
                  </p:nvSpPr>
                  <p:spPr>
                    <a:xfrm>
                      <a:off x="4457160" y="396360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4" name=""/>
                  <p:cNvGrpSpPr/>
                  <p:nvPr/>
                </p:nvGrpSpPr>
                <p:grpSpPr>
                  <a:xfrm>
                    <a:off x="4573800" y="3910680"/>
                    <a:ext cx="99360" cy="355320"/>
                    <a:chOff x="4573800" y="3910680"/>
                    <a:chExt cx="99360" cy="355320"/>
                  </a:xfrm>
                </p:grpSpPr>
                <p:sp>
                  <p:nvSpPr>
                    <p:cNvPr id="2705" name=""/>
                    <p:cNvSpPr/>
                    <p:nvPr/>
                  </p:nvSpPr>
                  <p:spPr>
                    <a:xfrm rot="5400000">
                      <a:off x="4445640" y="4038480"/>
                      <a:ext cx="355320" cy="993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06" name=""/>
                    <p:cNvGrpSpPr/>
                    <p:nvPr/>
                  </p:nvGrpSpPr>
                  <p:grpSpPr>
                    <a:xfrm>
                      <a:off x="4598640" y="3965760"/>
                      <a:ext cx="49680" cy="253080"/>
                      <a:chOff x="4598640" y="3965760"/>
                      <a:chExt cx="49680" cy="253080"/>
                    </a:xfrm>
                  </p:grpSpPr>
                  <p:sp>
                    <p:nvSpPr>
                      <p:cNvPr id="2707" name=""/>
                      <p:cNvSpPr/>
                      <p:nvPr/>
                    </p:nvSpPr>
                    <p:spPr>
                      <a:xfrm rot="5400000">
                        <a:off x="4597920" y="3966120"/>
                        <a:ext cx="5076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8" name=""/>
                      <p:cNvSpPr/>
                      <p:nvPr/>
                    </p:nvSpPr>
                    <p:spPr>
                      <a:xfrm rot="5400000">
                        <a:off x="4597920" y="4067280"/>
                        <a:ext cx="5076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9" name=""/>
                      <p:cNvSpPr/>
                      <p:nvPr/>
                    </p:nvSpPr>
                    <p:spPr>
                      <a:xfrm rot="5400000">
                        <a:off x="4598280" y="4168800"/>
                        <a:ext cx="5040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710" name=""/>
                <p:cNvGrpSpPr/>
                <p:nvPr/>
              </p:nvGrpSpPr>
              <p:grpSpPr>
                <a:xfrm>
                  <a:off x="4424040" y="4266000"/>
                  <a:ext cx="398520" cy="355320"/>
                  <a:chOff x="4424040" y="4266000"/>
                  <a:chExt cx="398520" cy="355320"/>
                </a:xfrm>
              </p:grpSpPr>
              <p:sp>
                <p:nvSpPr>
                  <p:cNvPr id="2711" name=""/>
                  <p:cNvSpPr/>
                  <p:nvPr/>
                </p:nvSpPr>
                <p:spPr>
                  <a:xfrm rot="5400000">
                    <a:off x="4570200" y="4368960"/>
                    <a:ext cx="35532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 rot="5400000">
                    <a:off x="4605120" y="4394520"/>
                    <a:ext cx="285480" cy="99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13" name=""/>
                  <p:cNvGrpSpPr/>
                  <p:nvPr/>
                </p:nvGrpSpPr>
                <p:grpSpPr>
                  <a:xfrm>
                    <a:off x="4723200" y="4346280"/>
                    <a:ext cx="49680" cy="203040"/>
                    <a:chOff x="4723200" y="4346280"/>
                    <a:chExt cx="49680" cy="203040"/>
                  </a:xfrm>
                </p:grpSpPr>
                <p:sp>
                  <p:nvSpPr>
                    <p:cNvPr id="2714" name=""/>
                    <p:cNvSpPr/>
                    <p:nvPr/>
                  </p:nvSpPr>
                  <p:spPr>
                    <a:xfrm flipH="1">
                      <a:off x="4723200" y="434628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5" name=""/>
                    <p:cNvSpPr/>
                    <p:nvPr/>
                  </p:nvSpPr>
                  <p:spPr>
                    <a:xfrm flipH="1">
                      <a:off x="4723200" y="439704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6" name=""/>
                    <p:cNvSpPr/>
                    <p:nvPr/>
                  </p:nvSpPr>
                  <p:spPr>
                    <a:xfrm flipH="1">
                      <a:off x="4723200" y="444780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7" name=""/>
                    <p:cNvSpPr/>
                    <p:nvPr/>
                  </p:nvSpPr>
                  <p:spPr>
                    <a:xfrm flipH="1">
                      <a:off x="4723200" y="449856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8" name=""/>
                    <p:cNvSpPr/>
                    <p:nvPr/>
                  </p:nvSpPr>
                  <p:spPr>
                    <a:xfrm flipH="1">
                      <a:off x="4723200" y="454932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9" name=""/>
                  <p:cNvGrpSpPr/>
                  <p:nvPr/>
                </p:nvGrpSpPr>
                <p:grpSpPr>
                  <a:xfrm>
                    <a:off x="4424040" y="4266000"/>
                    <a:ext cx="149400" cy="355320"/>
                    <a:chOff x="4424040" y="4266000"/>
                    <a:chExt cx="149400" cy="355320"/>
                  </a:xfrm>
                </p:grpSpPr>
                <p:sp>
                  <p:nvSpPr>
                    <p:cNvPr id="2720" name=""/>
                    <p:cNvSpPr/>
                    <p:nvPr/>
                  </p:nvSpPr>
                  <p:spPr>
                    <a:xfrm rot="5400000">
                      <a:off x="4321080" y="4368960"/>
                      <a:ext cx="35532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1" name=""/>
                    <p:cNvSpPr/>
                    <p:nvPr/>
                  </p:nvSpPr>
                  <p:spPr>
                    <a:xfrm>
                      <a:off x="4542480" y="431892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2" name=""/>
                    <p:cNvSpPr/>
                    <p:nvPr/>
                  </p:nvSpPr>
                  <p:spPr>
                    <a:xfrm>
                      <a:off x="4498920" y="431892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3" name=""/>
                    <p:cNvSpPr/>
                    <p:nvPr/>
                  </p:nvSpPr>
                  <p:spPr>
                    <a:xfrm>
                      <a:off x="4457160" y="431892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4" name=""/>
                  <p:cNvGrpSpPr/>
                  <p:nvPr/>
                </p:nvGrpSpPr>
                <p:grpSpPr>
                  <a:xfrm>
                    <a:off x="4573800" y="4266000"/>
                    <a:ext cx="99360" cy="355320"/>
                    <a:chOff x="4573800" y="4266000"/>
                    <a:chExt cx="99360" cy="355320"/>
                  </a:xfrm>
                </p:grpSpPr>
                <p:sp>
                  <p:nvSpPr>
                    <p:cNvPr id="2725" name=""/>
                    <p:cNvSpPr/>
                    <p:nvPr/>
                  </p:nvSpPr>
                  <p:spPr>
                    <a:xfrm rot="5400000">
                      <a:off x="4445640" y="4393800"/>
                      <a:ext cx="355320" cy="993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26" name=""/>
                    <p:cNvGrpSpPr/>
                    <p:nvPr/>
                  </p:nvGrpSpPr>
                  <p:grpSpPr>
                    <a:xfrm>
                      <a:off x="4598640" y="4321080"/>
                      <a:ext cx="49680" cy="253080"/>
                      <a:chOff x="4598640" y="4321080"/>
                      <a:chExt cx="49680" cy="253080"/>
                    </a:xfrm>
                  </p:grpSpPr>
                  <p:sp>
                    <p:nvSpPr>
                      <p:cNvPr id="2727" name=""/>
                      <p:cNvSpPr/>
                      <p:nvPr/>
                    </p:nvSpPr>
                    <p:spPr>
                      <a:xfrm rot="5400000">
                        <a:off x="4597920" y="4321440"/>
                        <a:ext cx="5076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28" name=""/>
                      <p:cNvSpPr/>
                      <p:nvPr/>
                    </p:nvSpPr>
                    <p:spPr>
                      <a:xfrm rot="5400000">
                        <a:off x="4597920" y="4422600"/>
                        <a:ext cx="5076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29" name=""/>
                      <p:cNvSpPr/>
                      <p:nvPr/>
                    </p:nvSpPr>
                    <p:spPr>
                      <a:xfrm rot="5400000">
                        <a:off x="4598280" y="4524120"/>
                        <a:ext cx="5040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730" name=""/>
              <p:cNvGrpSpPr/>
              <p:nvPr/>
            </p:nvGrpSpPr>
            <p:grpSpPr>
              <a:xfrm>
                <a:off x="4422960" y="4620600"/>
                <a:ext cx="398520" cy="354960"/>
                <a:chOff x="4422960" y="4620600"/>
                <a:chExt cx="398520" cy="354960"/>
              </a:xfrm>
            </p:grpSpPr>
            <p:sp>
              <p:nvSpPr>
                <p:cNvPr id="2731" name=""/>
                <p:cNvSpPr/>
                <p:nvPr/>
              </p:nvSpPr>
              <p:spPr>
                <a:xfrm rot="5400000">
                  <a:off x="4569120" y="4723200"/>
                  <a:ext cx="354960" cy="14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 rot="5400000">
                  <a:off x="4604400" y="4749120"/>
                  <a:ext cx="285120" cy="99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3" name=""/>
                <p:cNvGrpSpPr/>
                <p:nvPr/>
              </p:nvGrpSpPr>
              <p:grpSpPr>
                <a:xfrm>
                  <a:off x="4722120" y="4700520"/>
                  <a:ext cx="49680" cy="202680"/>
                  <a:chOff x="4722120" y="4700520"/>
                  <a:chExt cx="49680" cy="202680"/>
                </a:xfrm>
              </p:grpSpPr>
              <p:sp>
                <p:nvSpPr>
                  <p:cNvPr id="2734" name=""/>
                  <p:cNvSpPr/>
                  <p:nvPr/>
                </p:nvSpPr>
                <p:spPr>
                  <a:xfrm flipH="1">
                    <a:off x="4722120" y="470052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 flipH="1">
                    <a:off x="4722120" y="475128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 flipH="1">
                    <a:off x="4722120" y="480204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 flipH="1">
                    <a:off x="4722120" y="485244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8" name=""/>
                  <p:cNvSpPr/>
                  <p:nvPr/>
                </p:nvSpPr>
                <p:spPr>
                  <a:xfrm flipH="1">
                    <a:off x="4722120" y="490320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9" name=""/>
                <p:cNvGrpSpPr/>
                <p:nvPr/>
              </p:nvGrpSpPr>
              <p:grpSpPr>
                <a:xfrm>
                  <a:off x="4422960" y="4620600"/>
                  <a:ext cx="149400" cy="354960"/>
                  <a:chOff x="4422960" y="4620600"/>
                  <a:chExt cx="149400" cy="354960"/>
                </a:xfrm>
              </p:grpSpPr>
              <p:sp>
                <p:nvSpPr>
                  <p:cNvPr id="2740" name=""/>
                  <p:cNvSpPr/>
                  <p:nvPr/>
                </p:nvSpPr>
                <p:spPr>
                  <a:xfrm rot="5400000">
                    <a:off x="4320000" y="4723200"/>
                    <a:ext cx="35496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>
                    <a:off x="4541400" y="467352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>
                    <a:off x="4497840" y="467352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3" name=""/>
                  <p:cNvSpPr/>
                  <p:nvPr/>
                </p:nvSpPr>
                <p:spPr>
                  <a:xfrm>
                    <a:off x="4456080" y="467352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4" name=""/>
                <p:cNvGrpSpPr/>
                <p:nvPr/>
              </p:nvGrpSpPr>
              <p:grpSpPr>
                <a:xfrm>
                  <a:off x="4572720" y="4620600"/>
                  <a:ext cx="99360" cy="354960"/>
                  <a:chOff x="4572720" y="4620600"/>
                  <a:chExt cx="99360" cy="354960"/>
                </a:xfrm>
              </p:grpSpPr>
              <p:sp>
                <p:nvSpPr>
                  <p:cNvPr id="2745" name=""/>
                  <p:cNvSpPr/>
                  <p:nvPr/>
                </p:nvSpPr>
                <p:spPr>
                  <a:xfrm rot="5400000">
                    <a:off x="4444920" y="4748400"/>
                    <a:ext cx="354960" cy="9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46" name=""/>
                  <p:cNvGrpSpPr/>
                  <p:nvPr/>
                </p:nvGrpSpPr>
                <p:grpSpPr>
                  <a:xfrm>
                    <a:off x="4597560" y="4675680"/>
                    <a:ext cx="49680" cy="253080"/>
                    <a:chOff x="4597560" y="4675680"/>
                    <a:chExt cx="49680" cy="253080"/>
                  </a:xfrm>
                </p:grpSpPr>
                <p:sp>
                  <p:nvSpPr>
                    <p:cNvPr id="2747" name=""/>
                    <p:cNvSpPr/>
                    <p:nvPr/>
                  </p:nvSpPr>
                  <p:spPr>
                    <a:xfrm rot="5400000">
                      <a:off x="4596840" y="4676040"/>
                      <a:ext cx="5076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8" name=""/>
                    <p:cNvSpPr/>
                    <p:nvPr/>
                  </p:nvSpPr>
                  <p:spPr>
                    <a:xfrm rot="5400000">
                      <a:off x="4596840" y="4777200"/>
                      <a:ext cx="5076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9" name=""/>
                    <p:cNvSpPr/>
                    <p:nvPr/>
                  </p:nvSpPr>
                  <p:spPr>
                    <a:xfrm rot="5400000">
                      <a:off x="4597200" y="4878720"/>
                      <a:ext cx="5040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50" name=""/>
              <p:cNvGrpSpPr/>
              <p:nvPr/>
            </p:nvGrpSpPr>
            <p:grpSpPr>
              <a:xfrm>
                <a:off x="4422960" y="4975920"/>
                <a:ext cx="398520" cy="355320"/>
                <a:chOff x="4422960" y="4975920"/>
                <a:chExt cx="398520" cy="355320"/>
              </a:xfrm>
            </p:grpSpPr>
            <p:sp>
              <p:nvSpPr>
                <p:cNvPr id="2751" name=""/>
                <p:cNvSpPr/>
                <p:nvPr/>
              </p:nvSpPr>
              <p:spPr>
                <a:xfrm rot="5400000">
                  <a:off x="4569120" y="5078880"/>
                  <a:ext cx="355320" cy="14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rot="5400000">
                  <a:off x="4604040" y="5104440"/>
                  <a:ext cx="285480" cy="99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3" name=""/>
                <p:cNvGrpSpPr/>
                <p:nvPr/>
              </p:nvGrpSpPr>
              <p:grpSpPr>
                <a:xfrm>
                  <a:off x="4722120" y="5056200"/>
                  <a:ext cx="49680" cy="203040"/>
                  <a:chOff x="4722120" y="5056200"/>
                  <a:chExt cx="49680" cy="203040"/>
                </a:xfrm>
              </p:grpSpPr>
              <p:sp>
                <p:nvSpPr>
                  <p:cNvPr id="2754" name=""/>
                  <p:cNvSpPr/>
                  <p:nvPr/>
                </p:nvSpPr>
                <p:spPr>
                  <a:xfrm flipH="1">
                    <a:off x="4722120" y="505620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5" name=""/>
                  <p:cNvSpPr/>
                  <p:nvPr/>
                </p:nvSpPr>
                <p:spPr>
                  <a:xfrm flipH="1">
                    <a:off x="4722120" y="510696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6" name=""/>
                  <p:cNvSpPr/>
                  <p:nvPr/>
                </p:nvSpPr>
                <p:spPr>
                  <a:xfrm flipH="1">
                    <a:off x="4722120" y="515772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 flipH="1">
                    <a:off x="4722120" y="520848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8" name=""/>
                  <p:cNvSpPr/>
                  <p:nvPr/>
                </p:nvSpPr>
                <p:spPr>
                  <a:xfrm flipH="1">
                    <a:off x="4722120" y="525924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9" name=""/>
                <p:cNvGrpSpPr/>
                <p:nvPr/>
              </p:nvGrpSpPr>
              <p:grpSpPr>
                <a:xfrm>
                  <a:off x="4422960" y="4975920"/>
                  <a:ext cx="149400" cy="355320"/>
                  <a:chOff x="4422960" y="4975920"/>
                  <a:chExt cx="149400" cy="355320"/>
                </a:xfrm>
              </p:grpSpPr>
              <p:sp>
                <p:nvSpPr>
                  <p:cNvPr id="2760" name=""/>
                  <p:cNvSpPr/>
                  <p:nvPr/>
                </p:nvSpPr>
                <p:spPr>
                  <a:xfrm rot="5400000">
                    <a:off x="4320000" y="5078880"/>
                    <a:ext cx="35532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1" name=""/>
                  <p:cNvSpPr/>
                  <p:nvPr/>
                </p:nvSpPr>
                <p:spPr>
                  <a:xfrm>
                    <a:off x="4541400" y="502884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2" name=""/>
                  <p:cNvSpPr/>
                  <p:nvPr/>
                </p:nvSpPr>
                <p:spPr>
                  <a:xfrm>
                    <a:off x="4497840" y="502884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3" name=""/>
                  <p:cNvSpPr/>
                  <p:nvPr/>
                </p:nvSpPr>
                <p:spPr>
                  <a:xfrm>
                    <a:off x="4456080" y="502884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4" name=""/>
                <p:cNvGrpSpPr/>
                <p:nvPr/>
              </p:nvGrpSpPr>
              <p:grpSpPr>
                <a:xfrm>
                  <a:off x="4572720" y="4975920"/>
                  <a:ext cx="99360" cy="355320"/>
                  <a:chOff x="4572720" y="4975920"/>
                  <a:chExt cx="99360" cy="355320"/>
                </a:xfrm>
              </p:grpSpPr>
              <p:sp>
                <p:nvSpPr>
                  <p:cNvPr id="2765" name=""/>
                  <p:cNvSpPr/>
                  <p:nvPr/>
                </p:nvSpPr>
                <p:spPr>
                  <a:xfrm rot="5400000">
                    <a:off x="4444560" y="5103720"/>
                    <a:ext cx="355320" cy="9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66" name=""/>
                  <p:cNvGrpSpPr/>
                  <p:nvPr/>
                </p:nvGrpSpPr>
                <p:grpSpPr>
                  <a:xfrm>
                    <a:off x="4597560" y="5031000"/>
                    <a:ext cx="49680" cy="253080"/>
                    <a:chOff x="4597560" y="5031000"/>
                    <a:chExt cx="49680" cy="253080"/>
                  </a:xfrm>
                </p:grpSpPr>
                <p:sp>
                  <p:nvSpPr>
                    <p:cNvPr id="2767" name=""/>
                    <p:cNvSpPr/>
                    <p:nvPr/>
                  </p:nvSpPr>
                  <p:spPr>
                    <a:xfrm rot="5400000">
                      <a:off x="4596840" y="5031360"/>
                      <a:ext cx="5076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8" name=""/>
                    <p:cNvSpPr/>
                    <p:nvPr/>
                  </p:nvSpPr>
                  <p:spPr>
                    <a:xfrm rot="5400000">
                      <a:off x="4596840" y="5132520"/>
                      <a:ext cx="5076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9" name=""/>
                    <p:cNvSpPr/>
                    <p:nvPr/>
                  </p:nvSpPr>
                  <p:spPr>
                    <a:xfrm rot="5400000">
                      <a:off x="4597200" y="5234040"/>
                      <a:ext cx="5040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70" name=""/>
              <p:cNvGrpSpPr/>
              <p:nvPr/>
            </p:nvGrpSpPr>
            <p:grpSpPr>
              <a:xfrm>
                <a:off x="4424040" y="5332320"/>
                <a:ext cx="398520" cy="355320"/>
                <a:chOff x="4424040" y="5332320"/>
                <a:chExt cx="398520" cy="355320"/>
              </a:xfrm>
            </p:grpSpPr>
            <p:sp>
              <p:nvSpPr>
                <p:cNvPr id="2771" name=""/>
                <p:cNvSpPr/>
                <p:nvPr/>
              </p:nvSpPr>
              <p:spPr>
                <a:xfrm rot="5400000">
                  <a:off x="4570200" y="5435280"/>
                  <a:ext cx="355320" cy="14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rot="5400000">
                  <a:off x="4605120" y="5460840"/>
                  <a:ext cx="285480" cy="99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3" name=""/>
                <p:cNvGrpSpPr/>
                <p:nvPr/>
              </p:nvGrpSpPr>
              <p:grpSpPr>
                <a:xfrm>
                  <a:off x="4723200" y="5412600"/>
                  <a:ext cx="49680" cy="203040"/>
                  <a:chOff x="4723200" y="5412600"/>
                  <a:chExt cx="49680" cy="203040"/>
                </a:xfrm>
              </p:grpSpPr>
              <p:sp>
                <p:nvSpPr>
                  <p:cNvPr id="2774" name=""/>
                  <p:cNvSpPr/>
                  <p:nvPr/>
                </p:nvSpPr>
                <p:spPr>
                  <a:xfrm flipH="1">
                    <a:off x="4723200" y="541260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5" name=""/>
                  <p:cNvSpPr/>
                  <p:nvPr/>
                </p:nvSpPr>
                <p:spPr>
                  <a:xfrm flipH="1">
                    <a:off x="4723200" y="546336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6" name=""/>
                  <p:cNvSpPr/>
                  <p:nvPr/>
                </p:nvSpPr>
                <p:spPr>
                  <a:xfrm flipH="1">
                    <a:off x="4723200" y="551412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7" name=""/>
                  <p:cNvSpPr/>
                  <p:nvPr/>
                </p:nvSpPr>
                <p:spPr>
                  <a:xfrm flipH="1">
                    <a:off x="4723200" y="556488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8" name=""/>
                  <p:cNvSpPr/>
                  <p:nvPr/>
                </p:nvSpPr>
                <p:spPr>
                  <a:xfrm flipH="1">
                    <a:off x="4723200" y="561564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9" name=""/>
                <p:cNvGrpSpPr/>
                <p:nvPr/>
              </p:nvGrpSpPr>
              <p:grpSpPr>
                <a:xfrm>
                  <a:off x="4424040" y="5332320"/>
                  <a:ext cx="149400" cy="355320"/>
                  <a:chOff x="4424040" y="5332320"/>
                  <a:chExt cx="149400" cy="355320"/>
                </a:xfrm>
              </p:grpSpPr>
              <p:sp>
                <p:nvSpPr>
                  <p:cNvPr id="2780" name=""/>
                  <p:cNvSpPr/>
                  <p:nvPr/>
                </p:nvSpPr>
                <p:spPr>
                  <a:xfrm rot="5400000">
                    <a:off x="4321080" y="5435280"/>
                    <a:ext cx="35532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>
                    <a:off x="4542480" y="538524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>
                    <a:off x="4498920" y="538524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>
                    <a:off x="4457160" y="538524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4" name=""/>
                <p:cNvGrpSpPr/>
                <p:nvPr/>
              </p:nvGrpSpPr>
              <p:grpSpPr>
                <a:xfrm>
                  <a:off x="4573800" y="5332320"/>
                  <a:ext cx="99360" cy="355320"/>
                  <a:chOff x="4573800" y="5332320"/>
                  <a:chExt cx="99360" cy="355320"/>
                </a:xfrm>
              </p:grpSpPr>
              <p:sp>
                <p:nvSpPr>
                  <p:cNvPr id="2785" name=""/>
                  <p:cNvSpPr/>
                  <p:nvPr/>
                </p:nvSpPr>
                <p:spPr>
                  <a:xfrm rot="5400000">
                    <a:off x="4445640" y="5460120"/>
                    <a:ext cx="355320" cy="9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86" name=""/>
                  <p:cNvGrpSpPr/>
                  <p:nvPr/>
                </p:nvGrpSpPr>
                <p:grpSpPr>
                  <a:xfrm>
                    <a:off x="4598640" y="5387400"/>
                    <a:ext cx="49680" cy="253080"/>
                    <a:chOff x="4598640" y="5387400"/>
                    <a:chExt cx="49680" cy="253080"/>
                  </a:xfrm>
                </p:grpSpPr>
                <p:sp>
                  <p:nvSpPr>
                    <p:cNvPr id="2787" name=""/>
                    <p:cNvSpPr/>
                    <p:nvPr/>
                  </p:nvSpPr>
                  <p:spPr>
                    <a:xfrm rot="5400000">
                      <a:off x="4597920" y="5387760"/>
                      <a:ext cx="5076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8" name=""/>
                    <p:cNvSpPr/>
                    <p:nvPr/>
                  </p:nvSpPr>
                  <p:spPr>
                    <a:xfrm rot="5400000">
                      <a:off x="4597920" y="5488920"/>
                      <a:ext cx="5076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9" name=""/>
                    <p:cNvSpPr/>
                    <p:nvPr/>
                  </p:nvSpPr>
                  <p:spPr>
                    <a:xfrm rot="5400000">
                      <a:off x="4598280" y="5590440"/>
                      <a:ext cx="5040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790" name=""/>
            <p:cNvGrpSpPr/>
            <p:nvPr/>
          </p:nvGrpSpPr>
          <p:grpSpPr>
            <a:xfrm>
              <a:off x="4972320" y="3199680"/>
              <a:ext cx="398520" cy="2691000"/>
              <a:chOff x="4972320" y="3199680"/>
              <a:chExt cx="398520" cy="2691000"/>
            </a:xfrm>
          </p:grpSpPr>
          <p:grpSp>
            <p:nvGrpSpPr>
              <p:cNvPr id="2791" name=""/>
              <p:cNvGrpSpPr/>
              <p:nvPr/>
            </p:nvGrpSpPr>
            <p:grpSpPr>
              <a:xfrm>
                <a:off x="4972320" y="5687640"/>
                <a:ext cx="298800" cy="203040"/>
                <a:chOff x="4972320" y="5687640"/>
                <a:chExt cx="298800" cy="203040"/>
              </a:xfrm>
            </p:grpSpPr>
            <p:sp>
              <p:nvSpPr>
                <p:cNvPr id="2792" name=""/>
                <p:cNvSpPr/>
                <p:nvPr/>
              </p:nvSpPr>
              <p:spPr>
                <a:xfrm rot="16200000">
                  <a:off x="4945320" y="5714280"/>
                  <a:ext cx="203040" cy="14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rot="16200000">
                  <a:off x="5094720" y="5714280"/>
                  <a:ext cx="203040" cy="14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rot="16200000">
                  <a:off x="5171040" y="5789880"/>
                  <a:ext cx="50760" cy="496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rot="16200000">
                  <a:off x="5171040" y="5738760"/>
                  <a:ext cx="50760" cy="496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6" name=""/>
              <p:cNvGrpSpPr/>
              <p:nvPr/>
            </p:nvGrpSpPr>
            <p:grpSpPr>
              <a:xfrm>
                <a:off x="4972320" y="3199680"/>
                <a:ext cx="398520" cy="2487600"/>
                <a:chOff x="4972320" y="3199680"/>
                <a:chExt cx="398520" cy="2487600"/>
              </a:xfrm>
            </p:grpSpPr>
            <p:grpSp>
              <p:nvGrpSpPr>
                <p:cNvPr id="2797" name=""/>
                <p:cNvGrpSpPr/>
                <p:nvPr/>
              </p:nvGrpSpPr>
              <p:grpSpPr>
                <a:xfrm>
                  <a:off x="4972320" y="5332320"/>
                  <a:ext cx="398520" cy="354960"/>
                  <a:chOff x="4972320" y="5332320"/>
                  <a:chExt cx="398520" cy="354960"/>
                </a:xfrm>
              </p:grpSpPr>
              <p:sp>
                <p:nvSpPr>
                  <p:cNvPr id="2798" name=""/>
                  <p:cNvSpPr/>
                  <p:nvPr/>
                </p:nvSpPr>
                <p:spPr>
                  <a:xfrm rot="16200000">
                    <a:off x="4869360" y="5434920"/>
                    <a:ext cx="35496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 rot="16200000">
                    <a:off x="4904280" y="5459400"/>
                    <a:ext cx="285120" cy="99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00" name=""/>
                  <p:cNvGrpSpPr/>
                  <p:nvPr/>
                </p:nvGrpSpPr>
                <p:grpSpPr>
                  <a:xfrm>
                    <a:off x="5022000" y="5404680"/>
                    <a:ext cx="49680" cy="202680"/>
                    <a:chOff x="5022000" y="5404680"/>
                    <a:chExt cx="49680" cy="202680"/>
                  </a:xfrm>
                </p:grpSpPr>
                <p:sp>
                  <p:nvSpPr>
                    <p:cNvPr id="2801" name=""/>
                    <p:cNvSpPr/>
                    <p:nvPr/>
                  </p:nvSpPr>
                  <p:spPr>
                    <a:xfrm>
                      <a:off x="5022000" y="560736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2" name=""/>
                    <p:cNvSpPr/>
                    <p:nvPr/>
                  </p:nvSpPr>
                  <p:spPr>
                    <a:xfrm>
                      <a:off x="5022000" y="555660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3" name=""/>
                    <p:cNvSpPr/>
                    <p:nvPr/>
                  </p:nvSpPr>
                  <p:spPr>
                    <a:xfrm>
                      <a:off x="5022000" y="550584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4" name=""/>
                    <p:cNvSpPr/>
                    <p:nvPr/>
                  </p:nvSpPr>
                  <p:spPr>
                    <a:xfrm>
                      <a:off x="5022000" y="545544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5" name=""/>
                    <p:cNvSpPr/>
                    <p:nvPr/>
                  </p:nvSpPr>
                  <p:spPr>
                    <a:xfrm>
                      <a:off x="5022000" y="540468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06" name=""/>
                  <p:cNvGrpSpPr/>
                  <p:nvPr/>
                </p:nvGrpSpPr>
                <p:grpSpPr>
                  <a:xfrm>
                    <a:off x="5221440" y="5332320"/>
                    <a:ext cx="149400" cy="354960"/>
                    <a:chOff x="5221440" y="5332320"/>
                    <a:chExt cx="149400" cy="354960"/>
                  </a:xfrm>
                </p:grpSpPr>
                <p:sp>
                  <p:nvSpPr>
                    <p:cNvPr id="2807" name=""/>
                    <p:cNvSpPr/>
                    <p:nvPr/>
                  </p:nvSpPr>
                  <p:spPr>
                    <a:xfrm rot="16200000">
                      <a:off x="5118480" y="5434920"/>
                      <a:ext cx="35496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8" name=""/>
                    <p:cNvSpPr/>
                    <p:nvPr/>
                  </p:nvSpPr>
                  <p:spPr>
                    <a:xfrm flipV="1">
                      <a:off x="5252400" y="538092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9" name=""/>
                    <p:cNvSpPr/>
                    <p:nvPr/>
                  </p:nvSpPr>
                  <p:spPr>
                    <a:xfrm flipV="1">
                      <a:off x="5295960" y="538092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0" name=""/>
                    <p:cNvSpPr/>
                    <p:nvPr/>
                  </p:nvSpPr>
                  <p:spPr>
                    <a:xfrm flipV="1">
                      <a:off x="5337720" y="538092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1" name=""/>
                  <p:cNvGrpSpPr/>
                  <p:nvPr/>
                </p:nvGrpSpPr>
                <p:grpSpPr>
                  <a:xfrm>
                    <a:off x="5121720" y="5332320"/>
                    <a:ext cx="99360" cy="354960"/>
                    <a:chOff x="5121720" y="5332320"/>
                    <a:chExt cx="99360" cy="354960"/>
                  </a:xfrm>
                </p:grpSpPr>
                <p:sp>
                  <p:nvSpPr>
                    <p:cNvPr id="2812" name=""/>
                    <p:cNvSpPr/>
                    <p:nvPr/>
                  </p:nvSpPr>
                  <p:spPr>
                    <a:xfrm rot="16200000">
                      <a:off x="4993920" y="5460120"/>
                      <a:ext cx="354960" cy="993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13" name=""/>
                    <p:cNvGrpSpPr/>
                    <p:nvPr/>
                  </p:nvGrpSpPr>
                  <p:grpSpPr>
                    <a:xfrm>
                      <a:off x="5146560" y="5379120"/>
                      <a:ext cx="49680" cy="253080"/>
                      <a:chOff x="5146560" y="5379120"/>
                      <a:chExt cx="49680" cy="253080"/>
                    </a:xfrm>
                  </p:grpSpPr>
                  <p:sp>
                    <p:nvSpPr>
                      <p:cNvPr id="2814" name=""/>
                      <p:cNvSpPr/>
                      <p:nvPr/>
                    </p:nvSpPr>
                    <p:spPr>
                      <a:xfrm rot="16200000">
                        <a:off x="5145840" y="5581800"/>
                        <a:ext cx="5076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5" name=""/>
                      <p:cNvSpPr/>
                      <p:nvPr/>
                    </p:nvSpPr>
                    <p:spPr>
                      <a:xfrm rot="16200000">
                        <a:off x="5145840" y="5480640"/>
                        <a:ext cx="5076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6" name=""/>
                      <p:cNvSpPr/>
                      <p:nvPr/>
                    </p:nvSpPr>
                    <p:spPr>
                      <a:xfrm rot="16200000">
                        <a:off x="5146200" y="5379480"/>
                        <a:ext cx="5040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817" name=""/>
                <p:cNvGrpSpPr/>
                <p:nvPr/>
              </p:nvGrpSpPr>
              <p:grpSpPr>
                <a:xfrm>
                  <a:off x="4972320" y="3910320"/>
                  <a:ext cx="398520" cy="710640"/>
                  <a:chOff x="4972320" y="3910320"/>
                  <a:chExt cx="398520" cy="710640"/>
                </a:xfrm>
              </p:grpSpPr>
              <p:grpSp>
                <p:nvGrpSpPr>
                  <p:cNvPr id="2818" name=""/>
                  <p:cNvGrpSpPr/>
                  <p:nvPr/>
                </p:nvGrpSpPr>
                <p:grpSpPr>
                  <a:xfrm>
                    <a:off x="4972320" y="3910320"/>
                    <a:ext cx="398520" cy="355320"/>
                    <a:chOff x="4972320" y="3910320"/>
                    <a:chExt cx="398520" cy="355320"/>
                  </a:xfrm>
                </p:grpSpPr>
                <p:sp>
                  <p:nvSpPr>
                    <p:cNvPr id="2819" name=""/>
                    <p:cNvSpPr/>
                    <p:nvPr/>
                  </p:nvSpPr>
                  <p:spPr>
                    <a:xfrm rot="16200000">
                      <a:off x="4869360" y="4013280"/>
                      <a:ext cx="35532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0" name=""/>
                    <p:cNvSpPr/>
                    <p:nvPr/>
                  </p:nvSpPr>
                  <p:spPr>
                    <a:xfrm rot="16200000">
                      <a:off x="4903920" y="4037400"/>
                      <a:ext cx="285480" cy="99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21" name=""/>
                    <p:cNvGrpSpPr/>
                    <p:nvPr/>
                  </p:nvGrpSpPr>
                  <p:grpSpPr>
                    <a:xfrm>
                      <a:off x="5022000" y="3982320"/>
                      <a:ext cx="49680" cy="203040"/>
                      <a:chOff x="5022000" y="3982320"/>
                      <a:chExt cx="49680" cy="203040"/>
                    </a:xfrm>
                  </p:grpSpPr>
                  <p:sp>
                    <p:nvSpPr>
                      <p:cNvPr id="2822" name=""/>
                      <p:cNvSpPr/>
                      <p:nvPr/>
                    </p:nvSpPr>
                    <p:spPr>
                      <a:xfrm>
                        <a:off x="5022000" y="418536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3" name=""/>
                      <p:cNvSpPr/>
                      <p:nvPr/>
                    </p:nvSpPr>
                    <p:spPr>
                      <a:xfrm>
                        <a:off x="5022000" y="413460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4" name=""/>
                      <p:cNvSpPr/>
                      <p:nvPr/>
                    </p:nvSpPr>
                    <p:spPr>
                      <a:xfrm>
                        <a:off x="5022000" y="408384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5" name=""/>
                      <p:cNvSpPr/>
                      <p:nvPr/>
                    </p:nvSpPr>
                    <p:spPr>
                      <a:xfrm>
                        <a:off x="5022000" y="403308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6" name=""/>
                      <p:cNvSpPr/>
                      <p:nvPr/>
                    </p:nvSpPr>
                    <p:spPr>
                      <a:xfrm>
                        <a:off x="5022000" y="398232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27" name=""/>
                    <p:cNvGrpSpPr/>
                    <p:nvPr/>
                  </p:nvGrpSpPr>
                  <p:grpSpPr>
                    <a:xfrm>
                      <a:off x="5221440" y="3910320"/>
                      <a:ext cx="149400" cy="355320"/>
                      <a:chOff x="5221440" y="3910320"/>
                      <a:chExt cx="149400" cy="355320"/>
                    </a:xfrm>
                  </p:grpSpPr>
                  <p:sp>
                    <p:nvSpPr>
                      <p:cNvPr id="2828" name=""/>
                      <p:cNvSpPr/>
                      <p:nvPr/>
                    </p:nvSpPr>
                    <p:spPr>
                      <a:xfrm rot="16200000">
                        <a:off x="5118480" y="4013280"/>
                        <a:ext cx="355320" cy="149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9" name=""/>
                      <p:cNvSpPr/>
                      <p:nvPr/>
                    </p:nvSpPr>
                    <p:spPr>
                      <a:xfrm flipV="1">
                        <a:off x="5252400" y="395928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0" name=""/>
                      <p:cNvSpPr/>
                      <p:nvPr/>
                    </p:nvSpPr>
                    <p:spPr>
                      <a:xfrm flipV="1">
                        <a:off x="5295960" y="395928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1" name=""/>
                      <p:cNvSpPr/>
                      <p:nvPr/>
                    </p:nvSpPr>
                    <p:spPr>
                      <a:xfrm flipV="1">
                        <a:off x="5337720" y="395928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32" name=""/>
                    <p:cNvGrpSpPr/>
                    <p:nvPr/>
                  </p:nvGrpSpPr>
                  <p:grpSpPr>
                    <a:xfrm>
                      <a:off x="5121720" y="3910320"/>
                      <a:ext cx="99360" cy="355320"/>
                      <a:chOff x="5121720" y="3910320"/>
                      <a:chExt cx="99360" cy="355320"/>
                    </a:xfrm>
                  </p:grpSpPr>
                  <p:sp>
                    <p:nvSpPr>
                      <p:cNvPr id="2833" name=""/>
                      <p:cNvSpPr/>
                      <p:nvPr/>
                    </p:nvSpPr>
                    <p:spPr>
                      <a:xfrm rot="16200000">
                        <a:off x="4993560" y="4038120"/>
                        <a:ext cx="355320" cy="99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34" name=""/>
                      <p:cNvGrpSpPr/>
                      <p:nvPr/>
                    </p:nvGrpSpPr>
                    <p:grpSpPr>
                      <a:xfrm>
                        <a:off x="5146560" y="3957480"/>
                        <a:ext cx="49680" cy="253080"/>
                        <a:chOff x="5146560" y="3957480"/>
                        <a:chExt cx="49680" cy="253080"/>
                      </a:xfrm>
                    </p:grpSpPr>
                    <p:sp>
                      <p:nvSpPr>
                        <p:cNvPr id="2835" name=""/>
                        <p:cNvSpPr/>
                        <p:nvPr/>
                      </p:nvSpPr>
                      <p:spPr>
                        <a:xfrm rot="16200000">
                          <a:off x="5145840" y="416016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36" name=""/>
                        <p:cNvSpPr/>
                        <p:nvPr/>
                      </p:nvSpPr>
                      <p:spPr>
                        <a:xfrm rot="16200000">
                          <a:off x="5145840" y="405900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37" name=""/>
                        <p:cNvSpPr/>
                        <p:nvPr/>
                      </p:nvSpPr>
                      <p:spPr>
                        <a:xfrm rot="16200000">
                          <a:off x="5146200" y="3957840"/>
                          <a:ext cx="5040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838" name=""/>
                  <p:cNvGrpSpPr/>
                  <p:nvPr/>
                </p:nvGrpSpPr>
                <p:grpSpPr>
                  <a:xfrm>
                    <a:off x="4972320" y="4265640"/>
                    <a:ext cx="398520" cy="355320"/>
                    <a:chOff x="4972320" y="4265640"/>
                    <a:chExt cx="398520" cy="355320"/>
                  </a:xfrm>
                </p:grpSpPr>
                <p:sp>
                  <p:nvSpPr>
                    <p:cNvPr id="2839" name=""/>
                    <p:cNvSpPr/>
                    <p:nvPr/>
                  </p:nvSpPr>
                  <p:spPr>
                    <a:xfrm rot="16200000">
                      <a:off x="4869360" y="4368600"/>
                      <a:ext cx="35532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0" name=""/>
                    <p:cNvSpPr/>
                    <p:nvPr/>
                  </p:nvSpPr>
                  <p:spPr>
                    <a:xfrm rot="16200000">
                      <a:off x="4903920" y="4392720"/>
                      <a:ext cx="285480" cy="99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41" name=""/>
                    <p:cNvGrpSpPr/>
                    <p:nvPr/>
                  </p:nvGrpSpPr>
                  <p:grpSpPr>
                    <a:xfrm>
                      <a:off x="5022000" y="4337640"/>
                      <a:ext cx="49680" cy="203040"/>
                      <a:chOff x="5022000" y="4337640"/>
                      <a:chExt cx="49680" cy="203040"/>
                    </a:xfrm>
                  </p:grpSpPr>
                  <p:sp>
                    <p:nvSpPr>
                      <p:cNvPr id="2842" name=""/>
                      <p:cNvSpPr/>
                      <p:nvPr/>
                    </p:nvSpPr>
                    <p:spPr>
                      <a:xfrm>
                        <a:off x="5022000" y="454068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3" name=""/>
                      <p:cNvSpPr/>
                      <p:nvPr/>
                    </p:nvSpPr>
                    <p:spPr>
                      <a:xfrm>
                        <a:off x="5022000" y="448992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4" name=""/>
                      <p:cNvSpPr/>
                      <p:nvPr/>
                    </p:nvSpPr>
                    <p:spPr>
                      <a:xfrm>
                        <a:off x="5022000" y="443916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5" name=""/>
                      <p:cNvSpPr/>
                      <p:nvPr/>
                    </p:nvSpPr>
                    <p:spPr>
                      <a:xfrm>
                        <a:off x="5022000" y="438840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6" name=""/>
                      <p:cNvSpPr/>
                      <p:nvPr/>
                    </p:nvSpPr>
                    <p:spPr>
                      <a:xfrm>
                        <a:off x="5022000" y="433764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47" name=""/>
                    <p:cNvGrpSpPr/>
                    <p:nvPr/>
                  </p:nvGrpSpPr>
                  <p:grpSpPr>
                    <a:xfrm>
                      <a:off x="5221440" y="4265640"/>
                      <a:ext cx="149400" cy="355320"/>
                      <a:chOff x="5221440" y="4265640"/>
                      <a:chExt cx="149400" cy="355320"/>
                    </a:xfrm>
                  </p:grpSpPr>
                  <p:sp>
                    <p:nvSpPr>
                      <p:cNvPr id="2848" name=""/>
                      <p:cNvSpPr/>
                      <p:nvPr/>
                    </p:nvSpPr>
                    <p:spPr>
                      <a:xfrm rot="16200000">
                        <a:off x="5118480" y="4368600"/>
                        <a:ext cx="355320" cy="149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9" name=""/>
                      <p:cNvSpPr/>
                      <p:nvPr/>
                    </p:nvSpPr>
                    <p:spPr>
                      <a:xfrm flipV="1">
                        <a:off x="5252400" y="431460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0" name=""/>
                      <p:cNvSpPr/>
                      <p:nvPr/>
                    </p:nvSpPr>
                    <p:spPr>
                      <a:xfrm flipV="1">
                        <a:off x="5295960" y="431460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1" name=""/>
                      <p:cNvSpPr/>
                      <p:nvPr/>
                    </p:nvSpPr>
                    <p:spPr>
                      <a:xfrm flipV="1">
                        <a:off x="5337720" y="431460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52" name=""/>
                    <p:cNvGrpSpPr/>
                    <p:nvPr/>
                  </p:nvGrpSpPr>
                  <p:grpSpPr>
                    <a:xfrm>
                      <a:off x="5121720" y="4265640"/>
                      <a:ext cx="99360" cy="355320"/>
                      <a:chOff x="5121720" y="4265640"/>
                      <a:chExt cx="99360" cy="355320"/>
                    </a:xfrm>
                  </p:grpSpPr>
                  <p:sp>
                    <p:nvSpPr>
                      <p:cNvPr id="2853" name=""/>
                      <p:cNvSpPr/>
                      <p:nvPr/>
                    </p:nvSpPr>
                    <p:spPr>
                      <a:xfrm rot="16200000">
                        <a:off x="4993560" y="4393440"/>
                        <a:ext cx="355320" cy="99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54" name=""/>
                      <p:cNvGrpSpPr/>
                      <p:nvPr/>
                    </p:nvGrpSpPr>
                    <p:grpSpPr>
                      <a:xfrm>
                        <a:off x="5146560" y="4312800"/>
                        <a:ext cx="49680" cy="253080"/>
                        <a:chOff x="5146560" y="4312800"/>
                        <a:chExt cx="49680" cy="253080"/>
                      </a:xfrm>
                    </p:grpSpPr>
                    <p:sp>
                      <p:nvSpPr>
                        <p:cNvPr id="2855" name=""/>
                        <p:cNvSpPr/>
                        <p:nvPr/>
                      </p:nvSpPr>
                      <p:spPr>
                        <a:xfrm rot="16200000">
                          <a:off x="5145840" y="451548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56" name=""/>
                        <p:cNvSpPr/>
                        <p:nvPr/>
                      </p:nvSpPr>
                      <p:spPr>
                        <a:xfrm rot="16200000">
                          <a:off x="5145840" y="441432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57" name=""/>
                        <p:cNvSpPr/>
                        <p:nvPr/>
                      </p:nvSpPr>
                      <p:spPr>
                        <a:xfrm rot="16200000">
                          <a:off x="5146200" y="4313160"/>
                          <a:ext cx="5040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858" name=""/>
                <p:cNvGrpSpPr/>
                <p:nvPr/>
              </p:nvGrpSpPr>
              <p:grpSpPr>
                <a:xfrm>
                  <a:off x="4972320" y="4620960"/>
                  <a:ext cx="398520" cy="710640"/>
                  <a:chOff x="4972320" y="4620960"/>
                  <a:chExt cx="398520" cy="710640"/>
                </a:xfrm>
              </p:grpSpPr>
              <p:grpSp>
                <p:nvGrpSpPr>
                  <p:cNvPr id="2859" name=""/>
                  <p:cNvGrpSpPr/>
                  <p:nvPr/>
                </p:nvGrpSpPr>
                <p:grpSpPr>
                  <a:xfrm>
                    <a:off x="4972320" y="4620960"/>
                    <a:ext cx="398520" cy="355320"/>
                    <a:chOff x="4972320" y="4620960"/>
                    <a:chExt cx="398520" cy="355320"/>
                  </a:xfrm>
                </p:grpSpPr>
                <p:sp>
                  <p:nvSpPr>
                    <p:cNvPr id="2860" name=""/>
                    <p:cNvSpPr/>
                    <p:nvPr/>
                  </p:nvSpPr>
                  <p:spPr>
                    <a:xfrm rot="16200000">
                      <a:off x="4869360" y="4723920"/>
                      <a:ext cx="35532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1" name=""/>
                    <p:cNvSpPr/>
                    <p:nvPr/>
                  </p:nvSpPr>
                  <p:spPr>
                    <a:xfrm rot="16200000">
                      <a:off x="4903920" y="4748040"/>
                      <a:ext cx="285480" cy="99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62" name=""/>
                    <p:cNvGrpSpPr/>
                    <p:nvPr/>
                  </p:nvGrpSpPr>
                  <p:grpSpPr>
                    <a:xfrm>
                      <a:off x="5022000" y="4692960"/>
                      <a:ext cx="49680" cy="203040"/>
                      <a:chOff x="5022000" y="4692960"/>
                      <a:chExt cx="49680" cy="203040"/>
                    </a:xfrm>
                  </p:grpSpPr>
                  <p:sp>
                    <p:nvSpPr>
                      <p:cNvPr id="2863" name=""/>
                      <p:cNvSpPr/>
                      <p:nvPr/>
                    </p:nvSpPr>
                    <p:spPr>
                      <a:xfrm>
                        <a:off x="5022000" y="489600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4" name=""/>
                      <p:cNvSpPr/>
                      <p:nvPr/>
                    </p:nvSpPr>
                    <p:spPr>
                      <a:xfrm>
                        <a:off x="5022000" y="484524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5" name=""/>
                      <p:cNvSpPr/>
                      <p:nvPr/>
                    </p:nvSpPr>
                    <p:spPr>
                      <a:xfrm>
                        <a:off x="5022000" y="479448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6" name=""/>
                      <p:cNvSpPr/>
                      <p:nvPr/>
                    </p:nvSpPr>
                    <p:spPr>
                      <a:xfrm>
                        <a:off x="5022000" y="474372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7" name=""/>
                      <p:cNvSpPr/>
                      <p:nvPr/>
                    </p:nvSpPr>
                    <p:spPr>
                      <a:xfrm>
                        <a:off x="5022000" y="469296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68" name=""/>
                    <p:cNvGrpSpPr/>
                    <p:nvPr/>
                  </p:nvGrpSpPr>
                  <p:grpSpPr>
                    <a:xfrm>
                      <a:off x="5221440" y="4620960"/>
                      <a:ext cx="149400" cy="355320"/>
                      <a:chOff x="5221440" y="4620960"/>
                      <a:chExt cx="149400" cy="355320"/>
                    </a:xfrm>
                  </p:grpSpPr>
                  <p:sp>
                    <p:nvSpPr>
                      <p:cNvPr id="2869" name=""/>
                      <p:cNvSpPr/>
                      <p:nvPr/>
                    </p:nvSpPr>
                    <p:spPr>
                      <a:xfrm rot="16200000">
                        <a:off x="5118480" y="4723920"/>
                        <a:ext cx="355320" cy="149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0" name=""/>
                      <p:cNvSpPr/>
                      <p:nvPr/>
                    </p:nvSpPr>
                    <p:spPr>
                      <a:xfrm flipV="1">
                        <a:off x="5252400" y="466992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1" name=""/>
                      <p:cNvSpPr/>
                      <p:nvPr/>
                    </p:nvSpPr>
                    <p:spPr>
                      <a:xfrm flipV="1">
                        <a:off x="5295960" y="466992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2" name=""/>
                      <p:cNvSpPr/>
                      <p:nvPr/>
                    </p:nvSpPr>
                    <p:spPr>
                      <a:xfrm flipV="1">
                        <a:off x="5337720" y="466992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73" name=""/>
                    <p:cNvGrpSpPr/>
                    <p:nvPr/>
                  </p:nvGrpSpPr>
                  <p:grpSpPr>
                    <a:xfrm>
                      <a:off x="5121720" y="4620960"/>
                      <a:ext cx="99360" cy="355320"/>
                      <a:chOff x="5121720" y="4620960"/>
                      <a:chExt cx="99360" cy="355320"/>
                    </a:xfrm>
                  </p:grpSpPr>
                  <p:sp>
                    <p:nvSpPr>
                      <p:cNvPr id="2874" name=""/>
                      <p:cNvSpPr/>
                      <p:nvPr/>
                    </p:nvSpPr>
                    <p:spPr>
                      <a:xfrm rot="16200000">
                        <a:off x="4993560" y="4748760"/>
                        <a:ext cx="355320" cy="99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75" name=""/>
                      <p:cNvGrpSpPr/>
                      <p:nvPr/>
                    </p:nvGrpSpPr>
                    <p:grpSpPr>
                      <a:xfrm>
                        <a:off x="5146560" y="4668120"/>
                        <a:ext cx="49680" cy="253080"/>
                        <a:chOff x="5146560" y="4668120"/>
                        <a:chExt cx="49680" cy="253080"/>
                      </a:xfrm>
                    </p:grpSpPr>
                    <p:sp>
                      <p:nvSpPr>
                        <p:cNvPr id="2876" name=""/>
                        <p:cNvSpPr/>
                        <p:nvPr/>
                      </p:nvSpPr>
                      <p:spPr>
                        <a:xfrm rot="16200000">
                          <a:off x="5145840" y="487080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77" name=""/>
                        <p:cNvSpPr/>
                        <p:nvPr/>
                      </p:nvSpPr>
                      <p:spPr>
                        <a:xfrm rot="16200000">
                          <a:off x="5145840" y="476964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78" name=""/>
                        <p:cNvSpPr/>
                        <p:nvPr/>
                      </p:nvSpPr>
                      <p:spPr>
                        <a:xfrm rot="16200000">
                          <a:off x="5146200" y="4668480"/>
                          <a:ext cx="5040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879" name=""/>
                  <p:cNvGrpSpPr/>
                  <p:nvPr/>
                </p:nvGrpSpPr>
                <p:grpSpPr>
                  <a:xfrm>
                    <a:off x="4972320" y="4976280"/>
                    <a:ext cx="398520" cy="355320"/>
                    <a:chOff x="4972320" y="4976280"/>
                    <a:chExt cx="398520" cy="355320"/>
                  </a:xfrm>
                </p:grpSpPr>
                <p:sp>
                  <p:nvSpPr>
                    <p:cNvPr id="2880" name=""/>
                    <p:cNvSpPr/>
                    <p:nvPr/>
                  </p:nvSpPr>
                  <p:spPr>
                    <a:xfrm rot="16200000">
                      <a:off x="4869360" y="5079240"/>
                      <a:ext cx="35532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1" name=""/>
                    <p:cNvSpPr/>
                    <p:nvPr/>
                  </p:nvSpPr>
                  <p:spPr>
                    <a:xfrm rot="16200000">
                      <a:off x="4903920" y="5103360"/>
                      <a:ext cx="285480" cy="99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82" name=""/>
                    <p:cNvGrpSpPr/>
                    <p:nvPr/>
                  </p:nvGrpSpPr>
                  <p:grpSpPr>
                    <a:xfrm>
                      <a:off x="5022000" y="5048280"/>
                      <a:ext cx="49680" cy="203040"/>
                      <a:chOff x="5022000" y="5048280"/>
                      <a:chExt cx="49680" cy="203040"/>
                    </a:xfrm>
                  </p:grpSpPr>
                  <p:sp>
                    <p:nvSpPr>
                      <p:cNvPr id="2883" name=""/>
                      <p:cNvSpPr/>
                      <p:nvPr/>
                    </p:nvSpPr>
                    <p:spPr>
                      <a:xfrm>
                        <a:off x="5022000" y="525132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4" name=""/>
                      <p:cNvSpPr/>
                      <p:nvPr/>
                    </p:nvSpPr>
                    <p:spPr>
                      <a:xfrm>
                        <a:off x="5022000" y="520056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5" name=""/>
                      <p:cNvSpPr/>
                      <p:nvPr/>
                    </p:nvSpPr>
                    <p:spPr>
                      <a:xfrm>
                        <a:off x="5022000" y="514980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6" name=""/>
                      <p:cNvSpPr/>
                      <p:nvPr/>
                    </p:nvSpPr>
                    <p:spPr>
                      <a:xfrm>
                        <a:off x="5022000" y="509904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7" name=""/>
                      <p:cNvSpPr/>
                      <p:nvPr/>
                    </p:nvSpPr>
                    <p:spPr>
                      <a:xfrm>
                        <a:off x="5022000" y="504828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88" name=""/>
                    <p:cNvGrpSpPr/>
                    <p:nvPr/>
                  </p:nvGrpSpPr>
                  <p:grpSpPr>
                    <a:xfrm>
                      <a:off x="5221440" y="4976280"/>
                      <a:ext cx="149400" cy="355320"/>
                      <a:chOff x="5221440" y="4976280"/>
                      <a:chExt cx="149400" cy="355320"/>
                    </a:xfrm>
                  </p:grpSpPr>
                  <p:sp>
                    <p:nvSpPr>
                      <p:cNvPr id="2889" name=""/>
                      <p:cNvSpPr/>
                      <p:nvPr/>
                    </p:nvSpPr>
                    <p:spPr>
                      <a:xfrm rot="16200000">
                        <a:off x="5118480" y="5079240"/>
                        <a:ext cx="355320" cy="149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0" name=""/>
                      <p:cNvSpPr/>
                      <p:nvPr/>
                    </p:nvSpPr>
                    <p:spPr>
                      <a:xfrm flipV="1">
                        <a:off x="5252400" y="502524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1" name=""/>
                      <p:cNvSpPr/>
                      <p:nvPr/>
                    </p:nvSpPr>
                    <p:spPr>
                      <a:xfrm flipV="1">
                        <a:off x="5295960" y="502524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2" name=""/>
                      <p:cNvSpPr/>
                      <p:nvPr/>
                    </p:nvSpPr>
                    <p:spPr>
                      <a:xfrm flipV="1">
                        <a:off x="5337720" y="502524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93" name=""/>
                    <p:cNvGrpSpPr/>
                    <p:nvPr/>
                  </p:nvGrpSpPr>
                  <p:grpSpPr>
                    <a:xfrm>
                      <a:off x="5121720" y="4976280"/>
                      <a:ext cx="99360" cy="355320"/>
                      <a:chOff x="5121720" y="4976280"/>
                      <a:chExt cx="99360" cy="355320"/>
                    </a:xfrm>
                  </p:grpSpPr>
                  <p:sp>
                    <p:nvSpPr>
                      <p:cNvPr id="2894" name=""/>
                      <p:cNvSpPr/>
                      <p:nvPr/>
                    </p:nvSpPr>
                    <p:spPr>
                      <a:xfrm rot="16200000">
                        <a:off x="4993560" y="5104080"/>
                        <a:ext cx="355320" cy="99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95" name=""/>
                      <p:cNvGrpSpPr/>
                      <p:nvPr/>
                    </p:nvGrpSpPr>
                    <p:grpSpPr>
                      <a:xfrm>
                        <a:off x="5146560" y="5023440"/>
                        <a:ext cx="49680" cy="253080"/>
                        <a:chOff x="5146560" y="5023440"/>
                        <a:chExt cx="49680" cy="253080"/>
                      </a:xfrm>
                    </p:grpSpPr>
                    <p:sp>
                      <p:nvSpPr>
                        <p:cNvPr id="2896" name=""/>
                        <p:cNvSpPr/>
                        <p:nvPr/>
                      </p:nvSpPr>
                      <p:spPr>
                        <a:xfrm rot="16200000">
                          <a:off x="5145840" y="522612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97" name=""/>
                        <p:cNvSpPr/>
                        <p:nvPr/>
                      </p:nvSpPr>
                      <p:spPr>
                        <a:xfrm rot="16200000">
                          <a:off x="5145840" y="512496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98" name=""/>
                        <p:cNvSpPr/>
                        <p:nvPr/>
                      </p:nvSpPr>
                      <p:spPr>
                        <a:xfrm rot="16200000">
                          <a:off x="5146200" y="5023800"/>
                          <a:ext cx="5040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899" name=""/>
                <p:cNvGrpSpPr/>
                <p:nvPr/>
              </p:nvGrpSpPr>
              <p:grpSpPr>
                <a:xfrm>
                  <a:off x="4972320" y="3199680"/>
                  <a:ext cx="398520" cy="710640"/>
                  <a:chOff x="4972320" y="3199680"/>
                  <a:chExt cx="398520" cy="710640"/>
                </a:xfrm>
              </p:grpSpPr>
              <p:grpSp>
                <p:nvGrpSpPr>
                  <p:cNvPr id="2900" name=""/>
                  <p:cNvGrpSpPr/>
                  <p:nvPr/>
                </p:nvGrpSpPr>
                <p:grpSpPr>
                  <a:xfrm>
                    <a:off x="4972320" y="3199680"/>
                    <a:ext cx="398520" cy="355320"/>
                    <a:chOff x="4972320" y="3199680"/>
                    <a:chExt cx="398520" cy="355320"/>
                  </a:xfrm>
                </p:grpSpPr>
                <p:sp>
                  <p:nvSpPr>
                    <p:cNvPr id="2901" name=""/>
                    <p:cNvSpPr/>
                    <p:nvPr/>
                  </p:nvSpPr>
                  <p:spPr>
                    <a:xfrm rot="16200000">
                      <a:off x="4869360" y="3302640"/>
                      <a:ext cx="35532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2" name=""/>
                    <p:cNvSpPr/>
                    <p:nvPr/>
                  </p:nvSpPr>
                  <p:spPr>
                    <a:xfrm rot="16200000">
                      <a:off x="4903920" y="3326760"/>
                      <a:ext cx="285480" cy="99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03" name=""/>
                    <p:cNvGrpSpPr/>
                    <p:nvPr/>
                  </p:nvGrpSpPr>
                  <p:grpSpPr>
                    <a:xfrm>
                      <a:off x="5022000" y="3271680"/>
                      <a:ext cx="49680" cy="203040"/>
                      <a:chOff x="5022000" y="3271680"/>
                      <a:chExt cx="49680" cy="203040"/>
                    </a:xfrm>
                  </p:grpSpPr>
                  <p:sp>
                    <p:nvSpPr>
                      <p:cNvPr id="2904" name=""/>
                      <p:cNvSpPr/>
                      <p:nvPr/>
                    </p:nvSpPr>
                    <p:spPr>
                      <a:xfrm>
                        <a:off x="5022000" y="347472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5" name=""/>
                      <p:cNvSpPr/>
                      <p:nvPr/>
                    </p:nvSpPr>
                    <p:spPr>
                      <a:xfrm>
                        <a:off x="5022000" y="342396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6" name=""/>
                      <p:cNvSpPr/>
                      <p:nvPr/>
                    </p:nvSpPr>
                    <p:spPr>
                      <a:xfrm>
                        <a:off x="5022000" y="337320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7" name=""/>
                      <p:cNvSpPr/>
                      <p:nvPr/>
                    </p:nvSpPr>
                    <p:spPr>
                      <a:xfrm>
                        <a:off x="5022000" y="332244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8" name=""/>
                      <p:cNvSpPr/>
                      <p:nvPr/>
                    </p:nvSpPr>
                    <p:spPr>
                      <a:xfrm>
                        <a:off x="5022000" y="327168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09" name=""/>
                    <p:cNvGrpSpPr/>
                    <p:nvPr/>
                  </p:nvGrpSpPr>
                  <p:grpSpPr>
                    <a:xfrm>
                      <a:off x="5221440" y="3199680"/>
                      <a:ext cx="149400" cy="355320"/>
                      <a:chOff x="5221440" y="3199680"/>
                      <a:chExt cx="149400" cy="355320"/>
                    </a:xfrm>
                  </p:grpSpPr>
                  <p:sp>
                    <p:nvSpPr>
                      <p:cNvPr id="2910" name=""/>
                      <p:cNvSpPr/>
                      <p:nvPr/>
                    </p:nvSpPr>
                    <p:spPr>
                      <a:xfrm rot="16200000">
                        <a:off x="5118480" y="3302640"/>
                        <a:ext cx="355320" cy="149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1" name=""/>
                      <p:cNvSpPr/>
                      <p:nvPr/>
                    </p:nvSpPr>
                    <p:spPr>
                      <a:xfrm flipV="1">
                        <a:off x="5252400" y="324864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2" name=""/>
                      <p:cNvSpPr/>
                      <p:nvPr/>
                    </p:nvSpPr>
                    <p:spPr>
                      <a:xfrm flipV="1">
                        <a:off x="5295960" y="324864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3" name=""/>
                      <p:cNvSpPr/>
                      <p:nvPr/>
                    </p:nvSpPr>
                    <p:spPr>
                      <a:xfrm flipV="1">
                        <a:off x="5337720" y="324864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14" name=""/>
                    <p:cNvGrpSpPr/>
                    <p:nvPr/>
                  </p:nvGrpSpPr>
                  <p:grpSpPr>
                    <a:xfrm>
                      <a:off x="5121720" y="3199680"/>
                      <a:ext cx="99360" cy="355320"/>
                      <a:chOff x="5121720" y="3199680"/>
                      <a:chExt cx="99360" cy="355320"/>
                    </a:xfrm>
                  </p:grpSpPr>
                  <p:sp>
                    <p:nvSpPr>
                      <p:cNvPr id="2915" name=""/>
                      <p:cNvSpPr/>
                      <p:nvPr/>
                    </p:nvSpPr>
                    <p:spPr>
                      <a:xfrm rot="16200000">
                        <a:off x="4993560" y="3327480"/>
                        <a:ext cx="355320" cy="99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916" name=""/>
                      <p:cNvGrpSpPr/>
                      <p:nvPr/>
                    </p:nvGrpSpPr>
                    <p:grpSpPr>
                      <a:xfrm>
                        <a:off x="5146560" y="3246840"/>
                        <a:ext cx="49680" cy="253080"/>
                        <a:chOff x="5146560" y="3246840"/>
                        <a:chExt cx="49680" cy="253080"/>
                      </a:xfrm>
                    </p:grpSpPr>
                    <p:sp>
                      <p:nvSpPr>
                        <p:cNvPr id="2917" name=""/>
                        <p:cNvSpPr/>
                        <p:nvPr/>
                      </p:nvSpPr>
                      <p:spPr>
                        <a:xfrm rot="16200000">
                          <a:off x="5145840" y="344952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18" name=""/>
                        <p:cNvSpPr/>
                        <p:nvPr/>
                      </p:nvSpPr>
                      <p:spPr>
                        <a:xfrm rot="16200000">
                          <a:off x="5145840" y="334836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19" name=""/>
                        <p:cNvSpPr/>
                        <p:nvPr/>
                      </p:nvSpPr>
                      <p:spPr>
                        <a:xfrm rot="16200000">
                          <a:off x="5146200" y="3247200"/>
                          <a:ext cx="5040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920" name=""/>
                  <p:cNvGrpSpPr/>
                  <p:nvPr/>
                </p:nvGrpSpPr>
                <p:grpSpPr>
                  <a:xfrm>
                    <a:off x="4972320" y="3555000"/>
                    <a:ext cx="398520" cy="355320"/>
                    <a:chOff x="4972320" y="3555000"/>
                    <a:chExt cx="398520" cy="355320"/>
                  </a:xfrm>
                </p:grpSpPr>
                <p:sp>
                  <p:nvSpPr>
                    <p:cNvPr id="2921" name=""/>
                    <p:cNvSpPr/>
                    <p:nvPr/>
                  </p:nvSpPr>
                  <p:spPr>
                    <a:xfrm rot="16200000">
                      <a:off x="4869360" y="3657960"/>
                      <a:ext cx="35532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2" name=""/>
                    <p:cNvSpPr/>
                    <p:nvPr/>
                  </p:nvSpPr>
                  <p:spPr>
                    <a:xfrm rot="16200000">
                      <a:off x="4903920" y="3682080"/>
                      <a:ext cx="285480" cy="99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23" name=""/>
                    <p:cNvGrpSpPr/>
                    <p:nvPr/>
                  </p:nvGrpSpPr>
                  <p:grpSpPr>
                    <a:xfrm>
                      <a:off x="5022000" y="3627000"/>
                      <a:ext cx="49680" cy="203040"/>
                      <a:chOff x="5022000" y="3627000"/>
                      <a:chExt cx="49680" cy="203040"/>
                    </a:xfrm>
                  </p:grpSpPr>
                  <p:sp>
                    <p:nvSpPr>
                      <p:cNvPr id="2924" name=""/>
                      <p:cNvSpPr/>
                      <p:nvPr/>
                    </p:nvSpPr>
                    <p:spPr>
                      <a:xfrm>
                        <a:off x="5022000" y="383004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5" name=""/>
                      <p:cNvSpPr/>
                      <p:nvPr/>
                    </p:nvSpPr>
                    <p:spPr>
                      <a:xfrm>
                        <a:off x="5022000" y="377928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6" name=""/>
                      <p:cNvSpPr/>
                      <p:nvPr/>
                    </p:nvSpPr>
                    <p:spPr>
                      <a:xfrm>
                        <a:off x="5022000" y="372852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7" name=""/>
                      <p:cNvSpPr/>
                      <p:nvPr/>
                    </p:nvSpPr>
                    <p:spPr>
                      <a:xfrm>
                        <a:off x="5022000" y="367776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8" name=""/>
                      <p:cNvSpPr/>
                      <p:nvPr/>
                    </p:nvSpPr>
                    <p:spPr>
                      <a:xfrm>
                        <a:off x="5022000" y="362700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29" name=""/>
                    <p:cNvGrpSpPr/>
                    <p:nvPr/>
                  </p:nvGrpSpPr>
                  <p:grpSpPr>
                    <a:xfrm>
                      <a:off x="5221440" y="3555000"/>
                      <a:ext cx="149400" cy="355320"/>
                      <a:chOff x="5221440" y="3555000"/>
                      <a:chExt cx="149400" cy="355320"/>
                    </a:xfrm>
                  </p:grpSpPr>
                  <p:sp>
                    <p:nvSpPr>
                      <p:cNvPr id="2930" name=""/>
                      <p:cNvSpPr/>
                      <p:nvPr/>
                    </p:nvSpPr>
                    <p:spPr>
                      <a:xfrm rot="16200000">
                        <a:off x="5118480" y="3657960"/>
                        <a:ext cx="355320" cy="149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1" name=""/>
                      <p:cNvSpPr/>
                      <p:nvPr/>
                    </p:nvSpPr>
                    <p:spPr>
                      <a:xfrm flipV="1">
                        <a:off x="5252400" y="360396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2" name=""/>
                      <p:cNvSpPr/>
                      <p:nvPr/>
                    </p:nvSpPr>
                    <p:spPr>
                      <a:xfrm flipV="1">
                        <a:off x="5295960" y="360396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3" name=""/>
                      <p:cNvSpPr/>
                      <p:nvPr/>
                    </p:nvSpPr>
                    <p:spPr>
                      <a:xfrm flipV="1">
                        <a:off x="5337720" y="360396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34" name=""/>
                    <p:cNvGrpSpPr/>
                    <p:nvPr/>
                  </p:nvGrpSpPr>
                  <p:grpSpPr>
                    <a:xfrm>
                      <a:off x="5121720" y="3555000"/>
                      <a:ext cx="99360" cy="355320"/>
                      <a:chOff x="5121720" y="3555000"/>
                      <a:chExt cx="99360" cy="355320"/>
                    </a:xfrm>
                  </p:grpSpPr>
                  <p:sp>
                    <p:nvSpPr>
                      <p:cNvPr id="2935" name=""/>
                      <p:cNvSpPr/>
                      <p:nvPr/>
                    </p:nvSpPr>
                    <p:spPr>
                      <a:xfrm rot="16200000">
                        <a:off x="4993560" y="3682800"/>
                        <a:ext cx="355320" cy="99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936" name=""/>
                      <p:cNvGrpSpPr/>
                      <p:nvPr/>
                    </p:nvGrpSpPr>
                    <p:grpSpPr>
                      <a:xfrm>
                        <a:off x="5146560" y="3602160"/>
                        <a:ext cx="49680" cy="253080"/>
                        <a:chOff x="5146560" y="3602160"/>
                        <a:chExt cx="49680" cy="253080"/>
                      </a:xfrm>
                    </p:grpSpPr>
                    <p:sp>
                      <p:nvSpPr>
                        <p:cNvPr id="2937" name=""/>
                        <p:cNvSpPr/>
                        <p:nvPr/>
                      </p:nvSpPr>
                      <p:spPr>
                        <a:xfrm rot="16200000">
                          <a:off x="5145840" y="380484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38" name=""/>
                        <p:cNvSpPr/>
                        <p:nvPr/>
                      </p:nvSpPr>
                      <p:spPr>
                        <a:xfrm rot="16200000">
                          <a:off x="5145840" y="370368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39" name=""/>
                        <p:cNvSpPr/>
                        <p:nvPr/>
                      </p:nvSpPr>
                      <p:spPr>
                        <a:xfrm rot="16200000">
                          <a:off x="5146200" y="3602520"/>
                          <a:ext cx="5040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pic>
        <p:nvPicPr>
          <p:cNvPr id="2940" name="painel2" descr=""/>
          <p:cNvPicPr/>
          <p:nvPr/>
        </p:nvPicPr>
        <p:blipFill>
          <a:blip r:embed="rId1"/>
          <a:stretch/>
        </p:blipFill>
        <p:spPr>
          <a:xfrm>
            <a:off x="3352680" y="2819520"/>
            <a:ext cx="250344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Redução de custo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419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Simplificação de projeto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Armário menor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Eliminação de bornes para fiação de campo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Eliminação da fiação e identificação interna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Grande redução de mão de obra de montagem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943" name=""/>
          <p:cNvSpPr/>
          <p:nvPr/>
        </p:nvSpPr>
        <p:spPr>
          <a:xfrm>
            <a:off x="1219320" y="4724280"/>
            <a:ext cx="6781680" cy="106884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57dba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ção de custo da ordem de 30% no armário mon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4" name=""/>
          <p:cNvGraphicFramePr/>
          <p:nvPr/>
        </p:nvGraphicFramePr>
        <p:xfrm>
          <a:off x="4724280" y="1295280"/>
          <a:ext cx="4191120" cy="27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295280"/>
                    <a:ext cx="4191120" cy="27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1523520" y="220968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66ff"/>
                </a:solidFill>
                <a:latin typeface="Tahoma"/>
              </a:rPr>
              <a:t>UCPs</a:t>
            </a:r>
            <a:endParaRPr b="0" lang="en-US" sz="80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2948" name="logocapa" descr=""/>
          <p:cNvPicPr/>
          <p:nvPr/>
        </p:nvPicPr>
        <p:blipFill>
          <a:blip r:embed="rId1"/>
          <a:stretch/>
        </p:blipFill>
        <p:spPr>
          <a:xfrm>
            <a:off x="7162920" y="6093000"/>
            <a:ext cx="1790640" cy="761760"/>
          </a:xfrm>
          <a:prstGeom prst="rect">
            <a:avLst/>
          </a:prstGeom>
          <a:ln w="0">
            <a:noFill/>
          </a:ln>
        </p:spPr>
      </p:pic>
      <p:grpSp>
        <p:nvGrpSpPr>
          <p:cNvPr id="2949" name=""/>
          <p:cNvGrpSpPr/>
          <p:nvPr/>
        </p:nvGrpSpPr>
        <p:grpSpPr>
          <a:xfrm>
            <a:off x="6324480" y="3048120"/>
            <a:ext cx="685800" cy="685800"/>
            <a:chOff x="6324480" y="3048120"/>
            <a:chExt cx="685800" cy="685800"/>
          </a:xfrm>
        </p:grpSpPr>
        <p:sp>
          <p:nvSpPr>
            <p:cNvPr id="2950" name=""/>
            <p:cNvSpPr/>
            <p:nvPr/>
          </p:nvSpPr>
          <p:spPr>
            <a:xfrm>
              <a:off x="6324480" y="304812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445440" y="3128760"/>
              <a:ext cx="282240" cy="282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2" name=""/>
          <p:cNvGrpSpPr/>
          <p:nvPr/>
        </p:nvGrpSpPr>
        <p:grpSpPr>
          <a:xfrm>
            <a:off x="2286000" y="2971800"/>
            <a:ext cx="6019560" cy="761760"/>
            <a:chOff x="2286000" y="2971800"/>
            <a:chExt cx="6019560" cy="761760"/>
          </a:xfrm>
        </p:grpSpPr>
        <p:sp>
          <p:nvSpPr>
            <p:cNvPr id="2953" name=""/>
            <p:cNvSpPr/>
            <p:nvPr/>
          </p:nvSpPr>
          <p:spPr>
            <a:xfrm>
              <a:off x="2286000" y="2971800"/>
              <a:ext cx="6019560" cy="7617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286000" y="3047760"/>
              <a:ext cx="6019560" cy="609840"/>
            </a:xfrm>
            <a:prstGeom prst="rect">
              <a:avLst/>
            </a:prstGeom>
            <a:solidFill>
              <a:srgbClr val="dc93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UCP PO3045 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956" name=""/>
          <p:cNvSpPr/>
          <p:nvPr/>
        </p:nvSpPr>
        <p:spPr>
          <a:xfrm>
            <a:off x="4267080" y="1689840"/>
            <a:ext cx="1067040" cy="2962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2590920" y="3505320"/>
            <a:ext cx="27432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8" name=""/>
          <p:cNvGrpSpPr/>
          <p:nvPr/>
        </p:nvGrpSpPr>
        <p:grpSpPr>
          <a:xfrm>
            <a:off x="2590920" y="2286000"/>
            <a:ext cx="2743200" cy="1219320"/>
            <a:chOff x="2590920" y="2286000"/>
            <a:chExt cx="2743200" cy="1219320"/>
          </a:xfrm>
        </p:grpSpPr>
        <p:sp>
          <p:nvSpPr>
            <p:cNvPr id="2959" name=""/>
            <p:cNvSpPr/>
            <p:nvPr/>
          </p:nvSpPr>
          <p:spPr>
            <a:xfrm>
              <a:off x="2590920" y="2286000"/>
              <a:ext cx="2743200" cy="1219320"/>
            </a:xfrm>
            <a:prstGeom prst="roundRect">
              <a:avLst>
                <a:gd name="adj" fmla="val 497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rot="18457200">
              <a:off x="4191120" y="2768400"/>
              <a:ext cx="304920" cy="228600"/>
            </a:xfrm>
            <a:prstGeom prst="rightArrow">
              <a:avLst>
                <a:gd name="adj1" fmla="val 19667"/>
                <a:gd name="adj2" fmla="val 5575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3422520" y="2635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105520" y="2362320"/>
              <a:ext cx="228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3" name=""/>
            <p:cNvGrpSpPr/>
            <p:nvPr/>
          </p:nvGrpSpPr>
          <p:grpSpPr>
            <a:xfrm>
              <a:off x="2590920" y="2362320"/>
              <a:ext cx="609480" cy="533520"/>
              <a:chOff x="2590920" y="2362320"/>
              <a:chExt cx="609480" cy="533520"/>
            </a:xfrm>
          </p:grpSpPr>
          <p:sp>
            <p:nvSpPr>
              <p:cNvPr id="2964" name=""/>
              <p:cNvSpPr/>
              <p:nvPr/>
            </p:nvSpPr>
            <p:spPr>
              <a:xfrm>
                <a:off x="2743200" y="2362320"/>
                <a:ext cx="76320" cy="5335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2590920" y="2362320"/>
                <a:ext cx="60948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6" name=""/>
            <p:cNvSpPr/>
            <p:nvPr/>
          </p:nvSpPr>
          <p:spPr>
            <a:xfrm>
              <a:off x="4108320" y="26416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200120" y="3086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215960" y="24004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rot="1922400">
              <a:off x="3505320" y="2762280"/>
              <a:ext cx="304560" cy="228600"/>
            </a:xfrm>
            <a:prstGeom prst="rightArrow">
              <a:avLst>
                <a:gd name="adj1" fmla="val 19667"/>
                <a:gd name="adj2" fmla="val 5568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3514320" y="30798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3530160" y="2394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2" name=""/>
          <p:cNvSpPr/>
          <p:nvPr/>
        </p:nvSpPr>
        <p:spPr>
          <a:xfrm>
            <a:off x="2743200" y="3657600"/>
            <a:ext cx="685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2813760" y="380988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2895480" y="4343400"/>
            <a:ext cx="3812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5" name=""/>
          <p:cNvGrpSpPr/>
          <p:nvPr/>
        </p:nvGrpSpPr>
        <p:grpSpPr>
          <a:xfrm>
            <a:off x="3581280" y="3657600"/>
            <a:ext cx="380880" cy="419040"/>
            <a:chOff x="3581280" y="3657600"/>
            <a:chExt cx="380880" cy="419040"/>
          </a:xfrm>
        </p:grpSpPr>
        <p:sp>
          <p:nvSpPr>
            <p:cNvPr id="2976" name=""/>
            <p:cNvSpPr/>
            <p:nvPr/>
          </p:nvSpPr>
          <p:spPr>
            <a:xfrm>
              <a:off x="3581280" y="3657600"/>
              <a:ext cx="380880" cy="419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619440" y="3733560"/>
              <a:ext cx="304920" cy="304920"/>
            </a:xfrm>
            <a:prstGeom prst="rect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2323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3581280" y="4152960"/>
            <a:ext cx="380880" cy="419040"/>
            <a:chOff x="3581280" y="4152960"/>
            <a:chExt cx="380880" cy="419040"/>
          </a:xfrm>
        </p:grpSpPr>
        <p:sp>
          <p:nvSpPr>
            <p:cNvPr id="2979" name=""/>
            <p:cNvSpPr/>
            <p:nvPr/>
          </p:nvSpPr>
          <p:spPr>
            <a:xfrm>
              <a:off x="3581280" y="4152960"/>
              <a:ext cx="380880" cy="419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619440" y="4228920"/>
              <a:ext cx="304920" cy="304920"/>
            </a:xfrm>
            <a:prstGeom prst="rect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2323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1" name=""/>
          <p:cNvGrpSpPr/>
          <p:nvPr/>
        </p:nvGrpSpPr>
        <p:grpSpPr>
          <a:xfrm>
            <a:off x="4800600" y="3657600"/>
            <a:ext cx="380880" cy="419040"/>
            <a:chOff x="4800600" y="3657600"/>
            <a:chExt cx="380880" cy="419040"/>
          </a:xfrm>
        </p:grpSpPr>
        <p:sp>
          <p:nvSpPr>
            <p:cNvPr id="2982" name=""/>
            <p:cNvSpPr/>
            <p:nvPr/>
          </p:nvSpPr>
          <p:spPr>
            <a:xfrm>
              <a:off x="4800600" y="3657600"/>
              <a:ext cx="380880" cy="419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838760" y="3733560"/>
              <a:ext cx="304920" cy="304920"/>
            </a:xfrm>
            <a:prstGeom prst="rect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2323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4" name=""/>
          <p:cNvGrpSpPr/>
          <p:nvPr/>
        </p:nvGrpSpPr>
        <p:grpSpPr>
          <a:xfrm>
            <a:off x="4800600" y="4152960"/>
            <a:ext cx="380880" cy="419040"/>
            <a:chOff x="4800600" y="4152960"/>
            <a:chExt cx="380880" cy="419040"/>
          </a:xfrm>
        </p:grpSpPr>
        <p:sp>
          <p:nvSpPr>
            <p:cNvPr id="2985" name=""/>
            <p:cNvSpPr/>
            <p:nvPr/>
          </p:nvSpPr>
          <p:spPr>
            <a:xfrm>
              <a:off x="4800600" y="4152960"/>
              <a:ext cx="380880" cy="419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838760" y="4228920"/>
              <a:ext cx="304920" cy="304920"/>
            </a:xfrm>
            <a:prstGeom prst="rect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2323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7" name=""/>
          <p:cNvGrpSpPr/>
          <p:nvPr/>
        </p:nvGrpSpPr>
        <p:grpSpPr>
          <a:xfrm>
            <a:off x="2590920" y="2286000"/>
            <a:ext cx="2743200" cy="1218960"/>
            <a:chOff x="2590920" y="2286000"/>
            <a:chExt cx="2743200" cy="1218960"/>
          </a:xfrm>
        </p:grpSpPr>
        <p:sp>
          <p:nvSpPr>
            <p:cNvPr id="2988" name=""/>
            <p:cNvSpPr/>
            <p:nvPr/>
          </p:nvSpPr>
          <p:spPr>
            <a:xfrm>
              <a:off x="2590920" y="2286000"/>
              <a:ext cx="2743200" cy="1218960"/>
            </a:xfrm>
            <a:prstGeom prst="roundRect">
              <a:avLst>
                <a:gd name="adj" fmla="val 773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743200" y="2590560"/>
              <a:ext cx="24382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724280" y="2361960"/>
              <a:ext cx="45720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1" name=""/>
            <p:cNvGrpSpPr/>
            <p:nvPr/>
          </p:nvGrpSpPr>
          <p:grpSpPr>
            <a:xfrm>
              <a:off x="3809880" y="2305080"/>
              <a:ext cx="685800" cy="398520"/>
              <a:chOff x="3809880" y="2305080"/>
              <a:chExt cx="685800" cy="398520"/>
            </a:xfrm>
          </p:grpSpPr>
          <p:sp>
            <p:nvSpPr>
              <p:cNvPr id="2992" name=""/>
              <p:cNvSpPr/>
              <p:nvPr/>
            </p:nvSpPr>
            <p:spPr>
              <a:xfrm>
                <a:off x="3809880" y="2361960"/>
                <a:ext cx="6858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3809880" y="2305080"/>
                <a:ext cx="6368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O304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4" name=""/>
            <p:cNvSpPr/>
            <p:nvPr/>
          </p:nvSpPr>
          <p:spPr>
            <a:xfrm>
              <a:off x="2819520" y="2286000"/>
              <a:ext cx="30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2971800" y="22860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2666880" y="327636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Tahoma"/>
                </a:rPr>
                <a:t>T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2971800" y="3276360"/>
              <a:ext cx="53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124080" y="2286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Tahoma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666880" y="2286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Tahoma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0" name="logocapa" descr=""/>
            <p:cNvPicPr/>
            <p:nvPr/>
          </p:nvPicPr>
          <p:blipFill>
            <a:blip r:embed="rId1"/>
            <a:stretch/>
          </p:blipFill>
          <p:spPr>
            <a:xfrm>
              <a:off x="4343400" y="2895480"/>
              <a:ext cx="76212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1" name=""/>
            <p:cNvSpPr/>
            <p:nvPr/>
          </p:nvSpPr>
          <p:spPr>
            <a:xfrm>
              <a:off x="2869200" y="2946240"/>
              <a:ext cx="621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Tahoma"/>
                </a:rPr>
                <a:t>WebPL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743200" y="3276360"/>
              <a:ext cx="53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200400" y="3276360"/>
              <a:ext cx="53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2863800" y="266688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vantGarde Md BT"/>
                </a:rPr>
                <a:t>Po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>
              <a:off x="2819520" y="2971800"/>
              <a:ext cx="914400" cy="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6" name=""/>
            <p:cNvGrpSpPr/>
            <p:nvPr/>
          </p:nvGrpSpPr>
          <p:grpSpPr>
            <a:xfrm>
              <a:off x="3657600" y="2819160"/>
              <a:ext cx="152280" cy="152640"/>
              <a:chOff x="3657600" y="2819160"/>
              <a:chExt cx="152280" cy="152640"/>
            </a:xfrm>
          </p:grpSpPr>
          <p:sp>
            <p:nvSpPr>
              <p:cNvPr id="3007" name=""/>
              <p:cNvSpPr/>
              <p:nvPr/>
            </p:nvSpPr>
            <p:spPr>
              <a:xfrm>
                <a:off x="3657600" y="28191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db2b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684240" y="2836800"/>
                <a:ext cx="62640" cy="6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9" name=""/>
          <p:cNvGrpSpPr/>
          <p:nvPr/>
        </p:nvGrpSpPr>
        <p:grpSpPr>
          <a:xfrm>
            <a:off x="5334120" y="2286000"/>
            <a:ext cx="2743200" cy="2361960"/>
            <a:chOff x="5334120" y="2286000"/>
            <a:chExt cx="2743200" cy="2361960"/>
          </a:xfrm>
        </p:grpSpPr>
        <p:grpSp>
          <p:nvGrpSpPr>
            <p:cNvPr id="3010" name=""/>
            <p:cNvGrpSpPr/>
            <p:nvPr/>
          </p:nvGrpSpPr>
          <p:grpSpPr>
            <a:xfrm>
              <a:off x="5334120" y="2286000"/>
              <a:ext cx="2743200" cy="2361960"/>
              <a:chOff x="5334120" y="2286000"/>
              <a:chExt cx="2743200" cy="2361960"/>
            </a:xfrm>
          </p:grpSpPr>
          <p:grpSp>
            <p:nvGrpSpPr>
              <p:cNvPr id="3011" name=""/>
              <p:cNvGrpSpPr/>
              <p:nvPr/>
            </p:nvGrpSpPr>
            <p:grpSpPr>
              <a:xfrm>
                <a:off x="5334120" y="3505320"/>
                <a:ext cx="2743200" cy="1142640"/>
                <a:chOff x="5334120" y="3505320"/>
                <a:chExt cx="2743200" cy="1142640"/>
              </a:xfrm>
            </p:grpSpPr>
            <p:sp>
              <p:nvSpPr>
                <p:cNvPr id="3012" name=""/>
                <p:cNvSpPr/>
                <p:nvPr/>
              </p:nvSpPr>
              <p:spPr>
                <a:xfrm>
                  <a:off x="5334120" y="3505320"/>
                  <a:ext cx="2743200" cy="114264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3" name=""/>
                <p:cNvGrpSpPr/>
                <p:nvPr/>
              </p:nvGrpSpPr>
              <p:grpSpPr>
                <a:xfrm>
                  <a:off x="5405760" y="3586680"/>
                  <a:ext cx="2598480" cy="978840"/>
                  <a:chOff x="5405760" y="3586680"/>
                  <a:chExt cx="2598480" cy="978840"/>
                </a:xfrm>
              </p:grpSpPr>
              <p:grpSp>
                <p:nvGrpSpPr>
                  <p:cNvPr id="3014" name=""/>
                  <p:cNvGrpSpPr/>
                  <p:nvPr/>
                </p:nvGrpSpPr>
                <p:grpSpPr>
                  <a:xfrm>
                    <a:off x="7860240" y="3586680"/>
                    <a:ext cx="144000" cy="978840"/>
                    <a:chOff x="7860240" y="3586680"/>
                    <a:chExt cx="144000" cy="978840"/>
                  </a:xfrm>
                </p:grpSpPr>
                <p:sp>
                  <p:nvSpPr>
                    <p:cNvPr id="3015" name=""/>
                    <p:cNvSpPr/>
                    <p:nvPr/>
                  </p:nvSpPr>
                  <p:spPr>
                    <a:xfrm>
                      <a:off x="7860240" y="358668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6" name=""/>
                    <p:cNvSpPr/>
                    <p:nvPr/>
                  </p:nvSpPr>
                  <p:spPr>
                    <a:xfrm>
                      <a:off x="7860240" y="39132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7" name=""/>
                    <p:cNvSpPr/>
                    <p:nvPr/>
                  </p:nvSpPr>
                  <p:spPr>
                    <a:xfrm>
                      <a:off x="7860240" y="423972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18" name=""/>
                  <p:cNvGrpSpPr/>
                  <p:nvPr/>
                </p:nvGrpSpPr>
                <p:grpSpPr>
                  <a:xfrm>
                    <a:off x="5405760" y="3586680"/>
                    <a:ext cx="144360" cy="978840"/>
                    <a:chOff x="5405760" y="3586680"/>
                    <a:chExt cx="144360" cy="978840"/>
                  </a:xfrm>
                </p:grpSpPr>
                <p:sp>
                  <p:nvSpPr>
                    <p:cNvPr id="3019" name=""/>
                    <p:cNvSpPr/>
                    <p:nvPr/>
                  </p:nvSpPr>
                  <p:spPr>
                    <a:xfrm>
                      <a:off x="5405760" y="358668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0" name=""/>
                    <p:cNvSpPr/>
                    <p:nvPr/>
                  </p:nvSpPr>
                  <p:spPr>
                    <a:xfrm>
                      <a:off x="5405760" y="39132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1" name=""/>
                    <p:cNvSpPr/>
                    <p:nvPr/>
                  </p:nvSpPr>
                  <p:spPr>
                    <a:xfrm>
                      <a:off x="5405760" y="423972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2" name=""/>
                  <p:cNvGrpSpPr/>
                  <p:nvPr/>
                </p:nvGrpSpPr>
                <p:grpSpPr>
                  <a:xfrm>
                    <a:off x="5550120" y="3586680"/>
                    <a:ext cx="576720" cy="978480"/>
                    <a:chOff x="5550120" y="3586680"/>
                    <a:chExt cx="576720" cy="978480"/>
                  </a:xfrm>
                </p:grpSpPr>
                <p:grpSp>
                  <p:nvGrpSpPr>
                    <p:cNvPr id="3023" name=""/>
                    <p:cNvGrpSpPr/>
                    <p:nvPr/>
                  </p:nvGrpSpPr>
                  <p:grpSpPr>
                    <a:xfrm>
                      <a:off x="5550120" y="3586680"/>
                      <a:ext cx="144360" cy="978480"/>
                      <a:chOff x="5550120" y="3586680"/>
                      <a:chExt cx="144360" cy="978480"/>
                    </a:xfrm>
                  </p:grpSpPr>
                  <p:sp>
                    <p:nvSpPr>
                      <p:cNvPr id="3024" name=""/>
                      <p:cNvSpPr/>
                      <p:nvPr/>
                    </p:nvSpPr>
                    <p:spPr>
                      <a:xfrm>
                        <a:off x="5550120" y="358668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5" name=""/>
                      <p:cNvSpPr/>
                      <p:nvPr/>
                    </p:nvSpPr>
                    <p:spPr>
                      <a:xfrm>
                        <a:off x="5550120" y="39128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6" name=""/>
                      <p:cNvSpPr/>
                      <p:nvPr/>
                    </p:nvSpPr>
                    <p:spPr>
                      <a:xfrm>
                        <a:off x="5550120" y="42393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27" name=""/>
                    <p:cNvGrpSpPr/>
                    <p:nvPr/>
                  </p:nvGrpSpPr>
                  <p:grpSpPr>
                    <a:xfrm>
                      <a:off x="5694480" y="3586680"/>
                      <a:ext cx="144000" cy="978480"/>
                      <a:chOff x="5694480" y="3586680"/>
                      <a:chExt cx="144000" cy="978480"/>
                    </a:xfrm>
                  </p:grpSpPr>
                  <p:sp>
                    <p:nvSpPr>
                      <p:cNvPr id="3028" name=""/>
                      <p:cNvSpPr/>
                      <p:nvPr/>
                    </p:nvSpPr>
                    <p:spPr>
                      <a:xfrm>
                        <a:off x="5694480" y="358668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9" name=""/>
                      <p:cNvSpPr/>
                      <p:nvPr/>
                    </p:nvSpPr>
                    <p:spPr>
                      <a:xfrm>
                        <a:off x="5694480" y="39128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0" name=""/>
                      <p:cNvSpPr/>
                      <p:nvPr/>
                    </p:nvSpPr>
                    <p:spPr>
                      <a:xfrm>
                        <a:off x="5694480" y="42393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31" name=""/>
                    <p:cNvGrpSpPr/>
                    <p:nvPr/>
                  </p:nvGrpSpPr>
                  <p:grpSpPr>
                    <a:xfrm>
                      <a:off x="5838480" y="3586680"/>
                      <a:ext cx="144000" cy="978480"/>
                      <a:chOff x="5838480" y="3586680"/>
                      <a:chExt cx="144000" cy="978480"/>
                    </a:xfrm>
                  </p:grpSpPr>
                  <p:sp>
                    <p:nvSpPr>
                      <p:cNvPr id="3032" name=""/>
                      <p:cNvSpPr/>
                      <p:nvPr/>
                    </p:nvSpPr>
                    <p:spPr>
                      <a:xfrm>
                        <a:off x="5838480" y="358668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3" name=""/>
                      <p:cNvSpPr/>
                      <p:nvPr/>
                    </p:nvSpPr>
                    <p:spPr>
                      <a:xfrm>
                        <a:off x="5838480" y="39128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4" name=""/>
                      <p:cNvSpPr/>
                      <p:nvPr/>
                    </p:nvSpPr>
                    <p:spPr>
                      <a:xfrm>
                        <a:off x="5838480" y="42393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35" name=""/>
                    <p:cNvGrpSpPr/>
                    <p:nvPr/>
                  </p:nvGrpSpPr>
                  <p:grpSpPr>
                    <a:xfrm>
                      <a:off x="5982480" y="3586680"/>
                      <a:ext cx="144360" cy="978480"/>
                      <a:chOff x="5982480" y="3586680"/>
                      <a:chExt cx="144360" cy="978480"/>
                    </a:xfrm>
                  </p:grpSpPr>
                  <p:sp>
                    <p:nvSpPr>
                      <p:cNvPr id="3036" name=""/>
                      <p:cNvSpPr/>
                      <p:nvPr/>
                    </p:nvSpPr>
                    <p:spPr>
                      <a:xfrm>
                        <a:off x="5982480" y="358668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7" name=""/>
                      <p:cNvSpPr/>
                      <p:nvPr/>
                    </p:nvSpPr>
                    <p:spPr>
                      <a:xfrm>
                        <a:off x="5982480" y="39128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8" name=""/>
                      <p:cNvSpPr/>
                      <p:nvPr/>
                    </p:nvSpPr>
                    <p:spPr>
                      <a:xfrm>
                        <a:off x="5982480" y="42393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39" name=""/>
                  <p:cNvGrpSpPr/>
                  <p:nvPr/>
                </p:nvGrpSpPr>
                <p:grpSpPr>
                  <a:xfrm>
                    <a:off x="6127560" y="3586680"/>
                    <a:ext cx="576720" cy="978480"/>
                    <a:chOff x="6127560" y="3586680"/>
                    <a:chExt cx="576720" cy="978480"/>
                  </a:xfrm>
                </p:grpSpPr>
                <p:grpSp>
                  <p:nvGrpSpPr>
                    <p:cNvPr id="3040" name=""/>
                    <p:cNvGrpSpPr/>
                    <p:nvPr/>
                  </p:nvGrpSpPr>
                  <p:grpSpPr>
                    <a:xfrm>
                      <a:off x="6127560" y="3586680"/>
                      <a:ext cx="144360" cy="978480"/>
                      <a:chOff x="6127560" y="3586680"/>
                      <a:chExt cx="144360" cy="978480"/>
                    </a:xfrm>
                  </p:grpSpPr>
                  <p:sp>
                    <p:nvSpPr>
                      <p:cNvPr id="3041" name=""/>
                      <p:cNvSpPr/>
                      <p:nvPr/>
                    </p:nvSpPr>
                    <p:spPr>
                      <a:xfrm>
                        <a:off x="6127560" y="358668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2" name=""/>
                      <p:cNvSpPr/>
                      <p:nvPr/>
                    </p:nvSpPr>
                    <p:spPr>
                      <a:xfrm>
                        <a:off x="6127560" y="39128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3" name=""/>
                      <p:cNvSpPr/>
                      <p:nvPr/>
                    </p:nvSpPr>
                    <p:spPr>
                      <a:xfrm>
                        <a:off x="6127560" y="42393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44" name=""/>
                    <p:cNvGrpSpPr/>
                    <p:nvPr/>
                  </p:nvGrpSpPr>
                  <p:grpSpPr>
                    <a:xfrm>
                      <a:off x="6271920" y="3586680"/>
                      <a:ext cx="144000" cy="978480"/>
                      <a:chOff x="6271920" y="3586680"/>
                      <a:chExt cx="144000" cy="978480"/>
                    </a:xfrm>
                  </p:grpSpPr>
                  <p:sp>
                    <p:nvSpPr>
                      <p:cNvPr id="3045" name=""/>
                      <p:cNvSpPr/>
                      <p:nvPr/>
                    </p:nvSpPr>
                    <p:spPr>
                      <a:xfrm>
                        <a:off x="6271920" y="358668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6" name=""/>
                      <p:cNvSpPr/>
                      <p:nvPr/>
                    </p:nvSpPr>
                    <p:spPr>
                      <a:xfrm>
                        <a:off x="6271920" y="39128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7" name=""/>
                      <p:cNvSpPr/>
                      <p:nvPr/>
                    </p:nvSpPr>
                    <p:spPr>
                      <a:xfrm>
                        <a:off x="6271920" y="42393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48" name=""/>
                    <p:cNvGrpSpPr/>
                    <p:nvPr/>
                  </p:nvGrpSpPr>
                  <p:grpSpPr>
                    <a:xfrm>
                      <a:off x="6415920" y="3586680"/>
                      <a:ext cx="144000" cy="978480"/>
                      <a:chOff x="6415920" y="3586680"/>
                      <a:chExt cx="144000" cy="978480"/>
                    </a:xfrm>
                  </p:grpSpPr>
                  <p:sp>
                    <p:nvSpPr>
                      <p:cNvPr id="3049" name=""/>
                      <p:cNvSpPr/>
                      <p:nvPr/>
                    </p:nvSpPr>
                    <p:spPr>
                      <a:xfrm>
                        <a:off x="6415920" y="358668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0" name=""/>
                      <p:cNvSpPr/>
                      <p:nvPr/>
                    </p:nvSpPr>
                    <p:spPr>
                      <a:xfrm>
                        <a:off x="6415920" y="39128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1" name=""/>
                      <p:cNvSpPr/>
                      <p:nvPr/>
                    </p:nvSpPr>
                    <p:spPr>
                      <a:xfrm>
                        <a:off x="6415920" y="42393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52" name=""/>
                    <p:cNvGrpSpPr/>
                    <p:nvPr/>
                  </p:nvGrpSpPr>
                  <p:grpSpPr>
                    <a:xfrm>
                      <a:off x="6559920" y="3586680"/>
                      <a:ext cx="144360" cy="978480"/>
                      <a:chOff x="6559920" y="3586680"/>
                      <a:chExt cx="144360" cy="978480"/>
                    </a:xfrm>
                  </p:grpSpPr>
                  <p:sp>
                    <p:nvSpPr>
                      <p:cNvPr id="3053" name=""/>
                      <p:cNvSpPr/>
                      <p:nvPr/>
                    </p:nvSpPr>
                    <p:spPr>
                      <a:xfrm>
                        <a:off x="6559920" y="358668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4" name=""/>
                      <p:cNvSpPr/>
                      <p:nvPr/>
                    </p:nvSpPr>
                    <p:spPr>
                      <a:xfrm>
                        <a:off x="6559920" y="39128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5" name=""/>
                      <p:cNvSpPr/>
                      <p:nvPr/>
                    </p:nvSpPr>
                    <p:spPr>
                      <a:xfrm>
                        <a:off x="6559920" y="42393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56" name=""/>
                  <p:cNvGrpSpPr/>
                  <p:nvPr/>
                </p:nvGrpSpPr>
                <p:grpSpPr>
                  <a:xfrm>
                    <a:off x="6705000" y="3586680"/>
                    <a:ext cx="577080" cy="978480"/>
                    <a:chOff x="6705000" y="3586680"/>
                    <a:chExt cx="577080" cy="978480"/>
                  </a:xfrm>
                </p:grpSpPr>
                <p:grpSp>
                  <p:nvGrpSpPr>
                    <p:cNvPr id="3057" name=""/>
                    <p:cNvGrpSpPr/>
                    <p:nvPr/>
                  </p:nvGrpSpPr>
                  <p:grpSpPr>
                    <a:xfrm>
                      <a:off x="6705000" y="3586680"/>
                      <a:ext cx="144360" cy="978480"/>
                      <a:chOff x="6705000" y="3586680"/>
                      <a:chExt cx="144360" cy="978480"/>
                    </a:xfrm>
                  </p:grpSpPr>
                  <p:sp>
                    <p:nvSpPr>
                      <p:cNvPr id="3058" name=""/>
                      <p:cNvSpPr/>
                      <p:nvPr/>
                    </p:nvSpPr>
                    <p:spPr>
                      <a:xfrm>
                        <a:off x="6705000" y="358668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9" name=""/>
                      <p:cNvSpPr/>
                      <p:nvPr/>
                    </p:nvSpPr>
                    <p:spPr>
                      <a:xfrm>
                        <a:off x="6705000" y="39128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0" name=""/>
                      <p:cNvSpPr/>
                      <p:nvPr/>
                    </p:nvSpPr>
                    <p:spPr>
                      <a:xfrm>
                        <a:off x="6705000" y="42393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61" name=""/>
                    <p:cNvGrpSpPr/>
                    <p:nvPr/>
                  </p:nvGrpSpPr>
                  <p:grpSpPr>
                    <a:xfrm>
                      <a:off x="6849360" y="3586680"/>
                      <a:ext cx="144000" cy="978480"/>
                      <a:chOff x="6849360" y="3586680"/>
                      <a:chExt cx="144000" cy="978480"/>
                    </a:xfrm>
                  </p:grpSpPr>
                  <p:sp>
                    <p:nvSpPr>
                      <p:cNvPr id="3062" name=""/>
                      <p:cNvSpPr/>
                      <p:nvPr/>
                    </p:nvSpPr>
                    <p:spPr>
                      <a:xfrm>
                        <a:off x="6849360" y="358668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3" name=""/>
                      <p:cNvSpPr/>
                      <p:nvPr/>
                    </p:nvSpPr>
                    <p:spPr>
                      <a:xfrm>
                        <a:off x="6849360" y="39128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4" name=""/>
                      <p:cNvSpPr/>
                      <p:nvPr/>
                    </p:nvSpPr>
                    <p:spPr>
                      <a:xfrm>
                        <a:off x="6849360" y="42393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65" name=""/>
                    <p:cNvGrpSpPr/>
                    <p:nvPr/>
                  </p:nvGrpSpPr>
                  <p:grpSpPr>
                    <a:xfrm>
                      <a:off x="6993720" y="3586680"/>
                      <a:ext cx="144000" cy="978480"/>
                      <a:chOff x="6993720" y="3586680"/>
                      <a:chExt cx="144000" cy="978480"/>
                    </a:xfrm>
                  </p:grpSpPr>
                  <p:sp>
                    <p:nvSpPr>
                      <p:cNvPr id="3066" name=""/>
                      <p:cNvSpPr/>
                      <p:nvPr/>
                    </p:nvSpPr>
                    <p:spPr>
                      <a:xfrm>
                        <a:off x="6993720" y="358668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7" name=""/>
                      <p:cNvSpPr/>
                      <p:nvPr/>
                    </p:nvSpPr>
                    <p:spPr>
                      <a:xfrm>
                        <a:off x="6993720" y="39128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8" name=""/>
                      <p:cNvSpPr/>
                      <p:nvPr/>
                    </p:nvSpPr>
                    <p:spPr>
                      <a:xfrm>
                        <a:off x="6993720" y="42393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69" name=""/>
                    <p:cNvGrpSpPr/>
                    <p:nvPr/>
                  </p:nvGrpSpPr>
                  <p:grpSpPr>
                    <a:xfrm>
                      <a:off x="7137720" y="3586680"/>
                      <a:ext cx="144360" cy="978480"/>
                      <a:chOff x="7137720" y="3586680"/>
                      <a:chExt cx="144360" cy="978480"/>
                    </a:xfrm>
                  </p:grpSpPr>
                  <p:sp>
                    <p:nvSpPr>
                      <p:cNvPr id="3070" name=""/>
                      <p:cNvSpPr/>
                      <p:nvPr/>
                    </p:nvSpPr>
                    <p:spPr>
                      <a:xfrm>
                        <a:off x="7137720" y="358668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1" name=""/>
                      <p:cNvSpPr/>
                      <p:nvPr/>
                    </p:nvSpPr>
                    <p:spPr>
                      <a:xfrm>
                        <a:off x="7137720" y="39128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2" name=""/>
                      <p:cNvSpPr/>
                      <p:nvPr/>
                    </p:nvSpPr>
                    <p:spPr>
                      <a:xfrm>
                        <a:off x="7137720" y="42393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73" name=""/>
                  <p:cNvGrpSpPr/>
                  <p:nvPr/>
                </p:nvGrpSpPr>
                <p:grpSpPr>
                  <a:xfrm>
                    <a:off x="7282800" y="3586680"/>
                    <a:ext cx="576720" cy="978480"/>
                    <a:chOff x="7282800" y="3586680"/>
                    <a:chExt cx="576720" cy="978480"/>
                  </a:xfrm>
                </p:grpSpPr>
                <p:grpSp>
                  <p:nvGrpSpPr>
                    <p:cNvPr id="3074" name=""/>
                    <p:cNvGrpSpPr/>
                    <p:nvPr/>
                  </p:nvGrpSpPr>
                  <p:grpSpPr>
                    <a:xfrm>
                      <a:off x="7282800" y="3586680"/>
                      <a:ext cx="144360" cy="978480"/>
                      <a:chOff x="7282800" y="3586680"/>
                      <a:chExt cx="144360" cy="978480"/>
                    </a:xfrm>
                  </p:grpSpPr>
                  <p:sp>
                    <p:nvSpPr>
                      <p:cNvPr id="3075" name=""/>
                      <p:cNvSpPr/>
                      <p:nvPr/>
                    </p:nvSpPr>
                    <p:spPr>
                      <a:xfrm>
                        <a:off x="7282800" y="358668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6" name=""/>
                      <p:cNvSpPr/>
                      <p:nvPr/>
                    </p:nvSpPr>
                    <p:spPr>
                      <a:xfrm>
                        <a:off x="7282800" y="39128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7" name=""/>
                      <p:cNvSpPr/>
                      <p:nvPr/>
                    </p:nvSpPr>
                    <p:spPr>
                      <a:xfrm>
                        <a:off x="7282800" y="42393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78" name=""/>
                    <p:cNvGrpSpPr/>
                    <p:nvPr/>
                  </p:nvGrpSpPr>
                  <p:grpSpPr>
                    <a:xfrm>
                      <a:off x="7427160" y="3586680"/>
                      <a:ext cx="144000" cy="978480"/>
                      <a:chOff x="7427160" y="3586680"/>
                      <a:chExt cx="144000" cy="978480"/>
                    </a:xfrm>
                  </p:grpSpPr>
                  <p:sp>
                    <p:nvSpPr>
                      <p:cNvPr id="3079" name=""/>
                      <p:cNvSpPr/>
                      <p:nvPr/>
                    </p:nvSpPr>
                    <p:spPr>
                      <a:xfrm>
                        <a:off x="7427160" y="358668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0" name=""/>
                      <p:cNvSpPr/>
                      <p:nvPr/>
                    </p:nvSpPr>
                    <p:spPr>
                      <a:xfrm>
                        <a:off x="7427160" y="39128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1" name=""/>
                      <p:cNvSpPr/>
                      <p:nvPr/>
                    </p:nvSpPr>
                    <p:spPr>
                      <a:xfrm>
                        <a:off x="7427160" y="42393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82" name=""/>
                    <p:cNvGrpSpPr/>
                    <p:nvPr/>
                  </p:nvGrpSpPr>
                  <p:grpSpPr>
                    <a:xfrm>
                      <a:off x="7571160" y="3586680"/>
                      <a:ext cx="144000" cy="978480"/>
                      <a:chOff x="7571160" y="3586680"/>
                      <a:chExt cx="144000" cy="978480"/>
                    </a:xfrm>
                  </p:grpSpPr>
                  <p:sp>
                    <p:nvSpPr>
                      <p:cNvPr id="3083" name=""/>
                      <p:cNvSpPr/>
                      <p:nvPr/>
                    </p:nvSpPr>
                    <p:spPr>
                      <a:xfrm>
                        <a:off x="7571160" y="358668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4" name=""/>
                      <p:cNvSpPr/>
                      <p:nvPr/>
                    </p:nvSpPr>
                    <p:spPr>
                      <a:xfrm>
                        <a:off x="7571160" y="39128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5" name=""/>
                      <p:cNvSpPr/>
                      <p:nvPr/>
                    </p:nvSpPr>
                    <p:spPr>
                      <a:xfrm>
                        <a:off x="7571160" y="42393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86" name=""/>
                    <p:cNvGrpSpPr/>
                    <p:nvPr/>
                  </p:nvGrpSpPr>
                  <p:grpSpPr>
                    <a:xfrm>
                      <a:off x="7715160" y="3586680"/>
                      <a:ext cx="144360" cy="978480"/>
                      <a:chOff x="7715160" y="3586680"/>
                      <a:chExt cx="144360" cy="978480"/>
                    </a:xfrm>
                  </p:grpSpPr>
                  <p:sp>
                    <p:nvSpPr>
                      <p:cNvPr id="3087" name=""/>
                      <p:cNvSpPr/>
                      <p:nvPr/>
                    </p:nvSpPr>
                    <p:spPr>
                      <a:xfrm>
                        <a:off x="7715160" y="358668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8" name=""/>
                      <p:cNvSpPr/>
                      <p:nvPr/>
                    </p:nvSpPr>
                    <p:spPr>
                      <a:xfrm>
                        <a:off x="7715160" y="39128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9" name=""/>
                      <p:cNvSpPr/>
                      <p:nvPr/>
                    </p:nvSpPr>
                    <p:spPr>
                      <a:xfrm>
                        <a:off x="7715160" y="42393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090" name=""/>
              <p:cNvGrpSpPr/>
              <p:nvPr/>
            </p:nvGrpSpPr>
            <p:grpSpPr>
              <a:xfrm>
                <a:off x="5334120" y="2286000"/>
                <a:ext cx="2743200" cy="1219320"/>
                <a:chOff x="5334120" y="2286000"/>
                <a:chExt cx="2743200" cy="1219320"/>
              </a:xfrm>
            </p:grpSpPr>
            <p:sp>
              <p:nvSpPr>
                <p:cNvPr id="3091" name=""/>
                <p:cNvSpPr/>
                <p:nvPr/>
              </p:nvSpPr>
              <p:spPr>
                <a:xfrm>
                  <a:off x="5334120" y="2286000"/>
                  <a:ext cx="2743200" cy="1219320"/>
                </a:xfrm>
                <a:prstGeom prst="roundRect">
                  <a:avLst>
                    <a:gd name="adj" fmla="val 4977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 rot="18457200">
                  <a:off x="6934320" y="2768400"/>
                  <a:ext cx="304920" cy="228600"/>
                </a:xfrm>
                <a:prstGeom prst="rightArrow">
                  <a:avLst>
                    <a:gd name="adj1" fmla="val 19667"/>
                    <a:gd name="adj2" fmla="val 5575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6165720" y="2635200"/>
                  <a:ext cx="45720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7848720" y="2362320"/>
                  <a:ext cx="22860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5" name=""/>
                <p:cNvGrpSpPr/>
                <p:nvPr/>
              </p:nvGrpSpPr>
              <p:grpSpPr>
                <a:xfrm>
                  <a:off x="5334120" y="2362320"/>
                  <a:ext cx="609480" cy="533520"/>
                  <a:chOff x="5334120" y="2362320"/>
                  <a:chExt cx="609480" cy="533520"/>
                </a:xfrm>
              </p:grpSpPr>
              <p:sp>
                <p:nvSpPr>
                  <p:cNvPr id="3096" name=""/>
                  <p:cNvSpPr/>
                  <p:nvPr/>
                </p:nvSpPr>
                <p:spPr>
                  <a:xfrm>
                    <a:off x="5486400" y="2362320"/>
                    <a:ext cx="76320" cy="53352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>
                    <a:off x="5334120" y="2362320"/>
                    <a:ext cx="609480" cy="5335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98" name=""/>
                <p:cNvSpPr/>
                <p:nvPr/>
              </p:nvSpPr>
              <p:spPr>
                <a:xfrm>
                  <a:off x="6851520" y="2641680"/>
                  <a:ext cx="45720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6943320" y="3086280"/>
                  <a:ext cx="267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6959160" y="2400480"/>
                  <a:ext cx="267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 rot="1922400">
                  <a:off x="6248520" y="2762280"/>
                  <a:ext cx="304560" cy="228600"/>
                </a:xfrm>
                <a:prstGeom prst="rightArrow">
                  <a:avLst>
                    <a:gd name="adj1" fmla="val 19667"/>
                    <a:gd name="adj2" fmla="val 55684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6257520" y="3079800"/>
                  <a:ext cx="267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6273360" y="2394000"/>
                  <a:ext cx="267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04" name=""/>
            <p:cNvGrpSpPr/>
            <p:nvPr/>
          </p:nvGrpSpPr>
          <p:grpSpPr>
            <a:xfrm>
              <a:off x="5334120" y="2286000"/>
              <a:ext cx="2743200" cy="1220400"/>
              <a:chOff x="5334120" y="2286000"/>
              <a:chExt cx="2743200" cy="1220400"/>
            </a:xfrm>
          </p:grpSpPr>
          <p:grpSp>
            <p:nvGrpSpPr>
              <p:cNvPr id="3105" name=""/>
              <p:cNvGrpSpPr/>
              <p:nvPr/>
            </p:nvGrpSpPr>
            <p:grpSpPr>
              <a:xfrm>
                <a:off x="5334120" y="2286000"/>
                <a:ext cx="2743200" cy="1218960"/>
                <a:chOff x="5334120" y="2286000"/>
                <a:chExt cx="2743200" cy="1218960"/>
              </a:xfrm>
            </p:grpSpPr>
            <p:sp>
              <p:nvSpPr>
                <p:cNvPr id="3106" name=""/>
                <p:cNvSpPr/>
                <p:nvPr/>
              </p:nvSpPr>
              <p:spPr>
                <a:xfrm>
                  <a:off x="5334120" y="2286000"/>
                  <a:ext cx="2743200" cy="1218960"/>
                </a:xfrm>
                <a:prstGeom prst="roundRect">
                  <a:avLst>
                    <a:gd name="adj" fmla="val 7736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07" name=""/>
                <p:cNvGrpSpPr/>
                <p:nvPr/>
              </p:nvGrpSpPr>
              <p:grpSpPr>
                <a:xfrm>
                  <a:off x="5410080" y="2590560"/>
                  <a:ext cx="2590920" cy="685800"/>
                  <a:chOff x="5410080" y="2590560"/>
                  <a:chExt cx="2590920" cy="685800"/>
                </a:xfrm>
              </p:grpSpPr>
              <p:grpSp>
                <p:nvGrpSpPr>
                  <p:cNvPr id="3108" name=""/>
                  <p:cNvGrpSpPr/>
                  <p:nvPr/>
                </p:nvGrpSpPr>
                <p:grpSpPr>
                  <a:xfrm>
                    <a:off x="5410080" y="2590560"/>
                    <a:ext cx="609480" cy="685800"/>
                    <a:chOff x="5410080" y="2590560"/>
                    <a:chExt cx="609480" cy="685800"/>
                  </a:xfrm>
                </p:grpSpPr>
                <p:sp>
                  <p:nvSpPr>
                    <p:cNvPr id="3109" name=""/>
                    <p:cNvSpPr/>
                    <p:nvPr/>
                  </p:nvSpPr>
                  <p:spPr>
                    <a:xfrm>
                      <a:off x="541008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0" name=""/>
                    <p:cNvSpPr/>
                    <p:nvPr/>
                  </p:nvSpPr>
                  <p:spPr>
                    <a:xfrm>
                      <a:off x="5562360" y="2590560"/>
                      <a:ext cx="15264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1" name=""/>
                    <p:cNvSpPr/>
                    <p:nvPr/>
                  </p:nvSpPr>
                  <p:spPr>
                    <a:xfrm>
                      <a:off x="571500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2" name=""/>
                    <p:cNvSpPr/>
                    <p:nvPr/>
                  </p:nvSpPr>
                  <p:spPr>
                    <a:xfrm>
                      <a:off x="586728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3" name=""/>
                  <p:cNvGrpSpPr/>
                  <p:nvPr/>
                </p:nvGrpSpPr>
                <p:grpSpPr>
                  <a:xfrm>
                    <a:off x="6019920" y="2590560"/>
                    <a:ext cx="609480" cy="685800"/>
                    <a:chOff x="6019920" y="2590560"/>
                    <a:chExt cx="609480" cy="685800"/>
                  </a:xfrm>
                </p:grpSpPr>
                <p:sp>
                  <p:nvSpPr>
                    <p:cNvPr id="3114" name=""/>
                    <p:cNvSpPr/>
                    <p:nvPr/>
                  </p:nvSpPr>
                  <p:spPr>
                    <a:xfrm>
                      <a:off x="601992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5" name=""/>
                    <p:cNvSpPr/>
                    <p:nvPr/>
                  </p:nvSpPr>
                  <p:spPr>
                    <a:xfrm>
                      <a:off x="6172200" y="2590560"/>
                      <a:ext cx="15264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6" name=""/>
                    <p:cNvSpPr/>
                    <p:nvPr/>
                  </p:nvSpPr>
                  <p:spPr>
                    <a:xfrm>
                      <a:off x="632484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7" name=""/>
                    <p:cNvSpPr/>
                    <p:nvPr/>
                  </p:nvSpPr>
                  <p:spPr>
                    <a:xfrm>
                      <a:off x="647712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8" name=""/>
                  <p:cNvGrpSpPr/>
                  <p:nvPr/>
                </p:nvGrpSpPr>
                <p:grpSpPr>
                  <a:xfrm>
                    <a:off x="6629400" y="2590560"/>
                    <a:ext cx="609480" cy="685800"/>
                    <a:chOff x="6629400" y="2590560"/>
                    <a:chExt cx="609480" cy="685800"/>
                  </a:xfrm>
                </p:grpSpPr>
                <p:sp>
                  <p:nvSpPr>
                    <p:cNvPr id="3119" name=""/>
                    <p:cNvSpPr/>
                    <p:nvPr/>
                  </p:nvSpPr>
                  <p:spPr>
                    <a:xfrm>
                      <a:off x="662940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0" name=""/>
                    <p:cNvSpPr/>
                    <p:nvPr/>
                  </p:nvSpPr>
                  <p:spPr>
                    <a:xfrm>
                      <a:off x="6781680" y="2590560"/>
                      <a:ext cx="15264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1" name=""/>
                    <p:cNvSpPr/>
                    <p:nvPr/>
                  </p:nvSpPr>
                  <p:spPr>
                    <a:xfrm>
                      <a:off x="693432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2" name=""/>
                    <p:cNvSpPr/>
                    <p:nvPr/>
                  </p:nvSpPr>
                  <p:spPr>
                    <a:xfrm>
                      <a:off x="708660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23" name=""/>
                  <p:cNvSpPr/>
                  <p:nvPr/>
                </p:nvSpPr>
                <p:spPr>
                  <a:xfrm>
                    <a:off x="7238880" y="2590560"/>
                    <a:ext cx="15264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>
                    <a:off x="7391520" y="259056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>
                    <a:off x="7543800" y="259056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6" name=""/>
                  <p:cNvSpPr/>
                  <p:nvPr/>
                </p:nvSpPr>
                <p:spPr>
                  <a:xfrm>
                    <a:off x="7696080" y="2590560"/>
                    <a:ext cx="15264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7" name=""/>
                  <p:cNvSpPr/>
                  <p:nvPr/>
                </p:nvSpPr>
                <p:spPr>
                  <a:xfrm>
                    <a:off x="7848720" y="259056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28" name=""/>
                <p:cNvSpPr/>
                <p:nvPr/>
              </p:nvSpPr>
              <p:spPr>
                <a:xfrm>
                  <a:off x="7467480" y="2361960"/>
                  <a:ext cx="457200" cy="152640"/>
                </a:xfrm>
                <a:prstGeom prst="rect">
                  <a:avLst/>
                </a:prstGeom>
                <a:solidFill>
                  <a:srgbClr val="66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9" name=""/>
                <p:cNvGrpSpPr/>
                <p:nvPr/>
              </p:nvGrpSpPr>
              <p:grpSpPr>
                <a:xfrm>
                  <a:off x="6553080" y="2305080"/>
                  <a:ext cx="685800" cy="398520"/>
                  <a:chOff x="6553080" y="2305080"/>
                  <a:chExt cx="685800" cy="398520"/>
                </a:xfrm>
              </p:grpSpPr>
              <p:sp>
                <p:nvSpPr>
                  <p:cNvPr id="3130" name=""/>
                  <p:cNvSpPr/>
                  <p:nvPr/>
                </p:nvSpPr>
                <p:spPr>
                  <a:xfrm>
                    <a:off x="6553080" y="2361960"/>
                    <a:ext cx="685800" cy="152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1" name=""/>
                  <p:cNvSpPr/>
                  <p:nvPr/>
                </p:nvSpPr>
                <p:spPr>
                  <a:xfrm>
                    <a:off x="6553080" y="2305080"/>
                    <a:ext cx="6368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</a:rPr>
                      <a:t>PO103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2" name=""/>
              <p:cNvGrpSpPr/>
              <p:nvPr/>
            </p:nvGrpSpPr>
            <p:grpSpPr>
              <a:xfrm>
                <a:off x="5334120" y="3290760"/>
                <a:ext cx="2743200" cy="215640"/>
                <a:chOff x="5334120" y="3290760"/>
                <a:chExt cx="2743200" cy="215640"/>
              </a:xfrm>
            </p:grpSpPr>
            <p:sp>
              <p:nvSpPr>
                <p:cNvPr id="3133" name=""/>
                <p:cNvSpPr/>
                <p:nvPr/>
              </p:nvSpPr>
              <p:spPr>
                <a:xfrm>
                  <a:off x="548640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5639040" y="3290760"/>
                  <a:ext cx="304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579132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594360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0000"/>
                      </a:solidFill>
                      <a:latin typeface="Tahoma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6096240" y="3290760"/>
                  <a:ext cx="304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640080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624852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670572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0000"/>
                      </a:solidFill>
                      <a:latin typeface="Tahoma"/>
                    </a:rPr>
                    <a:t>1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6553440" y="3290760"/>
                  <a:ext cx="304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0000"/>
                      </a:solidFill>
                      <a:latin typeface="Tahoma"/>
                    </a:rPr>
                    <a:t>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685800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1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7010640" y="3290760"/>
                  <a:ext cx="304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1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731520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1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716292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0000"/>
                      </a:solidFill>
                      <a:latin typeface="Tahoma"/>
                    </a:rPr>
                    <a:t>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7467840" y="3290760"/>
                  <a:ext cx="304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1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762012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1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777240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0000"/>
                      </a:solidFill>
                      <a:latin typeface="Tahoma"/>
                    </a:rPr>
                    <a:t>F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533412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50" name=""/>
          <p:cNvGrpSpPr/>
          <p:nvPr/>
        </p:nvGrpSpPr>
        <p:grpSpPr>
          <a:xfrm>
            <a:off x="4952880" y="4343400"/>
            <a:ext cx="3200400" cy="2286000"/>
            <a:chOff x="4952880" y="4343400"/>
            <a:chExt cx="3200400" cy="2286000"/>
          </a:xfrm>
        </p:grpSpPr>
        <p:sp>
          <p:nvSpPr>
            <p:cNvPr id="3151" name=""/>
            <p:cNvSpPr/>
            <p:nvPr/>
          </p:nvSpPr>
          <p:spPr>
            <a:xfrm>
              <a:off x="4952880" y="6248520"/>
              <a:ext cx="0" cy="380880"/>
            </a:xfrm>
            <a:prstGeom prst="line">
              <a:avLst/>
            </a:prstGeom>
            <a:ln w="76320">
              <a:solidFill>
                <a:srgbClr val="00cc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4952880" y="4343400"/>
              <a:ext cx="0" cy="1828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4952880" y="5257800"/>
              <a:ext cx="76212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4952880" y="5943600"/>
              <a:ext cx="76212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5" name=""/>
            <p:cNvGrpSpPr/>
            <p:nvPr/>
          </p:nvGrpSpPr>
          <p:grpSpPr>
            <a:xfrm>
              <a:off x="5638680" y="5029200"/>
              <a:ext cx="533160" cy="457200"/>
              <a:chOff x="5638680" y="5029200"/>
              <a:chExt cx="533160" cy="457200"/>
            </a:xfrm>
          </p:grpSpPr>
          <p:grpSp>
            <p:nvGrpSpPr>
              <p:cNvPr id="3156" name=""/>
              <p:cNvGrpSpPr/>
              <p:nvPr/>
            </p:nvGrpSpPr>
            <p:grpSpPr>
              <a:xfrm>
                <a:off x="5638680" y="5029200"/>
                <a:ext cx="533160" cy="457200"/>
                <a:chOff x="5638680" y="5029200"/>
                <a:chExt cx="533160" cy="457200"/>
              </a:xfrm>
            </p:grpSpPr>
            <p:sp>
              <p:nvSpPr>
                <p:cNvPr id="3157" name=""/>
                <p:cNvSpPr/>
                <p:nvPr/>
              </p:nvSpPr>
              <p:spPr>
                <a:xfrm>
                  <a:off x="5638680" y="50292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5638680" y="52578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9" name=""/>
              <p:cNvSpPr/>
              <p:nvPr/>
            </p:nvSpPr>
            <p:spPr>
              <a:xfrm>
                <a:off x="571464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5692680" y="506736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586728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2" name=""/>
            <p:cNvGrpSpPr/>
            <p:nvPr/>
          </p:nvGrpSpPr>
          <p:grpSpPr>
            <a:xfrm>
              <a:off x="5638680" y="5867280"/>
              <a:ext cx="990360" cy="625680"/>
              <a:chOff x="5638680" y="5867280"/>
              <a:chExt cx="990360" cy="625680"/>
            </a:xfrm>
          </p:grpSpPr>
          <p:grpSp>
            <p:nvGrpSpPr>
              <p:cNvPr id="3163" name=""/>
              <p:cNvGrpSpPr/>
              <p:nvPr/>
            </p:nvGrpSpPr>
            <p:grpSpPr>
              <a:xfrm>
                <a:off x="5638680" y="5867280"/>
                <a:ext cx="260640" cy="625680"/>
                <a:chOff x="5638680" y="5867280"/>
                <a:chExt cx="260640" cy="625680"/>
              </a:xfrm>
            </p:grpSpPr>
            <p:sp>
              <p:nvSpPr>
                <p:cNvPr id="3164" name=""/>
                <p:cNvSpPr/>
                <p:nvPr/>
              </p:nvSpPr>
              <p:spPr>
                <a:xfrm>
                  <a:off x="5638680" y="5867280"/>
                  <a:ext cx="260640" cy="62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7a7a7"/>
                    </a:gs>
                    <a:gs pos="100000">
                      <a:srgbClr val="dddddd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5703840" y="6054840"/>
                  <a:ext cx="64800" cy="31284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5703840" y="5929560"/>
                  <a:ext cx="0" cy="6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7" name=""/>
              <p:cNvGrpSpPr/>
              <p:nvPr/>
            </p:nvGrpSpPr>
            <p:grpSpPr>
              <a:xfrm>
                <a:off x="6264360" y="5867280"/>
                <a:ext cx="364680" cy="625680"/>
                <a:chOff x="6264360" y="5867280"/>
                <a:chExt cx="364680" cy="625680"/>
              </a:xfrm>
            </p:grpSpPr>
            <p:grpSp>
              <p:nvGrpSpPr>
                <p:cNvPr id="3168" name=""/>
                <p:cNvGrpSpPr/>
                <p:nvPr/>
              </p:nvGrpSpPr>
              <p:grpSpPr>
                <a:xfrm>
                  <a:off x="6264360" y="5867280"/>
                  <a:ext cx="121680" cy="625680"/>
                  <a:chOff x="6264360" y="5867280"/>
                  <a:chExt cx="121680" cy="625680"/>
                </a:xfrm>
              </p:grpSpPr>
              <p:sp>
                <p:nvSpPr>
                  <p:cNvPr id="3169" name=""/>
                  <p:cNvSpPr/>
                  <p:nvPr/>
                </p:nvSpPr>
                <p:spPr>
                  <a:xfrm>
                    <a:off x="6264360" y="5867280"/>
                    <a:ext cx="121680" cy="625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>
                    <a:off x="6325200" y="6075720"/>
                    <a:ext cx="0" cy="36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1" name=""/>
                <p:cNvGrpSpPr/>
                <p:nvPr/>
              </p:nvGrpSpPr>
              <p:grpSpPr>
                <a:xfrm>
                  <a:off x="6386040" y="5867280"/>
                  <a:ext cx="121320" cy="625680"/>
                  <a:chOff x="6386040" y="5867280"/>
                  <a:chExt cx="121320" cy="625680"/>
                </a:xfrm>
              </p:grpSpPr>
              <p:sp>
                <p:nvSpPr>
                  <p:cNvPr id="3172" name=""/>
                  <p:cNvSpPr/>
                  <p:nvPr/>
                </p:nvSpPr>
                <p:spPr>
                  <a:xfrm>
                    <a:off x="6386040" y="5867280"/>
                    <a:ext cx="121320" cy="625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3" name=""/>
                  <p:cNvSpPr/>
                  <p:nvPr/>
                </p:nvSpPr>
                <p:spPr>
                  <a:xfrm>
                    <a:off x="6446880" y="6075720"/>
                    <a:ext cx="0" cy="36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4" name=""/>
                <p:cNvGrpSpPr/>
                <p:nvPr/>
              </p:nvGrpSpPr>
              <p:grpSpPr>
                <a:xfrm>
                  <a:off x="6507720" y="5867280"/>
                  <a:ext cx="121320" cy="625680"/>
                  <a:chOff x="6507720" y="5867280"/>
                  <a:chExt cx="121320" cy="625680"/>
                </a:xfrm>
              </p:grpSpPr>
              <p:sp>
                <p:nvSpPr>
                  <p:cNvPr id="3175" name=""/>
                  <p:cNvSpPr/>
                  <p:nvPr/>
                </p:nvSpPr>
                <p:spPr>
                  <a:xfrm>
                    <a:off x="6507720" y="5867280"/>
                    <a:ext cx="121320" cy="625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6" name=""/>
                  <p:cNvSpPr/>
                  <p:nvPr/>
                </p:nvSpPr>
                <p:spPr>
                  <a:xfrm>
                    <a:off x="6568560" y="6075720"/>
                    <a:ext cx="0" cy="36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77" name=""/>
              <p:cNvGrpSpPr/>
              <p:nvPr/>
            </p:nvGrpSpPr>
            <p:grpSpPr>
              <a:xfrm>
                <a:off x="5899320" y="5867280"/>
                <a:ext cx="364680" cy="625680"/>
                <a:chOff x="5899320" y="5867280"/>
                <a:chExt cx="364680" cy="625680"/>
              </a:xfrm>
            </p:grpSpPr>
            <p:grpSp>
              <p:nvGrpSpPr>
                <p:cNvPr id="3178" name=""/>
                <p:cNvGrpSpPr/>
                <p:nvPr/>
              </p:nvGrpSpPr>
              <p:grpSpPr>
                <a:xfrm>
                  <a:off x="5899320" y="5867280"/>
                  <a:ext cx="121680" cy="625680"/>
                  <a:chOff x="5899320" y="5867280"/>
                  <a:chExt cx="121680" cy="625680"/>
                </a:xfrm>
              </p:grpSpPr>
              <p:sp>
                <p:nvSpPr>
                  <p:cNvPr id="3179" name=""/>
                  <p:cNvSpPr/>
                  <p:nvPr/>
                </p:nvSpPr>
                <p:spPr>
                  <a:xfrm>
                    <a:off x="5899320" y="5867280"/>
                    <a:ext cx="121680" cy="625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>
                    <a:off x="5960160" y="6075720"/>
                    <a:ext cx="0" cy="36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1" name=""/>
                <p:cNvGrpSpPr/>
                <p:nvPr/>
              </p:nvGrpSpPr>
              <p:grpSpPr>
                <a:xfrm>
                  <a:off x="6021000" y="5867280"/>
                  <a:ext cx="121320" cy="625680"/>
                  <a:chOff x="6021000" y="5867280"/>
                  <a:chExt cx="121320" cy="625680"/>
                </a:xfrm>
              </p:grpSpPr>
              <p:sp>
                <p:nvSpPr>
                  <p:cNvPr id="3182" name=""/>
                  <p:cNvSpPr/>
                  <p:nvPr/>
                </p:nvSpPr>
                <p:spPr>
                  <a:xfrm>
                    <a:off x="6021000" y="5867280"/>
                    <a:ext cx="121320" cy="625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3" name=""/>
                  <p:cNvSpPr/>
                  <p:nvPr/>
                </p:nvSpPr>
                <p:spPr>
                  <a:xfrm>
                    <a:off x="6081840" y="6075720"/>
                    <a:ext cx="0" cy="36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4" name=""/>
                <p:cNvGrpSpPr/>
                <p:nvPr/>
              </p:nvGrpSpPr>
              <p:grpSpPr>
                <a:xfrm>
                  <a:off x="6142680" y="5867280"/>
                  <a:ext cx="121320" cy="625680"/>
                  <a:chOff x="6142680" y="5867280"/>
                  <a:chExt cx="121320" cy="625680"/>
                </a:xfrm>
              </p:grpSpPr>
              <p:sp>
                <p:nvSpPr>
                  <p:cNvPr id="3185" name=""/>
                  <p:cNvSpPr/>
                  <p:nvPr/>
                </p:nvSpPr>
                <p:spPr>
                  <a:xfrm>
                    <a:off x="6142680" y="5867280"/>
                    <a:ext cx="121320" cy="625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6" name=""/>
                  <p:cNvSpPr/>
                  <p:nvPr/>
                </p:nvSpPr>
                <p:spPr>
                  <a:xfrm>
                    <a:off x="6203520" y="6075720"/>
                    <a:ext cx="0" cy="36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87" name=""/>
            <p:cNvGrpSpPr/>
            <p:nvPr/>
          </p:nvGrpSpPr>
          <p:grpSpPr>
            <a:xfrm>
              <a:off x="6172200" y="5029200"/>
              <a:ext cx="533520" cy="457200"/>
              <a:chOff x="6172200" y="5029200"/>
              <a:chExt cx="533520" cy="457200"/>
            </a:xfrm>
          </p:grpSpPr>
          <p:grpSp>
            <p:nvGrpSpPr>
              <p:cNvPr id="3188" name=""/>
              <p:cNvGrpSpPr/>
              <p:nvPr/>
            </p:nvGrpSpPr>
            <p:grpSpPr>
              <a:xfrm>
                <a:off x="6172200" y="5029200"/>
                <a:ext cx="533520" cy="457200"/>
                <a:chOff x="6172200" y="5029200"/>
                <a:chExt cx="533520" cy="457200"/>
              </a:xfrm>
            </p:grpSpPr>
            <p:sp>
              <p:nvSpPr>
                <p:cNvPr id="3189" name=""/>
                <p:cNvSpPr/>
                <p:nvPr/>
              </p:nvSpPr>
              <p:spPr>
                <a:xfrm>
                  <a:off x="6172200" y="502920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6172200" y="525780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1" name=""/>
              <p:cNvSpPr/>
              <p:nvPr/>
            </p:nvSpPr>
            <p:spPr>
              <a:xfrm>
                <a:off x="6226200" y="5067360"/>
                <a:ext cx="4287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2" name=""/>
              <p:cNvGrpSpPr/>
              <p:nvPr/>
            </p:nvGrpSpPr>
            <p:grpSpPr>
              <a:xfrm>
                <a:off x="6292800" y="5105520"/>
                <a:ext cx="304920" cy="75960"/>
                <a:chOff x="6292800" y="5105520"/>
                <a:chExt cx="304920" cy="75960"/>
              </a:xfrm>
            </p:grpSpPr>
            <p:sp>
              <p:nvSpPr>
                <p:cNvPr id="3193" name=""/>
                <p:cNvSpPr/>
                <p:nvPr/>
              </p:nvSpPr>
              <p:spPr>
                <a:xfrm>
                  <a:off x="6292800" y="5105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6369120" y="5105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6445440" y="5105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6521400" y="5105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6597720" y="5105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8" name=""/>
              <p:cNvSpPr/>
              <p:nvPr/>
            </p:nvSpPr>
            <p:spPr>
              <a:xfrm>
                <a:off x="6251400" y="53053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251400" y="53722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251400" y="54356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1" name=""/>
            <p:cNvSpPr/>
            <p:nvPr/>
          </p:nvSpPr>
          <p:spPr>
            <a:xfrm>
              <a:off x="7086600" y="4738320"/>
              <a:ext cx="1066680" cy="84492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Rede de Campo Mod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2" name=""/>
          <p:cNvGrpSpPr/>
          <p:nvPr/>
        </p:nvGrpSpPr>
        <p:grpSpPr>
          <a:xfrm>
            <a:off x="304920" y="2514600"/>
            <a:ext cx="4723920" cy="2757600"/>
            <a:chOff x="304920" y="2514600"/>
            <a:chExt cx="4723920" cy="2757600"/>
          </a:xfrm>
        </p:grpSpPr>
        <p:pic>
          <p:nvPicPr>
            <p:cNvPr id="3203" name="" descr=""/>
            <p:cNvPicPr/>
            <p:nvPr/>
          </p:nvPicPr>
          <p:blipFill>
            <a:blip r:embed="rId2"/>
            <a:stretch/>
          </p:blipFill>
          <p:spPr>
            <a:xfrm>
              <a:off x="1066680" y="2514600"/>
              <a:ext cx="99072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4" name=""/>
            <p:cNvSpPr/>
            <p:nvPr/>
          </p:nvSpPr>
          <p:spPr>
            <a:xfrm>
              <a:off x="1676520" y="3352680"/>
              <a:ext cx="0" cy="4572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 flipH="1">
              <a:off x="1676160" y="3809880"/>
              <a:ext cx="335268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04920" y="4701600"/>
              <a:ext cx="1828800" cy="57060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terface program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7" name=""/>
          <p:cNvGrpSpPr/>
          <p:nvPr/>
        </p:nvGrpSpPr>
        <p:grpSpPr>
          <a:xfrm>
            <a:off x="228600" y="1066680"/>
            <a:ext cx="4038480" cy="2895840"/>
            <a:chOff x="228600" y="1066680"/>
            <a:chExt cx="4038480" cy="2895840"/>
          </a:xfrm>
        </p:grpSpPr>
        <p:grpSp>
          <p:nvGrpSpPr>
            <p:cNvPr id="3208" name=""/>
            <p:cNvGrpSpPr/>
            <p:nvPr/>
          </p:nvGrpSpPr>
          <p:grpSpPr>
            <a:xfrm>
              <a:off x="228600" y="1066680"/>
              <a:ext cx="3505320" cy="2895840"/>
              <a:chOff x="228600" y="1066680"/>
              <a:chExt cx="3505320" cy="2895840"/>
            </a:xfrm>
          </p:grpSpPr>
          <p:sp>
            <p:nvSpPr>
              <p:cNvPr id="3209" name=""/>
              <p:cNvSpPr/>
              <p:nvPr/>
            </p:nvSpPr>
            <p:spPr>
              <a:xfrm>
                <a:off x="228600" y="1981080"/>
                <a:ext cx="228600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838080" y="3962520"/>
                <a:ext cx="289584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1" name=""/>
              <p:cNvGrpSpPr/>
              <p:nvPr/>
            </p:nvGrpSpPr>
            <p:grpSpPr>
              <a:xfrm>
                <a:off x="990720" y="1066680"/>
                <a:ext cx="609480" cy="914040"/>
                <a:chOff x="990720" y="1066680"/>
                <a:chExt cx="609480" cy="914040"/>
              </a:xfrm>
            </p:grpSpPr>
            <p:sp>
              <p:nvSpPr>
                <p:cNvPr id="3212" name=""/>
                <p:cNvSpPr/>
                <p:nvPr/>
              </p:nvSpPr>
              <p:spPr>
                <a:xfrm>
                  <a:off x="1270800" y="1676160"/>
                  <a:ext cx="0" cy="30456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90720" y="1066680"/>
                  <a:ext cx="609480" cy="670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214" name=""/>
              <p:cNvSpPr/>
              <p:nvPr/>
            </p:nvSpPr>
            <p:spPr>
              <a:xfrm flipV="1">
                <a:off x="838080" y="1981080"/>
                <a:ext cx="0" cy="198144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5" name=""/>
            <p:cNvSpPr/>
            <p:nvPr/>
          </p:nvSpPr>
          <p:spPr>
            <a:xfrm>
              <a:off x="2438280" y="1156680"/>
              <a:ext cx="1828800" cy="57060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Ethernet 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6" name=""/>
          <p:cNvGrpSpPr/>
          <p:nvPr/>
        </p:nvGrpSpPr>
        <p:grpSpPr>
          <a:xfrm>
            <a:off x="609480" y="4343400"/>
            <a:ext cx="3886200" cy="2201760"/>
            <a:chOff x="609480" y="4343400"/>
            <a:chExt cx="3886200" cy="2201760"/>
          </a:xfrm>
        </p:grpSpPr>
        <p:sp>
          <p:nvSpPr>
            <p:cNvPr id="3217" name=""/>
            <p:cNvSpPr/>
            <p:nvPr/>
          </p:nvSpPr>
          <p:spPr>
            <a:xfrm>
              <a:off x="3809880" y="4343400"/>
              <a:ext cx="0" cy="144792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8" name=""/>
            <p:cNvGrpSpPr/>
            <p:nvPr/>
          </p:nvGrpSpPr>
          <p:grpSpPr>
            <a:xfrm>
              <a:off x="609480" y="5562720"/>
              <a:ext cx="3886200" cy="982440"/>
              <a:chOff x="609480" y="5562720"/>
              <a:chExt cx="3886200" cy="982440"/>
            </a:xfrm>
          </p:grpSpPr>
          <p:sp>
            <p:nvSpPr>
              <p:cNvPr id="3219" name=""/>
              <p:cNvSpPr/>
              <p:nvPr/>
            </p:nvSpPr>
            <p:spPr>
              <a:xfrm>
                <a:off x="609480" y="5652360"/>
                <a:ext cx="1524240" cy="570600"/>
              </a:xfrm>
              <a:noFill/>
              <a:ln w="1260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10800" bIns="10800" anchor="b" anchorCtr="1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Interface serial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2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24080" y="5562720"/>
                <a:ext cx="1371600" cy="982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3221" name=""/>
          <p:cNvGraphicFramePr/>
          <p:nvPr/>
        </p:nvGraphicFramePr>
        <p:xfrm>
          <a:off x="2576520" y="2298600"/>
          <a:ext cx="2743200" cy="12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6520" y="2298600"/>
                    <a:ext cx="274320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Alta conectividade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6019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Rede de controle integrada - Ethernet TCP/IP com protocolo ALNET II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25" name=""/>
          <p:cNvSpPr/>
          <p:nvPr/>
        </p:nvSpPr>
        <p:spPr>
          <a:xfrm>
            <a:off x="685800" y="5410080"/>
            <a:ext cx="640080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6" name=""/>
          <p:cNvGrpSpPr/>
          <p:nvPr/>
        </p:nvGrpSpPr>
        <p:grpSpPr>
          <a:xfrm>
            <a:off x="3505320" y="5410080"/>
            <a:ext cx="533160" cy="838440"/>
            <a:chOff x="3505320" y="5410080"/>
            <a:chExt cx="533160" cy="838440"/>
          </a:xfrm>
        </p:grpSpPr>
        <p:grpSp>
          <p:nvGrpSpPr>
            <p:cNvPr id="3227" name=""/>
            <p:cNvGrpSpPr/>
            <p:nvPr/>
          </p:nvGrpSpPr>
          <p:grpSpPr>
            <a:xfrm>
              <a:off x="3505320" y="5791320"/>
              <a:ext cx="533160" cy="457200"/>
              <a:chOff x="3505320" y="5791320"/>
              <a:chExt cx="533160" cy="457200"/>
            </a:xfrm>
          </p:grpSpPr>
          <p:grpSp>
            <p:nvGrpSpPr>
              <p:cNvPr id="3228" name=""/>
              <p:cNvGrpSpPr/>
              <p:nvPr/>
            </p:nvGrpSpPr>
            <p:grpSpPr>
              <a:xfrm>
                <a:off x="3505320" y="5791320"/>
                <a:ext cx="533160" cy="457200"/>
                <a:chOff x="3505320" y="5791320"/>
                <a:chExt cx="533160" cy="457200"/>
              </a:xfrm>
            </p:grpSpPr>
            <p:sp>
              <p:nvSpPr>
                <p:cNvPr id="3229" name=""/>
                <p:cNvSpPr/>
                <p:nvPr/>
              </p:nvSpPr>
              <p:spPr>
                <a:xfrm>
                  <a:off x="3505320" y="579132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>
                  <a:off x="3505320" y="601992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1" name=""/>
              <p:cNvSpPr/>
              <p:nvPr/>
            </p:nvSpPr>
            <p:spPr>
              <a:xfrm>
                <a:off x="3581280" y="6096240"/>
                <a:ext cx="1519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3558960" y="582948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3809880" y="6096240"/>
                <a:ext cx="1519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3657600" y="5867640"/>
                <a:ext cx="15192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5" name=""/>
            <p:cNvSpPr/>
            <p:nvPr/>
          </p:nvSpPr>
          <p:spPr>
            <a:xfrm>
              <a:off x="3733560" y="5410080"/>
              <a:ext cx="0" cy="3812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6" name=""/>
          <p:cNvGrpSpPr/>
          <p:nvPr/>
        </p:nvGrpSpPr>
        <p:grpSpPr>
          <a:xfrm>
            <a:off x="1371600" y="5410080"/>
            <a:ext cx="533520" cy="838440"/>
            <a:chOff x="1371600" y="5410080"/>
            <a:chExt cx="533520" cy="838440"/>
          </a:xfrm>
        </p:grpSpPr>
        <p:grpSp>
          <p:nvGrpSpPr>
            <p:cNvPr id="3237" name=""/>
            <p:cNvGrpSpPr/>
            <p:nvPr/>
          </p:nvGrpSpPr>
          <p:grpSpPr>
            <a:xfrm>
              <a:off x="1371600" y="5791320"/>
              <a:ext cx="533520" cy="457200"/>
              <a:chOff x="1371600" y="5791320"/>
              <a:chExt cx="533520" cy="457200"/>
            </a:xfrm>
          </p:grpSpPr>
          <p:grpSp>
            <p:nvGrpSpPr>
              <p:cNvPr id="3238" name=""/>
              <p:cNvGrpSpPr/>
              <p:nvPr/>
            </p:nvGrpSpPr>
            <p:grpSpPr>
              <a:xfrm>
                <a:off x="1371600" y="5791320"/>
                <a:ext cx="533520" cy="457200"/>
                <a:chOff x="1371600" y="5791320"/>
                <a:chExt cx="533520" cy="457200"/>
              </a:xfrm>
            </p:grpSpPr>
            <p:sp>
              <p:nvSpPr>
                <p:cNvPr id="3239" name=""/>
                <p:cNvSpPr/>
                <p:nvPr/>
              </p:nvSpPr>
              <p:spPr>
                <a:xfrm>
                  <a:off x="1371600" y="579132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1371600" y="601992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1" name=""/>
              <p:cNvSpPr/>
              <p:nvPr/>
            </p:nvSpPr>
            <p:spPr>
              <a:xfrm>
                <a:off x="1447920" y="6096240"/>
                <a:ext cx="152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1425600" y="5829480"/>
                <a:ext cx="4287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1676520" y="6096240"/>
                <a:ext cx="152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1524240" y="5867640"/>
                <a:ext cx="15228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5" name=""/>
            <p:cNvSpPr/>
            <p:nvPr/>
          </p:nvSpPr>
          <p:spPr>
            <a:xfrm>
              <a:off x="1600200" y="5410080"/>
              <a:ext cx="0" cy="3812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6" name=""/>
          <p:cNvGrpSpPr/>
          <p:nvPr/>
        </p:nvGrpSpPr>
        <p:grpSpPr>
          <a:xfrm>
            <a:off x="5715000" y="5410080"/>
            <a:ext cx="533520" cy="838440"/>
            <a:chOff x="5715000" y="5410080"/>
            <a:chExt cx="533520" cy="838440"/>
          </a:xfrm>
        </p:grpSpPr>
        <p:grpSp>
          <p:nvGrpSpPr>
            <p:cNvPr id="3247" name=""/>
            <p:cNvGrpSpPr/>
            <p:nvPr/>
          </p:nvGrpSpPr>
          <p:grpSpPr>
            <a:xfrm>
              <a:off x="5715000" y="5791320"/>
              <a:ext cx="533520" cy="457200"/>
              <a:chOff x="5715000" y="5791320"/>
              <a:chExt cx="533520" cy="457200"/>
            </a:xfrm>
          </p:grpSpPr>
          <p:grpSp>
            <p:nvGrpSpPr>
              <p:cNvPr id="3248" name=""/>
              <p:cNvGrpSpPr/>
              <p:nvPr/>
            </p:nvGrpSpPr>
            <p:grpSpPr>
              <a:xfrm>
                <a:off x="5715000" y="5791320"/>
                <a:ext cx="533520" cy="457200"/>
                <a:chOff x="5715000" y="5791320"/>
                <a:chExt cx="533520" cy="457200"/>
              </a:xfrm>
            </p:grpSpPr>
            <p:sp>
              <p:nvSpPr>
                <p:cNvPr id="3249" name=""/>
                <p:cNvSpPr/>
                <p:nvPr/>
              </p:nvSpPr>
              <p:spPr>
                <a:xfrm>
                  <a:off x="5715000" y="579132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>
                  <a:off x="5715000" y="601992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1" name=""/>
              <p:cNvSpPr/>
              <p:nvPr/>
            </p:nvSpPr>
            <p:spPr>
              <a:xfrm>
                <a:off x="5791320" y="6096240"/>
                <a:ext cx="152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769000" y="5829480"/>
                <a:ext cx="4287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6019920" y="6096240"/>
                <a:ext cx="152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867640" y="5867640"/>
                <a:ext cx="15228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5" name=""/>
            <p:cNvSpPr/>
            <p:nvPr/>
          </p:nvSpPr>
          <p:spPr>
            <a:xfrm>
              <a:off x="5943600" y="5410080"/>
              <a:ext cx="0" cy="3812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6" name=""/>
          <p:cNvGrpSpPr/>
          <p:nvPr/>
        </p:nvGrpSpPr>
        <p:grpSpPr>
          <a:xfrm>
            <a:off x="2362320" y="4267080"/>
            <a:ext cx="2971800" cy="1752840"/>
            <a:chOff x="2362320" y="4267080"/>
            <a:chExt cx="2971800" cy="1752840"/>
          </a:xfrm>
        </p:grpSpPr>
        <p:grpSp>
          <p:nvGrpSpPr>
            <p:cNvPr id="3257" name=""/>
            <p:cNvGrpSpPr/>
            <p:nvPr/>
          </p:nvGrpSpPr>
          <p:grpSpPr>
            <a:xfrm>
              <a:off x="4505400" y="4267080"/>
              <a:ext cx="828720" cy="1143000"/>
              <a:chOff x="4505400" y="4267080"/>
              <a:chExt cx="828720" cy="1143000"/>
            </a:xfrm>
          </p:grpSpPr>
          <p:sp>
            <p:nvSpPr>
              <p:cNvPr id="3258" name=""/>
              <p:cNvSpPr/>
              <p:nvPr/>
            </p:nvSpPr>
            <p:spPr>
              <a:xfrm>
                <a:off x="4886280" y="5029200"/>
                <a:ext cx="0" cy="3808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2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05400" y="4267080"/>
                <a:ext cx="82872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0" name=""/>
            <p:cNvGrpSpPr/>
            <p:nvPr/>
          </p:nvGrpSpPr>
          <p:grpSpPr>
            <a:xfrm>
              <a:off x="2362320" y="4267080"/>
              <a:ext cx="828720" cy="1143000"/>
              <a:chOff x="2362320" y="4267080"/>
              <a:chExt cx="828720" cy="1143000"/>
            </a:xfrm>
          </p:grpSpPr>
          <p:sp>
            <p:nvSpPr>
              <p:cNvPr id="3261" name=""/>
              <p:cNvSpPr/>
              <p:nvPr/>
            </p:nvSpPr>
            <p:spPr>
              <a:xfrm>
                <a:off x="2743200" y="5029200"/>
                <a:ext cx="0" cy="3808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2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62320" y="4267080"/>
                <a:ext cx="82872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3" name=""/>
            <p:cNvGrpSpPr/>
            <p:nvPr/>
          </p:nvGrpSpPr>
          <p:grpSpPr>
            <a:xfrm>
              <a:off x="2514600" y="5562720"/>
              <a:ext cx="2590920" cy="457200"/>
              <a:chOff x="2514600" y="5562720"/>
              <a:chExt cx="2590920" cy="457200"/>
            </a:xfrm>
          </p:grpSpPr>
          <p:sp>
            <p:nvSpPr>
              <p:cNvPr id="3264" name=""/>
              <p:cNvSpPr/>
              <p:nvPr/>
            </p:nvSpPr>
            <p:spPr>
              <a:xfrm>
                <a:off x="2514600" y="5562720"/>
                <a:ext cx="457200" cy="457200"/>
              </a:xfrm>
              <a:prstGeom prst="upArrow">
                <a:avLst>
                  <a:gd name="adj1" fmla="val 50000"/>
                  <a:gd name="adj2" fmla="val 25000"/>
                </a:avLst>
              </a:prstGeom>
              <a:gradFill rotWithShape="0">
                <a:gsLst>
                  <a:gs pos="0">
                    <a:srgbClr val="00cc99"/>
                  </a:gs>
                  <a:gs pos="50000">
                    <a:srgbClr val="008665"/>
                  </a:gs>
                  <a:gs pos="100000">
                    <a:srgbClr val="00cc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4648320" y="5562720"/>
                <a:ext cx="457200" cy="457200"/>
              </a:xfrm>
              <a:prstGeom prst="upArrow">
                <a:avLst>
                  <a:gd name="adj1" fmla="val 50000"/>
                  <a:gd name="adj2" fmla="val 25000"/>
                </a:avLst>
              </a:prstGeom>
              <a:gradFill rotWithShape="0">
                <a:gsLst>
                  <a:gs pos="0">
                    <a:srgbClr val="00cc99"/>
                  </a:gs>
                  <a:gs pos="50000">
                    <a:srgbClr val="008665"/>
                  </a:gs>
                  <a:gs pos="100000">
                    <a:srgbClr val="00cc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6" name=""/>
          <p:cNvGrpSpPr/>
          <p:nvPr/>
        </p:nvGrpSpPr>
        <p:grpSpPr>
          <a:xfrm>
            <a:off x="2133720" y="5791320"/>
            <a:ext cx="3276360" cy="380880"/>
            <a:chOff x="2133720" y="5791320"/>
            <a:chExt cx="3276360" cy="380880"/>
          </a:xfrm>
        </p:grpSpPr>
        <p:sp>
          <p:nvSpPr>
            <p:cNvPr id="3267" name=""/>
            <p:cNvSpPr/>
            <p:nvPr/>
          </p:nvSpPr>
          <p:spPr>
            <a:xfrm>
              <a:off x="4267080" y="5791320"/>
              <a:ext cx="1143000" cy="380880"/>
            </a:xfrm>
            <a:prstGeom prst="leftRightArrow">
              <a:avLst>
                <a:gd name="adj1" fmla="val 50000"/>
                <a:gd name="adj2" fmla="val 59741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8665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133720" y="5791320"/>
              <a:ext cx="1143000" cy="380880"/>
            </a:xfrm>
            <a:prstGeom prst="leftRightArrow">
              <a:avLst>
                <a:gd name="adj1" fmla="val 50000"/>
                <a:gd name="adj2" fmla="val 59741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8665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9" name=""/>
          <p:cNvSpPr/>
          <p:nvPr/>
        </p:nvSpPr>
        <p:spPr>
          <a:xfrm>
            <a:off x="533520" y="44956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thernet 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0" name=""/>
          <p:cNvGrpSpPr/>
          <p:nvPr/>
        </p:nvGrpSpPr>
        <p:grpSpPr>
          <a:xfrm>
            <a:off x="228600" y="1295280"/>
            <a:ext cx="8553600" cy="4319640"/>
            <a:chOff x="228600" y="1295280"/>
            <a:chExt cx="8553600" cy="4319640"/>
          </a:xfrm>
        </p:grpSpPr>
        <p:grpSp>
          <p:nvGrpSpPr>
            <p:cNvPr id="3271" name=""/>
            <p:cNvGrpSpPr/>
            <p:nvPr/>
          </p:nvGrpSpPr>
          <p:grpSpPr>
            <a:xfrm>
              <a:off x="6037200" y="1295280"/>
              <a:ext cx="2745000" cy="4319640"/>
              <a:chOff x="6037200" y="1295280"/>
              <a:chExt cx="2745000" cy="4319640"/>
            </a:xfrm>
          </p:grpSpPr>
          <p:pic>
            <p:nvPicPr>
              <p:cNvPr id="327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781680" y="1600200"/>
                <a:ext cx="2000520" cy="213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53080" y="5105520"/>
                <a:ext cx="762120" cy="50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4" name=""/>
              <p:cNvSpPr txBox="1"/>
              <p:nvPr/>
            </p:nvSpPr>
            <p:spPr>
              <a:xfrm>
                <a:off x="7010280" y="1295280"/>
                <a:ext cx="1600200" cy="571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91108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Comic Sans MS"/>
                  </a:rPr>
                  <a:t>Internet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 rot="18096600">
                <a:off x="5742000" y="4316040"/>
                <a:ext cx="1762200" cy="291960"/>
              </a:xfrm>
              <a:prstGeom prst="leftRightArrow">
                <a:avLst>
                  <a:gd name="adj1" fmla="val 50000"/>
                  <a:gd name="adj2" fmla="val 120156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6993360" y="3782880"/>
                <a:ext cx="912240" cy="13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Htt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FT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SMT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7" name=""/>
            <p:cNvSpPr/>
            <p:nvPr/>
          </p:nvSpPr>
          <p:spPr>
            <a:xfrm>
              <a:off x="228600" y="1905120"/>
              <a:ext cx="60199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66ff"/>
                  </a:solidFill>
                  <a:latin typeface="Tahoma"/>
                </a:rPr>
                <a:t>WebPLC :Protocolos da Internet integrados: Supervisão e Diagnóst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66ff"/>
                  </a:solidFill>
                  <a:latin typeface="Tahoma"/>
                </a:rPr>
                <a:t>Http   ( browsers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66ff"/>
                  </a:solidFill>
                  <a:latin typeface="Tahoma"/>
                </a:rPr>
                <a:t>FTP    ( transferência de arquivos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66ff"/>
                  </a:solidFill>
                  <a:latin typeface="Tahoma"/>
                </a:rPr>
                <a:t>SMTP ( e-mail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ff"/>
                </a:solidFill>
                <a:latin typeface="Tahoma"/>
              </a:rPr>
              <a:t>Série Ponto</a:t>
            </a:r>
            <a:endParaRPr b="0" lang="en-US" sz="8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Um novo conceito em automação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logocapa" descr=""/>
          <p:cNvPicPr/>
          <p:nvPr/>
        </p:nvPicPr>
        <p:blipFill>
          <a:blip r:embed="rId1"/>
          <a:stretch/>
        </p:blipFill>
        <p:spPr>
          <a:xfrm>
            <a:off x="7162920" y="6093000"/>
            <a:ext cx="1790640" cy="76176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924680" y="2666880"/>
            <a:ext cx="685800" cy="685800"/>
            <a:chOff x="7924680" y="2666880"/>
            <a:chExt cx="685800" cy="685800"/>
          </a:xfrm>
        </p:grpSpPr>
        <p:sp>
          <p:nvSpPr>
            <p:cNvPr id="50" name=""/>
            <p:cNvSpPr/>
            <p:nvPr/>
          </p:nvSpPr>
          <p:spPr>
            <a:xfrm>
              <a:off x="7924680" y="266688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045640" y="2747520"/>
              <a:ext cx="282240" cy="282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Aplicações Web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6019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Acesso via Browser a páginas da UCP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Diagnóstico completo remoto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e-mail de eventos/alarmes do processo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Pager celular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Aplicações especiais em JAVA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Aplicações especiais em linguagem “C”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Gateway para outros equipamento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3280" name="" descr=""/>
          <p:cNvPicPr/>
          <p:nvPr/>
        </p:nvPicPr>
        <p:blipFill>
          <a:blip r:embed="rId1"/>
          <a:stretch/>
        </p:blipFill>
        <p:spPr>
          <a:xfrm>
            <a:off x="6777000" y="1143000"/>
            <a:ext cx="1643040" cy="1752480"/>
          </a:xfrm>
          <a:prstGeom prst="rect">
            <a:avLst/>
          </a:prstGeom>
          <a:ln w="0">
            <a:noFill/>
          </a:ln>
        </p:spPr>
      </p:pic>
      <p:grpSp>
        <p:nvGrpSpPr>
          <p:cNvPr id="3281" name=""/>
          <p:cNvGrpSpPr/>
          <p:nvPr/>
        </p:nvGrpSpPr>
        <p:grpSpPr>
          <a:xfrm>
            <a:off x="7315200" y="3581280"/>
            <a:ext cx="761400" cy="609120"/>
            <a:chOff x="7315200" y="3581280"/>
            <a:chExt cx="761400" cy="609120"/>
          </a:xfrm>
        </p:grpSpPr>
        <p:grpSp>
          <p:nvGrpSpPr>
            <p:cNvPr id="3282" name=""/>
            <p:cNvGrpSpPr/>
            <p:nvPr/>
          </p:nvGrpSpPr>
          <p:grpSpPr>
            <a:xfrm>
              <a:off x="7315200" y="3581280"/>
              <a:ext cx="761400" cy="609120"/>
              <a:chOff x="7315200" y="3581280"/>
              <a:chExt cx="761400" cy="609120"/>
            </a:xfrm>
          </p:grpSpPr>
          <p:sp>
            <p:nvSpPr>
              <p:cNvPr id="3283" name=""/>
              <p:cNvSpPr/>
              <p:nvPr/>
            </p:nvSpPr>
            <p:spPr>
              <a:xfrm>
                <a:off x="7315200" y="3581280"/>
                <a:ext cx="761400" cy="30456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739a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7315200" y="3885840"/>
                <a:ext cx="761400" cy="30456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739a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5" name=""/>
            <p:cNvSpPr/>
            <p:nvPr/>
          </p:nvSpPr>
          <p:spPr>
            <a:xfrm>
              <a:off x="7423920" y="3987720"/>
              <a:ext cx="217440" cy="101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392240" y="3632040"/>
              <a:ext cx="612000" cy="20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750440" y="3987720"/>
              <a:ext cx="217440" cy="101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533000" y="3682800"/>
              <a:ext cx="217440" cy="10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9" name=""/>
          <p:cNvSpPr/>
          <p:nvPr/>
        </p:nvSpPr>
        <p:spPr>
          <a:xfrm>
            <a:off x="7696080" y="2971800"/>
            <a:ext cx="0" cy="5335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7696080" y="4267080"/>
            <a:ext cx="0" cy="5335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1" name="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990720" cy="571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UCP PO3045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105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Microprocessador 32bit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4096 pontos de E/S digitai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512 pontos de E/S analógico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Memória programa aplicativo: 512kb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0,5 μs por instrução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Rede integrada Ethernet TCP/IP, protocolo ALNET II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WebPLC : protocolos Http, FTP, SMTP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3 canais seriai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Dimensões reduzida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graphicFrame>
        <p:nvGraphicFramePr>
          <p:cNvPr id="3294" name=""/>
          <p:cNvGraphicFramePr/>
          <p:nvPr/>
        </p:nvGraphicFramePr>
        <p:xfrm>
          <a:off x="4267080" y="4952880"/>
          <a:ext cx="159876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952880"/>
                    <a:ext cx="15987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96" name="altus06b" descr=""/>
          <p:cNvPicPr/>
          <p:nvPr/>
        </p:nvPicPr>
        <p:blipFill>
          <a:blip r:embed="rId3"/>
          <a:stretch/>
        </p:blipFill>
        <p:spPr>
          <a:xfrm>
            <a:off x="5969160" y="1066680"/>
            <a:ext cx="31748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ahoma"/>
              </a:rPr>
              <a:t>Mastertool ProPonto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Configura barramentos de forma gráfica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Verificação da validade da configuração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Atrib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uição de Tags aos pontos do sistema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Parametrização dos módulos (ex.: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tipo de sinal analógico )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Ger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ação de lista de materiai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graphicFrame>
        <p:nvGraphicFramePr>
          <p:cNvPr id="3299" name=""/>
          <p:cNvGraphicFramePr/>
          <p:nvPr/>
        </p:nvGraphicFramePr>
        <p:xfrm>
          <a:off x="5257800" y="2362320"/>
          <a:ext cx="3457440" cy="32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362320"/>
                    <a:ext cx="345744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ahoma"/>
              </a:rPr>
              <a:t>Mastertool ProPonto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Geração de etiquetas para identificação dos módulo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Leitura e Forçamento dos pontos de E/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iagnóstico dos módulos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Ferramenta universal para integração a outros sistemas de controle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3303" name="fiação4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3976560" cy="297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ff"/>
                </a:solidFill>
                <a:latin typeface="Tahoma"/>
              </a:rPr>
              <a:t>Produtos</a:t>
            </a:r>
            <a:endParaRPr b="0" lang="en-US" sz="80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3306" name="logocapa" descr=""/>
          <p:cNvPicPr/>
          <p:nvPr/>
        </p:nvPicPr>
        <p:blipFill>
          <a:blip r:embed="rId1"/>
          <a:stretch/>
        </p:blipFill>
        <p:spPr>
          <a:xfrm>
            <a:off x="7162920" y="6093000"/>
            <a:ext cx="1790640" cy="761760"/>
          </a:xfrm>
          <a:prstGeom prst="rect">
            <a:avLst/>
          </a:prstGeom>
          <a:ln w="0">
            <a:noFill/>
          </a:ln>
        </p:spPr>
      </p:pic>
      <p:grpSp>
        <p:nvGrpSpPr>
          <p:cNvPr id="3307" name=""/>
          <p:cNvGrpSpPr/>
          <p:nvPr/>
        </p:nvGrpSpPr>
        <p:grpSpPr>
          <a:xfrm>
            <a:off x="6858000" y="3200400"/>
            <a:ext cx="685800" cy="685800"/>
            <a:chOff x="6858000" y="3200400"/>
            <a:chExt cx="685800" cy="685800"/>
          </a:xfrm>
        </p:grpSpPr>
        <p:sp>
          <p:nvSpPr>
            <p:cNvPr id="3308" name=""/>
            <p:cNvSpPr/>
            <p:nvPr/>
          </p:nvSpPr>
          <p:spPr>
            <a:xfrm>
              <a:off x="6858000" y="320040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6978960" y="3281040"/>
              <a:ext cx="282240" cy="282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Produtos da série Ponto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311" name=""/>
          <p:cNvSpPr/>
          <p:nvPr/>
        </p:nvSpPr>
        <p:spPr>
          <a:xfrm>
            <a:off x="533520" y="14223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533520" y="23367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3x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1981080" y="14223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ódulos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1981080" y="23367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CPs - Unidades Centrais de Process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533520" y="18795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2x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1981080" y="18795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ódulos de sa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533520" y="27939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4x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1981080" y="27939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aces de rede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533520" y="32511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5x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1981080" y="32511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eças de Redes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533520" y="14223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x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533520" y="37083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533520" y="46227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8x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1981080" y="37083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1981080" y="46227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tes e acessó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533520" y="41655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7x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1981080" y="41655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ódulos espec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533520" y="50799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9x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1981080" y="50799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oftware para UC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533520" y="37083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6x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1" name=""/>
          <p:cNvGrpSpPr/>
          <p:nvPr/>
        </p:nvGrpSpPr>
        <p:grpSpPr>
          <a:xfrm>
            <a:off x="7696080" y="4572000"/>
            <a:ext cx="533520" cy="457200"/>
            <a:chOff x="7696080" y="4572000"/>
            <a:chExt cx="533520" cy="457200"/>
          </a:xfrm>
        </p:grpSpPr>
        <p:grpSp>
          <p:nvGrpSpPr>
            <p:cNvPr id="3332" name=""/>
            <p:cNvGrpSpPr/>
            <p:nvPr/>
          </p:nvGrpSpPr>
          <p:grpSpPr>
            <a:xfrm>
              <a:off x="7696080" y="4572000"/>
              <a:ext cx="533520" cy="457200"/>
              <a:chOff x="7696080" y="4572000"/>
              <a:chExt cx="533520" cy="457200"/>
            </a:xfrm>
          </p:grpSpPr>
          <p:sp>
            <p:nvSpPr>
              <p:cNvPr id="3333" name=""/>
              <p:cNvSpPr/>
              <p:nvPr/>
            </p:nvSpPr>
            <p:spPr>
              <a:xfrm>
                <a:off x="7696080" y="457200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a8a8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696080" y="480060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a8a8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5" name=""/>
            <p:cNvSpPr/>
            <p:nvPr/>
          </p:nvSpPr>
          <p:spPr>
            <a:xfrm>
              <a:off x="7772400" y="4876560"/>
              <a:ext cx="76320" cy="76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7750080" y="461016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7" name=""/>
          <p:cNvGrpSpPr/>
          <p:nvPr/>
        </p:nvGrpSpPr>
        <p:grpSpPr>
          <a:xfrm>
            <a:off x="7696080" y="1447920"/>
            <a:ext cx="533160" cy="228600"/>
            <a:chOff x="7696080" y="1447920"/>
            <a:chExt cx="533160" cy="228600"/>
          </a:xfrm>
        </p:grpSpPr>
        <p:sp>
          <p:nvSpPr>
            <p:cNvPr id="3338" name=""/>
            <p:cNvSpPr/>
            <p:nvPr/>
          </p:nvSpPr>
          <p:spPr>
            <a:xfrm>
              <a:off x="7696080" y="144792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191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7743600" y="149076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0" name=""/>
            <p:cNvGrpSpPr/>
            <p:nvPr/>
          </p:nvGrpSpPr>
          <p:grpSpPr>
            <a:xfrm>
              <a:off x="7819920" y="1528920"/>
              <a:ext cx="304560" cy="75960"/>
              <a:chOff x="7819920" y="1528920"/>
              <a:chExt cx="304560" cy="75960"/>
            </a:xfrm>
          </p:grpSpPr>
          <p:sp>
            <p:nvSpPr>
              <p:cNvPr id="3341" name=""/>
              <p:cNvSpPr/>
              <p:nvPr/>
            </p:nvSpPr>
            <p:spPr>
              <a:xfrm>
                <a:off x="7819920" y="15289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895880" y="15289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972200" y="15289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8048160" y="15289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8124480" y="15289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6" name=""/>
          <p:cNvGrpSpPr/>
          <p:nvPr/>
        </p:nvGrpSpPr>
        <p:grpSpPr>
          <a:xfrm>
            <a:off x="7696080" y="3657600"/>
            <a:ext cx="533160" cy="457200"/>
            <a:chOff x="7696080" y="3657600"/>
            <a:chExt cx="533160" cy="457200"/>
          </a:xfrm>
        </p:grpSpPr>
        <p:sp>
          <p:nvSpPr>
            <p:cNvPr id="3347" name=""/>
            <p:cNvSpPr/>
            <p:nvPr/>
          </p:nvSpPr>
          <p:spPr>
            <a:xfrm>
              <a:off x="7696080" y="388620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191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7696080" y="365760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191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7775280" y="3933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775280" y="4000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7775280" y="4064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2" name=""/>
          <p:cNvGrpSpPr/>
          <p:nvPr/>
        </p:nvGrpSpPr>
        <p:grpSpPr>
          <a:xfrm>
            <a:off x="7682040" y="3259080"/>
            <a:ext cx="533160" cy="228600"/>
            <a:chOff x="7682040" y="3259080"/>
            <a:chExt cx="533160" cy="228600"/>
          </a:xfrm>
        </p:grpSpPr>
        <p:sp>
          <p:nvSpPr>
            <p:cNvPr id="3353" name=""/>
            <p:cNvSpPr/>
            <p:nvPr/>
          </p:nvSpPr>
          <p:spPr>
            <a:xfrm>
              <a:off x="7682040" y="325908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86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7726320" y="3290760"/>
              <a:ext cx="4280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5" name=""/>
          <p:cNvGrpSpPr/>
          <p:nvPr/>
        </p:nvGrpSpPr>
        <p:grpSpPr>
          <a:xfrm>
            <a:off x="7696080" y="1828800"/>
            <a:ext cx="533160" cy="228600"/>
            <a:chOff x="7696080" y="1828800"/>
            <a:chExt cx="533160" cy="228600"/>
          </a:xfrm>
        </p:grpSpPr>
        <p:sp>
          <p:nvSpPr>
            <p:cNvPr id="3356" name=""/>
            <p:cNvSpPr/>
            <p:nvPr/>
          </p:nvSpPr>
          <p:spPr>
            <a:xfrm>
              <a:off x="7696080" y="182880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191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7743600" y="187164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8" name=""/>
            <p:cNvGrpSpPr/>
            <p:nvPr/>
          </p:nvGrpSpPr>
          <p:grpSpPr>
            <a:xfrm>
              <a:off x="7819920" y="1909800"/>
              <a:ext cx="304560" cy="75960"/>
              <a:chOff x="7819920" y="1909800"/>
              <a:chExt cx="304560" cy="75960"/>
            </a:xfrm>
          </p:grpSpPr>
          <p:sp>
            <p:nvSpPr>
              <p:cNvPr id="3359" name=""/>
              <p:cNvSpPr/>
              <p:nvPr/>
            </p:nvSpPr>
            <p:spPr>
              <a:xfrm>
                <a:off x="7819920" y="19098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895880" y="19098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972200" y="19098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8048160" y="19098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8124480" y="19098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4" name=""/>
          <p:cNvGrpSpPr/>
          <p:nvPr/>
        </p:nvGrpSpPr>
        <p:grpSpPr>
          <a:xfrm>
            <a:off x="7696080" y="2362320"/>
            <a:ext cx="533520" cy="228600"/>
            <a:chOff x="7696080" y="2362320"/>
            <a:chExt cx="533520" cy="228600"/>
          </a:xfrm>
        </p:grpSpPr>
        <p:sp>
          <p:nvSpPr>
            <p:cNvPr id="3365" name=""/>
            <p:cNvSpPr/>
            <p:nvPr/>
          </p:nvSpPr>
          <p:spPr>
            <a:xfrm>
              <a:off x="7696080" y="2362320"/>
              <a:ext cx="53352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39ac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7750080" y="2400480"/>
              <a:ext cx="42876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7848720" y="2438640"/>
              <a:ext cx="15228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8" name="">
            <a:hlinkClick r:id="rId1" action="ppaction://hlinksldjump"/>
          </p:cNvPr>
          <p:cNvSpPr/>
          <p:nvPr/>
        </p:nvSpPr>
        <p:spPr>
          <a:xfrm>
            <a:off x="228600" y="1447920"/>
            <a:ext cx="228600" cy="228600"/>
          </a:xfrm>
          <a:custGeom>
            <a:avLst/>
            <a:gdLst>
              <a:gd name="textAreaLeft" fmla="*/ 25920 w 228600"/>
              <a:gd name="textAreaRight" fmla="*/ 202680 w 228600"/>
              <a:gd name="textAreaTop" fmla="*/ 25920 h 228600"/>
              <a:gd name="textAreaBottom" fmla="*/ 202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152" y="2448"/>
                </a:lnTo>
                <a:lnTo>
                  <a:pt x="2448" y="244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152" y="19152"/>
                </a:lnTo>
                <a:lnTo>
                  <a:pt x="19152" y="244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448" y="19152"/>
                </a:lnTo>
                <a:lnTo>
                  <a:pt x="19152" y="1915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448" y="2448"/>
                </a:lnTo>
                <a:lnTo>
                  <a:pt x="2448" y="1915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9" name=""/>
          <p:cNvGrpSpPr/>
          <p:nvPr/>
        </p:nvGrpSpPr>
        <p:grpSpPr>
          <a:xfrm>
            <a:off x="7696080" y="4191120"/>
            <a:ext cx="533160" cy="228600"/>
            <a:chOff x="7696080" y="4191120"/>
            <a:chExt cx="533160" cy="228600"/>
          </a:xfrm>
        </p:grpSpPr>
        <p:sp>
          <p:nvSpPr>
            <p:cNvPr id="3370" name=""/>
            <p:cNvSpPr/>
            <p:nvPr/>
          </p:nvSpPr>
          <p:spPr>
            <a:xfrm>
              <a:off x="7696080" y="419112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191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743600" y="423396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2" name=""/>
            <p:cNvGrpSpPr/>
            <p:nvPr/>
          </p:nvGrpSpPr>
          <p:grpSpPr>
            <a:xfrm>
              <a:off x="7819920" y="4272120"/>
              <a:ext cx="304560" cy="75960"/>
              <a:chOff x="7819920" y="4272120"/>
              <a:chExt cx="304560" cy="75960"/>
            </a:xfrm>
          </p:grpSpPr>
          <p:sp>
            <p:nvSpPr>
              <p:cNvPr id="3373" name=""/>
              <p:cNvSpPr/>
              <p:nvPr/>
            </p:nvSpPr>
            <p:spPr>
              <a:xfrm>
                <a:off x="7819920" y="4272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7895880" y="4272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972200" y="4272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8048160" y="4272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8124480" y="4272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8" name=""/>
          <p:cNvGrpSpPr/>
          <p:nvPr/>
        </p:nvGrpSpPr>
        <p:grpSpPr>
          <a:xfrm>
            <a:off x="7696080" y="2819520"/>
            <a:ext cx="533520" cy="228600"/>
            <a:chOff x="7696080" y="2819520"/>
            <a:chExt cx="533520" cy="228600"/>
          </a:xfrm>
        </p:grpSpPr>
        <p:sp>
          <p:nvSpPr>
            <p:cNvPr id="3379" name=""/>
            <p:cNvSpPr/>
            <p:nvPr/>
          </p:nvSpPr>
          <p:spPr>
            <a:xfrm>
              <a:off x="7696080" y="2819520"/>
              <a:ext cx="533520" cy="2286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86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740720" y="2851200"/>
              <a:ext cx="42840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1" name="">
            <a:hlinkClick r:id="rId2" action="ppaction://hlinksldjump"/>
          </p:cNvPr>
          <p:cNvSpPr/>
          <p:nvPr/>
        </p:nvSpPr>
        <p:spPr>
          <a:xfrm>
            <a:off x="228600" y="1905120"/>
            <a:ext cx="228600" cy="228600"/>
          </a:xfrm>
          <a:custGeom>
            <a:avLst/>
            <a:gdLst>
              <a:gd name="textAreaLeft" fmla="*/ 25920 w 228600"/>
              <a:gd name="textAreaRight" fmla="*/ 202680 w 228600"/>
              <a:gd name="textAreaTop" fmla="*/ 25920 h 228600"/>
              <a:gd name="textAreaBottom" fmla="*/ 202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152" y="2448"/>
                </a:lnTo>
                <a:lnTo>
                  <a:pt x="2448" y="244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152" y="19152"/>
                </a:lnTo>
                <a:lnTo>
                  <a:pt x="19152" y="244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448" y="19152"/>
                </a:lnTo>
                <a:lnTo>
                  <a:pt x="19152" y="1915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448" y="2448"/>
                </a:lnTo>
                <a:lnTo>
                  <a:pt x="2448" y="1915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>
            <a:hlinkClick r:id="rId3" action="ppaction://hlinksldjump"/>
          </p:cNvPr>
          <p:cNvSpPr/>
          <p:nvPr/>
        </p:nvSpPr>
        <p:spPr>
          <a:xfrm>
            <a:off x="228600" y="2362320"/>
            <a:ext cx="228600" cy="228600"/>
          </a:xfrm>
          <a:custGeom>
            <a:avLst/>
            <a:gdLst>
              <a:gd name="textAreaLeft" fmla="*/ 25920 w 228600"/>
              <a:gd name="textAreaRight" fmla="*/ 202680 w 228600"/>
              <a:gd name="textAreaTop" fmla="*/ 25920 h 228600"/>
              <a:gd name="textAreaBottom" fmla="*/ 202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152" y="2448"/>
                </a:lnTo>
                <a:lnTo>
                  <a:pt x="2448" y="244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152" y="19152"/>
                </a:lnTo>
                <a:lnTo>
                  <a:pt x="19152" y="244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448" y="19152"/>
                </a:lnTo>
                <a:lnTo>
                  <a:pt x="19152" y="1915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448" y="2448"/>
                </a:lnTo>
                <a:lnTo>
                  <a:pt x="2448" y="1915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ff"/>
                </a:solidFill>
                <a:latin typeface="Tahoma"/>
              </a:rPr>
              <a:t>Redes de Campo</a:t>
            </a:r>
            <a:endParaRPr b="0" lang="en-US" sz="80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3385" name="logocapa" descr=""/>
          <p:cNvPicPr/>
          <p:nvPr/>
        </p:nvPicPr>
        <p:blipFill>
          <a:blip r:embed="rId1"/>
          <a:stretch/>
        </p:blipFill>
        <p:spPr>
          <a:xfrm>
            <a:off x="7162920" y="6093000"/>
            <a:ext cx="1790640" cy="761760"/>
          </a:xfrm>
          <a:prstGeom prst="rect">
            <a:avLst/>
          </a:prstGeom>
          <a:ln w="0">
            <a:noFill/>
          </a:ln>
        </p:spPr>
      </p:pic>
      <p:grpSp>
        <p:nvGrpSpPr>
          <p:cNvPr id="3386" name=""/>
          <p:cNvGrpSpPr/>
          <p:nvPr/>
        </p:nvGrpSpPr>
        <p:grpSpPr>
          <a:xfrm>
            <a:off x="6858000" y="2743200"/>
            <a:ext cx="685800" cy="685800"/>
            <a:chOff x="6858000" y="2743200"/>
            <a:chExt cx="685800" cy="685800"/>
          </a:xfrm>
        </p:grpSpPr>
        <p:sp>
          <p:nvSpPr>
            <p:cNvPr id="3387" name=""/>
            <p:cNvSpPr/>
            <p:nvPr/>
          </p:nvSpPr>
          <p:spPr>
            <a:xfrm>
              <a:off x="6858000" y="274320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6978960" y="2823840"/>
              <a:ext cx="282240" cy="282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ahoma"/>
              </a:rPr>
              <a:t>Cabeças para Redes de Campo</a:t>
            </a:r>
            <a:endParaRPr b="0" lang="en-US" sz="40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Cabeças  integradas com fonte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Diversos protocolos :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Ethernet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Devicenet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Modbu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3391" name=""/>
          <p:cNvGrpSpPr/>
          <p:nvPr/>
        </p:nvGrpSpPr>
        <p:grpSpPr>
          <a:xfrm>
            <a:off x="5867280" y="3962520"/>
            <a:ext cx="533160" cy="457200"/>
            <a:chOff x="5867280" y="3962520"/>
            <a:chExt cx="533160" cy="457200"/>
          </a:xfrm>
        </p:grpSpPr>
        <p:grpSp>
          <p:nvGrpSpPr>
            <p:cNvPr id="3392" name=""/>
            <p:cNvGrpSpPr/>
            <p:nvPr/>
          </p:nvGrpSpPr>
          <p:grpSpPr>
            <a:xfrm>
              <a:off x="5867280" y="3962520"/>
              <a:ext cx="533160" cy="457200"/>
              <a:chOff x="5867280" y="3962520"/>
              <a:chExt cx="533160" cy="457200"/>
            </a:xfrm>
          </p:grpSpPr>
          <p:sp>
            <p:nvSpPr>
              <p:cNvPr id="3393" name=""/>
              <p:cNvSpPr/>
              <p:nvPr/>
            </p:nvSpPr>
            <p:spPr>
              <a:xfrm>
                <a:off x="5867280" y="3962520"/>
                <a:ext cx="533160" cy="22860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86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5867280" y="4191120"/>
                <a:ext cx="533160" cy="22860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86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5" name=""/>
            <p:cNvSpPr/>
            <p:nvPr/>
          </p:nvSpPr>
          <p:spPr>
            <a:xfrm>
              <a:off x="5943240" y="4267440"/>
              <a:ext cx="76320" cy="75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5921280" y="4000680"/>
              <a:ext cx="4284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6095880" y="4267440"/>
              <a:ext cx="75960" cy="75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8" name=""/>
          <p:cNvGrpSpPr/>
          <p:nvPr/>
        </p:nvGrpSpPr>
        <p:grpSpPr>
          <a:xfrm>
            <a:off x="4267080" y="2590920"/>
            <a:ext cx="4267440" cy="3200400"/>
            <a:chOff x="4267080" y="2590920"/>
            <a:chExt cx="4267440" cy="3200400"/>
          </a:xfrm>
        </p:grpSpPr>
        <p:grpSp>
          <p:nvGrpSpPr>
            <p:cNvPr id="3399" name=""/>
            <p:cNvGrpSpPr/>
            <p:nvPr/>
          </p:nvGrpSpPr>
          <p:grpSpPr>
            <a:xfrm>
              <a:off x="6400800" y="5334120"/>
              <a:ext cx="1066320" cy="457200"/>
              <a:chOff x="6400800" y="5334120"/>
              <a:chExt cx="1066320" cy="457200"/>
            </a:xfrm>
          </p:grpSpPr>
          <p:grpSp>
            <p:nvGrpSpPr>
              <p:cNvPr id="3400" name=""/>
              <p:cNvGrpSpPr/>
              <p:nvPr/>
            </p:nvGrpSpPr>
            <p:grpSpPr>
              <a:xfrm>
                <a:off x="6400800" y="5334120"/>
                <a:ext cx="533160" cy="457200"/>
                <a:chOff x="6400800" y="5334120"/>
                <a:chExt cx="533160" cy="457200"/>
              </a:xfrm>
            </p:grpSpPr>
            <p:grpSp>
              <p:nvGrpSpPr>
                <p:cNvPr id="3401" name=""/>
                <p:cNvGrpSpPr/>
                <p:nvPr/>
              </p:nvGrpSpPr>
              <p:grpSpPr>
                <a:xfrm>
                  <a:off x="6400800" y="5334120"/>
                  <a:ext cx="533160" cy="457200"/>
                  <a:chOff x="6400800" y="5334120"/>
                  <a:chExt cx="533160" cy="457200"/>
                </a:xfrm>
              </p:grpSpPr>
              <p:sp>
                <p:nvSpPr>
                  <p:cNvPr id="3402" name=""/>
                  <p:cNvSpPr/>
                  <p:nvPr/>
                </p:nvSpPr>
                <p:spPr>
                  <a:xfrm>
                    <a:off x="6400800" y="53341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3" name=""/>
                  <p:cNvSpPr/>
                  <p:nvPr/>
                </p:nvSpPr>
                <p:spPr>
                  <a:xfrm>
                    <a:off x="6400800" y="55627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4" name=""/>
                <p:cNvSpPr/>
                <p:nvPr/>
              </p:nvSpPr>
              <p:spPr>
                <a:xfrm>
                  <a:off x="6454440" y="53722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5" name=""/>
                <p:cNvGrpSpPr/>
                <p:nvPr/>
              </p:nvGrpSpPr>
              <p:grpSpPr>
                <a:xfrm>
                  <a:off x="6521040" y="5410440"/>
                  <a:ext cx="304560" cy="75960"/>
                  <a:chOff x="6521040" y="5410440"/>
                  <a:chExt cx="304560" cy="75960"/>
                </a:xfrm>
              </p:grpSpPr>
              <p:sp>
                <p:nvSpPr>
                  <p:cNvPr id="3406" name=""/>
                  <p:cNvSpPr/>
                  <p:nvPr/>
                </p:nvSpPr>
                <p:spPr>
                  <a:xfrm>
                    <a:off x="652104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7" name=""/>
                  <p:cNvSpPr/>
                  <p:nvPr/>
                </p:nvSpPr>
                <p:spPr>
                  <a:xfrm>
                    <a:off x="65970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8" name=""/>
                  <p:cNvSpPr/>
                  <p:nvPr/>
                </p:nvSpPr>
                <p:spPr>
                  <a:xfrm>
                    <a:off x="667332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9" name=""/>
                  <p:cNvSpPr/>
                  <p:nvPr/>
                </p:nvSpPr>
                <p:spPr>
                  <a:xfrm>
                    <a:off x="674928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0" name=""/>
                  <p:cNvSpPr/>
                  <p:nvPr/>
                </p:nvSpPr>
                <p:spPr>
                  <a:xfrm>
                    <a:off x="68256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1" name=""/>
                <p:cNvSpPr/>
                <p:nvPr/>
              </p:nvSpPr>
              <p:spPr>
                <a:xfrm>
                  <a:off x="6479640" y="5610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6479640" y="5677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6479640" y="57405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4" name=""/>
              <p:cNvGrpSpPr/>
              <p:nvPr/>
            </p:nvGrpSpPr>
            <p:grpSpPr>
              <a:xfrm>
                <a:off x="6933960" y="5334120"/>
                <a:ext cx="533160" cy="457200"/>
                <a:chOff x="6933960" y="5334120"/>
                <a:chExt cx="533160" cy="457200"/>
              </a:xfrm>
            </p:grpSpPr>
            <p:grpSp>
              <p:nvGrpSpPr>
                <p:cNvPr id="3415" name=""/>
                <p:cNvGrpSpPr/>
                <p:nvPr/>
              </p:nvGrpSpPr>
              <p:grpSpPr>
                <a:xfrm>
                  <a:off x="6933960" y="5334120"/>
                  <a:ext cx="533160" cy="457200"/>
                  <a:chOff x="6933960" y="5334120"/>
                  <a:chExt cx="533160" cy="457200"/>
                </a:xfrm>
              </p:grpSpPr>
              <p:sp>
                <p:nvSpPr>
                  <p:cNvPr id="3416" name=""/>
                  <p:cNvSpPr/>
                  <p:nvPr/>
                </p:nvSpPr>
                <p:spPr>
                  <a:xfrm>
                    <a:off x="6933960" y="53341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7" name=""/>
                  <p:cNvSpPr/>
                  <p:nvPr/>
                </p:nvSpPr>
                <p:spPr>
                  <a:xfrm>
                    <a:off x="6933960" y="55627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8" name=""/>
                <p:cNvSpPr/>
                <p:nvPr/>
              </p:nvSpPr>
              <p:spPr>
                <a:xfrm>
                  <a:off x="6987600" y="53722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19" name=""/>
                <p:cNvGrpSpPr/>
                <p:nvPr/>
              </p:nvGrpSpPr>
              <p:grpSpPr>
                <a:xfrm>
                  <a:off x="7054200" y="5410440"/>
                  <a:ext cx="304560" cy="75960"/>
                  <a:chOff x="7054200" y="5410440"/>
                  <a:chExt cx="304560" cy="75960"/>
                </a:xfrm>
              </p:grpSpPr>
              <p:sp>
                <p:nvSpPr>
                  <p:cNvPr id="3420" name=""/>
                  <p:cNvSpPr/>
                  <p:nvPr/>
                </p:nvSpPr>
                <p:spPr>
                  <a:xfrm>
                    <a:off x="70542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1" name=""/>
                  <p:cNvSpPr/>
                  <p:nvPr/>
                </p:nvSpPr>
                <p:spPr>
                  <a:xfrm>
                    <a:off x="713016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2" name=""/>
                  <p:cNvSpPr/>
                  <p:nvPr/>
                </p:nvSpPr>
                <p:spPr>
                  <a:xfrm>
                    <a:off x="720648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3" name=""/>
                  <p:cNvSpPr/>
                  <p:nvPr/>
                </p:nvSpPr>
                <p:spPr>
                  <a:xfrm>
                    <a:off x="728244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4" name=""/>
                  <p:cNvSpPr/>
                  <p:nvPr/>
                </p:nvSpPr>
                <p:spPr>
                  <a:xfrm>
                    <a:off x="735876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5" name=""/>
                <p:cNvSpPr/>
                <p:nvPr/>
              </p:nvSpPr>
              <p:spPr>
                <a:xfrm>
                  <a:off x="7012800" y="5610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7012800" y="5677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>
                  <a:off x="7012800" y="57405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8" name=""/>
              <p:cNvGrpSpPr/>
              <p:nvPr/>
            </p:nvGrpSpPr>
            <p:grpSpPr>
              <a:xfrm>
                <a:off x="6400800" y="5334120"/>
                <a:ext cx="533160" cy="457200"/>
                <a:chOff x="6400800" y="5334120"/>
                <a:chExt cx="533160" cy="457200"/>
              </a:xfrm>
            </p:grpSpPr>
            <p:grpSp>
              <p:nvGrpSpPr>
                <p:cNvPr id="3429" name=""/>
                <p:cNvGrpSpPr/>
                <p:nvPr/>
              </p:nvGrpSpPr>
              <p:grpSpPr>
                <a:xfrm>
                  <a:off x="6400800" y="5334120"/>
                  <a:ext cx="533160" cy="457200"/>
                  <a:chOff x="6400800" y="5334120"/>
                  <a:chExt cx="533160" cy="457200"/>
                </a:xfrm>
              </p:grpSpPr>
              <p:sp>
                <p:nvSpPr>
                  <p:cNvPr id="3430" name=""/>
                  <p:cNvSpPr/>
                  <p:nvPr/>
                </p:nvSpPr>
                <p:spPr>
                  <a:xfrm>
                    <a:off x="6400800" y="53341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1" name=""/>
                  <p:cNvSpPr/>
                  <p:nvPr/>
                </p:nvSpPr>
                <p:spPr>
                  <a:xfrm>
                    <a:off x="6400800" y="55627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2" name=""/>
                <p:cNvSpPr/>
                <p:nvPr/>
              </p:nvSpPr>
              <p:spPr>
                <a:xfrm>
                  <a:off x="6454440" y="53722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3" name=""/>
                <p:cNvGrpSpPr/>
                <p:nvPr/>
              </p:nvGrpSpPr>
              <p:grpSpPr>
                <a:xfrm>
                  <a:off x="6521040" y="5410440"/>
                  <a:ext cx="304560" cy="75960"/>
                  <a:chOff x="6521040" y="5410440"/>
                  <a:chExt cx="304560" cy="75960"/>
                </a:xfrm>
              </p:grpSpPr>
              <p:sp>
                <p:nvSpPr>
                  <p:cNvPr id="3434" name=""/>
                  <p:cNvSpPr/>
                  <p:nvPr/>
                </p:nvSpPr>
                <p:spPr>
                  <a:xfrm>
                    <a:off x="652104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5" name=""/>
                  <p:cNvSpPr/>
                  <p:nvPr/>
                </p:nvSpPr>
                <p:spPr>
                  <a:xfrm>
                    <a:off x="65970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6" name=""/>
                  <p:cNvSpPr/>
                  <p:nvPr/>
                </p:nvSpPr>
                <p:spPr>
                  <a:xfrm>
                    <a:off x="667332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7" name=""/>
                  <p:cNvSpPr/>
                  <p:nvPr/>
                </p:nvSpPr>
                <p:spPr>
                  <a:xfrm>
                    <a:off x="674928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8" name=""/>
                  <p:cNvSpPr/>
                  <p:nvPr/>
                </p:nvSpPr>
                <p:spPr>
                  <a:xfrm>
                    <a:off x="68256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9" name=""/>
                <p:cNvSpPr/>
                <p:nvPr/>
              </p:nvSpPr>
              <p:spPr>
                <a:xfrm>
                  <a:off x="6479640" y="5610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6479640" y="5677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6479640" y="57405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42" name=""/>
            <p:cNvGrpSpPr/>
            <p:nvPr/>
          </p:nvGrpSpPr>
          <p:grpSpPr>
            <a:xfrm>
              <a:off x="7467480" y="5334120"/>
              <a:ext cx="1067040" cy="457200"/>
              <a:chOff x="7467480" y="5334120"/>
              <a:chExt cx="1067040" cy="457200"/>
            </a:xfrm>
          </p:grpSpPr>
          <p:grpSp>
            <p:nvGrpSpPr>
              <p:cNvPr id="3443" name=""/>
              <p:cNvGrpSpPr/>
              <p:nvPr/>
            </p:nvGrpSpPr>
            <p:grpSpPr>
              <a:xfrm>
                <a:off x="7467480" y="5334120"/>
                <a:ext cx="533520" cy="457200"/>
                <a:chOff x="7467480" y="5334120"/>
                <a:chExt cx="533520" cy="457200"/>
              </a:xfrm>
            </p:grpSpPr>
            <p:grpSp>
              <p:nvGrpSpPr>
                <p:cNvPr id="3444" name=""/>
                <p:cNvGrpSpPr/>
                <p:nvPr/>
              </p:nvGrpSpPr>
              <p:grpSpPr>
                <a:xfrm>
                  <a:off x="7467480" y="5334120"/>
                  <a:ext cx="533520" cy="457200"/>
                  <a:chOff x="7467480" y="5334120"/>
                  <a:chExt cx="533520" cy="457200"/>
                </a:xfrm>
              </p:grpSpPr>
              <p:sp>
                <p:nvSpPr>
                  <p:cNvPr id="3445" name=""/>
                  <p:cNvSpPr/>
                  <p:nvPr/>
                </p:nvSpPr>
                <p:spPr>
                  <a:xfrm>
                    <a:off x="7467480" y="53341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6" name=""/>
                  <p:cNvSpPr/>
                  <p:nvPr/>
                </p:nvSpPr>
                <p:spPr>
                  <a:xfrm>
                    <a:off x="7467480" y="55627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7" name=""/>
                <p:cNvSpPr/>
                <p:nvPr/>
              </p:nvSpPr>
              <p:spPr>
                <a:xfrm>
                  <a:off x="7521480" y="53722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48" name=""/>
                <p:cNvGrpSpPr/>
                <p:nvPr/>
              </p:nvGrpSpPr>
              <p:grpSpPr>
                <a:xfrm>
                  <a:off x="7588080" y="5410440"/>
                  <a:ext cx="304920" cy="75960"/>
                  <a:chOff x="7588080" y="5410440"/>
                  <a:chExt cx="304920" cy="75960"/>
                </a:xfrm>
              </p:grpSpPr>
              <p:sp>
                <p:nvSpPr>
                  <p:cNvPr id="3449" name=""/>
                  <p:cNvSpPr/>
                  <p:nvPr/>
                </p:nvSpPr>
                <p:spPr>
                  <a:xfrm>
                    <a:off x="758808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0" name=""/>
                  <p:cNvSpPr/>
                  <p:nvPr/>
                </p:nvSpPr>
                <p:spPr>
                  <a:xfrm>
                    <a:off x="76644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1" name=""/>
                  <p:cNvSpPr/>
                  <p:nvPr/>
                </p:nvSpPr>
                <p:spPr>
                  <a:xfrm>
                    <a:off x="774072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2" name=""/>
                  <p:cNvSpPr/>
                  <p:nvPr/>
                </p:nvSpPr>
                <p:spPr>
                  <a:xfrm>
                    <a:off x="781668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3" name=""/>
                  <p:cNvSpPr/>
                  <p:nvPr/>
                </p:nvSpPr>
                <p:spPr>
                  <a:xfrm>
                    <a:off x="78930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4" name=""/>
                <p:cNvSpPr/>
                <p:nvPr/>
              </p:nvSpPr>
              <p:spPr>
                <a:xfrm>
                  <a:off x="7546680" y="5610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7546680" y="56772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7546680" y="57405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7" name=""/>
              <p:cNvGrpSpPr/>
              <p:nvPr/>
            </p:nvGrpSpPr>
            <p:grpSpPr>
              <a:xfrm>
                <a:off x="8001000" y="5334120"/>
                <a:ext cx="533520" cy="457200"/>
                <a:chOff x="8001000" y="5334120"/>
                <a:chExt cx="533520" cy="457200"/>
              </a:xfrm>
            </p:grpSpPr>
            <p:grpSp>
              <p:nvGrpSpPr>
                <p:cNvPr id="3458" name=""/>
                <p:cNvGrpSpPr/>
                <p:nvPr/>
              </p:nvGrpSpPr>
              <p:grpSpPr>
                <a:xfrm>
                  <a:off x="8001000" y="5334120"/>
                  <a:ext cx="533520" cy="457200"/>
                  <a:chOff x="8001000" y="5334120"/>
                  <a:chExt cx="533520" cy="457200"/>
                </a:xfrm>
              </p:grpSpPr>
              <p:sp>
                <p:nvSpPr>
                  <p:cNvPr id="3459" name=""/>
                  <p:cNvSpPr/>
                  <p:nvPr/>
                </p:nvSpPr>
                <p:spPr>
                  <a:xfrm>
                    <a:off x="8001000" y="53341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0" name=""/>
                  <p:cNvSpPr/>
                  <p:nvPr/>
                </p:nvSpPr>
                <p:spPr>
                  <a:xfrm>
                    <a:off x="8001000" y="55627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1" name=""/>
                <p:cNvSpPr/>
                <p:nvPr/>
              </p:nvSpPr>
              <p:spPr>
                <a:xfrm>
                  <a:off x="8055000" y="53722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2" name=""/>
                <p:cNvGrpSpPr/>
                <p:nvPr/>
              </p:nvGrpSpPr>
              <p:grpSpPr>
                <a:xfrm>
                  <a:off x="8121600" y="5410440"/>
                  <a:ext cx="304920" cy="75960"/>
                  <a:chOff x="8121600" y="5410440"/>
                  <a:chExt cx="304920" cy="75960"/>
                </a:xfrm>
              </p:grpSpPr>
              <p:sp>
                <p:nvSpPr>
                  <p:cNvPr id="3463" name=""/>
                  <p:cNvSpPr/>
                  <p:nvPr/>
                </p:nvSpPr>
                <p:spPr>
                  <a:xfrm>
                    <a:off x="81216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4" name=""/>
                  <p:cNvSpPr/>
                  <p:nvPr/>
                </p:nvSpPr>
                <p:spPr>
                  <a:xfrm>
                    <a:off x="819792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5" name=""/>
                  <p:cNvSpPr/>
                  <p:nvPr/>
                </p:nvSpPr>
                <p:spPr>
                  <a:xfrm>
                    <a:off x="827424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>
                    <a:off x="83502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>
                    <a:off x="842652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8" name=""/>
                <p:cNvSpPr/>
                <p:nvPr/>
              </p:nvSpPr>
              <p:spPr>
                <a:xfrm>
                  <a:off x="8080200" y="5610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8080200" y="56772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8080200" y="57405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1" name=""/>
              <p:cNvGrpSpPr/>
              <p:nvPr/>
            </p:nvGrpSpPr>
            <p:grpSpPr>
              <a:xfrm>
                <a:off x="7467480" y="5334120"/>
                <a:ext cx="533520" cy="457200"/>
                <a:chOff x="7467480" y="5334120"/>
                <a:chExt cx="533520" cy="457200"/>
              </a:xfrm>
            </p:grpSpPr>
            <p:grpSp>
              <p:nvGrpSpPr>
                <p:cNvPr id="3472" name=""/>
                <p:cNvGrpSpPr/>
                <p:nvPr/>
              </p:nvGrpSpPr>
              <p:grpSpPr>
                <a:xfrm>
                  <a:off x="7467480" y="5334120"/>
                  <a:ext cx="533520" cy="457200"/>
                  <a:chOff x="7467480" y="5334120"/>
                  <a:chExt cx="533520" cy="457200"/>
                </a:xfrm>
              </p:grpSpPr>
              <p:sp>
                <p:nvSpPr>
                  <p:cNvPr id="3473" name=""/>
                  <p:cNvSpPr/>
                  <p:nvPr/>
                </p:nvSpPr>
                <p:spPr>
                  <a:xfrm>
                    <a:off x="7467480" y="53341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4" name=""/>
                  <p:cNvSpPr/>
                  <p:nvPr/>
                </p:nvSpPr>
                <p:spPr>
                  <a:xfrm>
                    <a:off x="7467480" y="55627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75" name=""/>
                <p:cNvSpPr/>
                <p:nvPr/>
              </p:nvSpPr>
              <p:spPr>
                <a:xfrm>
                  <a:off x="7521480" y="53722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76" name=""/>
                <p:cNvGrpSpPr/>
                <p:nvPr/>
              </p:nvGrpSpPr>
              <p:grpSpPr>
                <a:xfrm>
                  <a:off x="7588080" y="5410440"/>
                  <a:ext cx="304920" cy="75960"/>
                  <a:chOff x="7588080" y="5410440"/>
                  <a:chExt cx="304920" cy="75960"/>
                </a:xfrm>
              </p:grpSpPr>
              <p:sp>
                <p:nvSpPr>
                  <p:cNvPr id="3477" name=""/>
                  <p:cNvSpPr/>
                  <p:nvPr/>
                </p:nvSpPr>
                <p:spPr>
                  <a:xfrm>
                    <a:off x="758808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8" name=""/>
                  <p:cNvSpPr/>
                  <p:nvPr/>
                </p:nvSpPr>
                <p:spPr>
                  <a:xfrm>
                    <a:off x="76644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9" name=""/>
                  <p:cNvSpPr/>
                  <p:nvPr/>
                </p:nvSpPr>
                <p:spPr>
                  <a:xfrm>
                    <a:off x="774072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0" name=""/>
                  <p:cNvSpPr/>
                  <p:nvPr/>
                </p:nvSpPr>
                <p:spPr>
                  <a:xfrm>
                    <a:off x="781668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1" name=""/>
                  <p:cNvSpPr/>
                  <p:nvPr/>
                </p:nvSpPr>
                <p:spPr>
                  <a:xfrm>
                    <a:off x="78930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82" name=""/>
                <p:cNvSpPr/>
                <p:nvPr/>
              </p:nvSpPr>
              <p:spPr>
                <a:xfrm>
                  <a:off x="7546680" y="5610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7546680" y="56772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7546680" y="57405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85" name=""/>
            <p:cNvGrpSpPr/>
            <p:nvPr/>
          </p:nvGrpSpPr>
          <p:grpSpPr>
            <a:xfrm>
              <a:off x="5867280" y="5334120"/>
              <a:ext cx="533160" cy="457200"/>
              <a:chOff x="5867280" y="5334120"/>
              <a:chExt cx="533160" cy="457200"/>
            </a:xfrm>
          </p:grpSpPr>
          <p:grpSp>
            <p:nvGrpSpPr>
              <p:cNvPr id="3486" name=""/>
              <p:cNvGrpSpPr/>
              <p:nvPr/>
            </p:nvGrpSpPr>
            <p:grpSpPr>
              <a:xfrm>
                <a:off x="5867280" y="5334120"/>
                <a:ext cx="533160" cy="457200"/>
                <a:chOff x="5867280" y="5334120"/>
                <a:chExt cx="533160" cy="457200"/>
              </a:xfrm>
            </p:grpSpPr>
            <p:sp>
              <p:nvSpPr>
                <p:cNvPr id="3487" name=""/>
                <p:cNvSpPr/>
                <p:nvPr/>
              </p:nvSpPr>
              <p:spPr>
                <a:xfrm>
                  <a:off x="5867280" y="533412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5867280" y="556272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9" name=""/>
              <p:cNvSpPr/>
              <p:nvPr/>
            </p:nvSpPr>
            <p:spPr>
              <a:xfrm>
                <a:off x="5943240" y="5639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5921280" y="537228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095880" y="5639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2" name=""/>
            <p:cNvSpPr/>
            <p:nvPr/>
          </p:nvSpPr>
          <p:spPr>
            <a:xfrm>
              <a:off x="6019920" y="4419720"/>
              <a:ext cx="0" cy="9144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019920" y="3048120"/>
              <a:ext cx="0" cy="9144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4" name=""/>
            <p:cNvGrpSpPr/>
            <p:nvPr/>
          </p:nvGrpSpPr>
          <p:grpSpPr>
            <a:xfrm>
              <a:off x="6400800" y="3962520"/>
              <a:ext cx="1066320" cy="457200"/>
              <a:chOff x="6400800" y="3962520"/>
              <a:chExt cx="1066320" cy="457200"/>
            </a:xfrm>
          </p:grpSpPr>
          <p:grpSp>
            <p:nvGrpSpPr>
              <p:cNvPr id="3495" name=""/>
              <p:cNvGrpSpPr/>
              <p:nvPr/>
            </p:nvGrpSpPr>
            <p:grpSpPr>
              <a:xfrm>
                <a:off x="6400800" y="3962520"/>
                <a:ext cx="533160" cy="457200"/>
                <a:chOff x="6400800" y="3962520"/>
                <a:chExt cx="533160" cy="457200"/>
              </a:xfrm>
            </p:grpSpPr>
            <p:grpSp>
              <p:nvGrpSpPr>
                <p:cNvPr id="3496" name=""/>
                <p:cNvGrpSpPr/>
                <p:nvPr/>
              </p:nvGrpSpPr>
              <p:grpSpPr>
                <a:xfrm>
                  <a:off x="6400800" y="3962520"/>
                  <a:ext cx="533160" cy="457200"/>
                  <a:chOff x="6400800" y="3962520"/>
                  <a:chExt cx="533160" cy="457200"/>
                </a:xfrm>
              </p:grpSpPr>
              <p:sp>
                <p:nvSpPr>
                  <p:cNvPr id="3497" name=""/>
                  <p:cNvSpPr/>
                  <p:nvPr/>
                </p:nvSpPr>
                <p:spPr>
                  <a:xfrm>
                    <a:off x="6400800" y="3962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8" name=""/>
                  <p:cNvSpPr/>
                  <p:nvPr/>
                </p:nvSpPr>
                <p:spPr>
                  <a:xfrm>
                    <a:off x="6400800" y="41911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99" name=""/>
                <p:cNvSpPr/>
                <p:nvPr/>
              </p:nvSpPr>
              <p:spPr>
                <a:xfrm>
                  <a:off x="6454440" y="40006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00" name=""/>
                <p:cNvGrpSpPr/>
                <p:nvPr/>
              </p:nvGrpSpPr>
              <p:grpSpPr>
                <a:xfrm>
                  <a:off x="6521040" y="4038840"/>
                  <a:ext cx="304560" cy="75960"/>
                  <a:chOff x="6521040" y="4038840"/>
                  <a:chExt cx="304560" cy="75960"/>
                </a:xfrm>
              </p:grpSpPr>
              <p:sp>
                <p:nvSpPr>
                  <p:cNvPr id="3501" name=""/>
                  <p:cNvSpPr/>
                  <p:nvPr/>
                </p:nvSpPr>
                <p:spPr>
                  <a:xfrm>
                    <a:off x="652104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2" name=""/>
                  <p:cNvSpPr/>
                  <p:nvPr/>
                </p:nvSpPr>
                <p:spPr>
                  <a:xfrm>
                    <a:off x="65970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3" name=""/>
                  <p:cNvSpPr/>
                  <p:nvPr/>
                </p:nvSpPr>
                <p:spPr>
                  <a:xfrm>
                    <a:off x="667332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4" name=""/>
                  <p:cNvSpPr/>
                  <p:nvPr/>
                </p:nvSpPr>
                <p:spPr>
                  <a:xfrm>
                    <a:off x="674928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5" name=""/>
                  <p:cNvSpPr/>
                  <p:nvPr/>
                </p:nvSpPr>
                <p:spPr>
                  <a:xfrm>
                    <a:off x="68256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6" name=""/>
                <p:cNvSpPr/>
                <p:nvPr/>
              </p:nvSpPr>
              <p:spPr>
                <a:xfrm>
                  <a:off x="6479640" y="4238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"/>
                <p:cNvSpPr/>
                <p:nvPr/>
              </p:nvSpPr>
              <p:spPr>
                <a:xfrm>
                  <a:off x="6479640" y="43056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>
                  <a:off x="6479640" y="43689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9" name=""/>
              <p:cNvGrpSpPr/>
              <p:nvPr/>
            </p:nvGrpSpPr>
            <p:grpSpPr>
              <a:xfrm>
                <a:off x="6933960" y="3962520"/>
                <a:ext cx="533160" cy="457200"/>
                <a:chOff x="6933960" y="3962520"/>
                <a:chExt cx="533160" cy="457200"/>
              </a:xfrm>
            </p:grpSpPr>
            <p:grpSp>
              <p:nvGrpSpPr>
                <p:cNvPr id="3510" name=""/>
                <p:cNvGrpSpPr/>
                <p:nvPr/>
              </p:nvGrpSpPr>
              <p:grpSpPr>
                <a:xfrm>
                  <a:off x="6933960" y="3962520"/>
                  <a:ext cx="533160" cy="457200"/>
                  <a:chOff x="6933960" y="3962520"/>
                  <a:chExt cx="533160" cy="457200"/>
                </a:xfrm>
              </p:grpSpPr>
              <p:sp>
                <p:nvSpPr>
                  <p:cNvPr id="3511" name=""/>
                  <p:cNvSpPr/>
                  <p:nvPr/>
                </p:nvSpPr>
                <p:spPr>
                  <a:xfrm>
                    <a:off x="6933960" y="3962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2" name=""/>
                  <p:cNvSpPr/>
                  <p:nvPr/>
                </p:nvSpPr>
                <p:spPr>
                  <a:xfrm>
                    <a:off x="6933960" y="41911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13" name=""/>
                <p:cNvSpPr/>
                <p:nvPr/>
              </p:nvSpPr>
              <p:spPr>
                <a:xfrm>
                  <a:off x="6987600" y="40006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4" name=""/>
                <p:cNvGrpSpPr/>
                <p:nvPr/>
              </p:nvGrpSpPr>
              <p:grpSpPr>
                <a:xfrm>
                  <a:off x="7054200" y="4038840"/>
                  <a:ext cx="304560" cy="75960"/>
                  <a:chOff x="7054200" y="4038840"/>
                  <a:chExt cx="304560" cy="75960"/>
                </a:xfrm>
              </p:grpSpPr>
              <p:sp>
                <p:nvSpPr>
                  <p:cNvPr id="3515" name=""/>
                  <p:cNvSpPr/>
                  <p:nvPr/>
                </p:nvSpPr>
                <p:spPr>
                  <a:xfrm>
                    <a:off x="70542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>
                    <a:off x="713016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7" name=""/>
                  <p:cNvSpPr/>
                  <p:nvPr/>
                </p:nvSpPr>
                <p:spPr>
                  <a:xfrm>
                    <a:off x="720648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8" name=""/>
                  <p:cNvSpPr/>
                  <p:nvPr/>
                </p:nvSpPr>
                <p:spPr>
                  <a:xfrm>
                    <a:off x="728244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9" name=""/>
                  <p:cNvSpPr/>
                  <p:nvPr/>
                </p:nvSpPr>
                <p:spPr>
                  <a:xfrm>
                    <a:off x="735876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0" name=""/>
                <p:cNvSpPr/>
                <p:nvPr/>
              </p:nvSpPr>
              <p:spPr>
                <a:xfrm>
                  <a:off x="7012800" y="4238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>
                  <a:off x="7012800" y="43056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7012800" y="43689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3" name=""/>
              <p:cNvGrpSpPr/>
              <p:nvPr/>
            </p:nvGrpSpPr>
            <p:grpSpPr>
              <a:xfrm>
                <a:off x="6400800" y="3962520"/>
                <a:ext cx="533160" cy="457200"/>
                <a:chOff x="6400800" y="3962520"/>
                <a:chExt cx="533160" cy="457200"/>
              </a:xfrm>
            </p:grpSpPr>
            <p:grpSp>
              <p:nvGrpSpPr>
                <p:cNvPr id="3524" name=""/>
                <p:cNvGrpSpPr/>
                <p:nvPr/>
              </p:nvGrpSpPr>
              <p:grpSpPr>
                <a:xfrm>
                  <a:off x="6400800" y="3962520"/>
                  <a:ext cx="533160" cy="457200"/>
                  <a:chOff x="6400800" y="3962520"/>
                  <a:chExt cx="533160" cy="457200"/>
                </a:xfrm>
              </p:grpSpPr>
              <p:sp>
                <p:nvSpPr>
                  <p:cNvPr id="3525" name=""/>
                  <p:cNvSpPr/>
                  <p:nvPr/>
                </p:nvSpPr>
                <p:spPr>
                  <a:xfrm>
                    <a:off x="6400800" y="3962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6" name=""/>
                  <p:cNvSpPr/>
                  <p:nvPr/>
                </p:nvSpPr>
                <p:spPr>
                  <a:xfrm>
                    <a:off x="6400800" y="41911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7" name=""/>
                <p:cNvSpPr/>
                <p:nvPr/>
              </p:nvSpPr>
              <p:spPr>
                <a:xfrm>
                  <a:off x="6454440" y="40006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28" name=""/>
                <p:cNvGrpSpPr/>
                <p:nvPr/>
              </p:nvGrpSpPr>
              <p:grpSpPr>
                <a:xfrm>
                  <a:off x="6521040" y="4038840"/>
                  <a:ext cx="304560" cy="75960"/>
                  <a:chOff x="6521040" y="4038840"/>
                  <a:chExt cx="304560" cy="75960"/>
                </a:xfrm>
              </p:grpSpPr>
              <p:sp>
                <p:nvSpPr>
                  <p:cNvPr id="3529" name=""/>
                  <p:cNvSpPr/>
                  <p:nvPr/>
                </p:nvSpPr>
                <p:spPr>
                  <a:xfrm>
                    <a:off x="652104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0" name=""/>
                  <p:cNvSpPr/>
                  <p:nvPr/>
                </p:nvSpPr>
                <p:spPr>
                  <a:xfrm>
                    <a:off x="65970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1" name=""/>
                  <p:cNvSpPr/>
                  <p:nvPr/>
                </p:nvSpPr>
                <p:spPr>
                  <a:xfrm>
                    <a:off x="667332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2" name=""/>
                  <p:cNvSpPr/>
                  <p:nvPr/>
                </p:nvSpPr>
                <p:spPr>
                  <a:xfrm>
                    <a:off x="674928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3" name=""/>
                  <p:cNvSpPr/>
                  <p:nvPr/>
                </p:nvSpPr>
                <p:spPr>
                  <a:xfrm>
                    <a:off x="68256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34" name=""/>
                <p:cNvSpPr/>
                <p:nvPr/>
              </p:nvSpPr>
              <p:spPr>
                <a:xfrm>
                  <a:off x="6479640" y="4238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>
                  <a:off x="6479640" y="43056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>
                  <a:off x="6479640" y="43689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37" name=""/>
            <p:cNvGrpSpPr/>
            <p:nvPr/>
          </p:nvGrpSpPr>
          <p:grpSpPr>
            <a:xfrm>
              <a:off x="7467480" y="3962520"/>
              <a:ext cx="1067040" cy="457200"/>
              <a:chOff x="7467480" y="3962520"/>
              <a:chExt cx="1067040" cy="457200"/>
            </a:xfrm>
          </p:grpSpPr>
          <p:grpSp>
            <p:nvGrpSpPr>
              <p:cNvPr id="3538" name=""/>
              <p:cNvGrpSpPr/>
              <p:nvPr/>
            </p:nvGrpSpPr>
            <p:grpSpPr>
              <a:xfrm>
                <a:off x="7467480" y="3962520"/>
                <a:ext cx="533520" cy="457200"/>
                <a:chOff x="7467480" y="3962520"/>
                <a:chExt cx="533520" cy="457200"/>
              </a:xfrm>
            </p:grpSpPr>
            <p:grpSp>
              <p:nvGrpSpPr>
                <p:cNvPr id="3539" name=""/>
                <p:cNvGrpSpPr/>
                <p:nvPr/>
              </p:nvGrpSpPr>
              <p:grpSpPr>
                <a:xfrm>
                  <a:off x="7467480" y="3962520"/>
                  <a:ext cx="533520" cy="457200"/>
                  <a:chOff x="7467480" y="3962520"/>
                  <a:chExt cx="533520" cy="457200"/>
                </a:xfrm>
              </p:grpSpPr>
              <p:sp>
                <p:nvSpPr>
                  <p:cNvPr id="3540" name=""/>
                  <p:cNvSpPr/>
                  <p:nvPr/>
                </p:nvSpPr>
                <p:spPr>
                  <a:xfrm>
                    <a:off x="7467480" y="39625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>
                    <a:off x="7467480" y="41911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2" name=""/>
                <p:cNvSpPr/>
                <p:nvPr/>
              </p:nvSpPr>
              <p:spPr>
                <a:xfrm>
                  <a:off x="7521480" y="40006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3" name=""/>
                <p:cNvGrpSpPr/>
                <p:nvPr/>
              </p:nvGrpSpPr>
              <p:grpSpPr>
                <a:xfrm>
                  <a:off x="7588080" y="4038840"/>
                  <a:ext cx="304920" cy="75960"/>
                  <a:chOff x="7588080" y="4038840"/>
                  <a:chExt cx="304920" cy="75960"/>
                </a:xfrm>
              </p:grpSpPr>
              <p:sp>
                <p:nvSpPr>
                  <p:cNvPr id="3544" name=""/>
                  <p:cNvSpPr/>
                  <p:nvPr/>
                </p:nvSpPr>
                <p:spPr>
                  <a:xfrm>
                    <a:off x="758808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>
                    <a:off x="76644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>
                    <a:off x="774072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7" name=""/>
                  <p:cNvSpPr/>
                  <p:nvPr/>
                </p:nvSpPr>
                <p:spPr>
                  <a:xfrm>
                    <a:off x="781668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8" name=""/>
                  <p:cNvSpPr/>
                  <p:nvPr/>
                </p:nvSpPr>
                <p:spPr>
                  <a:xfrm>
                    <a:off x="78930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9" name=""/>
                <p:cNvSpPr/>
                <p:nvPr/>
              </p:nvSpPr>
              <p:spPr>
                <a:xfrm>
                  <a:off x="7546680" y="42386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7546680" y="43056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7546680" y="43689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2" name=""/>
              <p:cNvGrpSpPr/>
              <p:nvPr/>
            </p:nvGrpSpPr>
            <p:grpSpPr>
              <a:xfrm>
                <a:off x="8001000" y="3962520"/>
                <a:ext cx="533520" cy="457200"/>
                <a:chOff x="8001000" y="3962520"/>
                <a:chExt cx="533520" cy="457200"/>
              </a:xfrm>
            </p:grpSpPr>
            <p:grpSp>
              <p:nvGrpSpPr>
                <p:cNvPr id="3553" name=""/>
                <p:cNvGrpSpPr/>
                <p:nvPr/>
              </p:nvGrpSpPr>
              <p:grpSpPr>
                <a:xfrm>
                  <a:off x="8001000" y="3962520"/>
                  <a:ext cx="533520" cy="457200"/>
                  <a:chOff x="8001000" y="3962520"/>
                  <a:chExt cx="533520" cy="457200"/>
                </a:xfrm>
              </p:grpSpPr>
              <p:sp>
                <p:nvSpPr>
                  <p:cNvPr id="3554" name=""/>
                  <p:cNvSpPr/>
                  <p:nvPr/>
                </p:nvSpPr>
                <p:spPr>
                  <a:xfrm>
                    <a:off x="8001000" y="39625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5" name=""/>
                  <p:cNvSpPr/>
                  <p:nvPr/>
                </p:nvSpPr>
                <p:spPr>
                  <a:xfrm>
                    <a:off x="8001000" y="41911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56" name=""/>
                <p:cNvSpPr/>
                <p:nvPr/>
              </p:nvSpPr>
              <p:spPr>
                <a:xfrm>
                  <a:off x="8055000" y="40006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7" name=""/>
                <p:cNvGrpSpPr/>
                <p:nvPr/>
              </p:nvGrpSpPr>
              <p:grpSpPr>
                <a:xfrm>
                  <a:off x="8121600" y="4038840"/>
                  <a:ext cx="304920" cy="75960"/>
                  <a:chOff x="8121600" y="4038840"/>
                  <a:chExt cx="304920" cy="75960"/>
                </a:xfrm>
              </p:grpSpPr>
              <p:sp>
                <p:nvSpPr>
                  <p:cNvPr id="3558" name=""/>
                  <p:cNvSpPr/>
                  <p:nvPr/>
                </p:nvSpPr>
                <p:spPr>
                  <a:xfrm>
                    <a:off x="81216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>
                    <a:off x="819792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>
                    <a:off x="827424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1" name=""/>
                  <p:cNvSpPr/>
                  <p:nvPr/>
                </p:nvSpPr>
                <p:spPr>
                  <a:xfrm>
                    <a:off x="83502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2" name=""/>
                  <p:cNvSpPr/>
                  <p:nvPr/>
                </p:nvSpPr>
                <p:spPr>
                  <a:xfrm>
                    <a:off x="842652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3" name=""/>
                <p:cNvSpPr/>
                <p:nvPr/>
              </p:nvSpPr>
              <p:spPr>
                <a:xfrm>
                  <a:off x="8080200" y="42386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"/>
                <p:cNvSpPr/>
                <p:nvPr/>
              </p:nvSpPr>
              <p:spPr>
                <a:xfrm>
                  <a:off x="8080200" y="43056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>
                  <a:off x="8080200" y="43689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6" name=""/>
              <p:cNvGrpSpPr/>
              <p:nvPr/>
            </p:nvGrpSpPr>
            <p:grpSpPr>
              <a:xfrm>
                <a:off x="7467480" y="3962520"/>
                <a:ext cx="533520" cy="457200"/>
                <a:chOff x="7467480" y="3962520"/>
                <a:chExt cx="533520" cy="457200"/>
              </a:xfrm>
            </p:grpSpPr>
            <p:grpSp>
              <p:nvGrpSpPr>
                <p:cNvPr id="3567" name=""/>
                <p:cNvGrpSpPr/>
                <p:nvPr/>
              </p:nvGrpSpPr>
              <p:grpSpPr>
                <a:xfrm>
                  <a:off x="7467480" y="3962520"/>
                  <a:ext cx="533520" cy="457200"/>
                  <a:chOff x="7467480" y="3962520"/>
                  <a:chExt cx="533520" cy="457200"/>
                </a:xfrm>
              </p:grpSpPr>
              <p:sp>
                <p:nvSpPr>
                  <p:cNvPr id="3568" name=""/>
                  <p:cNvSpPr/>
                  <p:nvPr/>
                </p:nvSpPr>
                <p:spPr>
                  <a:xfrm>
                    <a:off x="7467480" y="39625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9" name=""/>
                  <p:cNvSpPr/>
                  <p:nvPr/>
                </p:nvSpPr>
                <p:spPr>
                  <a:xfrm>
                    <a:off x="7467480" y="41911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70" name=""/>
                <p:cNvSpPr/>
                <p:nvPr/>
              </p:nvSpPr>
              <p:spPr>
                <a:xfrm>
                  <a:off x="7521480" y="40006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1" name=""/>
                <p:cNvGrpSpPr/>
                <p:nvPr/>
              </p:nvGrpSpPr>
              <p:grpSpPr>
                <a:xfrm>
                  <a:off x="7588080" y="4038840"/>
                  <a:ext cx="304920" cy="75960"/>
                  <a:chOff x="7588080" y="4038840"/>
                  <a:chExt cx="304920" cy="75960"/>
                </a:xfrm>
              </p:grpSpPr>
              <p:sp>
                <p:nvSpPr>
                  <p:cNvPr id="3572" name=""/>
                  <p:cNvSpPr/>
                  <p:nvPr/>
                </p:nvSpPr>
                <p:spPr>
                  <a:xfrm>
                    <a:off x="758808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3" name=""/>
                  <p:cNvSpPr/>
                  <p:nvPr/>
                </p:nvSpPr>
                <p:spPr>
                  <a:xfrm>
                    <a:off x="76644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4" name=""/>
                  <p:cNvSpPr/>
                  <p:nvPr/>
                </p:nvSpPr>
                <p:spPr>
                  <a:xfrm>
                    <a:off x="774072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5" name=""/>
                  <p:cNvSpPr/>
                  <p:nvPr/>
                </p:nvSpPr>
                <p:spPr>
                  <a:xfrm>
                    <a:off x="781668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6" name=""/>
                  <p:cNvSpPr/>
                  <p:nvPr/>
                </p:nvSpPr>
                <p:spPr>
                  <a:xfrm>
                    <a:off x="78930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77" name=""/>
                <p:cNvSpPr/>
                <p:nvPr/>
              </p:nvSpPr>
              <p:spPr>
                <a:xfrm>
                  <a:off x="7546680" y="42386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>
                  <a:off x="7546680" y="43056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>
                  <a:off x="7546680" y="43689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80" name=""/>
            <p:cNvGrpSpPr/>
            <p:nvPr/>
          </p:nvGrpSpPr>
          <p:grpSpPr>
            <a:xfrm>
              <a:off x="4267080" y="2590920"/>
              <a:ext cx="533520" cy="457200"/>
              <a:chOff x="4267080" y="2590920"/>
              <a:chExt cx="533520" cy="457200"/>
            </a:xfrm>
          </p:grpSpPr>
          <p:grpSp>
            <p:nvGrpSpPr>
              <p:cNvPr id="3581" name=""/>
              <p:cNvGrpSpPr/>
              <p:nvPr/>
            </p:nvGrpSpPr>
            <p:grpSpPr>
              <a:xfrm>
                <a:off x="4267080" y="2590920"/>
                <a:ext cx="533520" cy="457200"/>
                <a:chOff x="4267080" y="2590920"/>
                <a:chExt cx="533520" cy="457200"/>
              </a:xfrm>
            </p:grpSpPr>
            <p:sp>
              <p:nvSpPr>
                <p:cNvPr id="3582" name=""/>
                <p:cNvSpPr/>
                <p:nvPr/>
              </p:nvSpPr>
              <p:spPr>
                <a:xfrm>
                  <a:off x="4267080" y="259092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4267080" y="281952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4" name=""/>
              <p:cNvSpPr/>
              <p:nvPr/>
            </p:nvSpPr>
            <p:spPr>
              <a:xfrm>
                <a:off x="43434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321080" y="2629080"/>
                <a:ext cx="4287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6" name=""/>
            <p:cNvGrpSpPr/>
            <p:nvPr/>
          </p:nvGrpSpPr>
          <p:grpSpPr>
            <a:xfrm>
              <a:off x="5334120" y="2590920"/>
              <a:ext cx="1066320" cy="457200"/>
              <a:chOff x="5334120" y="2590920"/>
              <a:chExt cx="1066320" cy="457200"/>
            </a:xfrm>
          </p:grpSpPr>
          <p:grpSp>
            <p:nvGrpSpPr>
              <p:cNvPr id="3587" name=""/>
              <p:cNvGrpSpPr/>
              <p:nvPr/>
            </p:nvGrpSpPr>
            <p:grpSpPr>
              <a:xfrm>
                <a:off x="5334120" y="2590920"/>
                <a:ext cx="533160" cy="457200"/>
                <a:chOff x="5334120" y="2590920"/>
                <a:chExt cx="533160" cy="457200"/>
              </a:xfrm>
            </p:grpSpPr>
            <p:grpSp>
              <p:nvGrpSpPr>
                <p:cNvPr id="3588" name=""/>
                <p:cNvGrpSpPr/>
                <p:nvPr/>
              </p:nvGrpSpPr>
              <p:grpSpPr>
                <a:xfrm>
                  <a:off x="5334120" y="2590920"/>
                  <a:ext cx="533160" cy="457200"/>
                  <a:chOff x="5334120" y="2590920"/>
                  <a:chExt cx="533160" cy="457200"/>
                </a:xfrm>
              </p:grpSpPr>
              <p:sp>
                <p:nvSpPr>
                  <p:cNvPr id="3589" name=""/>
                  <p:cNvSpPr/>
                  <p:nvPr/>
                </p:nvSpPr>
                <p:spPr>
                  <a:xfrm>
                    <a:off x="5334120" y="25909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0" name=""/>
                  <p:cNvSpPr/>
                  <p:nvPr/>
                </p:nvSpPr>
                <p:spPr>
                  <a:xfrm>
                    <a:off x="5334120" y="2819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91" name=""/>
                <p:cNvSpPr/>
                <p:nvPr/>
              </p:nvSpPr>
              <p:spPr>
                <a:xfrm>
                  <a:off x="5387760" y="26290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92" name=""/>
                <p:cNvGrpSpPr/>
                <p:nvPr/>
              </p:nvGrpSpPr>
              <p:grpSpPr>
                <a:xfrm>
                  <a:off x="5454360" y="2667240"/>
                  <a:ext cx="304560" cy="75960"/>
                  <a:chOff x="5454360" y="2667240"/>
                  <a:chExt cx="304560" cy="75960"/>
                </a:xfrm>
              </p:grpSpPr>
              <p:sp>
                <p:nvSpPr>
                  <p:cNvPr id="3593" name=""/>
                  <p:cNvSpPr/>
                  <p:nvPr/>
                </p:nvSpPr>
                <p:spPr>
                  <a:xfrm>
                    <a:off x="545436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4" name=""/>
                  <p:cNvSpPr/>
                  <p:nvPr/>
                </p:nvSpPr>
                <p:spPr>
                  <a:xfrm>
                    <a:off x="55303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5" name=""/>
                  <p:cNvSpPr/>
                  <p:nvPr/>
                </p:nvSpPr>
                <p:spPr>
                  <a:xfrm>
                    <a:off x="560664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6" name=""/>
                  <p:cNvSpPr/>
                  <p:nvPr/>
                </p:nvSpPr>
                <p:spPr>
                  <a:xfrm>
                    <a:off x="56826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7" name=""/>
                  <p:cNvSpPr/>
                  <p:nvPr/>
                </p:nvSpPr>
                <p:spPr>
                  <a:xfrm>
                    <a:off x="57589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98" name=""/>
                <p:cNvSpPr/>
                <p:nvPr/>
              </p:nvSpPr>
              <p:spPr>
                <a:xfrm>
                  <a:off x="5412960" y="2867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>
                  <a:off x="5412960" y="2934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>
                  <a:off x="5412960" y="2997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1" name=""/>
              <p:cNvGrpSpPr/>
              <p:nvPr/>
            </p:nvGrpSpPr>
            <p:grpSpPr>
              <a:xfrm>
                <a:off x="5867280" y="2590920"/>
                <a:ext cx="533160" cy="457200"/>
                <a:chOff x="5867280" y="2590920"/>
                <a:chExt cx="533160" cy="457200"/>
              </a:xfrm>
            </p:grpSpPr>
            <p:grpSp>
              <p:nvGrpSpPr>
                <p:cNvPr id="3602" name=""/>
                <p:cNvGrpSpPr/>
                <p:nvPr/>
              </p:nvGrpSpPr>
              <p:grpSpPr>
                <a:xfrm>
                  <a:off x="5867280" y="2590920"/>
                  <a:ext cx="533160" cy="457200"/>
                  <a:chOff x="5867280" y="2590920"/>
                  <a:chExt cx="533160" cy="457200"/>
                </a:xfrm>
              </p:grpSpPr>
              <p:sp>
                <p:nvSpPr>
                  <p:cNvPr id="3603" name=""/>
                  <p:cNvSpPr/>
                  <p:nvPr/>
                </p:nvSpPr>
                <p:spPr>
                  <a:xfrm>
                    <a:off x="5867280" y="25909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4" name=""/>
                  <p:cNvSpPr/>
                  <p:nvPr/>
                </p:nvSpPr>
                <p:spPr>
                  <a:xfrm>
                    <a:off x="5867280" y="2819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5" name=""/>
                <p:cNvSpPr/>
                <p:nvPr/>
              </p:nvSpPr>
              <p:spPr>
                <a:xfrm>
                  <a:off x="5920920" y="26290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06" name=""/>
                <p:cNvGrpSpPr/>
                <p:nvPr/>
              </p:nvGrpSpPr>
              <p:grpSpPr>
                <a:xfrm>
                  <a:off x="5987520" y="2667240"/>
                  <a:ext cx="304560" cy="75960"/>
                  <a:chOff x="5987520" y="2667240"/>
                  <a:chExt cx="304560" cy="75960"/>
                </a:xfrm>
              </p:grpSpPr>
              <p:sp>
                <p:nvSpPr>
                  <p:cNvPr id="3607" name=""/>
                  <p:cNvSpPr/>
                  <p:nvPr/>
                </p:nvSpPr>
                <p:spPr>
                  <a:xfrm>
                    <a:off x="59875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8" name=""/>
                  <p:cNvSpPr/>
                  <p:nvPr/>
                </p:nvSpPr>
                <p:spPr>
                  <a:xfrm>
                    <a:off x="60634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9" name=""/>
                  <p:cNvSpPr/>
                  <p:nvPr/>
                </p:nvSpPr>
                <p:spPr>
                  <a:xfrm>
                    <a:off x="61398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0" name=""/>
                  <p:cNvSpPr/>
                  <p:nvPr/>
                </p:nvSpPr>
                <p:spPr>
                  <a:xfrm>
                    <a:off x="621576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1" name=""/>
                  <p:cNvSpPr/>
                  <p:nvPr/>
                </p:nvSpPr>
                <p:spPr>
                  <a:xfrm>
                    <a:off x="62920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12" name=""/>
                <p:cNvSpPr/>
                <p:nvPr/>
              </p:nvSpPr>
              <p:spPr>
                <a:xfrm>
                  <a:off x="5946120" y="2867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>
                  <a:off x="5946120" y="2934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"/>
                <p:cNvSpPr/>
                <p:nvPr/>
              </p:nvSpPr>
              <p:spPr>
                <a:xfrm>
                  <a:off x="5946120" y="2997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5" name=""/>
              <p:cNvGrpSpPr/>
              <p:nvPr/>
            </p:nvGrpSpPr>
            <p:grpSpPr>
              <a:xfrm>
                <a:off x="5334120" y="2590920"/>
                <a:ext cx="533160" cy="457200"/>
                <a:chOff x="5334120" y="2590920"/>
                <a:chExt cx="533160" cy="457200"/>
              </a:xfrm>
            </p:grpSpPr>
            <p:grpSp>
              <p:nvGrpSpPr>
                <p:cNvPr id="3616" name=""/>
                <p:cNvGrpSpPr/>
                <p:nvPr/>
              </p:nvGrpSpPr>
              <p:grpSpPr>
                <a:xfrm>
                  <a:off x="5334120" y="2590920"/>
                  <a:ext cx="533160" cy="457200"/>
                  <a:chOff x="5334120" y="2590920"/>
                  <a:chExt cx="533160" cy="457200"/>
                </a:xfrm>
              </p:grpSpPr>
              <p:sp>
                <p:nvSpPr>
                  <p:cNvPr id="3617" name=""/>
                  <p:cNvSpPr/>
                  <p:nvPr/>
                </p:nvSpPr>
                <p:spPr>
                  <a:xfrm>
                    <a:off x="5334120" y="25909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8" name=""/>
                  <p:cNvSpPr/>
                  <p:nvPr/>
                </p:nvSpPr>
                <p:spPr>
                  <a:xfrm>
                    <a:off x="5334120" y="2819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19" name=""/>
                <p:cNvSpPr/>
                <p:nvPr/>
              </p:nvSpPr>
              <p:spPr>
                <a:xfrm>
                  <a:off x="5387760" y="26290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20" name=""/>
                <p:cNvGrpSpPr/>
                <p:nvPr/>
              </p:nvGrpSpPr>
              <p:grpSpPr>
                <a:xfrm>
                  <a:off x="5454360" y="2667240"/>
                  <a:ext cx="304560" cy="75960"/>
                  <a:chOff x="5454360" y="2667240"/>
                  <a:chExt cx="304560" cy="75960"/>
                </a:xfrm>
              </p:grpSpPr>
              <p:sp>
                <p:nvSpPr>
                  <p:cNvPr id="3621" name=""/>
                  <p:cNvSpPr/>
                  <p:nvPr/>
                </p:nvSpPr>
                <p:spPr>
                  <a:xfrm>
                    <a:off x="545436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2" name=""/>
                  <p:cNvSpPr/>
                  <p:nvPr/>
                </p:nvSpPr>
                <p:spPr>
                  <a:xfrm>
                    <a:off x="55303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3" name=""/>
                  <p:cNvSpPr/>
                  <p:nvPr/>
                </p:nvSpPr>
                <p:spPr>
                  <a:xfrm>
                    <a:off x="560664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4" name=""/>
                  <p:cNvSpPr/>
                  <p:nvPr/>
                </p:nvSpPr>
                <p:spPr>
                  <a:xfrm>
                    <a:off x="56826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5" name=""/>
                  <p:cNvSpPr/>
                  <p:nvPr/>
                </p:nvSpPr>
                <p:spPr>
                  <a:xfrm>
                    <a:off x="57589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26" name=""/>
                <p:cNvSpPr/>
                <p:nvPr/>
              </p:nvSpPr>
              <p:spPr>
                <a:xfrm>
                  <a:off x="5412960" y="2867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7" name=""/>
                <p:cNvSpPr/>
                <p:nvPr/>
              </p:nvSpPr>
              <p:spPr>
                <a:xfrm>
                  <a:off x="5412960" y="2934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8" name=""/>
                <p:cNvSpPr/>
                <p:nvPr/>
              </p:nvSpPr>
              <p:spPr>
                <a:xfrm>
                  <a:off x="5412960" y="2997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29" name=""/>
            <p:cNvGrpSpPr/>
            <p:nvPr/>
          </p:nvGrpSpPr>
          <p:grpSpPr>
            <a:xfrm>
              <a:off x="4800600" y="2590920"/>
              <a:ext cx="533520" cy="457200"/>
              <a:chOff x="4800600" y="2590920"/>
              <a:chExt cx="533520" cy="457200"/>
            </a:xfrm>
          </p:grpSpPr>
          <p:grpSp>
            <p:nvGrpSpPr>
              <p:cNvPr id="3630" name=""/>
              <p:cNvGrpSpPr/>
              <p:nvPr/>
            </p:nvGrpSpPr>
            <p:grpSpPr>
              <a:xfrm>
                <a:off x="4800600" y="2590920"/>
                <a:ext cx="533520" cy="457200"/>
                <a:chOff x="4800600" y="2590920"/>
                <a:chExt cx="533520" cy="457200"/>
              </a:xfrm>
            </p:grpSpPr>
            <p:sp>
              <p:nvSpPr>
                <p:cNvPr id="3631" name=""/>
                <p:cNvSpPr/>
                <p:nvPr/>
              </p:nvSpPr>
              <p:spPr>
                <a:xfrm>
                  <a:off x="4800600" y="259092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2" name=""/>
                <p:cNvSpPr/>
                <p:nvPr/>
              </p:nvSpPr>
              <p:spPr>
                <a:xfrm>
                  <a:off x="4800600" y="281952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3" name=""/>
              <p:cNvSpPr/>
              <p:nvPr/>
            </p:nvSpPr>
            <p:spPr>
              <a:xfrm>
                <a:off x="4876920" y="2895840"/>
                <a:ext cx="152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4854600" y="2629080"/>
                <a:ext cx="4287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5105520" y="2895840"/>
                <a:ext cx="152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4953240" y="2667240"/>
                <a:ext cx="15228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7" name=""/>
            <p:cNvGrpSpPr/>
            <p:nvPr/>
          </p:nvGrpSpPr>
          <p:grpSpPr>
            <a:xfrm>
              <a:off x="6400800" y="2590920"/>
              <a:ext cx="1066320" cy="457200"/>
              <a:chOff x="6400800" y="2590920"/>
              <a:chExt cx="1066320" cy="457200"/>
            </a:xfrm>
          </p:grpSpPr>
          <p:grpSp>
            <p:nvGrpSpPr>
              <p:cNvPr id="3638" name=""/>
              <p:cNvGrpSpPr/>
              <p:nvPr/>
            </p:nvGrpSpPr>
            <p:grpSpPr>
              <a:xfrm>
                <a:off x="6400800" y="2590920"/>
                <a:ext cx="533160" cy="457200"/>
                <a:chOff x="6400800" y="2590920"/>
                <a:chExt cx="533160" cy="457200"/>
              </a:xfrm>
            </p:grpSpPr>
            <p:grpSp>
              <p:nvGrpSpPr>
                <p:cNvPr id="3639" name=""/>
                <p:cNvGrpSpPr/>
                <p:nvPr/>
              </p:nvGrpSpPr>
              <p:grpSpPr>
                <a:xfrm>
                  <a:off x="6400800" y="2590920"/>
                  <a:ext cx="533160" cy="457200"/>
                  <a:chOff x="6400800" y="2590920"/>
                  <a:chExt cx="533160" cy="457200"/>
                </a:xfrm>
              </p:grpSpPr>
              <p:sp>
                <p:nvSpPr>
                  <p:cNvPr id="3640" name=""/>
                  <p:cNvSpPr/>
                  <p:nvPr/>
                </p:nvSpPr>
                <p:spPr>
                  <a:xfrm>
                    <a:off x="6400800" y="25909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1" name=""/>
                  <p:cNvSpPr/>
                  <p:nvPr/>
                </p:nvSpPr>
                <p:spPr>
                  <a:xfrm>
                    <a:off x="6400800" y="2819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42" name=""/>
                <p:cNvSpPr/>
                <p:nvPr/>
              </p:nvSpPr>
              <p:spPr>
                <a:xfrm>
                  <a:off x="6454440" y="26290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3" name=""/>
                <p:cNvGrpSpPr/>
                <p:nvPr/>
              </p:nvGrpSpPr>
              <p:grpSpPr>
                <a:xfrm>
                  <a:off x="6521040" y="2667240"/>
                  <a:ext cx="304560" cy="75960"/>
                  <a:chOff x="6521040" y="2667240"/>
                  <a:chExt cx="304560" cy="75960"/>
                </a:xfrm>
              </p:grpSpPr>
              <p:sp>
                <p:nvSpPr>
                  <p:cNvPr id="3644" name=""/>
                  <p:cNvSpPr/>
                  <p:nvPr/>
                </p:nvSpPr>
                <p:spPr>
                  <a:xfrm>
                    <a:off x="652104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5" name=""/>
                  <p:cNvSpPr/>
                  <p:nvPr/>
                </p:nvSpPr>
                <p:spPr>
                  <a:xfrm>
                    <a:off x="65970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6" name=""/>
                  <p:cNvSpPr/>
                  <p:nvPr/>
                </p:nvSpPr>
                <p:spPr>
                  <a:xfrm>
                    <a:off x="66733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7" name=""/>
                  <p:cNvSpPr/>
                  <p:nvPr/>
                </p:nvSpPr>
                <p:spPr>
                  <a:xfrm>
                    <a:off x="67492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8" name=""/>
                  <p:cNvSpPr/>
                  <p:nvPr/>
                </p:nvSpPr>
                <p:spPr>
                  <a:xfrm>
                    <a:off x="68256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49" name=""/>
                <p:cNvSpPr/>
                <p:nvPr/>
              </p:nvSpPr>
              <p:spPr>
                <a:xfrm>
                  <a:off x="6479640" y="2867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0" name=""/>
                <p:cNvSpPr/>
                <p:nvPr/>
              </p:nvSpPr>
              <p:spPr>
                <a:xfrm>
                  <a:off x="6479640" y="2934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1" name=""/>
                <p:cNvSpPr/>
                <p:nvPr/>
              </p:nvSpPr>
              <p:spPr>
                <a:xfrm>
                  <a:off x="6479640" y="2997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2" name=""/>
              <p:cNvGrpSpPr/>
              <p:nvPr/>
            </p:nvGrpSpPr>
            <p:grpSpPr>
              <a:xfrm>
                <a:off x="6933960" y="2590920"/>
                <a:ext cx="533160" cy="457200"/>
                <a:chOff x="6933960" y="2590920"/>
                <a:chExt cx="533160" cy="457200"/>
              </a:xfrm>
            </p:grpSpPr>
            <p:grpSp>
              <p:nvGrpSpPr>
                <p:cNvPr id="3653" name=""/>
                <p:cNvGrpSpPr/>
                <p:nvPr/>
              </p:nvGrpSpPr>
              <p:grpSpPr>
                <a:xfrm>
                  <a:off x="6933960" y="2590920"/>
                  <a:ext cx="533160" cy="457200"/>
                  <a:chOff x="6933960" y="2590920"/>
                  <a:chExt cx="533160" cy="457200"/>
                </a:xfrm>
              </p:grpSpPr>
              <p:sp>
                <p:nvSpPr>
                  <p:cNvPr id="3654" name=""/>
                  <p:cNvSpPr/>
                  <p:nvPr/>
                </p:nvSpPr>
                <p:spPr>
                  <a:xfrm>
                    <a:off x="6933960" y="25909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5" name=""/>
                  <p:cNvSpPr/>
                  <p:nvPr/>
                </p:nvSpPr>
                <p:spPr>
                  <a:xfrm>
                    <a:off x="6933960" y="2819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56" name=""/>
                <p:cNvSpPr/>
                <p:nvPr/>
              </p:nvSpPr>
              <p:spPr>
                <a:xfrm>
                  <a:off x="6987600" y="26290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57" name=""/>
                <p:cNvGrpSpPr/>
                <p:nvPr/>
              </p:nvGrpSpPr>
              <p:grpSpPr>
                <a:xfrm>
                  <a:off x="7054200" y="2667240"/>
                  <a:ext cx="304560" cy="75960"/>
                  <a:chOff x="7054200" y="2667240"/>
                  <a:chExt cx="304560" cy="75960"/>
                </a:xfrm>
              </p:grpSpPr>
              <p:sp>
                <p:nvSpPr>
                  <p:cNvPr id="3658" name=""/>
                  <p:cNvSpPr/>
                  <p:nvPr/>
                </p:nvSpPr>
                <p:spPr>
                  <a:xfrm>
                    <a:off x="70542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9" name=""/>
                  <p:cNvSpPr/>
                  <p:nvPr/>
                </p:nvSpPr>
                <p:spPr>
                  <a:xfrm>
                    <a:off x="713016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0" name=""/>
                  <p:cNvSpPr/>
                  <p:nvPr/>
                </p:nvSpPr>
                <p:spPr>
                  <a:xfrm>
                    <a:off x="72064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1" name=""/>
                  <p:cNvSpPr/>
                  <p:nvPr/>
                </p:nvSpPr>
                <p:spPr>
                  <a:xfrm>
                    <a:off x="728244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2" name=""/>
                  <p:cNvSpPr/>
                  <p:nvPr/>
                </p:nvSpPr>
                <p:spPr>
                  <a:xfrm>
                    <a:off x="735876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63" name=""/>
                <p:cNvSpPr/>
                <p:nvPr/>
              </p:nvSpPr>
              <p:spPr>
                <a:xfrm>
                  <a:off x="7012800" y="2867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4" name=""/>
                <p:cNvSpPr/>
                <p:nvPr/>
              </p:nvSpPr>
              <p:spPr>
                <a:xfrm>
                  <a:off x="7012800" y="2934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"/>
                <p:cNvSpPr/>
                <p:nvPr/>
              </p:nvSpPr>
              <p:spPr>
                <a:xfrm>
                  <a:off x="7012800" y="2997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6" name=""/>
              <p:cNvGrpSpPr/>
              <p:nvPr/>
            </p:nvGrpSpPr>
            <p:grpSpPr>
              <a:xfrm>
                <a:off x="6400800" y="2590920"/>
                <a:ext cx="533160" cy="457200"/>
                <a:chOff x="6400800" y="2590920"/>
                <a:chExt cx="533160" cy="457200"/>
              </a:xfrm>
            </p:grpSpPr>
            <p:grpSp>
              <p:nvGrpSpPr>
                <p:cNvPr id="3667" name=""/>
                <p:cNvGrpSpPr/>
                <p:nvPr/>
              </p:nvGrpSpPr>
              <p:grpSpPr>
                <a:xfrm>
                  <a:off x="6400800" y="2590920"/>
                  <a:ext cx="533160" cy="457200"/>
                  <a:chOff x="6400800" y="2590920"/>
                  <a:chExt cx="533160" cy="457200"/>
                </a:xfrm>
              </p:grpSpPr>
              <p:sp>
                <p:nvSpPr>
                  <p:cNvPr id="3668" name=""/>
                  <p:cNvSpPr/>
                  <p:nvPr/>
                </p:nvSpPr>
                <p:spPr>
                  <a:xfrm>
                    <a:off x="6400800" y="25909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9" name=""/>
                  <p:cNvSpPr/>
                  <p:nvPr/>
                </p:nvSpPr>
                <p:spPr>
                  <a:xfrm>
                    <a:off x="6400800" y="2819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70" name=""/>
                <p:cNvSpPr/>
                <p:nvPr/>
              </p:nvSpPr>
              <p:spPr>
                <a:xfrm>
                  <a:off x="6454440" y="26290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1" name=""/>
                <p:cNvGrpSpPr/>
                <p:nvPr/>
              </p:nvGrpSpPr>
              <p:grpSpPr>
                <a:xfrm>
                  <a:off x="6521040" y="2667240"/>
                  <a:ext cx="304560" cy="75960"/>
                  <a:chOff x="6521040" y="2667240"/>
                  <a:chExt cx="304560" cy="75960"/>
                </a:xfrm>
              </p:grpSpPr>
              <p:sp>
                <p:nvSpPr>
                  <p:cNvPr id="3672" name=""/>
                  <p:cNvSpPr/>
                  <p:nvPr/>
                </p:nvSpPr>
                <p:spPr>
                  <a:xfrm>
                    <a:off x="652104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3" name=""/>
                  <p:cNvSpPr/>
                  <p:nvPr/>
                </p:nvSpPr>
                <p:spPr>
                  <a:xfrm>
                    <a:off x="65970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4" name=""/>
                  <p:cNvSpPr/>
                  <p:nvPr/>
                </p:nvSpPr>
                <p:spPr>
                  <a:xfrm>
                    <a:off x="66733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5" name=""/>
                  <p:cNvSpPr/>
                  <p:nvPr/>
                </p:nvSpPr>
                <p:spPr>
                  <a:xfrm>
                    <a:off x="67492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6" name=""/>
                  <p:cNvSpPr/>
                  <p:nvPr/>
                </p:nvSpPr>
                <p:spPr>
                  <a:xfrm>
                    <a:off x="68256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77" name=""/>
                <p:cNvSpPr/>
                <p:nvPr/>
              </p:nvSpPr>
              <p:spPr>
                <a:xfrm>
                  <a:off x="6479640" y="2867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8" name=""/>
                <p:cNvSpPr/>
                <p:nvPr/>
              </p:nvSpPr>
              <p:spPr>
                <a:xfrm>
                  <a:off x="6479640" y="2934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>
                  <a:off x="6479640" y="2997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80" name=""/>
            <p:cNvGrpSpPr/>
            <p:nvPr/>
          </p:nvGrpSpPr>
          <p:grpSpPr>
            <a:xfrm>
              <a:off x="7467480" y="2590920"/>
              <a:ext cx="1067040" cy="457200"/>
              <a:chOff x="7467480" y="2590920"/>
              <a:chExt cx="1067040" cy="457200"/>
            </a:xfrm>
          </p:grpSpPr>
          <p:grpSp>
            <p:nvGrpSpPr>
              <p:cNvPr id="3681" name=""/>
              <p:cNvGrpSpPr/>
              <p:nvPr/>
            </p:nvGrpSpPr>
            <p:grpSpPr>
              <a:xfrm>
                <a:off x="7467480" y="2590920"/>
                <a:ext cx="533520" cy="457200"/>
                <a:chOff x="7467480" y="2590920"/>
                <a:chExt cx="533520" cy="457200"/>
              </a:xfrm>
            </p:grpSpPr>
            <p:grpSp>
              <p:nvGrpSpPr>
                <p:cNvPr id="3682" name=""/>
                <p:cNvGrpSpPr/>
                <p:nvPr/>
              </p:nvGrpSpPr>
              <p:grpSpPr>
                <a:xfrm>
                  <a:off x="7467480" y="2590920"/>
                  <a:ext cx="533520" cy="457200"/>
                  <a:chOff x="7467480" y="2590920"/>
                  <a:chExt cx="533520" cy="457200"/>
                </a:xfrm>
              </p:grpSpPr>
              <p:sp>
                <p:nvSpPr>
                  <p:cNvPr id="3683" name=""/>
                  <p:cNvSpPr/>
                  <p:nvPr/>
                </p:nvSpPr>
                <p:spPr>
                  <a:xfrm>
                    <a:off x="7467480" y="25909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4" name=""/>
                  <p:cNvSpPr/>
                  <p:nvPr/>
                </p:nvSpPr>
                <p:spPr>
                  <a:xfrm>
                    <a:off x="7467480" y="28195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5" name=""/>
                <p:cNvSpPr/>
                <p:nvPr/>
              </p:nvSpPr>
              <p:spPr>
                <a:xfrm>
                  <a:off x="7521480" y="26290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6" name=""/>
                <p:cNvGrpSpPr/>
                <p:nvPr/>
              </p:nvGrpSpPr>
              <p:grpSpPr>
                <a:xfrm>
                  <a:off x="7588080" y="2667240"/>
                  <a:ext cx="304920" cy="75960"/>
                  <a:chOff x="7588080" y="2667240"/>
                  <a:chExt cx="304920" cy="75960"/>
                </a:xfrm>
              </p:grpSpPr>
              <p:sp>
                <p:nvSpPr>
                  <p:cNvPr id="3687" name=""/>
                  <p:cNvSpPr/>
                  <p:nvPr/>
                </p:nvSpPr>
                <p:spPr>
                  <a:xfrm>
                    <a:off x="75880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8" name=""/>
                  <p:cNvSpPr/>
                  <p:nvPr/>
                </p:nvSpPr>
                <p:spPr>
                  <a:xfrm>
                    <a:off x="76644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9" name=""/>
                  <p:cNvSpPr/>
                  <p:nvPr/>
                </p:nvSpPr>
                <p:spPr>
                  <a:xfrm>
                    <a:off x="77407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0" name=""/>
                  <p:cNvSpPr/>
                  <p:nvPr/>
                </p:nvSpPr>
                <p:spPr>
                  <a:xfrm>
                    <a:off x="78166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1" name=""/>
                  <p:cNvSpPr/>
                  <p:nvPr/>
                </p:nvSpPr>
                <p:spPr>
                  <a:xfrm>
                    <a:off x="78930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92" name=""/>
                <p:cNvSpPr/>
                <p:nvPr/>
              </p:nvSpPr>
              <p:spPr>
                <a:xfrm>
                  <a:off x="7546680" y="28670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>
                  <a:off x="7546680" y="29340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4" name=""/>
                <p:cNvSpPr/>
                <p:nvPr/>
              </p:nvSpPr>
              <p:spPr>
                <a:xfrm>
                  <a:off x="7546680" y="29973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5" name=""/>
              <p:cNvGrpSpPr/>
              <p:nvPr/>
            </p:nvGrpSpPr>
            <p:grpSpPr>
              <a:xfrm>
                <a:off x="8001000" y="2590920"/>
                <a:ext cx="533520" cy="457200"/>
                <a:chOff x="8001000" y="2590920"/>
                <a:chExt cx="533520" cy="457200"/>
              </a:xfrm>
            </p:grpSpPr>
            <p:grpSp>
              <p:nvGrpSpPr>
                <p:cNvPr id="3696" name=""/>
                <p:cNvGrpSpPr/>
                <p:nvPr/>
              </p:nvGrpSpPr>
              <p:grpSpPr>
                <a:xfrm>
                  <a:off x="8001000" y="2590920"/>
                  <a:ext cx="533520" cy="457200"/>
                  <a:chOff x="8001000" y="2590920"/>
                  <a:chExt cx="533520" cy="457200"/>
                </a:xfrm>
              </p:grpSpPr>
              <p:sp>
                <p:nvSpPr>
                  <p:cNvPr id="3697" name=""/>
                  <p:cNvSpPr/>
                  <p:nvPr/>
                </p:nvSpPr>
                <p:spPr>
                  <a:xfrm>
                    <a:off x="8001000" y="25909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8" name=""/>
                  <p:cNvSpPr/>
                  <p:nvPr/>
                </p:nvSpPr>
                <p:spPr>
                  <a:xfrm>
                    <a:off x="8001000" y="28195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99" name=""/>
                <p:cNvSpPr/>
                <p:nvPr/>
              </p:nvSpPr>
              <p:spPr>
                <a:xfrm>
                  <a:off x="8055000" y="26290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0" name=""/>
                <p:cNvGrpSpPr/>
                <p:nvPr/>
              </p:nvGrpSpPr>
              <p:grpSpPr>
                <a:xfrm>
                  <a:off x="8121600" y="2667240"/>
                  <a:ext cx="304920" cy="75960"/>
                  <a:chOff x="8121600" y="2667240"/>
                  <a:chExt cx="304920" cy="75960"/>
                </a:xfrm>
              </p:grpSpPr>
              <p:sp>
                <p:nvSpPr>
                  <p:cNvPr id="3701" name=""/>
                  <p:cNvSpPr/>
                  <p:nvPr/>
                </p:nvSpPr>
                <p:spPr>
                  <a:xfrm>
                    <a:off x="81216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2" name=""/>
                  <p:cNvSpPr/>
                  <p:nvPr/>
                </p:nvSpPr>
                <p:spPr>
                  <a:xfrm>
                    <a:off x="81979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3" name=""/>
                  <p:cNvSpPr/>
                  <p:nvPr/>
                </p:nvSpPr>
                <p:spPr>
                  <a:xfrm>
                    <a:off x="827424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4" name=""/>
                  <p:cNvSpPr/>
                  <p:nvPr/>
                </p:nvSpPr>
                <p:spPr>
                  <a:xfrm>
                    <a:off x="83502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5" name=""/>
                  <p:cNvSpPr/>
                  <p:nvPr/>
                </p:nvSpPr>
                <p:spPr>
                  <a:xfrm>
                    <a:off x="84265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06" name=""/>
                <p:cNvSpPr/>
                <p:nvPr/>
              </p:nvSpPr>
              <p:spPr>
                <a:xfrm>
                  <a:off x="8080200" y="28670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"/>
                <p:cNvSpPr/>
                <p:nvPr/>
              </p:nvSpPr>
              <p:spPr>
                <a:xfrm>
                  <a:off x="8080200" y="29340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8" name=""/>
                <p:cNvSpPr/>
                <p:nvPr/>
              </p:nvSpPr>
              <p:spPr>
                <a:xfrm>
                  <a:off x="8080200" y="29973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9" name=""/>
              <p:cNvGrpSpPr/>
              <p:nvPr/>
            </p:nvGrpSpPr>
            <p:grpSpPr>
              <a:xfrm>
                <a:off x="7467480" y="2590920"/>
                <a:ext cx="533520" cy="457200"/>
                <a:chOff x="7467480" y="2590920"/>
                <a:chExt cx="533520" cy="457200"/>
              </a:xfrm>
            </p:grpSpPr>
            <p:grpSp>
              <p:nvGrpSpPr>
                <p:cNvPr id="3710" name=""/>
                <p:cNvGrpSpPr/>
                <p:nvPr/>
              </p:nvGrpSpPr>
              <p:grpSpPr>
                <a:xfrm>
                  <a:off x="7467480" y="2590920"/>
                  <a:ext cx="533520" cy="457200"/>
                  <a:chOff x="7467480" y="2590920"/>
                  <a:chExt cx="533520" cy="457200"/>
                </a:xfrm>
              </p:grpSpPr>
              <p:sp>
                <p:nvSpPr>
                  <p:cNvPr id="3711" name=""/>
                  <p:cNvSpPr/>
                  <p:nvPr/>
                </p:nvSpPr>
                <p:spPr>
                  <a:xfrm>
                    <a:off x="7467480" y="25909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2" name=""/>
                  <p:cNvSpPr/>
                  <p:nvPr/>
                </p:nvSpPr>
                <p:spPr>
                  <a:xfrm>
                    <a:off x="7467480" y="28195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13" name=""/>
                <p:cNvSpPr/>
                <p:nvPr/>
              </p:nvSpPr>
              <p:spPr>
                <a:xfrm>
                  <a:off x="7521480" y="26290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4" name=""/>
                <p:cNvGrpSpPr/>
                <p:nvPr/>
              </p:nvGrpSpPr>
              <p:grpSpPr>
                <a:xfrm>
                  <a:off x="7588080" y="2667240"/>
                  <a:ext cx="304920" cy="75960"/>
                  <a:chOff x="7588080" y="2667240"/>
                  <a:chExt cx="304920" cy="75960"/>
                </a:xfrm>
              </p:grpSpPr>
              <p:sp>
                <p:nvSpPr>
                  <p:cNvPr id="3715" name=""/>
                  <p:cNvSpPr/>
                  <p:nvPr/>
                </p:nvSpPr>
                <p:spPr>
                  <a:xfrm>
                    <a:off x="75880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6" name=""/>
                  <p:cNvSpPr/>
                  <p:nvPr/>
                </p:nvSpPr>
                <p:spPr>
                  <a:xfrm>
                    <a:off x="76644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7" name=""/>
                  <p:cNvSpPr/>
                  <p:nvPr/>
                </p:nvSpPr>
                <p:spPr>
                  <a:xfrm>
                    <a:off x="77407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8" name=""/>
                  <p:cNvSpPr/>
                  <p:nvPr/>
                </p:nvSpPr>
                <p:spPr>
                  <a:xfrm>
                    <a:off x="78166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9" name=""/>
                  <p:cNvSpPr/>
                  <p:nvPr/>
                </p:nvSpPr>
                <p:spPr>
                  <a:xfrm>
                    <a:off x="78930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20" name=""/>
                <p:cNvSpPr/>
                <p:nvPr/>
              </p:nvSpPr>
              <p:spPr>
                <a:xfrm>
                  <a:off x="7546680" y="28670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"/>
                <p:cNvSpPr/>
                <p:nvPr/>
              </p:nvSpPr>
              <p:spPr>
                <a:xfrm>
                  <a:off x="7546680" y="29340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"/>
                <p:cNvSpPr/>
                <p:nvPr/>
              </p:nvSpPr>
              <p:spPr>
                <a:xfrm>
                  <a:off x="7546680" y="29973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23" name=""/>
          <p:cNvGrpSpPr/>
          <p:nvPr/>
        </p:nvGrpSpPr>
        <p:grpSpPr>
          <a:xfrm>
            <a:off x="4800600" y="1066680"/>
            <a:ext cx="3733920" cy="4724640"/>
            <a:chOff x="4800600" y="1066680"/>
            <a:chExt cx="3733920" cy="4724640"/>
          </a:xfrm>
        </p:grpSpPr>
        <p:grpSp>
          <p:nvGrpSpPr>
            <p:cNvPr id="3724" name=""/>
            <p:cNvGrpSpPr/>
            <p:nvPr/>
          </p:nvGrpSpPr>
          <p:grpSpPr>
            <a:xfrm>
              <a:off x="5334120" y="3048120"/>
              <a:ext cx="533160" cy="2743200"/>
              <a:chOff x="5334120" y="3048120"/>
              <a:chExt cx="533160" cy="2743200"/>
            </a:xfrm>
          </p:grpSpPr>
          <p:grpSp>
            <p:nvGrpSpPr>
              <p:cNvPr id="3725" name=""/>
              <p:cNvGrpSpPr/>
              <p:nvPr/>
            </p:nvGrpSpPr>
            <p:grpSpPr>
              <a:xfrm>
                <a:off x="5334120" y="5334120"/>
                <a:ext cx="533160" cy="457200"/>
                <a:chOff x="5334120" y="5334120"/>
                <a:chExt cx="533160" cy="457200"/>
              </a:xfrm>
            </p:grpSpPr>
            <p:grpSp>
              <p:nvGrpSpPr>
                <p:cNvPr id="3726" name=""/>
                <p:cNvGrpSpPr/>
                <p:nvPr/>
              </p:nvGrpSpPr>
              <p:grpSpPr>
                <a:xfrm>
                  <a:off x="5334120" y="5334120"/>
                  <a:ext cx="533160" cy="457200"/>
                  <a:chOff x="5334120" y="5334120"/>
                  <a:chExt cx="533160" cy="457200"/>
                </a:xfrm>
              </p:grpSpPr>
              <p:sp>
                <p:nvSpPr>
                  <p:cNvPr id="3727" name=""/>
                  <p:cNvSpPr/>
                  <p:nvPr/>
                </p:nvSpPr>
                <p:spPr>
                  <a:xfrm>
                    <a:off x="5334120" y="53341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0086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8" name=""/>
                  <p:cNvSpPr/>
                  <p:nvPr/>
                </p:nvSpPr>
                <p:spPr>
                  <a:xfrm>
                    <a:off x="5334120" y="55627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0086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29" name=""/>
                <p:cNvSpPr/>
                <p:nvPr/>
              </p:nvSpPr>
              <p:spPr>
                <a:xfrm>
                  <a:off x="5410080" y="56390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0" name=""/>
                <p:cNvSpPr/>
                <p:nvPr/>
              </p:nvSpPr>
              <p:spPr>
                <a:xfrm>
                  <a:off x="5388120" y="53722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>
                  <a:off x="5562720" y="5639040"/>
                  <a:ext cx="7596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2" name=""/>
              <p:cNvSpPr/>
              <p:nvPr/>
            </p:nvSpPr>
            <p:spPr>
              <a:xfrm>
                <a:off x="5562720" y="4419720"/>
                <a:ext cx="0" cy="91440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562720" y="3048120"/>
                <a:ext cx="0" cy="91440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4" name=""/>
              <p:cNvGrpSpPr/>
              <p:nvPr/>
            </p:nvGrpSpPr>
            <p:grpSpPr>
              <a:xfrm>
                <a:off x="5334120" y="3962520"/>
                <a:ext cx="533160" cy="457200"/>
                <a:chOff x="5334120" y="3962520"/>
                <a:chExt cx="533160" cy="457200"/>
              </a:xfrm>
            </p:grpSpPr>
            <p:grpSp>
              <p:nvGrpSpPr>
                <p:cNvPr id="3735" name=""/>
                <p:cNvGrpSpPr/>
                <p:nvPr/>
              </p:nvGrpSpPr>
              <p:grpSpPr>
                <a:xfrm>
                  <a:off x="5334120" y="3962520"/>
                  <a:ext cx="533160" cy="457200"/>
                  <a:chOff x="5334120" y="3962520"/>
                  <a:chExt cx="533160" cy="457200"/>
                </a:xfrm>
              </p:grpSpPr>
              <p:sp>
                <p:nvSpPr>
                  <p:cNvPr id="3736" name=""/>
                  <p:cNvSpPr/>
                  <p:nvPr/>
                </p:nvSpPr>
                <p:spPr>
                  <a:xfrm>
                    <a:off x="5334120" y="3962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0086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7" name=""/>
                  <p:cNvSpPr/>
                  <p:nvPr/>
                </p:nvSpPr>
                <p:spPr>
                  <a:xfrm>
                    <a:off x="5334120" y="41911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0086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8" name=""/>
                <p:cNvSpPr/>
                <p:nvPr/>
              </p:nvSpPr>
              <p:spPr>
                <a:xfrm>
                  <a:off x="5410080" y="42674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5388120" y="40006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5562720" y="4267440"/>
                  <a:ext cx="7596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1" name=""/>
            <p:cNvSpPr/>
            <p:nvPr/>
          </p:nvSpPr>
          <p:spPr>
            <a:xfrm>
              <a:off x="4800600" y="1066680"/>
              <a:ext cx="373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Redes redunda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Troca a qu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42" name="" descr=""/>
          <p:cNvPicPr/>
          <p:nvPr/>
        </p:nvPicPr>
        <p:blipFill>
          <a:blip r:embed="rId1"/>
          <a:stretch/>
        </p:blipFill>
        <p:spPr>
          <a:xfrm>
            <a:off x="2962440" y="4343400"/>
            <a:ext cx="1609560" cy="1057320"/>
          </a:xfrm>
          <a:prstGeom prst="rect">
            <a:avLst/>
          </a:prstGeom>
          <a:ln w="0">
            <a:noFill/>
          </a:ln>
        </p:spPr>
      </p:pic>
      <p:pic>
        <p:nvPicPr>
          <p:cNvPr id="3743" name="" descr=""/>
          <p:cNvPicPr/>
          <p:nvPr/>
        </p:nvPicPr>
        <p:blipFill>
          <a:blip r:embed="rId2"/>
          <a:stretch/>
        </p:blipFill>
        <p:spPr>
          <a:xfrm>
            <a:off x="2971800" y="3352680"/>
            <a:ext cx="1714680" cy="657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3581280" y="24379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66ff"/>
                </a:solidFill>
                <a:latin typeface="Tahoma"/>
              </a:rPr>
              <a:t>final</a:t>
            </a:r>
            <a:endParaRPr b="0" lang="en-US" sz="106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3746" name=""/>
          <p:cNvGrpSpPr/>
          <p:nvPr/>
        </p:nvGrpSpPr>
        <p:grpSpPr>
          <a:xfrm>
            <a:off x="2743200" y="2666880"/>
            <a:ext cx="914400" cy="914400"/>
            <a:chOff x="2743200" y="2666880"/>
            <a:chExt cx="914400" cy="914400"/>
          </a:xfrm>
        </p:grpSpPr>
        <p:sp>
          <p:nvSpPr>
            <p:cNvPr id="3747" name=""/>
            <p:cNvSpPr/>
            <p:nvPr/>
          </p:nvSpPr>
          <p:spPr>
            <a:xfrm>
              <a:off x="2743200" y="26668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904480" y="2774160"/>
              <a:ext cx="376200" cy="376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49" name="logocapa" descr=""/>
          <p:cNvPicPr/>
          <p:nvPr/>
        </p:nvPicPr>
        <p:blipFill>
          <a:blip r:embed="rId1"/>
          <a:stretch/>
        </p:blipFill>
        <p:spPr>
          <a:xfrm>
            <a:off x="2438280" y="4038480"/>
            <a:ext cx="4496040" cy="1913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Módulos de entrada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751" name=""/>
          <p:cNvSpPr/>
          <p:nvPr/>
        </p:nvSpPr>
        <p:spPr>
          <a:xfrm>
            <a:off x="533520" y="22604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533520" y="317808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1905120" y="2260440"/>
            <a:ext cx="632448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6 ED 24 Vdc o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1905120" y="3178080"/>
            <a:ext cx="632448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ED 220Vac o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533520" y="27176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1905120" y="2717640"/>
            <a:ext cx="632448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6 ED 110 Vac o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533520" y="36320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1905120" y="3632040"/>
            <a:ext cx="632448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6 ED 48 Vdc o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533520" y="50036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1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1905120" y="5003640"/>
            <a:ext cx="632448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EA universal iso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533520" y="22604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533520" y="54608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70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1905120" y="5460840"/>
            <a:ext cx="632448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 EA + 2 SA universal misto isola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1905120" y="1447920"/>
            <a:ext cx="6324480" cy="70380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ód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533520" y="1447920"/>
            <a:ext cx="1295280" cy="70380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ód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>
            <a:hlinkClick r:id="rId1" action="ppaction://hlinksldjump"/>
          </p:cNvPr>
          <p:cNvSpPr/>
          <p:nvPr/>
        </p:nvSpPr>
        <p:spPr>
          <a:xfrm>
            <a:off x="228600" y="2286000"/>
            <a:ext cx="228600" cy="228600"/>
          </a:xfrm>
          <a:custGeom>
            <a:avLst/>
            <a:gdLst>
              <a:gd name="textAreaLeft" fmla="*/ 25920 w 228600"/>
              <a:gd name="textAreaRight" fmla="*/ 202680 w 228600"/>
              <a:gd name="textAreaTop" fmla="*/ 25920 h 228600"/>
              <a:gd name="textAreaBottom" fmla="*/ 202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152" y="2448"/>
                </a:lnTo>
                <a:lnTo>
                  <a:pt x="2448" y="244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152" y="19152"/>
                </a:lnTo>
                <a:lnTo>
                  <a:pt x="19152" y="244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448" y="19152"/>
                </a:lnTo>
                <a:lnTo>
                  <a:pt x="19152" y="1915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448" y="2448"/>
                </a:lnTo>
                <a:lnTo>
                  <a:pt x="2448" y="1915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>
            <a:hlinkClick r:id="rId2" action="ppaction://hlinksldjump"/>
          </p:cNvPr>
          <p:cNvSpPr/>
          <p:nvPr/>
        </p:nvSpPr>
        <p:spPr>
          <a:xfrm>
            <a:off x="96048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533520" y="40892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1905120" y="4089240"/>
            <a:ext cx="632448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32 ED 24 Vdc o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533520" y="45464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1905120" y="4546440"/>
            <a:ext cx="632448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6 ED 24 Vdc opto com interrup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066680"/>
            <a:ext cx="7467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Sistema de E/S modular para Redes de Ca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Série   </a:t>
            </a:r>
            <a:r>
              <a:rPr b="1" lang="en-US" sz="4800" spc="-1" strike="noStrike">
                <a:solidFill>
                  <a:srgbClr val="0066ff"/>
                </a:solidFill>
                <a:latin typeface="AvantGarde Md BT"/>
              </a:rPr>
              <a:t>Po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ltus01b" descr=""/>
          <p:cNvPicPr/>
          <p:nvPr/>
        </p:nvPicPr>
        <p:blipFill>
          <a:blip r:embed="rId1"/>
          <a:stretch/>
        </p:blipFill>
        <p:spPr>
          <a:xfrm>
            <a:off x="3173400" y="2030400"/>
            <a:ext cx="5742000" cy="2770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167652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Conexão direta à fiação de campo sem uso de bornes intermedi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51460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Fusíveis integrados no mód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09720" y="4267080"/>
            <a:ext cx="3111840" cy="1752480"/>
            <a:chOff x="5409720" y="4267080"/>
            <a:chExt cx="3111840" cy="1752480"/>
          </a:xfrm>
        </p:grpSpPr>
        <p:grpSp>
          <p:nvGrpSpPr>
            <p:cNvPr id="58" name=""/>
            <p:cNvGrpSpPr/>
            <p:nvPr/>
          </p:nvGrpSpPr>
          <p:grpSpPr>
            <a:xfrm>
              <a:off x="5409720" y="5790960"/>
              <a:ext cx="611280" cy="228600"/>
              <a:chOff x="5409720" y="5790960"/>
              <a:chExt cx="611280" cy="228600"/>
            </a:xfrm>
          </p:grpSpPr>
          <p:sp>
            <p:nvSpPr>
              <p:cNvPr id="59" name=""/>
              <p:cNvSpPr/>
              <p:nvPr/>
            </p:nvSpPr>
            <p:spPr>
              <a:xfrm rot="5400000">
                <a:off x="5670360" y="5639760"/>
                <a:ext cx="171360" cy="529920"/>
              </a:xfrm>
              <a:prstGeom prst="rect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400000">
                <a:off x="5364360" y="5864040"/>
                <a:ext cx="171360" cy="810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400000">
                <a:off x="5397840" y="5884920"/>
                <a:ext cx="228600" cy="4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73520" y="581940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614200" y="581940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614200" y="581940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49760" y="581940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594040" y="581940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6627600" y="5486040"/>
              <a:ext cx="610560" cy="228600"/>
              <a:chOff x="6627600" y="5486040"/>
              <a:chExt cx="610560" cy="228600"/>
            </a:xfrm>
          </p:grpSpPr>
          <p:sp>
            <p:nvSpPr>
              <p:cNvPr id="68" name=""/>
              <p:cNvSpPr/>
              <p:nvPr/>
            </p:nvSpPr>
            <p:spPr>
              <a:xfrm rot="5400000">
                <a:off x="6887520" y="5334840"/>
                <a:ext cx="171360" cy="529560"/>
              </a:xfrm>
              <a:prstGeom prst="rect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5400000">
                <a:off x="6582240" y="5559120"/>
                <a:ext cx="171360" cy="810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5400000">
                <a:off x="6615720" y="5580000"/>
                <a:ext cx="228600" cy="4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791400" y="55144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32080" y="55144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832080" y="55144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67640" y="55144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11920" y="55144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6934320" y="4571640"/>
              <a:ext cx="0" cy="685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15000" y="4876560"/>
              <a:ext cx="0" cy="685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229600" y="4267080"/>
              <a:ext cx="0" cy="6094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7924680" y="4952880"/>
              <a:ext cx="596880" cy="466560"/>
              <a:chOff x="7924680" y="4952880"/>
              <a:chExt cx="596880" cy="466560"/>
            </a:xfrm>
          </p:grpSpPr>
          <p:sp>
            <p:nvSpPr>
              <p:cNvPr id="80" name=""/>
              <p:cNvSpPr/>
              <p:nvPr/>
            </p:nvSpPr>
            <p:spPr>
              <a:xfrm flipV="1">
                <a:off x="7924680" y="5352840"/>
                <a:ext cx="596880" cy="66240"/>
              </a:xfrm>
              <a:custGeom>
                <a:avLst/>
                <a:gdLst>
                  <a:gd name="textAreaLeft" fmla="*/ 131040 w 596880"/>
                  <a:gd name="textAreaRight" fmla="*/ 465840 w 596880"/>
                  <a:gd name="textAreaTop" fmla="*/ 14400 h 66240"/>
                  <a:gd name="textAreaBottom" fmla="*/ 51840 h 6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8000640" y="4952880"/>
                <a:ext cx="444600" cy="466560"/>
                <a:chOff x="8000640" y="4952880"/>
                <a:chExt cx="444600" cy="4665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8000640" y="4952880"/>
                  <a:ext cx="444600" cy="466560"/>
                </a:xfrm>
                <a:prstGeom prst="ellipse">
                  <a:avLst/>
                </a:prstGeom>
                <a:solidFill>
                  <a:srgbClr val="cf0e3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153280" y="5113080"/>
                  <a:ext cx="139680" cy="145440"/>
                </a:xfrm>
                <a:prstGeom prst="ellipse">
                  <a:avLst/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Módulos de saída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773" name=""/>
          <p:cNvSpPr/>
          <p:nvPr/>
        </p:nvSpPr>
        <p:spPr>
          <a:xfrm>
            <a:off x="533520" y="22604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533520" y="31748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20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1905120" y="2260440"/>
            <a:ext cx="66294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6 SD 24 Vdc / 2 A transistor o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1905120" y="3174840"/>
            <a:ext cx="66294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6 SD Relé 2 A NA contato se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533520" y="27176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1905120" y="2717640"/>
            <a:ext cx="66294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6 SD 110/220 Vac / 2 A triac o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533520" y="36320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20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1905120" y="3632040"/>
            <a:ext cx="66294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 SD tran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533520" y="22604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1905120" y="1447920"/>
            <a:ext cx="6629400" cy="70380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ód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533520" y="1447920"/>
            <a:ext cx="1295280" cy="70380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ód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>
            <a:hlinkClick r:id="rId1" action="ppaction://hlinksldjump"/>
          </p:cNvPr>
          <p:cNvSpPr/>
          <p:nvPr/>
        </p:nvSpPr>
        <p:spPr>
          <a:xfrm>
            <a:off x="960480" y="63752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7503"/>
                </a:moveTo>
                <a:lnTo>
                  <a:pt x="7301" y="7503"/>
                </a:lnTo>
                <a:lnTo>
                  <a:pt x="7301" y="12838"/>
                </a:lnTo>
                <a:cubicBezTo>
                  <a:pt x="7301" y="13761"/>
                  <a:pt x="8102" y="14492"/>
                  <a:pt x="9138" y="14492"/>
                </a:cubicBezTo>
                <a:lnTo>
                  <a:pt x="10800" y="14492"/>
                </a:lnTo>
                <a:cubicBezTo>
                  <a:pt x="11836" y="14492"/>
                  <a:pt x="12636" y="13761"/>
                  <a:pt x="12636" y="12838"/>
                </a:cubicBezTo>
                <a:lnTo>
                  <a:pt x="12636" y="7503"/>
                </a:lnTo>
                <a:lnTo>
                  <a:pt x="10800" y="7503"/>
                </a:lnTo>
                <a:lnTo>
                  <a:pt x="14308" y="3995"/>
                </a:lnTo>
                <a:lnTo>
                  <a:pt x="17981" y="7503"/>
                </a:lnTo>
                <a:lnTo>
                  <a:pt x="16144" y="7503"/>
                </a:lnTo>
                <a:lnTo>
                  <a:pt x="16144" y="12838"/>
                </a:lnTo>
                <a:cubicBezTo>
                  <a:pt x="16144" y="15606"/>
                  <a:pt x="13568" y="18165"/>
                  <a:pt x="10800" y="18165"/>
                </a:cubicBezTo>
                <a:lnTo>
                  <a:pt x="9138" y="18165"/>
                </a:lnTo>
                <a:cubicBezTo>
                  <a:pt x="6370" y="18165"/>
                  <a:pt x="3794" y="15606"/>
                  <a:pt x="3794" y="12838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533520" y="40892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21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1905120" y="4089240"/>
            <a:ext cx="66294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SA universal iso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ahoma"/>
              </a:rPr>
              <a:t>Modelos de UCPs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788" name=""/>
          <p:cNvSpPr/>
          <p:nvPr/>
        </p:nvSpPr>
        <p:spPr>
          <a:xfrm>
            <a:off x="304920" y="1905120"/>
            <a:ext cx="26668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de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304920" y="2819520"/>
            <a:ext cx="26668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al serial RS232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304920" y="4648320"/>
            <a:ext cx="26668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304920" y="5105520"/>
            <a:ext cx="26668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ódulos de E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3048120" y="1447920"/>
            <a:ext cx="1371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30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3048120" y="19051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3048120" y="28195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3048120" y="46483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3048120" y="51055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4495680" y="1447920"/>
            <a:ext cx="13716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30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4495680" y="19051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4495680" y="28195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4495680" y="46483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4495680" y="51055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5943600" y="1447920"/>
            <a:ext cx="137160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30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5943600" y="19051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5943600" y="28195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5943600" y="46483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5943600" y="51055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304920" y="4191120"/>
            <a:ext cx="26668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ó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3048120" y="41911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4495680" y="41911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5943600" y="41911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304920" y="2362320"/>
            <a:ext cx="26668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ocolos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3048120" y="23623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4495680" y="23623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5943600" y="23623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304920" y="3276720"/>
            <a:ext cx="26668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al serial RS232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3048120" y="32767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4495680" y="32767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5943600" y="32767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304920" y="3733920"/>
            <a:ext cx="2666880" cy="70380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nal serial RS485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3048120" y="37339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4495680" y="37339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5943600" y="37339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7010280" y="1905120"/>
            <a:ext cx="15264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7010280" y="2819520"/>
            <a:ext cx="15264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7010280" y="3276720"/>
            <a:ext cx="15264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7010280" y="3733920"/>
            <a:ext cx="15264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7010280" y="4191120"/>
            <a:ext cx="15264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5562720" y="28195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5562720" y="32767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5562720" y="37339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5562720" y="41911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4114800" y="28195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4114800" y="32767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4114800" y="41911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7391520" y="1447920"/>
            <a:ext cx="137160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30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7391520" y="19051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7391520" y="28195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7391520" y="46483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7391520" y="51055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7391520" y="41911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7391520" y="23623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7391520" y="32767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7391520" y="37339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8458200" y="19051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8458200" y="23623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8458200" y="28195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8458200" y="32767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8458200" y="37339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8458200" y="41911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>
            <a:hlinkClick r:id="rId1" action="ppaction://hlinksldjump"/>
          </p:cNvPr>
          <p:cNvSpPr/>
          <p:nvPr/>
        </p:nvSpPr>
        <p:spPr>
          <a:xfrm>
            <a:off x="96048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"/>
          <p:cNvSpPr/>
          <p:nvPr/>
        </p:nvSpPr>
        <p:spPr>
          <a:xfrm flipH="1" flipV="1">
            <a:off x="7553160" y="2411280"/>
            <a:ext cx="184320" cy="6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 flipV="1">
            <a:off x="6172200" y="28951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 flipH="1" flipV="1">
            <a:off x="7601040" y="1981080"/>
            <a:ext cx="304560" cy="152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 flipV="1">
            <a:off x="7601040" y="289512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 flipH="1" flipV="1">
            <a:off x="6915240" y="1981080"/>
            <a:ext cx="304560" cy="152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PO1000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5562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16 pontos tipo sink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optoisolado individualmente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Consumo 100 ma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LED de diagnóstico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858" name=""/>
          <p:cNvSpPr/>
          <p:nvPr/>
        </p:nvSpPr>
        <p:spPr>
          <a:xfrm>
            <a:off x="380880" y="9144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ódulo 16 ED 24 Vdc o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9" name=""/>
          <p:cNvGrpSpPr/>
          <p:nvPr/>
        </p:nvGrpSpPr>
        <p:grpSpPr>
          <a:xfrm>
            <a:off x="6762600" y="1828800"/>
            <a:ext cx="228240" cy="1142280"/>
            <a:chOff x="6762600" y="1828800"/>
            <a:chExt cx="228240" cy="1142280"/>
          </a:xfrm>
        </p:grpSpPr>
        <p:grpSp>
          <p:nvGrpSpPr>
            <p:cNvPr id="3860" name=""/>
            <p:cNvGrpSpPr/>
            <p:nvPr/>
          </p:nvGrpSpPr>
          <p:grpSpPr>
            <a:xfrm>
              <a:off x="6762600" y="1828800"/>
              <a:ext cx="228240" cy="228240"/>
              <a:chOff x="6762600" y="1828800"/>
              <a:chExt cx="228240" cy="228240"/>
            </a:xfrm>
          </p:grpSpPr>
          <p:sp>
            <p:nvSpPr>
              <p:cNvPr id="3861" name=""/>
              <p:cNvSpPr/>
              <p:nvPr/>
            </p:nvSpPr>
            <p:spPr>
              <a:xfrm flipV="1">
                <a:off x="6762600" y="1828800"/>
                <a:ext cx="228240" cy="22824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flipH="1" flipV="1">
                <a:off x="6820920" y="1837080"/>
                <a:ext cx="118800" cy="20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3" name=""/>
            <p:cNvGrpSpPr/>
            <p:nvPr/>
          </p:nvGrpSpPr>
          <p:grpSpPr>
            <a:xfrm>
              <a:off x="6762600" y="2286000"/>
              <a:ext cx="228240" cy="228600"/>
              <a:chOff x="6762600" y="2286000"/>
              <a:chExt cx="228240" cy="228600"/>
            </a:xfrm>
          </p:grpSpPr>
          <p:sp>
            <p:nvSpPr>
              <p:cNvPr id="3864" name=""/>
              <p:cNvSpPr/>
              <p:nvPr/>
            </p:nvSpPr>
            <p:spPr>
              <a:xfrm flipV="1">
                <a:off x="6762600" y="2285640"/>
                <a:ext cx="228240" cy="22860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 flipH="1" flipV="1">
                <a:off x="6820920" y="2293920"/>
                <a:ext cx="118800" cy="20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6" name=""/>
            <p:cNvGrpSpPr/>
            <p:nvPr/>
          </p:nvGrpSpPr>
          <p:grpSpPr>
            <a:xfrm>
              <a:off x="6762600" y="2742840"/>
              <a:ext cx="228240" cy="228240"/>
              <a:chOff x="6762600" y="2742840"/>
              <a:chExt cx="228240" cy="228240"/>
            </a:xfrm>
          </p:grpSpPr>
          <p:sp>
            <p:nvSpPr>
              <p:cNvPr id="3867" name=""/>
              <p:cNvSpPr/>
              <p:nvPr/>
            </p:nvSpPr>
            <p:spPr>
              <a:xfrm flipV="1">
                <a:off x="6762600" y="2742840"/>
                <a:ext cx="228240" cy="22824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 flipH="1" flipV="1">
                <a:off x="6820920" y="2751120"/>
                <a:ext cx="118800" cy="20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69" name=""/>
          <p:cNvGrpSpPr/>
          <p:nvPr/>
        </p:nvGrpSpPr>
        <p:grpSpPr>
          <a:xfrm>
            <a:off x="7439040" y="1828800"/>
            <a:ext cx="228240" cy="1142280"/>
            <a:chOff x="7439040" y="1828800"/>
            <a:chExt cx="228240" cy="1142280"/>
          </a:xfrm>
        </p:grpSpPr>
        <p:grpSp>
          <p:nvGrpSpPr>
            <p:cNvPr id="3870" name=""/>
            <p:cNvGrpSpPr/>
            <p:nvPr/>
          </p:nvGrpSpPr>
          <p:grpSpPr>
            <a:xfrm>
              <a:off x="7439040" y="1828800"/>
              <a:ext cx="228240" cy="228240"/>
              <a:chOff x="7439040" y="1828800"/>
              <a:chExt cx="228240" cy="228240"/>
            </a:xfrm>
          </p:grpSpPr>
          <p:sp>
            <p:nvSpPr>
              <p:cNvPr id="3871" name=""/>
              <p:cNvSpPr/>
              <p:nvPr/>
            </p:nvSpPr>
            <p:spPr>
              <a:xfrm flipV="1">
                <a:off x="7439040" y="1828800"/>
                <a:ext cx="228240" cy="22824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H="1" flipV="1">
                <a:off x="7497360" y="1837080"/>
                <a:ext cx="118800" cy="20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3" name=""/>
            <p:cNvGrpSpPr/>
            <p:nvPr/>
          </p:nvGrpSpPr>
          <p:grpSpPr>
            <a:xfrm>
              <a:off x="7439040" y="2286000"/>
              <a:ext cx="228240" cy="228600"/>
              <a:chOff x="7439040" y="2286000"/>
              <a:chExt cx="228240" cy="228600"/>
            </a:xfrm>
          </p:grpSpPr>
          <p:sp>
            <p:nvSpPr>
              <p:cNvPr id="3874" name=""/>
              <p:cNvSpPr/>
              <p:nvPr/>
            </p:nvSpPr>
            <p:spPr>
              <a:xfrm flipV="1">
                <a:off x="7439040" y="2285640"/>
                <a:ext cx="228240" cy="22860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H="1" flipV="1">
                <a:off x="7497360" y="2293920"/>
                <a:ext cx="118800" cy="20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6" name=""/>
            <p:cNvGrpSpPr/>
            <p:nvPr/>
          </p:nvGrpSpPr>
          <p:grpSpPr>
            <a:xfrm>
              <a:off x="7439040" y="2742840"/>
              <a:ext cx="228240" cy="228240"/>
              <a:chOff x="7439040" y="2742840"/>
              <a:chExt cx="228240" cy="228240"/>
            </a:xfrm>
          </p:grpSpPr>
          <p:sp>
            <p:nvSpPr>
              <p:cNvPr id="3877" name=""/>
              <p:cNvSpPr/>
              <p:nvPr/>
            </p:nvSpPr>
            <p:spPr>
              <a:xfrm flipV="1">
                <a:off x="7439040" y="2742840"/>
                <a:ext cx="228240" cy="22824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 flipH="1" flipV="1">
                <a:off x="7497360" y="2751120"/>
                <a:ext cx="118800" cy="20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9" name=""/>
          <p:cNvGrpSpPr/>
          <p:nvPr/>
        </p:nvGrpSpPr>
        <p:grpSpPr>
          <a:xfrm>
            <a:off x="6076800" y="1828800"/>
            <a:ext cx="228240" cy="1142280"/>
            <a:chOff x="6076800" y="1828800"/>
            <a:chExt cx="228240" cy="1142280"/>
          </a:xfrm>
        </p:grpSpPr>
        <p:grpSp>
          <p:nvGrpSpPr>
            <p:cNvPr id="3880" name=""/>
            <p:cNvGrpSpPr/>
            <p:nvPr/>
          </p:nvGrpSpPr>
          <p:grpSpPr>
            <a:xfrm>
              <a:off x="6076800" y="1828800"/>
              <a:ext cx="228240" cy="228240"/>
              <a:chOff x="6076800" y="1828800"/>
              <a:chExt cx="228240" cy="228240"/>
            </a:xfrm>
          </p:grpSpPr>
          <p:sp>
            <p:nvSpPr>
              <p:cNvPr id="3881" name=""/>
              <p:cNvSpPr/>
              <p:nvPr/>
            </p:nvSpPr>
            <p:spPr>
              <a:xfrm flipV="1">
                <a:off x="6076800" y="1828800"/>
                <a:ext cx="228240" cy="2282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 flipH="1" flipV="1">
                <a:off x="6135120" y="1837080"/>
                <a:ext cx="118800" cy="20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3" name=""/>
            <p:cNvGrpSpPr/>
            <p:nvPr/>
          </p:nvGrpSpPr>
          <p:grpSpPr>
            <a:xfrm>
              <a:off x="6076800" y="2286000"/>
              <a:ext cx="228240" cy="228600"/>
              <a:chOff x="6076800" y="2286000"/>
              <a:chExt cx="228240" cy="228600"/>
            </a:xfrm>
          </p:grpSpPr>
          <p:sp>
            <p:nvSpPr>
              <p:cNvPr id="3884" name=""/>
              <p:cNvSpPr/>
              <p:nvPr/>
            </p:nvSpPr>
            <p:spPr>
              <a:xfrm flipV="1">
                <a:off x="6076800" y="2285640"/>
                <a:ext cx="228240" cy="2286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 flipH="1" flipV="1">
                <a:off x="6135120" y="2293920"/>
                <a:ext cx="118800" cy="20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6" name=""/>
            <p:cNvGrpSpPr/>
            <p:nvPr/>
          </p:nvGrpSpPr>
          <p:grpSpPr>
            <a:xfrm>
              <a:off x="6076800" y="2742840"/>
              <a:ext cx="228240" cy="228240"/>
              <a:chOff x="6076800" y="2742840"/>
              <a:chExt cx="228240" cy="228240"/>
            </a:xfrm>
          </p:grpSpPr>
          <p:sp>
            <p:nvSpPr>
              <p:cNvPr id="3887" name=""/>
              <p:cNvSpPr/>
              <p:nvPr/>
            </p:nvSpPr>
            <p:spPr>
              <a:xfrm flipV="1">
                <a:off x="6076800" y="2742840"/>
                <a:ext cx="228240" cy="2282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flipH="1" flipV="1">
                <a:off x="6135120" y="2751120"/>
                <a:ext cx="118800" cy="20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89" name=""/>
          <p:cNvSpPr/>
          <p:nvPr/>
        </p:nvSpPr>
        <p:spPr>
          <a:xfrm>
            <a:off x="5695920" y="1752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704640" y="137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7437240" y="1371600"/>
            <a:ext cx="5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5727600" y="2254320"/>
            <a:ext cx="2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5697360" y="27115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 rot="16200000">
            <a:off x="7140600" y="50259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 rot="16200000">
            <a:off x="6835680" y="50259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 flipV="1">
            <a:off x="7216920" y="2133720"/>
            <a:ext cx="2880" cy="28922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 flipV="1">
            <a:off x="6913440" y="502776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8305920" y="2971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9" name=""/>
          <p:cNvGrpSpPr/>
          <p:nvPr/>
        </p:nvGrpSpPr>
        <p:grpSpPr>
          <a:xfrm>
            <a:off x="7524720" y="4572000"/>
            <a:ext cx="456840" cy="762120"/>
            <a:chOff x="7524720" y="4572000"/>
            <a:chExt cx="456840" cy="762120"/>
          </a:xfrm>
        </p:grpSpPr>
        <p:sp>
          <p:nvSpPr>
            <p:cNvPr id="3900" name=""/>
            <p:cNvSpPr/>
            <p:nvPr/>
          </p:nvSpPr>
          <p:spPr>
            <a:xfrm>
              <a:off x="7524720" y="4572000"/>
              <a:ext cx="456840" cy="60948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7524720" y="5181480"/>
              <a:ext cx="456840" cy="1526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2" name=""/>
          <p:cNvSpPr/>
          <p:nvPr/>
        </p:nvSpPr>
        <p:spPr>
          <a:xfrm flipV="1">
            <a:off x="7905600" y="2133720"/>
            <a:ext cx="0" cy="24350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8439120" y="1752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8470800" y="2209680"/>
            <a:ext cx="2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8519040" y="2666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6" name=""/>
          <p:cNvGrpSpPr/>
          <p:nvPr/>
        </p:nvGrpSpPr>
        <p:grpSpPr>
          <a:xfrm>
            <a:off x="8210520" y="1828800"/>
            <a:ext cx="228240" cy="1142280"/>
            <a:chOff x="8210520" y="1828800"/>
            <a:chExt cx="228240" cy="1142280"/>
          </a:xfrm>
        </p:grpSpPr>
        <p:grpSp>
          <p:nvGrpSpPr>
            <p:cNvPr id="3907" name=""/>
            <p:cNvGrpSpPr/>
            <p:nvPr/>
          </p:nvGrpSpPr>
          <p:grpSpPr>
            <a:xfrm>
              <a:off x="8210520" y="1828800"/>
              <a:ext cx="228240" cy="228240"/>
              <a:chOff x="8210520" y="1828800"/>
              <a:chExt cx="228240" cy="228240"/>
            </a:xfrm>
          </p:grpSpPr>
          <p:sp>
            <p:nvSpPr>
              <p:cNvPr id="3908" name=""/>
              <p:cNvSpPr/>
              <p:nvPr/>
            </p:nvSpPr>
            <p:spPr>
              <a:xfrm flipV="1">
                <a:off x="8210520" y="1828800"/>
                <a:ext cx="228240" cy="2282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 flipH="1" flipV="1">
                <a:off x="8268840" y="1837080"/>
                <a:ext cx="118800" cy="20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0" name=""/>
            <p:cNvGrpSpPr/>
            <p:nvPr/>
          </p:nvGrpSpPr>
          <p:grpSpPr>
            <a:xfrm>
              <a:off x="8210520" y="2286000"/>
              <a:ext cx="228240" cy="228600"/>
              <a:chOff x="8210520" y="2286000"/>
              <a:chExt cx="228240" cy="228600"/>
            </a:xfrm>
          </p:grpSpPr>
          <p:sp>
            <p:nvSpPr>
              <p:cNvPr id="3911" name=""/>
              <p:cNvSpPr/>
              <p:nvPr/>
            </p:nvSpPr>
            <p:spPr>
              <a:xfrm flipV="1">
                <a:off x="8210520" y="2285640"/>
                <a:ext cx="228240" cy="2286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 flipH="1" flipV="1">
                <a:off x="8268840" y="2293920"/>
                <a:ext cx="118800" cy="20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3" name=""/>
            <p:cNvGrpSpPr/>
            <p:nvPr/>
          </p:nvGrpSpPr>
          <p:grpSpPr>
            <a:xfrm>
              <a:off x="8210520" y="2742840"/>
              <a:ext cx="228240" cy="228240"/>
              <a:chOff x="8210520" y="2742840"/>
              <a:chExt cx="228240" cy="228240"/>
            </a:xfrm>
          </p:grpSpPr>
          <p:sp>
            <p:nvSpPr>
              <p:cNvPr id="3914" name=""/>
              <p:cNvSpPr/>
              <p:nvPr/>
            </p:nvSpPr>
            <p:spPr>
              <a:xfrm flipV="1">
                <a:off x="8210520" y="2742840"/>
                <a:ext cx="228240" cy="2282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 flipH="1" flipV="1">
                <a:off x="8268840" y="2751120"/>
                <a:ext cx="118800" cy="20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16" name=""/>
          <p:cNvSpPr/>
          <p:nvPr/>
        </p:nvSpPr>
        <p:spPr>
          <a:xfrm>
            <a:off x="8259120" y="33526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24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5603760" y="335268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24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 flipV="1">
            <a:off x="6886440" y="297144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 flipV="1">
            <a:off x="7743960" y="25142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>
            <a:hlinkClick r:id="" action="ppaction://hlinkshowjump?jump=previousslide"/>
          </p:cNvPr>
          <p:cNvSpPr/>
          <p:nvPr/>
        </p:nvSpPr>
        <p:spPr>
          <a:xfrm>
            <a:off x="960480" y="63752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7503"/>
                </a:moveTo>
                <a:lnTo>
                  <a:pt x="7301" y="7503"/>
                </a:lnTo>
                <a:lnTo>
                  <a:pt x="7301" y="12838"/>
                </a:lnTo>
                <a:cubicBezTo>
                  <a:pt x="7301" y="13761"/>
                  <a:pt x="8102" y="14492"/>
                  <a:pt x="9138" y="14492"/>
                </a:cubicBezTo>
                <a:lnTo>
                  <a:pt x="10800" y="14492"/>
                </a:lnTo>
                <a:cubicBezTo>
                  <a:pt x="11836" y="14492"/>
                  <a:pt x="12636" y="13761"/>
                  <a:pt x="12636" y="12838"/>
                </a:cubicBezTo>
                <a:lnTo>
                  <a:pt x="12636" y="7503"/>
                </a:lnTo>
                <a:lnTo>
                  <a:pt x="10800" y="7503"/>
                </a:lnTo>
                <a:lnTo>
                  <a:pt x="14308" y="3995"/>
                </a:lnTo>
                <a:lnTo>
                  <a:pt x="17981" y="7503"/>
                </a:lnTo>
                <a:lnTo>
                  <a:pt x="16144" y="7503"/>
                </a:lnTo>
                <a:lnTo>
                  <a:pt x="16144" y="12838"/>
                </a:lnTo>
                <a:cubicBezTo>
                  <a:pt x="16144" y="15606"/>
                  <a:pt x="13568" y="18165"/>
                  <a:pt x="10800" y="18165"/>
                </a:cubicBezTo>
                <a:lnTo>
                  <a:pt x="9138" y="18165"/>
                </a:lnTo>
                <a:cubicBezTo>
                  <a:pt x="6370" y="18165"/>
                  <a:pt x="3794" y="15606"/>
                  <a:pt x="3794" y="12838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Série   </a:t>
            </a:r>
            <a:r>
              <a:rPr b="1" lang="en-US" sz="4800" spc="-1" strike="noStrike">
                <a:solidFill>
                  <a:srgbClr val="0066ff"/>
                </a:solidFill>
                <a:latin typeface="AvantGarde Md BT"/>
              </a:rPr>
              <a:t>Ponto</a:t>
            </a:r>
            <a:endParaRPr b="0" lang="en-US" sz="4800" spc="-1" strike="noStrike">
              <a:solidFill>
                <a:srgbClr val="0066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486400" y="2022480"/>
          <a:ext cx="144792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22480"/>
                    <a:ext cx="14479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505320" y="3276720"/>
            <a:ext cx="609480" cy="106668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1479600" cy="1373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19720" y="26668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862520" y="3200400"/>
            <a:ext cx="658800" cy="114300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990720"/>
            <a:ext cx="5791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Permite a ligação remota a UCPs de diversos fabric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altus03b" descr=""/>
          <p:cNvPicPr/>
          <p:nvPr/>
        </p:nvPicPr>
        <p:blipFill>
          <a:blip r:embed="rId4"/>
          <a:stretch/>
        </p:blipFill>
        <p:spPr>
          <a:xfrm>
            <a:off x="3809880" y="4495680"/>
            <a:ext cx="1851120" cy="2133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19320" y="365544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i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ice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Interligação direta com PCs / SoftPLC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Série   </a:t>
            </a:r>
            <a:r>
              <a:rPr b="1" lang="en-US" sz="4800" spc="-1" strike="noStrike">
                <a:solidFill>
                  <a:srgbClr val="0066ff"/>
                </a:solidFill>
                <a:latin typeface="AvantGarde Md BT"/>
              </a:rPr>
              <a:t>Ponto</a:t>
            </a:r>
            <a:endParaRPr b="0" lang="en-US" sz="48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971800" y="4495680"/>
            <a:ext cx="2666160" cy="457200"/>
            <a:chOff x="2971800" y="4495680"/>
            <a:chExt cx="2666160" cy="457200"/>
          </a:xfrm>
        </p:grpSpPr>
        <p:grpSp>
          <p:nvGrpSpPr>
            <p:cNvPr id="97" name=""/>
            <p:cNvGrpSpPr/>
            <p:nvPr/>
          </p:nvGrpSpPr>
          <p:grpSpPr>
            <a:xfrm>
              <a:off x="3504960" y="4495680"/>
              <a:ext cx="1066320" cy="457200"/>
              <a:chOff x="3504960" y="4495680"/>
              <a:chExt cx="106632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3504960" y="4495680"/>
                <a:ext cx="533160" cy="457200"/>
                <a:chOff x="3504960" y="4495680"/>
                <a:chExt cx="533160" cy="45720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3504960" y="4495680"/>
                  <a:ext cx="533160" cy="457200"/>
                  <a:chOff x="3504960" y="4495680"/>
                  <a:chExt cx="533160" cy="45720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3504960" y="44956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504960" y="4724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" name=""/>
                <p:cNvSpPr/>
                <p:nvPr/>
              </p:nvSpPr>
              <p:spPr>
                <a:xfrm>
                  <a:off x="3558600" y="45338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3625200" y="4572000"/>
                  <a:ext cx="304560" cy="75960"/>
                  <a:chOff x="3625200" y="4572000"/>
                  <a:chExt cx="304560" cy="7596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362520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370116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377748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85344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392976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"/>
                <p:cNvSpPr/>
                <p:nvPr/>
              </p:nvSpPr>
              <p:spPr>
                <a:xfrm>
                  <a:off x="3583800" y="47718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583800" y="4838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583800" y="4902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038120" y="4495680"/>
                <a:ext cx="533160" cy="457200"/>
                <a:chOff x="4038120" y="4495680"/>
                <a:chExt cx="5331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4038120" y="4495680"/>
                  <a:ext cx="533160" cy="457200"/>
                  <a:chOff x="4038120" y="4495680"/>
                  <a:chExt cx="533160" cy="457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4038120" y="44956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038120" y="4724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4091760" y="45338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4158360" y="4572000"/>
                  <a:ext cx="304560" cy="75960"/>
                  <a:chOff x="4158360" y="4572000"/>
                  <a:chExt cx="304560" cy="7596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415836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423432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431064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438660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446292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4116960" y="47718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116960" y="4838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116960" y="4902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504960" y="4495680"/>
                <a:ext cx="533160" cy="457200"/>
                <a:chOff x="3504960" y="4495680"/>
                <a:chExt cx="533160" cy="45720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504960" y="4495680"/>
                  <a:ext cx="533160" cy="457200"/>
                  <a:chOff x="3504960" y="4495680"/>
                  <a:chExt cx="533160" cy="45720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3504960" y="44956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504960" y="4724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" name=""/>
                <p:cNvSpPr/>
                <p:nvPr/>
              </p:nvSpPr>
              <p:spPr>
                <a:xfrm>
                  <a:off x="3558600" y="45338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" name=""/>
                <p:cNvGrpSpPr/>
                <p:nvPr/>
              </p:nvGrpSpPr>
              <p:grpSpPr>
                <a:xfrm>
                  <a:off x="3625200" y="4572000"/>
                  <a:ext cx="304560" cy="75960"/>
                  <a:chOff x="3625200" y="4572000"/>
                  <a:chExt cx="304560" cy="759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362520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370116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377748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385344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392976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" name=""/>
                <p:cNvSpPr/>
                <p:nvPr/>
              </p:nvSpPr>
              <p:spPr>
                <a:xfrm>
                  <a:off x="3583800" y="47718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583800" y="4838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583800" y="4902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971800" y="4495680"/>
              <a:ext cx="533160" cy="457200"/>
              <a:chOff x="2971800" y="4495680"/>
              <a:chExt cx="533160" cy="4572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2971800" y="4495680"/>
                <a:ext cx="533160" cy="457200"/>
                <a:chOff x="2971800" y="4495680"/>
                <a:chExt cx="533160" cy="4572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2971800" y="449568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971800" y="472428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3047760" y="4800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25800" y="453384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00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571640" y="4495680"/>
              <a:ext cx="1066320" cy="457200"/>
              <a:chOff x="4571640" y="4495680"/>
              <a:chExt cx="1066320" cy="45720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4571640" y="4495680"/>
                <a:ext cx="533160" cy="457200"/>
                <a:chOff x="4571640" y="4495680"/>
                <a:chExt cx="533160" cy="45720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4571640" y="4495680"/>
                  <a:ext cx="533160" cy="457200"/>
                  <a:chOff x="4571640" y="4495680"/>
                  <a:chExt cx="533160" cy="4572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4571640" y="44956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4571640" y="4724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" name=""/>
                <p:cNvSpPr/>
                <p:nvPr/>
              </p:nvSpPr>
              <p:spPr>
                <a:xfrm>
                  <a:off x="4625280" y="45338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4691880" y="4572000"/>
                  <a:ext cx="304560" cy="75960"/>
                  <a:chOff x="4691880" y="4572000"/>
                  <a:chExt cx="304560" cy="759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469188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76784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484416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492012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99644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" name=""/>
                <p:cNvSpPr/>
                <p:nvPr/>
              </p:nvSpPr>
              <p:spPr>
                <a:xfrm>
                  <a:off x="4650480" y="47718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650480" y="4838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650480" y="4902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104800" y="4495680"/>
                <a:ext cx="533160" cy="457200"/>
                <a:chOff x="5104800" y="4495680"/>
                <a:chExt cx="533160" cy="45720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5104800" y="4495680"/>
                  <a:ext cx="533160" cy="457200"/>
                  <a:chOff x="5104800" y="4495680"/>
                  <a:chExt cx="533160" cy="45720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5104800" y="44956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5104800" y="4724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5158440" y="45338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5225040" y="4572000"/>
                  <a:ext cx="304560" cy="75960"/>
                  <a:chOff x="5225040" y="4572000"/>
                  <a:chExt cx="304560" cy="7596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522504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30100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537732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5328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52960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" name=""/>
                <p:cNvSpPr/>
                <p:nvPr/>
              </p:nvSpPr>
              <p:spPr>
                <a:xfrm>
                  <a:off x="5183640" y="47718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183640" y="4838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183640" y="4902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571640" y="4495680"/>
                <a:ext cx="533160" cy="457200"/>
                <a:chOff x="4571640" y="4495680"/>
                <a:chExt cx="533160" cy="45720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4571640" y="4495680"/>
                  <a:ext cx="533160" cy="457200"/>
                  <a:chOff x="4571640" y="4495680"/>
                  <a:chExt cx="533160" cy="4572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4571640" y="44956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4571640" y="4724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>
                  <a:off x="4625280" y="45338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4691880" y="4572000"/>
                  <a:ext cx="304560" cy="75960"/>
                  <a:chOff x="4691880" y="4572000"/>
                  <a:chExt cx="304560" cy="759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69188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76784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484416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492012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99644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" name=""/>
                <p:cNvSpPr/>
                <p:nvPr/>
              </p:nvSpPr>
              <p:spPr>
                <a:xfrm>
                  <a:off x="4650480" y="47718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650480" y="4838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650480" y="4902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0" name=""/>
          <p:cNvSpPr/>
          <p:nvPr/>
        </p:nvSpPr>
        <p:spPr>
          <a:xfrm>
            <a:off x="2590920" y="3809880"/>
            <a:ext cx="0" cy="274320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600200"/>
            <a:ext cx="5791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iversos protocolos de comunicação para Redes de Ca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12049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2971800" y="5486400"/>
            <a:ext cx="2666160" cy="457200"/>
            <a:chOff x="2971800" y="5486400"/>
            <a:chExt cx="2666160" cy="457200"/>
          </a:xfrm>
        </p:grpSpPr>
        <p:grpSp>
          <p:nvGrpSpPr>
            <p:cNvPr id="194" name=""/>
            <p:cNvGrpSpPr/>
            <p:nvPr/>
          </p:nvGrpSpPr>
          <p:grpSpPr>
            <a:xfrm>
              <a:off x="3504960" y="5486400"/>
              <a:ext cx="1066320" cy="457200"/>
              <a:chOff x="3504960" y="5486400"/>
              <a:chExt cx="1066320" cy="45720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3504960" y="5486400"/>
                <a:ext cx="533160" cy="457200"/>
                <a:chOff x="3504960" y="5486400"/>
                <a:chExt cx="533160" cy="45720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3504960" y="5486400"/>
                  <a:ext cx="533160" cy="457200"/>
                  <a:chOff x="3504960" y="5486400"/>
                  <a:chExt cx="533160" cy="4572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3504960" y="5486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504960" y="57150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3558600" y="55245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3625200" y="5562720"/>
                  <a:ext cx="304560" cy="75960"/>
                  <a:chOff x="3625200" y="5562720"/>
                  <a:chExt cx="30456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362520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70116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77748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85344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92976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" name=""/>
                <p:cNvSpPr/>
                <p:nvPr/>
              </p:nvSpPr>
              <p:spPr>
                <a:xfrm>
                  <a:off x="3583800" y="5762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83800" y="5829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583800" y="589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038120" y="5486400"/>
                <a:ext cx="533160" cy="457200"/>
                <a:chOff x="4038120" y="5486400"/>
                <a:chExt cx="533160" cy="45720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4038120" y="5486400"/>
                  <a:ext cx="533160" cy="457200"/>
                  <a:chOff x="4038120" y="5486400"/>
                  <a:chExt cx="533160" cy="45720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4038120" y="5486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038120" y="57150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4091760" y="55245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4158360" y="5562720"/>
                  <a:ext cx="304560" cy="75960"/>
                  <a:chOff x="4158360" y="5562720"/>
                  <a:chExt cx="304560" cy="7596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415836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423432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431064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438660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46292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0" name=""/>
                <p:cNvSpPr/>
                <p:nvPr/>
              </p:nvSpPr>
              <p:spPr>
                <a:xfrm>
                  <a:off x="4116960" y="5762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116960" y="5829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116960" y="589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504960" y="5486400"/>
                <a:ext cx="533160" cy="457200"/>
                <a:chOff x="3504960" y="5486400"/>
                <a:chExt cx="533160" cy="45720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3504960" y="5486400"/>
                  <a:ext cx="533160" cy="457200"/>
                  <a:chOff x="3504960" y="5486400"/>
                  <a:chExt cx="533160" cy="4572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3504960" y="5486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504960" y="57150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3558600" y="55245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3625200" y="5562720"/>
                  <a:ext cx="304560" cy="75960"/>
                  <a:chOff x="3625200" y="5562720"/>
                  <a:chExt cx="304560" cy="7596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362520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370116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377748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85344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92976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>
                  <a:off x="3583800" y="5762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583800" y="5829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583800" y="589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" name=""/>
            <p:cNvGrpSpPr/>
            <p:nvPr/>
          </p:nvGrpSpPr>
          <p:grpSpPr>
            <a:xfrm>
              <a:off x="2971800" y="5486400"/>
              <a:ext cx="533160" cy="457200"/>
              <a:chOff x="2971800" y="5486400"/>
              <a:chExt cx="533160" cy="45720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2971800" y="5486400"/>
                <a:ext cx="533160" cy="457200"/>
                <a:chOff x="2971800" y="5486400"/>
                <a:chExt cx="533160" cy="4572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971800" y="54864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971800" y="57150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304776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25800" y="552456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0040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571640" y="5486400"/>
              <a:ext cx="1066320" cy="457200"/>
              <a:chOff x="4571640" y="5486400"/>
              <a:chExt cx="1066320" cy="45720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4571640" y="5486400"/>
                <a:ext cx="533160" cy="457200"/>
                <a:chOff x="4571640" y="5486400"/>
                <a:chExt cx="533160" cy="45720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4571640" y="5486400"/>
                  <a:ext cx="533160" cy="457200"/>
                  <a:chOff x="4571640" y="5486400"/>
                  <a:chExt cx="533160" cy="45720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4571640" y="5486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571640" y="57150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9" name=""/>
                <p:cNvSpPr/>
                <p:nvPr/>
              </p:nvSpPr>
              <p:spPr>
                <a:xfrm>
                  <a:off x="4625280" y="55245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" name=""/>
                <p:cNvGrpSpPr/>
                <p:nvPr/>
              </p:nvGrpSpPr>
              <p:grpSpPr>
                <a:xfrm>
                  <a:off x="4691880" y="5562720"/>
                  <a:ext cx="304560" cy="75960"/>
                  <a:chOff x="4691880" y="5562720"/>
                  <a:chExt cx="304560" cy="7596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469188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76784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84416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92012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99644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>
                  <a:off x="4650480" y="5762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650480" y="5829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650480" y="589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104800" y="5486400"/>
                <a:ext cx="533160" cy="457200"/>
                <a:chOff x="5104800" y="5486400"/>
                <a:chExt cx="5331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5104800" y="5486400"/>
                  <a:ext cx="533160" cy="457200"/>
                  <a:chOff x="5104800" y="5486400"/>
                  <a:chExt cx="533160" cy="457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104800" y="5486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104800" y="57150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5158440" y="55245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5225040" y="5562720"/>
                  <a:ext cx="304560" cy="75960"/>
                  <a:chOff x="5225040" y="5562720"/>
                  <a:chExt cx="304560" cy="7596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522504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30100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37732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545328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552960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5183640" y="5762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183640" y="5829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183640" y="589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571640" y="5486400"/>
                <a:ext cx="533160" cy="457200"/>
                <a:chOff x="4571640" y="5486400"/>
                <a:chExt cx="533160" cy="457200"/>
              </a:xfrm>
            </p:grpSpPr>
            <p:grpSp>
              <p:nvGrpSpPr>
                <p:cNvPr id="274" name=""/>
                <p:cNvGrpSpPr/>
                <p:nvPr/>
              </p:nvGrpSpPr>
              <p:grpSpPr>
                <a:xfrm>
                  <a:off x="4571640" y="5486400"/>
                  <a:ext cx="533160" cy="457200"/>
                  <a:chOff x="4571640" y="5486400"/>
                  <a:chExt cx="533160" cy="45720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4571640" y="5486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4571640" y="57150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4625280" y="55245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" name=""/>
                <p:cNvGrpSpPr/>
                <p:nvPr/>
              </p:nvGrpSpPr>
              <p:grpSpPr>
                <a:xfrm>
                  <a:off x="4691880" y="5562720"/>
                  <a:ext cx="304560" cy="75960"/>
                  <a:chOff x="4691880" y="5562720"/>
                  <a:chExt cx="304560" cy="759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69188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76784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84416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92012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499644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4" name=""/>
                <p:cNvSpPr/>
                <p:nvPr/>
              </p:nvSpPr>
              <p:spPr>
                <a:xfrm>
                  <a:off x="4650480" y="5762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650480" y="5829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650480" y="589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7" name=""/>
          <p:cNvSpPr/>
          <p:nvPr/>
        </p:nvSpPr>
        <p:spPr>
          <a:xfrm flipH="1">
            <a:off x="2590920" y="4724280"/>
            <a:ext cx="380880" cy="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590920" y="5715000"/>
            <a:ext cx="380880" cy="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434124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i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ice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altus03b" descr=""/>
          <p:cNvPicPr/>
          <p:nvPr/>
        </p:nvPicPr>
        <p:blipFill>
          <a:blip r:embed="rId2"/>
          <a:stretch/>
        </p:blipFill>
        <p:spPr>
          <a:xfrm>
            <a:off x="6019920" y="1600200"/>
            <a:ext cx="29080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ahoma"/>
              </a:rPr>
              <a:t>UCPs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Conexão direta aos módulos da série Ponto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66680" y="5867280"/>
            <a:ext cx="1067040" cy="457200"/>
            <a:chOff x="1066680" y="5867280"/>
            <a:chExt cx="1067040" cy="457200"/>
          </a:xfrm>
        </p:grpSpPr>
        <p:grpSp>
          <p:nvGrpSpPr>
            <p:cNvPr id="294" name=""/>
            <p:cNvGrpSpPr/>
            <p:nvPr/>
          </p:nvGrpSpPr>
          <p:grpSpPr>
            <a:xfrm>
              <a:off x="1066680" y="5867280"/>
              <a:ext cx="533520" cy="457200"/>
              <a:chOff x="1066680" y="5867280"/>
              <a:chExt cx="533520" cy="4572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1066680" y="5867280"/>
                <a:ext cx="533520" cy="457200"/>
                <a:chOff x="1066680" y="5867280"/>
                <a:chExt cx="533520" cy="4572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066680" y="586728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066680" y="609588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1143000" y="617184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120680" y="5905440"/>
                <a:ext cx="4287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00200" y="5867280"/>
              <a:ext cx="533520" cy="457200"/>
              <a:chOff x="1600200" y="5867280"/>
              <a:chExt cx="533520" cy="45720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600200" y="5867280"/>
                <a:ext cx="533520" cy="457200"/>
                <a:chOff x="1600200" y="5867280"/>
                <a:chExt cx="533520" cy="4572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600200" y="586728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600200" y="609588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1676520" y="6172200"/>
                <a:ext cx="152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654200" y="5905440"/>
                <a:ext cx="4287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05120" y="6172200"/>
                <a:ext cx="152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752840" y="5943600"/>
                <a:ext cx="15228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2133720" y="5867280"/>
            <a:ext cx="3200400" cy="457200"/>
            <a:chOff x="2133720" y="5867280"/>
            <a:chExt cx="3200400" cy="457200"/>
          </a:xfrm>
        </p:grpSpPr>
        <p:grpSp>
          <p:nvGrpSpPr>
            <p:cNvPr id="309" name=""/>
            <p:cNvGrpSpPr/>
            <p:nvPr/>
          </p:nvGrpSpPr>
          <p:grpSpPr>
            <a:xfrm>
              <a:off x="2133720" y="5867280"/>
              <a:ext cx="1066320" cy="457200"/>
              <a:chOff x="2133720" y="5867280"/>
              <a:chExt cx="1066320" cy="45720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2133720" y="5867280"/>
                <a:ext cx="533160" cy="457200"/>
                <a:chOff x="2133720" y="5867280"/>
                <a:chExt cx="533160" cy="45720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2133720" y="5867280"/>
                  <a:ext cx="533160" cy="457200"/>
                  <a:chOff x="2133720" y="5867280"/>
                  <a:chExt cx="533160" cy="45720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2133720" y="5867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133720" y="60958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>
                  <a:off x="2187360" y="59054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2253960" y="5943600"/>
                  <a:ext cx="304560" cy="75960"/>
                  <a:chOff x="2253960" y="5943600"/>
                  <a:chExt cx="304560" cy="7596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225396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3299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40624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4822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5585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>
                  <a:off x="2212560" y="61434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212560" y="6210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212560" y="62737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2666880" y="5867280"/>
                <a:ext cx="533160" cy="457200"/>
                <a:chOff x="2666880" y="5867280"/>
                <a:chExt cx="533160" cy="45720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2666880" y="5867280"/>
                  <a:ext cx="533160" cy="457200"/>
                  <a:chOff x="2666880" y="5867280"/>
                  <a:chExt cx="533160" cy="45720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2666880" y="5867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666880" y="60958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" name=""/>
                <p:cNvSpPr/>
                <p:nvPr/>
              </p:nvSpPr>
              <p:spPr>
                <a:xfrm>
                  <a:off x="2720520" y="59054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" name=""/>
                <p:cNvGrpSpPr/>
                <p:nvPr/>
              </p:nvGrpSpPr>
              <p:grpSpPr>
                <a:xfrm>
                  <a:off x="2787120" y="5943600"/>
                  <a:ext cx="304560" cy="75960"/>
                  <a:chOff x="2787120" y="5943600"/>
                  <a:chExt cx="304560" cy="759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27871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28630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29394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301536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0916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" name=""/>
                <p:cNvSpPr/>
                <p:nvPr/>
              </p:nvSpPr>
              <p:spPr>
                <a:xfrm>
                  <a:off x="2745720" y="61434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745720" y="6210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745720" y="62737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133720" y="5867280"/>
                <a:ext cx="533160" cy="457200"/>
                <a:chOff x="2133720" y="5867280"/>
                <a:chExt cx="533160" cy="45720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2133720" y="5867280"/>
                  <a:ext cx="533160" cy="457200"/>
                  <a:chOff x="2133720" y="5867280"/>
                  <a:chExt cx="533160" cy="4572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2133720" y="5867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133720" y="60958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"/>
                <p:cNvSpPr/>
                <p:nvPr/>
              </p:nvSpPr>
              <p:spPr>
                <a:xfrm>
                  <a:off x="2187360" y="59054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" name=""/>
                <p:cNvGrpSpPr/>
                <p:nvPr/>
              </p:nvGrpSpPr>
              <p:grpSpPr>
                <a:xfrm>
                  <a:off x="2253960" y="5943600"/>
                  <a:ext cx="304560" cy="75960"/>
                  <a:chOff x="2253960" y="5943600"/>
                  <a:chExt cx="304560" cy="759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225396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3299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40624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4822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5585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>
                  <a:off x="2212560" y="61434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212560" y="6210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212560" y="62737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2" name=""/>
            <p:cNvGrpSpPr/>
            <p:nvPr/>
          </p:nvGrpSpPr>
          <p:grpSpPr>
            <a:xfrm>
              <a:off x="3200400" y="5867280"/>
              <a:ext cx="1066320" cy="457200"/>
              <a:chOff x="3200400" y="5867280"/>
              <a:chExt cx="1066320" cy="45720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3200400" y="5867280"/>
                <a:ext cx="533160" cy="457200"/>
                <a:chOff x="3200400" y="5867280"/>
                <a:chExt cx="533160" cy="45720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3200400" y="5867280"/>
                  <a:ext cx="533160" cy="457200"/>
                  <a:chOff x="3200400" y="5867280"/>
                  <a:chExt cx="533160" cy="45720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3200400" y="5867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3200400" y="60958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3254040" y="59054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3320640" y="5943600"/>
                  <a:ext cx="304560" cy="75960"/>
                  <a:chOff x="3320640" y="5943600"/>
                  <a:chExt cx="304560" cy="759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332064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33966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4729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5488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6252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4" name=""/>
                <p:cNvSpPr/>
                <p:nvPr/>
              </p:nvSpPr>
              <p:spPr>
                <a:xfrm>
                  <a:off x="3279240" y="61434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279240" y="6210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79240" y="62737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733560" y="5867280"/>
                <a:ext cx="533160" cy="457200"/>
                <a:chOff x="3733560" y="5867280"/>
                <a:chExt cx="533160" cy="45720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3733560" y="5867280"/>
                  <a:ext cx="533160" cy="457200"/>
                  <a:chOff x="3733560" y="5867280"/>
                  <a:chExt cx="533160" cy="4572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3733560" y="5867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733560" y="60958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1" name=""/>
                <p:cNvSpPr/>
                <p:nvPr/>
              </p:nvSpPr>
              <p:spPr>
                <a:xfrm>
                  <a:off x="3787200" y="59054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2" name=""/>
                <p:cNvGrpSpPr/>
                <p:nvPr/>
              </p:nvGrpSpPr>
              <p:grpSpPr>
                <a:xfrm>
                  <a:off x="3853800" y="5943600"/>
                  <a:ext cx="304560" cy="75960"/>
                  <a:chOff x="3853800" y="5943600"/>
                  <a:chExt cx="304560" cy="759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38538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92976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40060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08204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15836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8" name=""/>
                <p:cNvSpPr/>
                <p:nvPr/>
              </p:nvSpPr>
              <p:spPr>
                <a:xfrm>
                  <a:off x="3812400" y="61434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2400" y="6210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812400" y="62737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3200400" y="5867280"/>
                <a:ext cx="533160" cy="457200"/>
                <a:chOff x="3200400" y="5867280"/>
                <a:chExt cx="533160" cy="45720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3200400" y="5867280"/>
                  <a:ext cx="533160" cy="457200"/>
                  <a:chOff x="3200400" y="5867280"/>
                  <a:chExt cx="533160" cy="4572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3200400" y="5867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200400" y="60958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5" name=""/>
                <p:cNvSpPr/>
                <p:nvPr/>
              </p:nvSpPr>
              <p:spPr>
                <a:xfrm>
                  <a:off x="3254040" y="59054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6" name=""/>
                <p:cNvGrpSpPr/>
                <p:nvPr/>
              </p:nvGrpSpPr>
              <p:grpSpPr>
                <a:xfrm>
                  <a:off x="3320640" y="5943600"/>
                  <a:ext cx="304560" cy="75960"/>
                  <a:chOff x="3320640" y="5943600"/>
                  <a:chExt cx="304560" cy="7596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332064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3966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4729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5488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6252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2" name=""/>
                <p:cNvSpPr/>
                <p:nvPr/>
              </p:nvSpPr>
              <p:spPr>
                <a:xfrm>
                  <a:off x="3279240" y="61434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279240" y="6210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279240" y="62737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4267080" y="5867280"/>
              <a:ext cx="1067040" cy="457200"/>
              <a:chOff x="4267080" y="5867280"/>
              <a:chExt cx="1067040" cy="45720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4267080" y="5867280"/>
                <a:ext cx="533520" cy="457200"/>
                <a:chOff x="4267080" y="5867280"/>
                <a:chExt cx="533520" cy="45720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4267080" y="5867280"/>
                  <a:ext cx="533520" cy="457200"/>
                  <a:chOff x="4267080" y="5867280"/>
                  <a:chExt cx="533520" cy="457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4267080" y="586728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267080" y="609588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0" name=""/>
                <p:cNvSpPr/>
                <p:nvPr/>
              </p:nvSpPr>
              <p:spPr>
                <a:xfrm>
                  <a:off x="4321080" y="590544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1" name=""/>
                <p:cNvGrpSpPr/>
                <p:nvPr/>
              </p:nvGrpSpPr>
              <p:grpSpPr>
                <a:xfrm>
                  <a:off x="4387680" y="5943600"/>
                  <a:ext cx="304920" cy="75960"/>
                  <a:chOff x="4387680" y="5943600"/>
                  <a:chExt cx="304920" cy="7596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43876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4640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5403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46162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6926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7" name=""/>
                <p:cNvSpPr/>
                <p:nvPr/>
              </p:nvSpPr>
              <p:spPr>
                <a:xfrm>
                  <a:off x="4346280" y="61434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346280" y="62103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346280" y="62737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4800600" y="5867280"/>
                <a:ext cx="533520" cy="457200"/>
                <a:chOff x="4800600" y="5867280"/>
                <a:chExt cx="533520" cy="45720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4800600" y="5867280"/>
                  <a:ext cx="533520" cy="457200"/>
                  <a:chOff x="4800600" y="5867280"/>
                  <a:chExt cx="533520" cy="45720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4800600" y="586728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800600" y="609588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4854600" y="590544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921200" y="5943600"/>
                  <a:ext cx="304920" cy="75960"/>
                  <a:chOff x="4921200" y="5943600"/>
                  <a:chExt cx="304920" cy="7596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9212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9975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07384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1498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2261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1" name=""/>
                <p:cNvSpPr/>
                <p:nvPr/>
              </p:nvSpPr>
              <p:spPr>
                <a:xfrm>
                  <a:off x="4879800" y="61434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879800" y="62103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879800" y="62737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267080" y="5867280"/>
                <a:ext cx="533520" cy="457200"/>
                <a:chOff x="4267080" y="5867280"/>
                <a:chExt cx="533520" cy="457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267080" y="5867280"/>
                  <a:ext cx="533520" cy="457200"/>
                  <a:chOff x="4267080" y="5867280"/>
                  <a:chExt cx="533520" cy="45720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4267080" y="586728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267080" y="609588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8" name=""/>
                <p:cNvSpPr/>
                <p:nvPr/>
              </p:nvSpPr>
              <p:spPr>
                <a:xfrm>
                  <a:off x="4321080" y="590544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4387680" y="5943600"/>
                  <a:ext cx="304920" cy="75960"/>
                  <a:chOff x="4387680" y="5943600"/>
                  <a:chExt cx="304920" cy="7596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43876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4640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5403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6162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6926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5" name=""/>
                <p:cNvSpPr/>
                <p:nvPr/>
              </p:nvSpPr>
              <p:spPr>
                <a:xfrm>
                  <a:off x="4346280" y="61434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346280" y="62103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346280" y="62737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8" name=""/>
          <p:cNvGrpSpPr/>
          <p:nvPr/>
        </p:nvGrpSpPr>
        <p:grpSpPr>
          <a:xfrm>
            <a:off x="533520" y="4343400"/>
            <a:ext cx="4114800" cy="1523880"/>
            <a:chOff x="533520" y="4343400"/>
            <a:chExt cx="4114800" cy="1523880"/>
          </a:xfrm>
        </p:grpSpPr>
        <p:sp>
          <p:nvSpPr>
            <p:cNvPr id="439" name=""/>
            <p:cNvSpPr/>
            <p:nvPr/>
          </p:nvSpPr>
          <p:spPr>
            <a:xfrm>
              <a:off x="685800" y="5486400"/>
              <a:ext cx="396252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28800" y="5486400"/>
              <a:ext cx="0" cy="380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057400" y="4343400"/>
              <a:ext cx="828720" cy="1143000"/>
              <a:chOff x="2057400" y="4343400"/>
              <a:chExt cx="828720" cy="1143000"/>
            </a:xfrm>
          </p:grpSpPr>
          <p:sp>
            <p:nvSpPr>
              <p:cNvPr id="442" name=""/>
              <p:cNvSpPr/>
              <p:nvPr/>
            </p:nvSpPr>
            <p:spPr>
              <a:xfrm>
                <a:off x="2438280" y="5105520"/>
                <a:ext cx="0" cy="3808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7400" y="4343400"/>
                <a:ext cx="82872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4" name=""/>
            <p:cNvSpPr/>
            <p:nvPr/>
          </p:nvSpPr>
          <p:spPr>
            <a:xfrm>
              <a:off x="533520" y="4800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Ethern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945320" y="3505320"/>
            <a:ext cx="3207960" cy="1763280"/>
            <a:chOff x="4945320" y="3505320"/>
            <a:chExt cx="3207960" cy="1763280"/>
          </a:xfrm>
        </p:grpSpPr>
        <p:pic>
          <p:nvPicPr>
            <p:cNvPr id="446" name="" descr=""/>
            <p:cNvPicPr/>
            <p:nvPr/>
          </p:nvPicPr>
          <p:blipFill>
            <a:blip r:embed="rId2"/>
            <a:stretch/>
          </p:blipFill>
          <p:spPr>
            <a:xfrm>
              <a:off x="6781680" y="3809880"/>
              <a:ext cx="11430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 txBox="1"/>
            <p:nvPr/>
          </p:nvSpPr>
          <p:spPr>
            <a:xfrm>
              <a:off x="6781680" y="3505320"/>
              <a:ext cx="1371600" cy="419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91108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20580000">
              <a:off x="4952880" y="4723920"/>
              <a:ext cx="1685880" cy="304560"/>
            </a:xfrm>
            <a:prstGeom prst="leftRightArrow">
              <a:avLst>
                <a:gd name="adj1" fmla="val 50000"/>
                <a:gd name="adj2" fmla="val 11019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457200" y="266688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Rede de controle integ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1066680"/>
            <a:ext cx="518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UCPs com elevada conectividade e altíssima compac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3124080"/>
            <a:ext cx="518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ahoma"/>
              </a:rPr>
              <a:t>WebPLC: Conexão direta à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5791320" y="1219320"/>
          <a:ext cx="3047760" cy="133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1320" y="1219320"/>
                    <a:ext cx="3047760" cy="13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76320" y="4204440"/>
            <a:ext cx="4343400" cy="2196360"/>
            <a:chOff x="76320" y="4204440"/>
            <a:chExt cx="4343400" cy="2196360"/>
          </a:xfrm>
        </p:grpSpPr>
        <p:sp>
          <p:nvSpPr>
            <p:cNvPr id="455" name=""/>
            <p:cNvSpPr/>
            <p:nvPr/>
          </p:nvSpPr>
          <p:spPr>
            <a:xfrm>
              <a:off x="3200400" y="4572000"/>
              <a:ext cx="1219320" cy="1828800"/>
            </a:xfrm>
            <a:custGeom>
              <a:avLst/>
              <a:gdLst>
                <a:gd name="textAreaLeft" fmla="*/ 27720 w 1219320"/>
                <a:gd name="textAreaRight" fmla="*/ 1191600 w 1219320"/>
                <a:gd name="textAreaTop" fmla="*/ 27720 h 1828800"/>
                <a:gd name="textAreaBottom" fmla="*/ 1801080 h 1828800"/>
              </a:gdLst>
              <a:ahLst/>
              <a:rect l="textAreaLeft" t="textAreaTop" r="textAreaRight" b="textAreaBottom"/>
              <a:pathLst>
                <a:path w="21600" h="32394">
                  <a:moveTo>
                    <a:pt x="1680" y="0"/>
                  </a:moveTo>
                  <a:arcTo wR="1680" hR="1680" stAng="16200000" swAng="-5400000"/>
                  <a:lnTo>
                    <a:pt x="0" y="30714"/>
                  </a:lnTo>
                  <a:arcTo wR="1680" hR="1680" stAng="10800000" swAng="-5400000"/>
                  <a:lnTo>
                    <a:pt x="19920" y="32394"/>
                  </a:lnTo>
                  <a:arcTo wR="1680" hR="1680" stAng="5400000" swAng="-5400000"/>
                  <a:lnTo>
                    <a:pt x="21600" y="1680"/>
                  </a:lnTo>
                  <a:arcTo wR="1680" hR="1680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1919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320" y="4204440"/>
              <a:ext cx="1218960" cy="2962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ódu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066680" y="2133720"/>
            <a:ext cx="7086240" cy="761760"/>
            <a:chOff x="1066680" y="2133720"/>
            <a:chExt cx="7086240" cy="761760"/>
          </a:xfrm>
        </p:grpSpPr>
        <p:sp>
          <p:nvSpPr>
            <p:cNvPr id="458" name=""/>
            <p:cNvSpPr/>
            <p:nvPr/>
          </p:nvSpPr>
          <p:spPr>
            <a:xfrm>
              <a:off x="1066680" y="2133720"/>
              <a:ext cx="7086240" cy="7617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66680" y="2209680"/>
              <a:ext cx="7086240" cy="609840"/>
            </a:xfrm>
            <a:prstGeom prst="rect">
              <a:avLst/>
            </a:prstGeom>
            <a:solidFill>
              <a:srgbClr val="dc93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Módulo Ponto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123720" y="6588000"/>
            <a:ext cx="762120" cy="117360"/>
            <a:chOff x="3123720" y="6588000"/>
            <a:chExt cx="762120" cy="117360"/>
          </a:xfrm>
        </p:grpSpPr>
        <p:sp>
          <p:nvSpPr>
            <p:cNvPr id="462" name=""/>
            <p:cNvSpPr/>
            <p:nvPr/>
          </p:nvSpPr>
          <p:spPr>
            <a:xfrm>
              <a:off x="3269160" y="6698880"/>
              <a:ext cx="4716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3736440" y="6588000"/>
              <a:ext cx="149400" cy="115920"/>
              <a:chOff x="3736440" y="6588000"/>
              <a:chExt cx="149400" cy="115920"/>
            </a:xfrm>
          </p:grpSpPr>
          <p:sp>
            <p:nvSpPr>
              <p:cNvPr id="464" name=""/>
              <p:cNvSpPr/>
              <p:nvPr/>
            </p:nvSpPr>
            <p:spPr>
              <a:xfrm flipV="1">
                <a:off x="3736440" y="6588000"/>
                <a:ext cx="49680" cy="115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777120" y="6589440"/>
                <a:ext cx="10872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3123720" y="6589440"/>
              <a:ext cx="149400" cy="115920"/>
              <a:chOff x="3123720" y="6589440"/>
              <a:chExt cx="149400" cy="115920"/>
            </a:xfrm>
          </p:grpSpPr>
          <p:sp>
            <p:nvSpPr>
              <p:cNvPr id="467" name=""/>
              <p:cNvSpPr/>
              <p:nvPr/>
            </p:nvSpPr>
            <p:spPr>
              <a:xfrm flipH="1" flipV="1">
                <a:off x="3223440" y="6589440"/>
                <a:ext cx="49680" cy="115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3123720" y="6590880"/>
                <a:ext cx="10872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9" name=""/>
          <p:cNvGrpSpPr/>
          <p:nvPr/>
        </p:nvGrpSpPr>
        <p:grpSpPr>
          <a:xfrm>
            <a:off x="0" y="1447920"/>
            <a:ext cx="4648320" cy="2367000"/>
            <a:chOff x="0" y="1447920"/>
            <a:chExt cx="4648320" cy="2367000"/>
          </a:xfrm>
        </p:grpSpPr>
        <p:grpSp>
          <p:nvGrpSpPr>
            <p:cNvPr id="470" name=""/>
            <p:cNvGrpSpPr/>
            <p:nvPr/>
          </p:nvGrpSpPr>
          <p:grpSpPr>
            <a:xfrm>
              <a:off x="1905120" y="1447920"/>
              <a:ext cx="2743200" cy="2361240"/>
              <a:chOff x="1905120" y="1447920"/>
              <a:chExt cx="2743200" cy="236124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1905120" y="2666880"/>
                <a:ext cx="2743200" cy="1142280"/>
                <a:chOff x="1905120" y="2666880"/>
                <a:chExt cx="2743200" cy="11422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1905120" y="2666880"/>
                  <a:ext cx="2743200" cy="11422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1976760" y="2748240"/>
                  <a:ext cx="2598480" cy="978480"/>
                  <a:chOff x="1976760" y="2748240"/>
                  <a:chExt cx="2598480" cy="978480"/>
                </a:xfrm>
              </p:grpSpPr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4431240" y="2748240"/>
                    <a:ext cx="144000" cy="978480"/>
                    <a:chOff x="4431240" y="2748240"/>
                    <a:chExt cx="144000" cy="97848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443124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443124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4431240" y="340092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1976760" y="2748240"/>
                    <a:ext cx="144360" cy="978480"/>
                    <a:chOff x="1976760" y="2748240"/>
                    <a:chExt cx="144360" cy="97848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197676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197676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1976760" y="340092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2121120" y="2748240"/>
                    <a:ext cx="576720" cy="978120"/>
                    <a:chOff x="2121120" y="2748240"/>
                    <a:chExt cx="576720" cy="978120"/>
                  </a:xfrm>
                </p:grpSpPr>
                <p:grpSp>
                  <p:nvGrpSpPr>
                    <p:cNvPr id="483" name=""/>
                    <p:cNvGrpSpPr/>
                    <p:nvPr/>
                  </p:nvGrpSpPr>
                  <p:grpSpPr>
                    <a:xfrm>
                      <a:off x="2121120" y="2748240"/>
                      <a:ext cx="144360" cy="978120"/>
                      <a:chOff x="2121120" y="2748240"/>
                      <a:chExt cx="144360" cy="978120"/>
                    </a:xfrm>
                  </p:grpSpPr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2121120" y="27482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5" name=""/>
                      <p:cNvSpPr/>
                      <p:nvPr/>
                    </p:nvSpPr>
                    <p:spPr>
                      <a:xfrm>
                        <a:off x="2121120" y="307440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6" name=""/>
                      <p:cNvSpPr/>
                      <p:nvPr/>
                    </p:nvSpPr>
                    <p:spPr>
                      <a:xfrm>
                        <a:off x="2121120" y="34005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7" name=""/>
                    <p:cNvGrpSpPr/>
                    <p:nvPr/>
                  </p:nvGrpSpPr>
                  <p:grpSpPr>
                    <a:xfrm>
                      <a:off x="2265480" y="2748240"/>
                      <a:ext cx="144000" cy="978120"/>
                      <a:chOff x="2265480" y="2748240"/>
                      <a:chExt cx="144000" cy="978120"/>
                    </a:xfrm>
                  </p:grpSpPr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2265480" y="27482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9" name=""/>
                      <p:cNvSpPr/>
                      <p:nvPr/>
                    </p:nvSpPr>
                    <p:spPr>
                      <a:xfrm>
                        <a:off x="2265480" y="307440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0" name=""/>
                      <p:cNvSpPr/>
                      <p:nvPr/>
                    </p:nvSpPr>
                    <p:spPr>
                      <a:xfrm>
                        <a:off x="2265480" y="34005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1" name=""/>
                    <p:cNvGrpSpPr/>
                    <p:nvPr/>
                  </p:nvGrpSpPr>
                  <p:grpSpPr>
                    <a:xfrm>
                      <a:off x="2409480" y="2748240"/>
                      <a:ext cx="144000" cy="978120"/>
                      <a:chOff x="2409480" y="2748240"/>
                      <a:chExt cx="144000" cy="978120"/>
                    </a:xfrm>
                  </p:grpSpPr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2409480" y="27482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3" name=""/>
                      <p:cNvSpPr/>
                      <p:nvPr/>
                    </p:nvSpPr>
                    <p:spPr>
                      <a:xfrm>
                        <a:off x="2409480" y="307440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2409480" y="34005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2553480" y="2748240"/>
                      <a:ext cx="144360" cy="978120"/>
                      <a:chOff x="2553480" y="2748240"/>
                      <a:chExt cx="144360" cy="978120"/>
                    </a:xfrm>
                  </p:grpSpPr>
                  <p:sp>
                    <p:nvSpPr>
                      <p:cNvPr id="496" name=""/>
                      <p:cNvSpPr/>
                      <p:nvPr/>
                    </p:nvSpPr>
                    <p:spPr>
                      <a:xfrm>
                        <a:off x="2553480" y="27482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7" name=""/>
                      <p:cNvSpPr/>
                      <p:nvPr/>
                    </p:nvSpPr>
                    <p:spPr>
                      <a:xfrm>
                        <a:off x="2553480" y="307440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8" name=""/>
                      <p:cNvSpPr/>
                      <p:nvPr/>
                    </p:nvSpPr>
                    <p:spPr>
                      <a:xfrm>
                        <a:off x="2553480" y="34005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2698560" y="2748240"/>
                    <a:ext cx="576720" cy="978120"/>
                    <a:chOff x="2698560" y="2748240"/>
                    <a:chExt cx="576720" cy="978120"/>
                  </a:xfrm>
                </p:grpSpPr>
                <p:grpSp>
                  <p:nvGrpSpPr>
                    <p:cNvPr id="500" name=""/>
                    <p:cNvGrpSpPr/>
                    <p:nvPr/>
                  </p:nvGrpSpPr>
                  <p:grpSpPr>
                    <a:xfrm>
                      <a:off x="2698560" y="2748240"/>
                      <a:ext cx="144360" cy="978120"/>
                      <a:chOff x="2698560" y="2748240"/>
                      <a:chExt cx="144360" cy="978120"/>
                    </a:xfrm>
                  </p:grpSpPr>
                  <p:sp>
                    <p:nvSpPr>
                      <p:cNvPr id="501" name=""/>
                      <p:cNvSpPr/>
                      <p:nvPr/>
                    </p:nvSpPr>
                    <p:spPr>
                      <a:xfrm>
                        <a:off x="2698560" y="27482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2698560" y="307440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3" name=""/>
                      <p:cNvSpPr/>
                      <p:nvPr/>
                    </p:nvSpPr>
                    <p:spPr>
                      <a:xfrm>
                        <a:off x="2698560" y="34005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4" name=""/>
                    <p:cNvGrpSpPr/>
                    <p:nvPr/>
                  </p:nvGrpSpPr>
                  <p:grpSpPr>
                    <a:xfrm>
                      <a:off x="2842920" y="2748240"/>
                      <a:ext cx="144000" cy="978120"/>
                      <a:chOff x="2842920" y="2748240"/>
                      <a:chExt cx="144000" cy="978120"/>
                    </a:xfrm>
                  </p:grpSpPr>
                  <p:sp>
                    <p:nvSpPr>
                      <p:cNvPr id="505" name=""/>
                      <p:cNvSpPr/>
                      <p:nvPr/>
                    </p:nvSpPr>
                    <p:spPr>
                      <a:xfrm>
                        <a:off x="2842920" y="27482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6" name=""/>
                      <p:cNvSpPr/>
                      <p:nvPr/>
                    </p:nvSpPr>
                    <p:spPr>
                      <a:xfrm>
                        <a:off x="2842920" y="307440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7" name=""/>
                      <p:cNvSpPr/>
                      <p:nvPr/>
                    </p:nvSpPr>
                    <p:spPr>
                      <a:xfrm>
                        <a:off x="2842920" y="34005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8" name=""/>
                    <p:cNvGrpSpPr/>
                    <p:nvPr/>
                  </p:nvGrpSpPr>
                  <p:grpSpPr>
                    <a:xfrm>
                      <a:off x="2986920" y="2748240"/>
                      <a:ext cx="144000" cy="978120"/>
                      <a:chOff x="2986920" y="2748240"/>
                      <a:chExt cx="144000" cy="978120"/>
                    </a:xfrm>
                  </p:grpSpPr>
                  <p:sp>
                    <p:nvSpPr>
                      <p:cNvPr id="509" name=""/>
                      <p:cNvSpPr/>
                      <p:nvPr/>
                    </p:nvSpPr>
                    <p:spPr>
                      <a:xfrm>
                        <a:off x="2986920" y="27482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2986920" y="307440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1" name=""/>
                      <p:cNvSpPr/>
                      <p:nvPr/>
                    </p:nvSpPr>
                    <p:spPr>
                      <a:xfrm>
                        <a:off x="2986920" y="34005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2" name=""/>
                    <p:cNvGrpSpPr/>
                    <p:nvPr/>
                  </p:nvGrpSpPr>
                  <p:grpSpPr>
                    <a:xfrm>
                      <a:off x="3130920" y="2748240"/>
                      <a:ext cx="144360" cy="978120"/>
                      <a:chOff x="3130920" y="2748240"/>
                      <a:chExt cx="144360" cy="978120"/>
                    </a:xfrm>
                  </p:grpSpPr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3130920" y="27482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3130920" y="307440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3130920" y="34005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3276000" y="2748240"/>
                    <a:ext cx="577080" cy="978120"/>
                    <a:chOff x="3276000" y="2748240"/>
                    <a:chExt cx="577080" cy="978120"/>
                  </a:xfrm>
                </p:grpSpPr>
                <p:grpSp>
                  <p:nvGrpSpPr>
                    <p:cNvPr id="517" name=""/>
                    <p:cNvGrpSpPr/>
                    <p:nvPr/>
                  </p:nvGrpSpPr>
                  <p:grpSpPr>
                    <a:xfrm>
                      <a:off x="3276000" y="2748240"/>
                      <a:ext cx="144360" cy="978120"/>
                      <a:chOff x="3276000" y="2748240"/>
                      <a:chExt cx="144360" cy="978120"/>
                    </a:xfrm>
                  </p:grpSpPr>
                  <p:sp>
                    <p:nvSpPr>
                      <p:cNvPr id="518" name=""/>
                      <p:cNvSpPr/>
                      <p:nvPr/>
                    </p:nvSpPr>
                    <p:spPr>
                      <a:xfrm>
                        <a:off x="3276000" y="27482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9" name=""/>
                      <p:cNvSpPr/>
                      <p:nvPr/>
                    </p:nvSpPr>
                    <p:spPr>
                      <a:xfrm>
                        <a:off x="3276000" y="307440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0" name=""/>
                      <p:cNvSpPr/>
                      <p:nvPr/>
                    </p:nvSpPr>
                    <p:spPr>
                      <a:xfrm>
                        <a:off x="3276000" y="34005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1" name=""/>
                    <p:cNvGrpSpPr/>
                    <p:nvPr/>
                  </p:nvGrpSpPr>
                  <p:grpSpPr>
                    <a:xfrm>
                      <a:off x="3420360" y="2748240"/>
                      <a:ext cx="144000" cy="978120"/>
                      <a:chOff x="3420360" y="2748240"/>
                      <a:chExt cx="144000" cy="978120"/>
                    </a:xfrm>
                  </p:grpSpPr>
                  <p:sp>
                    <p:nvSpPr>
                      <p:cNvPr id="522" name=""/>
                      <p:cNvSpPr/>
                      <p:nvPr/>
                    </p:nvSpPr>
                    <p:spPr>
                      <a:xfrm>
                        <a:off x="3420360" y="27482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3" name=""/>
                      <p:cNvSpPr/>
                      <p:nvPr/>
                    </p:nvSpPr>
                    <p:spPr>
                      <a:xfrm>
                        <a:off x="3420360" y="307440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" name=""/>
                      <p:cNvSpPr/>
                      <p:nvPr/>
                    </p:nvSpPr>
                    <p:spPr>
                      <a:xfrm>
                        <a:off x="3420360" y="34005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5" name=""/>
                    <p:cNvGrpSpPr/>
                    <p:nvPr/>
                  </p:nvGrpSpPr>
                  <p:grpSpPr>
                    <a:xfrm>
                      <a:off x="3564720" y="2748240"/>
                      <a:ext cx="144000" cy="978120"/>
                      <a:chOff x="3564720" y="2748240"/>
                      <a:chExt cx="144000" cy="978120"/>
                    </a:xfrm>
                  </p:grpSpPr>
                  <p:sp>
                    <p:nvSpPr>
                      <p:cNvPr id="526" name=""/>
                      <p:cNvSpPr/>
                      <p:nvPr/>
                    </p:nvSpPr>
                    <p:spPr>
                      <a:xfrm>
                        <a:off x="3564720" y="27482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3564720" y="307440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3564720" y="34005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9" name=""/>
                    <p:cNvGrpSpPr/>
                    <p:nvPr/>
                  </p:nvGrpSpPr>
                  <p:grpSpPr>
                    <a:xfrm>
                      <a:off x="3708720" y="2748240"/>
                      <a:ext cx="144360" cy="978120"/>
                      <a:chOff x="3708720" y="2748240"/>
                      <a:chExt cx="144360" cy="978120"/>
                    </a:xfrm>
                  </p:grpSpPr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3708720" y="27482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1" name=""/>
                      <p:cNvSpPr/>
                      <p:nvPr/>
                    </p:nvSpPr>
                    <p:spPr>
                      <a:xfrm>
                        <a:off x="3708720" y="307440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>
                        <a:off x="3708720" y="34005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3853800" y="2748240"/>
                    <a:ext cx="576720" cy="978120"/>
                    <a:chOff x="3853800" y="2748240"/>
                    <a:chExt cx="576720" cy="978120"/>
                  </a:xfrm>
                </p:grpSpPr>
                <p:grpSp>
                  <p:nvGrpSpPr>
                    <p:cNvPr id="534" name=""/>
                    <p:cNvGrpSpPr/>
                    <p:nvPr/>
                  </p:nvGrpSpPr>
                  <p:grpSpPr>
                    <a:xfrm>
                      <a:off x="3853800" y="2748240"/>
                      <a:ext cx="144360" cy="978120"/>
                      <a:chOff x="3853800" y="2748240"/>
                      <a:chExt cx="144360" cy="978120"/>
                    </a:xfrm>
                  </p:grpSpPr>
                  <p:sp>
                    <p:nvSpPr>
                      <p:cNvPr id="535" name=""/>
                      <p:cNvSpPr/>
                      <p:nvPr/>
                    </p:nvSpPr>
                    <p:spPr>
                      <a:xfrm>
                        <a:off x="3853800" y="27482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6" name=""/>
                      <p:cNvSpPr/>
                      <p:nvPr/>
                    </p:nvSpPr>
                    <p:spPr>
                      <a:xfrm>
                        <a:off x="3853800" y="307440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7" name=""/>
                      <p:cNvSpPr/>
                      <p:nvPr/>
                    </p:nvSpPr>
                    <p:spPr>
                      <a:xfrm>
                        <a:off x="3853800" y="34005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38" name=""/>
                    <p:cNvGrpSpPr/>
                    <p:nvPr/>
                  </p:nvGrpSpPr>
                  <p:grpSpPr>
                    <a:xfrm>
                      <a:off x="3998160" y="2748240"/>
                      <a:ext cx="144000" cy="978120"/>
                      <a:chOff x="3998160" y="2748240"/>
                      <a:chExt cx="144000" cy="978120"/>
                    </a:xfrm>
                  </p:grpSpPr>
                  <p:sp>
                    <p:nvSpPr>
                      <p:cNvPr id="539" name=""/>
                      <p:cNvSpPr/>
                      <p:nvPr/>
                    </p:nvSpPr>
                    <p:spPr>
                      <a:xfrm>
                        <a:off x="3998160" y="27482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0" name=""/>
                      <p:cNvSpPr/>
                      <p:nvPr/>
                    </p:nvSpPr>
                    <p:spPr>
                      <a:xfrm>
                        <a:off x="3998160" y="307440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" name=""/>
                      <p:cNvSpPr/>
                      <p:nvPr/>
                    </p:nvSpPr>
                    <p:spPr>
                      <a:xfrm>
                        <a:off x="3998160" y="34005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2" name=""/>
                    <p:cNvGrpSpPr/>
                    <p:nvPr/>
                  </p:nvGrpSpPr>
                  <p:grpSpPr>
                    <a:xfrm>
                      <a:off x="4142160" y="2748240"/>
                      <a:ext cx="144000" cy="978120"/>
                      <a:chOff x="4142160" y="2748240"/>
                      <a:chExt cx="144000" cy="978120"/>
                    </a:xfrm>
                  </p:grpSpPr>
                  <p:sp>
                    <p:nvSpPr>
                      <p:cNvPr id="543" name=""/>
                      <p:cNvSpPr/>
                      <p:nvPr/>
                    </p:nvSpPr>
                    <p:spPr>
                      <a:xfrm>
                        <a:off x="4142160" y="27482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" name=""/>
                      <p:cNvSpPr/>
                      <p:nvPr/>
                    </p:nvSpPr>
                    <p:spPr>
                      <a:xfrm>
                        <a:off x="4142160" y="307440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5" name=""/>
                      <p:cNvSpPr/>
                      <p:nvPr/>
                    </p:nvSpPr>
                    <p:spPr>
                      <a:xfrm>
                        <a:off x="4142160" y="34005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6" name=""/>
                    <p:cNvGrpSpPr/>
                    <p:nvPr/>
                  </p:nvGrpSpPr>
                  <p:grpSpPr>
                    <a:xfrm>
                      <a:off x="4286160" y="2748240"/>
                      <a:ext cx="144360" cy="978120"/>
                      <a:chOff x="4286160" y="2748240"/>
                      <a:chExt cx="144360" cy="978120"/>
                    </a:xfrm>
                  </p:grpSpPr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4286160" y="27482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>
                        <a:off x="4286160" y="307440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>
                        <a:off x="4286160" y="34005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50" name=""/>
              <p:cNvGrpSpPr/>
              <p:nvPr/>
            </p:nvGrpSpPr>
            <p:grpSpPr>
              <a:xfrm>
                <a:off x="1905120" y="1447920"/>
                <a:ext cx="2743200" cy="1218960"/>
                <a:chOff x="1905120" y="1447920"/>
                <a:chExt cx="2743200" cy="12189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905120" y="1447920"/>
                  <a:ext cx="2743200" cy="1218960"/>
                </a:xfrm>
                <a:prstGeom prst="roundRect">
                  <a:avLst>
                    <a:gd name="adj" fmla="val 4977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rot="18457200">
                  <a:off x="3505320" y="1930320"/>
                  <a:ext cx="304560" cy="228600"/>
                </a:xfrm>
                <a:prstGeom prst="rightArrow">
                  <a:avLst>
                    <a:gd name="adj1" fmla="val 19667"/>
                    <a:gd name="adj2" fmla="val 55684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736720" y="1796760"/>
                  <a:ext cx="457200" cy="456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419720" y="1523880"/>
                  <a:ext cx="22860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5" name=""/>
                <p:cNvGrpSpPr/>
                <p:nvPr/>
              </p:nvGrpSpPr>
              <p:grpSpPr>
                <a:xfrm>
                  <a:off x="1905120" y="1523880"/>
                  <a:ext cx="609480" cy="533160"/>
                  <a:chOff x="1905120" y="1523880"/>
                  <a:chExt cx="609480" cy="53316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>
                    <a:off x="2057400" y="1523880"/>
                    <a:ext cx="76320" cy="53316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1905120" y="1523880"/>
                    <a:ext cx="609480" cy="5331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8" name=""/>
                <p:cNvSpPr/>
                <p:nvPr/>
              </p:nvSpPr>
              <p:spPr>
                <a:xfrm>
                  <a:off x="3422520" y="1803240"/>
                  <a:ext cx="457200" cy="456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514320" y="2247840"/>
                  <a:ext cx="267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530160" y="1562040"/>
                  <a:ext cx="267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rot="1922400">
                  <a:off x="2819520" y="1923840"/>
                  <a:ext cx="304560" cy="228240"/>
                </a:xfrm>
                <a:prstGeom prst="rightArrow">
                  <a:avLst>
                    <a:gd name="adj1" fmla="val 19667"/>
                    <a:gd name="adj2" fmla="val 5577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828520" y="2241360"/>
                  <a:ext cx="267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844360" y="1555560"/>
                  <a:ext cx="267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4" name=""/>
            <p:cNvSpPr/>
            <p:nvPr/>
          </p:nvSpPr>
          <p:spPr>
            <a:xfrm>
              <a:off x="0" y="3518640"/>
              <a:ext cx="1066680" cy="2962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8001000" y="1659600"/>
            <a:ext cx="914400" cy="2962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i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0" y="5334120"/>
            <a:ext cx="4419720" cy="1330200"/>
            <a:chOff x="0" y="5334120"/>
            <a:chExt cx="4419720" cy="1330200"/>
          </a:xfrm>
        </p:grpSpPr>
        <p:grpSp>
          <p:nvGrpSpPr>
            <p:cNvPr id="567" name=""/>
            <p:cNvGrpSpPr/>
            <p:nvPr/>
          </p:nvGrpSpPr>
          <p:grpSpPr>
            <a:xfrm>
              <a:off x="2057400" y="5334120"/>
              <a:ext cx="2362320" cy="1330200"/>
              <a:chOff x="2057400" y="5334120"/>
              <a:chExt cx="2362320" cy="1330200"/>
            </a:xfrm>
          </p:grpSpPr>
          <p:sp>
            <p:nvSpPr>
              <p:cNvPr id="568" name=""/>
              <p:cNvSpPr/>
              <p:nvPr/>
            </p:nvSpPr>
            <p:spPr>
              <a:xfrm>
                <a:off x="2057400" y="6283440"/>
                <a:ext cx="2362320" cy="38088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2057400" y="5334120"/>
                <a:ext cx="1142280" cy="990360"/>
                <a:chOff x="2057400" y="5334120"/>
                <a:chExt cx="1142280" cy="990360"/>
              </a:xfrm>
            </p:grpSpPr>
            <p:sp>
              <p:nvSpPr>
                <p:cNvPr id="570" name=""/>
                <p:cNvSpPr/>
                <p:nvPr/>
              </p:nvSpPr>
              <p:spPr>
                <a:xfrm flipH="1">
                  <a:off x="2057400" y="5334120"/>
                  <a:ext cx="966960" cy="99036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919191"/>
                    </a:gs>
                    <a:gs pos="5000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024360" y="5334120"/>
                  <a:ext cx="175320" cy="990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19191"/>
                    </a:gs>
                    <a:gs pos="5000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3886200" y="6283440"/>
                <a:ext cx="457200" cy="152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0" y="6337800"/>
              <a:ext cx="1066680" cy="2962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52280" y="1232640"/>
            <a:ext cx="4495680" cy="1434240"/>
            <a:chOff x="152280" y="1232640"/>
            <a:chExt cx="4495680" cy="1434240"/>
          </a:xfrm>
        </p:grpSpPr>
        <p:grpSp>
          <p:nvGrpSpPr>
            <p:cNvPr id="575" name=""/>
            <p:cNvGrpSpPr/>
            <p:nvPr/>
          </p:nvGrpSpPr>
          <p:grpSpPr>
            <a:xfrm>
              <a:off x="152280" y="1232640"/>
              <a:ext cx="4495320" cy="1434240"/>
              <a:chOff x="152280" y="1232640"/>
              <a:chExt cx="4495320" cy="1434240"/>
            </a:xfrm>
          </p:grpSpPr>
          <p:sp>
            <p:nvSpPr>
              <p:cNvPr id="576" name=""/>
              <p:cNvSpPr/>
              <p:nvPr/>
            </p:nvSpPr>
            <p:spPr>
              <a:xfrm>
                <a:off x="152280" y="1232640"/>
                <a:ext cx="1066680" cy="296280"/>
              </a:xfrm>
              <a:noFill/>
              <a:ln w="1260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10800" bIns="10800" anchor="b" anchorCtr="1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Módul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7" name=""/>
              <p:cNvGrpSpPr/>
              <p:nvPr/>
            </p:nvGrpSpPr>
            <p:grpSpPr>
              <a:xfrm>
                <a:off x="1904760" y="1447920"/>
                <a:ext cx="2742840" cy="1218960"/>
                <a:chOff x="1904760" y="1447920"/>
                <a:chExt cx="2742840" cy="12189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1904760" y="1447920"/>
                  <a:ext cx="2742840" cy="1218960"/>
                </a:xfrm>
                <a:prstGeom prst="roundRect">
                  <a:avLst>
                    <a:gd name="adj" fmla="val 7736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9" name=""/>
                <p:cNvGrpSpPr/>
                <p:nvPr/>
              </p:nvGrpSpPr>
              <p:grpSpPr>
                <a:xfrm>
                  <a:off x="1980360" y="1752480"/>
                  <a:ext cx="2590200" cy="685800"/>
                  <a:chOff x="1980360" y="1752480"/>
                  <a:chExt cx="2590200" cy="685800"/>
                </a:xfrm>
              </p:grpSpPr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1980360" y="1752480"/>
                    <a:ext cx="609480" cy="685800"/>
                    <a:chOff x="1980360" y="1752480"/>
                    <a:chExt cx="609480" cy="68580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1980360" y="175248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2132640" y="1752480"/>
                      <a:ext cx="15264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2285280" y="175248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2437560" y="175248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2589840" y="1752480"/>
                    <a:ext cx="608760" cy="685800"/>
                    <a:chOff x="2589840" y="1752480"/>
                    <a:chExt cx="608760" cy="68580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>
                      <a:off x="2589840" y="1752480"/>
                      <a:ext cx="15192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2741760" y="175248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2894400" y="1752480"/>
                      <a:ext cx="15192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3046680" y="1752480"/>
                      <a:ext cx="15192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3199320" y="1752480"/>
                    <a:ext cx="608760" cy="685800"/>
                    <a:chOff x="3199320" y="1752480"/>
                    <a:chExt cx="608760" cy="68580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3199320" y="1752480"/>
                      <a:ext cx="15192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3351240" y="175248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3503880" y="1752480"/>
                      <a:ext cx="15192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3656160" y="1752480"/>
                      <a:ext cx="15192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5" name=""/>
                  <p:cNvSpPr/>
                  <p:nvPr/>
                </p:nvSpPr>
                <p:spPr>
                  <a:xfrm>
                    <a:off x="380880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3961440" y="1752480"/>
                    <a:ext cx="15192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4113720" y="1752480"/>
                    <a:ext cx="15192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426600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4418640" y="1752480"/>
                    <a:ext cx="15192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0" name=""/>
                <p:cNvSpPr/>
                <p:nvPr/>
              </p:nvSpPr>
              <p:spPr>
                <a:xfrm>
                  <a:off x="4037760" y="1523880"/>
                  <a:ext cx="456840" cy="152640"/>
                </a:xfrm>
                <a:prstGeom prst="rect">
                  <a:avLst/>
                </a:prstGeom>
                <a:solidFill>
                  <a:srgbClr val="66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3123360" y="1467000"/>
                  <a:ext cx="685440" cy="398520"/>
                  <a:chOff x="3123360" y="1467000"/>
                  <a:chExt cx="685440" cy="39852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3123360" y="1523880"/>
                    <a:ext cx="685440" cy="152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3123360" y="1467000"/>
                    <a:ext cx="6364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</a:rPr>
                      <a:t>PO103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04" name=""/>
            <p:cNvGrpSpPr/>
            <p:nvPr/>
          </p:nvGrpSpPr>
          <p:grpSpPr>
            <a:xfrm>
              <a:off x="1904760" y="2438280"/>
              <a:ext cx="2743200" cy="215640"/>
              <a:chOff x="1904760" y="2438280"/>
              <a:chExt cx="2743200" cy="215640"/>
            </a:xfrm>
          </p:grpSpPr>
          <p:sp>
            <p:nvSpPr>
              <p:cNvPr id="605" name=""/>
              <p:cNvSpPr/>
              <p:nvPr/>
            </p:nvSpPr>
            <p:spPr>
              <a:xfrm>
                <a:off x="205704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09680" y="24382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6196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51424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666880" y="24382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97144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1916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27636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124080" y="24382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42864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581280" y="24382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88584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73356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038480" y="24382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19076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34304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90476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228600" y="1689840"/>
            <a:ext cx="4415040" cy="748080"/>
            <a:chOff x="228600" y="1689840"/>
            <a:chExt cx="4415040" cy="748080"/>
          </a:xfrm>
        </p:grpSpPr>
        <p:sp>
          <p:nvSpPr>
            <p:cNvPr id="623" name=""/>
            <p:cNvSpPr/>
            <p:nvPr/>
          </p:nvSpPr>
          <p:spPr>
            <a:xfrm>
              <a:off x="228600" y="1689840"/>
              <a:ext cx="1143000" cy="2962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tiqu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1982880" y="1750680"/>
              <a:ext cx="2660760" cy="687240"/>
              <a:chOff x="1982880" y="1750680"/>
              <a:chExt cx="2660760" cy="6872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1982880" y="1752480"/>
                <a:ext cx="2590200" cy="685440"/>
                <a:chOff x="1982880" y="1752480"/>
                <a:chExt cx="2590200" cy="685440"/>
              </a:xfrm>
            </p:grpSpPr>
            <p:grpSp>
              <p:nvGrpSpPr>
                <p:cNvPr id="626" name=""/>
                <p:cNvGrpSpPr/>
                <p:nvPr/>
              </p:nvGrpSpPr>
              <p:grpSpPr>
                <a:xfrm>
                  <a:off x="1982880" y="1752480"/>
                  <a:ext cx="609480" cy="685440"/>
                  <a:chOff x="1982880" y="1752480"/>
                  <a:chExt cx="609480" cy="68544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>
                    <a:off x="1982880" y="1752480"/>
                    <a:ext cx="15228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135160" y="1752480"/>
                    <a:ext cx="15264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287800" y="1752480"/>
                    <a:ext cx="15228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440080" y="1752480"/>
                    <a:ext cx="15228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2592360" y="1752480"/>
                  <a:ext cx="608760" cy="685440"/>
                  <a:chOff x="2592360" y="1752480"/>
                  <a:chExt cx="608760" cy="6854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2592360" y="1752480"/>
                    <a:ext cx="15192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744280" y="1752480"/>
                    <a:ext cx="15228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896920" y="1752480"/>
                    <a:ext cx="15192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3049200" y="1752480"/>
                    <a:ext cx="15192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3201840" y="1752480"/>
                  <a:ext cx="608760" cy="685440"/>
                  <a:chOff x="3201840" y="1752480"/>
                  <a:chExt cx="608760" cy="68544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3201840" y="1752480"/>
                    <a:ext cx="15192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3353760" y="1752480"/>
                    <a:ext cx="15228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3506400" y="1752480"/>
                    <a:ext cx="15192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3658680" y="1752480"/>
                    <a:ext cx="15192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1" name=""/>
                <p:cNvSpPr/>
                <p:nvPr/>
              </p:nvSpPr>
              <p:spPr>
                <a:xfrm>
                  <a:off x="3811320" y="1752480"/>
                  <a:ext cx="152280" cy="68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963960" y="1752480"/>
                  <a:ext cx="151920" cy="68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16240" y="1752480"/>
                  <a:ext cx="151920" cy="68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268520" y="1752480"/>
                  <a:ext cx="152280" cy="68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421160" y="1752480"/>
                  <a:ext cx="151920" cy="68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1984320" y="1750680"/>
                <a:ext cx="2659320" cy="671040"/>
                <a:chOff x="1984320" y="1750680"/>
                <a:chExt cx="2659320" cy="671040"/>
              </a:xfrm>
            </p:grpSpPr>
            <p:sp>
              <p:nvSpPr>
                <p:cNvPr id="647" name=""/>
                <p:cNvSpPr/>
                <p:nvPr/>
              </p:nvSpPr>
              <p:spPr>
                <a:xfrm rot="16200000">
                  <a:off x="1754640" y="1984320"/>
                  <a:ext cx="6598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Motor 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16200000">
                  <a:off x="1917720" y="1987200"/>
                  <a:ext cx="6598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Motor 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16200000">
                  <a:off x="2125080" y="1931400"/>
                  <a:ext cx="657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Bomba 34 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2278080" y="1930680"/>
                  <a:ext cx="655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700" spc="-1" strike="noStrike">
                      <a:solidFill>
                        <a:srgbClr val="000000"/>
                      </a:solidFill>
                      <a:latin typeface="Tahoma"/>
                    </a:rPr>
                    <a:t>Rele Prot 456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rot="16200000">
                  <a:off x="2430360" y="1930680"/>
                  <a:ext cx="655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700" spc="-1" strike="noStrike">
                      <a:solidFill>
                        <a:srgbClr val="000000"/>
                      </a:solidFill>
                      <a:latin typeface="Tahoma"/>
                    </a:rPr>
                    <a:t>Rele Prot 23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rot="16200000">
                  <a:off x="2529000" y="1988640"/>
                  <a:ext cx="662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Motor 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6200000">
                  <a:off x="2682000" y="1989720"/>
                  <a:ext cx="6616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Motor 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rot="16200000">
                  <a:off x="2886120" y="1934640"/>
                  <a:ext cx="658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Bomba 34 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rot="16200000">
                  <a:off x="3031560" y="1931400"/>
                  <a:ext cx="657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700" spc="-1" strike="noStrike">
                      <a:solidFill>
                        <a:srgbClr val="000000"/>
                      </a:solidFill>
                      <a:latin typeface="Tahoma"/>
                    </a:rPr>
                    <a:t>Rele Prot 456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rot="16200000">
                  <a:off x="3191760" y="1931400"/>
                  <a:ext cx="657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700" spc="-1" strike="noStrike">
                      <a:solidFill>
                        <a:srgbClr val="000000"/>
                      </a:solidFill>
                      <a:latin typeface="Tahoma"/>
                    </a:rPr>
                    <a:t>Rele Prot 23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rot="16200000">
                  <a:off x="3291120" y="1990080"/>
                  <a:ext cx="662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Motor 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rot="16200000">
                  <a:off x="3443400" y="1988640"/>
                  <a:ext cx="662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Motor 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rot="16200000">
                  <a:off x="3648240" y="1934640"/>
                  <a:ext cx="658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Bomba 34 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rot="16200000">
                  <a:off x="3801240" y="1931400"/>
                  <a:ext cx="657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700" spc="-1" strike="noStrike">
                      <a:solidFill>
                        <a:srgbClr val="000000"/>
                      </a:solidFill>
                      <a:latin typeface="Tahoma"/>
                    </a:rPr>
                    <a:t>Rele Prot 456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rot="16200000">
                  <a:off x="3954600" y="1926360"/>
                  <a:ext cx="658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700" spc="-1" strike="noStrike">
                      <a:solidFill>
                        <a:srgbClr val="000000"/>
                      </a:solidFill>
                      <a:latin typeface="Tahoma"/>
                    </a:rPr>
                    <a:t>Rele Prot 23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rot="16200000">
                  <a:off x="4051440" y="1990080"/>
                  <a:ext cx="662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Motor 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rot="16200000">
                  <a:off x="4213440" y="1980360"/>
                  <a:ext cx="6598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Modulo 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4" name=""/>
          <p:cNvGrpSpPr/>
          <p:nvPr/>
        </p:nvGrpSpPr>
        <p:grpSpPr>
          <a:xfrm>
            <a:off x="4648320" y="1447920"/>
            <a:ext cx="2743200" cy="2361240"/>
            <a:chOff x="4648320" y="1447920"/>
            <a:chExt cx="2743200" cy="2361240"/>
          </a:xfrm>
        </p:grpSpPr>
        <p:grpSp>
          <p:nvGrpSpPr>
            <p:cNvPr id="665" name=""/>
            <p:cNvGrpSpPr/>
            <p:nvPr/>
          </p:nvGrpSpPr>
          <p:grpSpPr>
            <a:xfrm>
              <a:off x="4648320" y="2666880"/>
              <a:ext cx="2743200" cy="1142280"/>
              <a:chOff x="4648320" y="2666880"/>
              <a:chExt cx="2743200" cy="1142280"/>
            </a:xfrm>
          </p:grpSpPr>
          <p:sp>
            <p:nvSpPr>
              <p:cNvPr id="666" name=""/>
              <p:cNvSpPr/>
              <p:nvPr/>
            </p:nvSpPr>
            <p:spPr>
              <a:xfrm>
                <a:off x="4648320" y="2666880"/>
                <a:ext cx="2743200" cy="1142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7" name=""/>
              <p:cNvGrpSpPr/>
              <p:nvPr/>
            </p:nvGrpSpPr>
            <p:grpSpPr>
              <a:xfrm>
                <a:off x="4719960" y="2748240"/>
                <a:ext cx="2598480" cy="978480"/>
                <a:chOff x="4719960" y="2748240"/>
                <a:chExt cx="2598480" cy="978480"/>
              </a:xfrm>
            </p:grpSpPr>
            <p:grpSp>
              <p:nvGrpSpPr>
                <p:cNvPr id="668" name=""/>
                <p:cNvGrpSpPr/>
                <p:nvPr/>
              </p:nvGrpSpPr>
              <p:grpSpPr>
                <a:xfrm>
                  <a:off x="7174440" y="2748240"/>
                  <a:ext cx="144000" cy="978480"/>
                  <a:chOff x="7174440" y="2748240"/>
                  <a:chExt cx="144000" cy="97848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>
                    <a:off x="7174440" y="2748240"/>
                    <a:ext cx="144000" cy="326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b3b3b"/>
                      </a:gs>
                      <a:gs pos="50000">
                        <a:srgbClr val="808080"/>
                      </a:gs>
                      <a:gs pos="100000">
                        <a:srgbClr val="3b3b3b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7174440" y="3074400"/>
                    <a:ext cx="144000" cy="326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b3b3b"/>
                      </a:gs>
                      <a:gs pos="50000">
                        <a:srgbClr val="808080"/>
                      </a:gs>
                      <a:gs pos="100000">
                        <a:srgbClr val="3b3b3b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7174440" y="3400920"/>
                    <a:ext cx="144000" cy="325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b3b3b"/>
                      </a:gs>
                      <a:gs pos="50000">
                        <a:srgbClr val="808080"/>
                      </a:gs>
                      <a:gs pos="100000">
                        <a:srgbClr val="3b3b3b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"/>
                <p:cNvGrpSpPr/>
                <p:nvPr/>
              </p:nvGrpSpPr>
              <p:grpSpPr>
                <a:xfrm>
                  <a:off x="4719960" y="2748240"/>
                  <a:ext cx="144360" cy="978480"/>
                  <a:chOff x="4719960" y="2748240"/>
                  <a:chExt cx="144360" cy="97848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>
                    <a:off x="4719960" y="2748240"/>
                    <a:ext cx="144360" cy="326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b3b3b"/>
                      </a:gs>
                      <a:gs pos="50000">
                        <a:srgbClr val="808080"/>
                      </a:gs>
                      <a:gs pos="100000">
                        <a:srgbClr val="3b3b3b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4719960" y="3074400"/>
                    <a:ext cx="144360" cy="326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b3b3b"/>
                      </a:gs>
                      <a:gs pos="50000">
                        <a:srgbClr val="808080"/>
                      </a:gs>
                      <a:gs pos="100000">
                        <a:srgbClr val="3b3b3b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4719960" y="3400920"/>
                    <a:ext cx="144360" cy="325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b3b3b"/>
                      </a:gs>
                      <a:gs pos="50000">
                        <a:srgbClr val="808080"/>
                      </a:gs>
                      <a:gs pos="100000">
                        <a:srgbClr val="3b3b3b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4864320" y="2748240"/>
                  <a:ext cx="576720" cy="978120"/>
                  <a:chOff x="4864320" y="2748240"/>
                  <a:chExt cx="576720" cy="978120"/>
                </a:xfrm>
              </p:grpSpPr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4864320" y="2748240"/>
                    <a:ext cx="144360" cy="978120"/>
                    <a:chOff x="4864320" y="2748240"/>
                    <a:chExt cx="144360" cy="97812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486432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486432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4864320" y="340056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5008680" y="2748240"/>
                    <a:ext cx="144000" cy="978120"/>
                    <a:chOff x="5008680" y="2748240"/>
                    <a:chExt cx="144000" cy="978120"/>
                  </a:xfrm>
                </p:grpSpPr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500868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500868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5008680" y="340056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152680" y="2748240"/>
                    <a:ext cx="144000" cy="978120"/>
                    <a:chOff x="5152680" y="2748240"/>
                    <a:chExt cx="144000" cy="97812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515268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515268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5152680" y="340056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5296680" y="2748240"/>
                    <a:ext cx="144360" cy="978120"/>
                    <a:chOff x="5296680" y="2748240"/>
                    <a:chExt cx="144360" cy="97812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529668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529668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5296680" y="340056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3" name=""/>
                <p:cNvGrpSpPr/>
                <p:nvPr/>
              </p:nvGrpSpPr>
              <p:grpSpPr>
                <a:xfrm>
                  <a:off x="5441760" y="2748240"/>
                  <a:ext cx="576720" cy="978120"/>
                  <a:chOff x="5441760" y="2748240"/>
                  <a:chExt cx="576720" cy="978120"/>
                </a:xfrm>
              </p:grpSpPr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5441760" y="2748240"/>
                    <a:ext cx="144360" cy="978120"/>
                    <a:chOff x="5441760" y="2748240"/>
                    <a:chExt cx="144360" cy="97812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544176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544176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5441760" y="340056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5586120" y="2748240"/>
                    <a:ext cx="144000" cy="978120"/>
                    <a:chOff x="5586120" y="2748240"/>
                    <a:chExt cx="144000" cy="978120"/>
                  </a:xfrm>
                </p:grpSpPr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558612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558612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5586120" y="340056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5730120" y="2748240"/>
                    <a:ext cx="144000" cy="978120"/>
                    <a:chOff x="5730120" y="2748240"/>
                    <a:chExt cx="144000" cy="97812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573012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573012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5730120" y="340056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5874120" y="2748240"/>
                    <a:ext cx="144360" cy="978120"/>
                    <a:chOff x="5874120" y="2748240"/>
                    <a:chExt cx="144360" cy="97812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587412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587412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5874120" y="340056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10" name=""/>
                <p:cNvGrpSpPr/>
                <p:nvPr/>
              </p:nvGrpSpPr>
              <p:grpSpPr>
                <a:xfrm>
                  <a:off x="6019200" y="2748240"/>
                  <a:ext cx="577080" cy="978120"/>
                  <a:chOff x="6019200" y="2748240"/>
                  <a:chExt cx="577080" cy="978120"/>
                </a:xfrm>
              </p:grpSpPr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6019200" y="2748240"/>
                    <a:ext cx="144360" cy="978120"/>
                    <a:chOff x="6019200" y="2748240"/>
                    <a:chExt cx="144360" cy="97812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601920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601920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6019200" y="340056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6163560" y="2748240"/>
                    <a:ext cx="144000" cy="978120"/>
                    <a:chOff x="6163560" y="2748240"/>
                    <a:chExt cx="144000" cy="97812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616356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616356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6163560" y="340056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6307920" y="2748240"/>
                    <a:ext cx="144000" cy="978120"/>
                    <a:chOff x="6307920" y="2748240"/>
                    <a:chExt cx="144000" cy="97812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630792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630792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6307920" y="340056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6451920" y="2748240"/>
                    <a:ext cx="144360" cy="978120"/>
                    <a:chOff x="6451920" y="2748240"/>
                    <a:chExt cx="144360" cy="9781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645192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645192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6451920" y="340056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6597000" y="2748240"/>
                  <a:ext cx="576720" cy="978120"/>
                  <a:chOff x="6597000" y="2748240"/>
                  <a:chExt cx="576720" cy="97812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6597000" y="2748240"/>
                    <a:ext cx="144360" cy="978120"/>
                    <a:chOff x="6597000" y="2748240"/>
                    <a:chExt cx="144360" cy="97812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659700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659700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6597000" y="340056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6741360" y="2748240"/>
                    <a:ext cx="144000" cy="978120"/>
                    <a:chOff x="6741360" y="2748240"/>
                    <a:chExt cx="144000" cy="9781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674136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674136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6741360" y="340056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6885360" y="2748240"/>
                    <a:ext cx="144000" cy="978120"/>
                    <a:chOff x="6885360" y="2748240"/>
                    <a:chExt cx="144000" cy="97812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688536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688536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6885360" y="340056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7029360" y="2748240"/>
                    <a:ext cx="144360" cy="978120"/>
                    <a:chOff x="7029360" y="2748240"/>
                    <a:chExt cx="144360" cy="97812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702936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702936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7029360" y="340056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744" name=""/>
            <p:cNvGrpSpPr/>
            <p:nvPr/>
          </p:nvGrpSpPr>
          <p:grpSpPr>
            <a:xfrm>
              <a:off x="4648320" y="1447920"/>
              <a:ext cx="2743200" cy="1218960"/>
              <a:chOff x="4648320" y="1447920"/>
              <a:chExt cx="2743200" cy="1218960"/>
            </a:xfrm>
          </p:grpSpPr>
          <p:sp>
            <p:nvSpPr>
              <p:cNvPr id="745" name=""/>
              <p:cNvSpPr/>
              <p:nvPr/>
            </p:nvSpPr>
            <p:spPr>
              <a:xfrm>
                <a:off x="4648320" y="1447920"/>
                <a:ext cx="2743200" cy="1218960"/>
              </a:xfrm>
              <a:prstGeom prst="roundRect">
                <a:avLst>
                  <a:gd name="adj" fmla="val 497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18457200">
                <a:off x="6248520" y="1930320"/>
                <a:ext cx="304560" cy="228600"/>
              </a:xfrm>
              <a:prstGeom prst="rightArrow">
                <a:avLst>
                  <a:gd name="adj1" fmla="val 19667"/>
                  <a:gd name="adj2" fmla="val 5568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79920" y="1796760"/>
                <a:ext cx="457200" cy="45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162920" y="1523880"/>
                <a:ext cx="2286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4648320" y="1523880"/>
                <a:ext cx="609480" cy="533160"/>
                <a:chOff x="4648320" y="1523880"/>
                <a:chExt cx="609480" cy="53316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4800600" y="1523880"/>
                  <a:ext cx="76320" cy="53316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648320" y="1523880"/>
                  <a:ext cx="6094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6165720" y="1803240"/>
                <a:ext cx="457200" cy="45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257520" y="224784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273360" y="156204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922400">
                <a:off x="5562720" y="1923840"/>
                <a:ext cx="304560" cy="228240"/>
              </a:xfrm>
              <a:prstGeom prst="rightArrow">
                <a:avLst>
                  <a:gd name="adj1" fmla="val 19667"/>
                  <a:gd name="adj2" fmla="val 5577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571720" y="224136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87560" y="155556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8" name=""/>
          <p:cNvGrpSpPr/>
          <p:nvPr/>
        </p:nvGrpSpPr>
        <p:grpSpPr>
          <a:xfrm>
            <a:off x="4648320" y="1447920"/>
            <a:ext cx="2743200" cy="1220400"/>
            <a:chOff x="4648320" y="1447920"/>
            <a:chExt cx="2743200" cy="1220400"/>
          </a:xfrm>
        </p:grpSpPr>
        <p:grpSp>
          <p:nvGrpSpPr>
            <p:cNvPr id="759" name=""/>
            <p:cNvGrpSpPr/>
            <p:nvPr/>
          </p:nvGrpSpPr>
          <p:grpSpPr>
            <a:xfrm>
              <a:off x="4648320" y="1447920"/>
              <a:ext cx="2743200" cy="1218960"/>
              <a:chOff x="4648320" y="1447920"/>
              <a:chExt cx="2743200" cy="1218960"/>
            </a:xfrm>
          </p:grpSpPr>
          <p:sp>
            <p:nvSpPr>
              <p:cNvPr id="760" name=""/>
              <p:cNvSpPr/>
              <p:nvPr/>
            </p:nvSpPr>
            <p:spPr>
              <a:xfrm>
                <a:off x="4648320" y="1447920"/>
                <a:ext cx="2743200" cy="1218960"/>
              </a:xfrm>
              <a:prstGeom prst="roundRect">
                <a:avLst>
                  <a:gd name="adj" fmla="val 7736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1" name=""/>
              <p:cNvGrpSpPr/>
              <p:nvPr/>
            </p:nvGrpSpPr>
            <p:grpSpPr>
              <a:xfrm>
                <a:off x="4724280" y="1752480"/>
                <a:ext cx="2590920" cy="685800"/>
                <a:chOff x="4724280" y="1752480"/>
                <a:chExt cx="2590920" cy="685800"/>
              </a:xfrm>
            </p:grpSpPr>
            <p:grpSp>
              <p:nvGrpSpPr>
                <p:cNvPr id="762" name=""/>
                <p:cNvGrpSpPr/>
                <p:nvPr/>
              </p:nvGrpSpPr>
              <p:grpSpPr>
                <a:xfrm>
                  <a:off x="4724280" y="1752480"/>
                  <a:ext cx="609480" cy="685800"/>
                  <a:chOff x="4724280" y="1752480"/>
                  <a:chExt cx="609480" cy="68580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472428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4876560" y="1752480"/>
                    <a:ext cx="15264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502920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518148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5334120" y="1752480"/>
                  <a:ext cx="609480" cy="685800"/>
                  <a:chOff x="5334120" y="1752480"/>
                  <a:chExt cx="609480" cy="68580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>
                    <a:off x="533412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5486400" y="1752480"/>
                    <a:ext cx="15264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563904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579132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5943600" y="1752480"/>
                  <a:ext cx="609480" cy="685800"/>
                  <a:chOff x="5943600" y="1752480"/>
                  <a:chExt cx="609480" cy="68580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594360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6095880" y="1752480"/>
                    <a:ext cx="15264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624852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640080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7" name=""/>
                <p:cNvSpPr/>
                <p:nvPr/>
              </p:nvSpPr>
              <p:spPr>
                <a:xfrm>
                  <a:off x="6553080" y="1752480"/>
                  <a:ext cx="15264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6705720" y="1752480"/>
                  <a:ext cx="15228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6858000" y="1752480"/>
                  <a:ext cx="15228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010280" y="1752480"/>
                  <a:ext cx="15264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162920" y="1752480"/>
                  <a:ext cx="15228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2" name=""/>
              <p:cNvSpPr/>
              <p:nvPr/>
            </p:nvSpPr>
            <p:spPr>
              <a:xfrm>
                <a:off x="6781680" y="1523880"/>
                <a:ext cx="457200" cy="152640"/>
              </a:xfrm>
              <a:prstGeom prst="rect">
                <a:avLst/>
              </a:prstGeom>
              <a:solidFill>
                <a:srgbClr val="66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"/>
              <p:cNvGrpSpPr/>
              <p:nvPr/>
            </p:nvGrpSpPr>
            <p:grpSpPr>
              <a:xfrm>
                <a:off x="5867280" y="1467000"/>
                <a:ext cx="685800" cy="398520"/>
                <a:chOff x="5867280" y="1467000"/>
                <a:chExt cx="685800" cy="39852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867280" y="1523880"/>
                  <a:ext cx="68580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867280" y="1467000"/>
                  <a:ext cx="6368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PO103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6" name=""/>
            <p:cNvGrpSpPr/>
            <p:nvPr/>
          </p:nvGrpSpPr>
          <p:grpSpPr>
            <a:xfrm>
              <a:off x="4648320" y="2452680"/>
              <a:ext cx="2743200" cy="215640"/>
              <a:chOff x="4648320" y="2452680"/>
              <a:chExt cx="2743200" cy="215640"/>
            </a:xfrm>
          </p:grpSpPr>
          <p:sp>
            <p:nvSpPr>
              <p:cNvPr id="787" name=""/>
              <p:cNvSpPr/>
              <p:nvPr/>
            </p:nvSpPr>
            <p:spPr>
              <a:xfrm>
                <a:off x="480060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953240" y="24526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10552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25780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410440" y="24526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71500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56272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01992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67640" y="24526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17220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324840" y="24526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62940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47712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82040" y="24526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3432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08660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4832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4" name=""/>
          <p:cNvGrpSpPr/>
          <p:nvPr/>
        </p:nvGrpSpPr>
        <p:grpSpPr>
          <a:xfrm>
            <a:off x="152280" y="3580920"/>
            <a:ext cx="8629920" cy="2210400"/>
            <a:chOff x="152280" y="3580920"/>
            <a:chExt cx="8629920" cy="2210400"/>
          </a:xfrm>
        </p:grpSpPr>
        <p:grpSp>
          <p:nvGrpSpPr>
            <p:cNvPr id="805" name=""/>
            <p:cNvGrpSpPr/>
            <p:nvPr/>
          </p:nvGrpSpPr>
          <p:grpSpPr>
            <a:xfrm>
              <a:off x="152280" y="4661640"/>
              <a:ext cx="2743200" cy="1129680"/>
              <a:chOff x="152280" y="4661640"/>
              <a:chExt cx="2743200" cy="1129680"/>
            </a:xfrm>
          </p:grpSpPr>
          <p:grpSp>
            <p:nvGrpSpPr>
              <p:cNvPr id="806" name=""/>
              <p:cNvGrpSpPr/>
              <p:nvPr/>
            </p:nvGrpSpPr>
            <p:grpSpPr>
              <a:xfrm>
                <a:off x="1447920" y="5410080"/>
                <a:ext cx="1447560" cy="381240"/>
                <a:chOff x="1447920" y="5410080"/>
                <a:chExt cx="1447560" cy="381240"/>
              </a:xfrm>
            </p:grpSpPr>
            <p:grpSp>
              <p:nvGrpSpPr>
                <p:cNvPr id="807" name=""/>
                <p:cNvGrpSpPr/>
                <p:nvPr/>
              </p:nvGrpSpPr>
              <p:grpSpPr>
                <a:xfrm>
                  <a:off x="1676520" y="5410080"/>
                  <a:ext cx="1218960" cy="381240"/>
                  <a:chOff x="1676520" y="5410080"/>
                  <a:chExt cx="1218960" cy="38124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>
                    <a:off x="1676520" y="571500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1676520" y="54100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1752480" y="5486400"/>
                    <a:ext cx="11430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1752480" y="5791320"/>
                    <a:ext cx="838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2" name=""/>
                <p:cNvSpPr/>
                <p:nvPr/>
              </p:nvSpPr>
              <p:spPr>
                <a:xfrm>
                  <a:off x="1447920" y="5486400"/>
                  <a:ext cx="30456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3" name=""/>
              <p:cNvSpPr/>
              <p:nvPr/>
            </p:nvSpPr>
            <p:spPr>
              <a:xfrm>
                <a:off x="152280" y="4661640"/>
                <a:ext cx="1295640" cy="570600"/>
              </a:xfrm>
              <a:noFill/>
              <a:ln w="1260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10800" bIns="10800" anchor="b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Fiação de camp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4800600" y="3580920"/>
              <a:ext cx="3981600" cy="2108520"/>
              <a:chOff x="4800600" y="3580920"/>
              <a:chExt cx="3981600" cy="2108520"/>
            </a:xfrm>
          </p:grpSpPr>
          <p:grpSp>
            <p:nvGrpSpPr>
              <p:cNvPr id="815" name=""/>
              <p:cNvGrpSpPr/>
              <p:nvPr/>
            </p:nvGrpSpPr>
            <p:grpSpPr>
              <a:xfrm>
                <a:off x="4800600" y="3580920"/>
                <a:ext cx="3981600" cy="838800"/>
                <a:chOff x="4800600" y="3580920"/>
                <a:chExt cx="3981600" cy="838800"/>
              </a:xfrm>
            </p:grpSpPr>
            <p:grpSp>
              <p:nvGrpSpPr>
                <p:cNvPr id="816" name=""/>
                <p:cNvGrpSpPr/>
                <p:nvPr/>
              </p:nvGrpSpPr>
              <p:grpSpPr>
                <a:xfrm>
                  <a:off x="8458200" y="3733920"/>
                  <a:ext cx="324000" cy="685800"/>
                  <a:chOff x="8458200" y="3733920"/>
                  <a:chExt cx="324000" cy="68580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8466120" y="3733920"/>
                    <a:ext cx="304560" cy="685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a8a8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8542080" y="4267440"/>
                    <a:ext cx="15264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8613720" y="3791160"/>
                    <a:ext cx="0" cy="82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8572320" y="383220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8572320" y="403884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8458200" y="3818160"/>
                    <a:ext cx="3240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</a:rPr>
                      <a:t>2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3" name=""/>
                <p:cNvSpPr/>
                <p:nvPr/>
              </p:nvSpPr>
              <p:spPr>
                <a:xfrm>
                  <a:off x="7238880" y="3962520"/>
                  <a:ext cx="12193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800600" y="4267080"/>
                  <a:ext cx="3657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4800600" y="3657600"/>
                  <a:ext cx="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V="1">
                  <a:off x="7238880" y="358092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7" name=""/>
              <p:cNvSpPr/>
              <p:nvPr/>
            </p:nvSpPr>
            <p:spPr>
              <a:xfrm>
                <a:off x="6400800" y="5118840"/>
                <a:ext cx="1295280" cy="570600"/>
              </a:xfrm>
              <a:noFill/>
              <a:ln w="1260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10800" bIns="10800" anchor="b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Fonte de cam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Arquitetura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990720" y="1794600"/>
            <a:ext cx="1904760" cy="491400"/>
            <a:chOff x="990720" y="1794600"/>
            <a:chExt cx="1904760" cy="491400"/>
          </a:xfrm>
        </p:grpSpPr>
        <p:grpSp>
          <p:nvGrpSpPr>
            <p:cNvPr id="830" name=""/>
            <p:cNvGrpSpPr/>
            <p:nvPr/>
          </p:nvGrpSpPr>
          <p:grpSpPr>
            <a:xfrm>
              <a:off x="2362320" y="1828800"/>
              <a:ext cx="533160" cy="457200"/>
              <a:chOff x="2362320" y="1828800"/>
              <a:chExt cx="533160" cy="457200"/>
            </a:xfrm>
          </p:grpSpPr>
          <p:grpSp>
            <p:nvGrpSpPr>
              <p:cNvPr id="831" name=""/>
              <p:cNvGrpSpPr/>
              <p:nvPr/>
            </p:nvGrpSpPr>
            <p:grpSpPr>
              <a:xfrm>
                <a:off x="2362320" y="1828800"/>
                <a:ext cx="533160" cy="457200"/>
                <a:chOff x="2362320" y="1828800"/>
                <a:chExt cx="533160" cy="45720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2362320" y="18288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362320" y="20574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4" name=""/>
              <p:cNvSpPr/>
              <p:nvPr/>
            </p:nvSpPr>
            <p:spPr>
              <a:xfrm>
                <a:off x="2438280" y="2133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415960" y="186696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990720" y="1794600"/>
              <a:ext cx="761760" cy="2962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o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4495680" y="1828800"/>
            <a:ext cx="533520" cy="457200"/>
            <a:chOff x="4495680" y="1828800"/>
            <a:chExt cx="533520" cy="457200"/>
          </a:xfrm>
        </p:grpSpPr>
        <p:grpSp>
          <p:nvGrpSpPr>
            <p:cNvPr id="838" name=""/>
            <p:cNvGrpSpPr/>
            <p:nvPr/>
          </p:nvGrpSpPr>
          <p:grpSpPr>
            <a:xfrm>
              <a:off x="4495680" y="1828800"/>
              <a:ext cx="533520" cy="457200"/>
              <a:chOff x="4495680" y="1828800"/>
              <a:chExt cx="533520" cy="457200"/>
            </a:xfrm>
          </p:grpSpPr>
          <p:sp>
            <p:nvSpPr>
              <p:cNvPr id="839" name=""/>
              <p:cNvSpPr/>
              <p:nvPr/>
            </p:nvSpPr>
            <p:spPr>
              <a:xfrm>
                <a:off x="4495680" y="182880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495680" y="205740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4549680" y="186696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4616280" y="1905120"/>
              <a:ext cx="304920" cy="75960"/>
              <a:chOff x="4616280" y="1905120"/>
              <a:chExt cx="304920" cy="75960"/>
            </a:xfrm>
          </p:grpSpPr>
          <p:sp>
            <p:nvSpPr>
              <p:cNvPr id="843" name=""/>
              <p:cNvSpPr/>
              <p:nvPr/>
            </p:nvSpPr>
            <p:spPr>
              <a:xfrm>
                <a:off x="461628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69260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76892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84488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92120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>
              <a:off x="4574880" y="2104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574880" y="2171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574880" y="2235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3429000" y="1194480"/>
            <a:ext cx="3352680" cy="1091520"/>
            <a:chOff x="3429000" y="1194480"/>
            <a:chExt cx="3352680" cy="1091520"/>
          </a:xfrm>
        </p:grpSpPr>
        <p:grpSp>
          <p:nvGrpSpPr>
            <p:cNvPr id="852" name=""/>
            <p:cNvGrpSpPr/>
            <p:nvPr/>
          </p:nvGrpSpPr>
          <p:grpSpPr>
            <a:xfrm>
              <a:off x="3429000" y="1828800"/>
              <a:ext cx="1066320" cy="457200"/>
              <a:chOff x="3429000" y="1828800"/>
              <a:chExt cx="1066320" cy="457200"/>
            </a:xfrm>
          </p:grpSpPr>
          <p:grpSp>
            <p:nvGrpSpPr>
              <p:cNvPr id="853" name=""/>
              <p:cNvGrpSpPr/>
              <p:nvPr/>
            </p:nvGrpSpPr>
            <p:grpSpPr>
              <a:xfrm>
                <a:off x="3429000" y="1828800"/>
                <a:ext cx="533160" cy="457200"/>
                <a:chOff x="3429000" y="1828800"/>
                <a:chExt cx="533160" cy="457200"/>
              </a:xfrm>
            </p:grpSpPr>
            <p:grpSp>
              <p:nvGrpSpPr>
                <p:cNvPr id="854" name=""/>
                <p:cNvGrpSpPr/>
                <p:nvPr/>
              </p:nvGrpSpPr>
              <p:grpSpPr>
                <a:xfrm>
                  <a:off x="3429000" y="1828800"/>
                  <a:ext cx="533160" cy="457200"/>
                  <a:chOff x="3429000" y="1828800"/>
                  <a:chExt cx="533160" cy="45720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>
                    <a:off x="342900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342900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7" name=""/>
                <p:cNvSpPr/>
                <p:nvPr/>
              </p:nvSpPr>
              <p:spPr>
                <a:xfrm>
                  <a:off x="348264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8" name=""/>
                <p:cNvGrpSpPr/>
                <p:nvPr/>
              </p:nvGrpSpPr>
              <p:grpSpPr>
                <a:xfrm>
                  <a:off x="3549240" y="1905120"/>
                  <a:ext cx="304560" cy="75960"/>
                  <a:chOff x="3549240" y="1905120"/>
                  <a:chExt cx="304560" cy="7596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>
                    <a:off x="35492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36252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37015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37774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38538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4" name=""/>
                <p:cNvSpPr/>
                <p:nvPr/>
              </p:nvSpPr>
              <p:spPr>
                <a:xfrm>
                  <a:off x="350784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350784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50784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3962160" y="1828800"/>
                <a:ext cx="533160" cy="457200"/>
                <a:chOff x="3962160" y="1828800"/>
                <a:chExt cx="533160" cy="457200"/>
              </a:xfrm>
            </p:grpSpPr>
            <p:grpSp>
              <p:nvGrpSpPr>
                <p:cNvPr id="868" name=""/>
                <p:cNvGrpSpPr/>
                <p:nvPr/>
              </p:nvGrpSpPr>
              <p:grpSpPr>
                <a:xfrm>
                  <a:off x="3962160" y="1828800"/>
                  <a:ext cx="533160" cy="457200"/>
                  <a:chOff x="3962160" y="1828800"/>
                  <a:chExt cx="533160" cy="45720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>
                    <a:off x="396216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396216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1" name=""/>
                <p:cNvSpPr/>
                <p:nvPr/>
              </p:nvSpPr>
              <p:spPr>
                <a:xfrm>
                  <a:off x="401580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2" name=""/>
                <p:cNvGrpSpPr/>
                <p:nvPr/>
              </p:nvGrpSpPr>
              <p:grpSpPr>
                <a:xfrm>
                  <a:off x="4082400" y="1905120"/>
                  <a:ext cx="304560" cy="75960"/>
                  <a:chOff x="4082400" y="1905120"/>
                  <a:chExt cx="304560" cy="7596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4082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41583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42346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43106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3869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8" name=""/>
                <p:cNvSpPr/>
                <p:nvPr/>
              </p:nvSpPr>
              <p:spPr>
                <a:xfrm>
                  <a:off x="404100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04100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04100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3429000" y="1828800"/>
                <a:ext cx="533160" cy="457200"/>
                <a:chOff x="3429000" y="1828800"/>
                <a:chExt cx="533160" cy="457200"/>
              </a:xfrm>
            </p:grpSpPr>
            <p:grpSp>
              <p:nvGrpSpPr>
                <p:cNvPr id="882" name=""/>
                <p:cNvGrpSpPr/>
                <p:nvPr/>
              </p:nvGrpSpPr>
              <p:grpSpPr>
                <a:xfrm>
                  <a:off x="3429000" y="1828800"/>
                  <a:ext cx="533160" cy="457200"/>
                  <a:chOff x="3429000" y="1828800"/>
                  <a:chExt cx="533160" cy="45720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>
                    <a:off x="342900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342900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5" name=""/>
                <p:cNvSpPr/>
                <p:nvPr/>
              </p:nvSpPr>
              <p:spPr>
                <a:xfrm>
                  <a:off x="348264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6" name=""/>
                <p:cNvGrpSpPr/>
                <p:nvPr/>
              </p:nvGrpSpPr>
              <p:grpSpPr>
                <a:xfrm>
                  <a:off x="3549240" y="1905120"/>
                  <a:ext cx="304560" cy="75960"/>
                  <a:chOff x="3549240" y="1905120"/>
                  <a:chExt cx="304560" cy="7596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35492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36252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37015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37774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38538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2" name=""/>
                <p:cNvSpPr/>
                <p:nvPr/>
              </p:nvSpPr>
              <p:spPr>
                <a:xfrm>
                  <a:off x="350784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50784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50784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5" name=""/>
            <p:cNvSpPr/>
            <p:nvPr/>
          </p:nvSpPr>
          <p:spPr>
            <a:xfrm>
              <a:off x="4800600" y="1194480"/>
              <a:ext cx="1981080" cy="2962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ódulos de E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152280" y="1828800"/>
            <a:ext cx="6248160" cy="1447920"/>
            <a:chOff x="152280" y="1828800"/>
            <a:chExt cx="6248160" cy="1447920"/>
          </a:xfrm>
        </p:grpSpPr>
        <p:cxnSp>
          <p:nvCxnSpPr>
            <p:cNvPr id="897" name=""/>
            <p:cNvCxnSpPr>
              <a:stCxn id="898" idx="2"/>
              <a:endCxn id="899" idx="0"/>
            </p:cNvCxnSpPr>
            <p:nvPr/>
          </p:nvCxnSpPr>
          <p:spPr>
            <a:xfrm rot="5400000">
              <a:off x="4494960" y="1066680"/>
              <a:ext cx="534240" cy="297252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ff6600"/>
              </a:solidFill>
              <a:miter/>
            </a:ln>
          </p:spPr>
        </p:cxnSp>
        <p:grpSp>
          <p:nvGrpSpPr>
            <p:cNvPr id="900" name=""/>
            <p:cNvGrpSpPr/>
            <p:nvPr/>
          </p:nvGrpSpPr>
          <p:grpSpPr>
            <a:xfrm>
              <a:off x="6095880" y="1828800"/>
              <a:ext cx="304560" cy="457200"/>
              <a:chOff x="6095880" y="1828800"/>
              <a:chExt cx="304560" cy="457200"/>
            </a:xfrm>
          </p:grpSpPr>
          <p:sp>
            <p:nvSpPr>
              <p:cNvPr id="901" name=""/>
              <p:cNvSpPr/>
              <p:nvPr/>
            </p:nvSpPr>
            <p:spPr>
              <a:xfrm>
                <a:off x="6095880" y="1828800"/>
                <a:ext cx="304560" cy="2286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1c17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095880" y="2057400"/>
                <a:ext cx="304560" cy="2286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1c17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171840" y="2133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248160" y="2133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3124080" y="2819520"/>
              <a:ext cx="304560" cy="457200"/>
              <a:chOff x="3124080" y="2819520"/>
              <a:chExt cx="304560" cy="457200"/>
            </a:xfrm>
          </p:grpSpPr>
          <p:sp>
            <p:nvSpPr>
              <p:cNvPr id="899" name=""/>
              <p:cNvSpPr/>
              <p:nvPr/>
            </p:nvSpPr>
            <p:spPr>
              <a:xfrm>
                <a:off x="3124080" y="2819520"/>
                <a:ext cx="304560" cy="2286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1c17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24080" y="3048120"/>
                <a:ext cx="304560" cy="2286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1c17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200040" y="3124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276360" y="3124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152280" y="2617200"/>
              <a:ext cx="1600200" cy="57060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Expansão de Barr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2895480" y="4267080"/>
            <a:ext cx="3504960" cy="2133720"/>
            <a:chOff x="2895480" y="4267080"/>
            <a:chExt cx="3504960" cy="2133720"/>
          </a:xfrm>
        </p:grpSpPr>
        <p:grpSp>
          <p:nvGrpSpPr>
            <p:cNvPr id="910" name=""/>
            <p:cNvGrpSpPr/>
            <p:nvPr/>
          </p:nvGrpSpPr>
          <p:grpSpPr>
            <a:xfrm>
              <a:off x="2895480" y="4267080"/>
              <a:ext cx="3200400" cy="1067040"/>
              <a:chOff x="2895480" y="4267080"/>
              <a:chExt cx="3200400" cy="1067040"/>
            </a:xfrm>
          </p:grpSpPr>
          <p:sp>
            <p:nvSpPr>
              <p:cNvPr id="911" name=""/>
              <p:cNvSpPr/>
              <p:nvPr/>
            </p:nvSpPr>
            <p:spPr>
              <a:xfrm>
                <a:off x="2971800" y="4267080"/>
                <a:ext cx="0" cy="68580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2" name=""/>
              <p:cNvGrpSpPr/>
              <p:nvPr/>
            </p:nvGrpSpPr>
            <p:grpSpPr>
              <a:xfrm>
                <a:off x="4495680" y="4876920"/>
                <a:ext cx="1067040" cy="457200"/>
                <a:chOff x="4495680" y="4876920"/>
                <a:chExt cx="1067040" cy="457200"/>
              </a:xfrm>
            </p:grpSpPr>
            <p:grpSp>
              <p:nvGrpSpPr>
                <p:cNvPr id="913" name=""/>
                <p:cNvGrpSpPr/>
                <p:nvPr/>
              </p:nvGrpSpPr>
              <p:grpSpPr>
                <a:xfrm>
                  <a:off x="4495680" y="4876920"/>
                  <a:ext cx="533520" cy="457200"/>
                  <a:chOff x="4495680" y="4876920"/>
                  <a:chExt cx="533520" cy="457200"/>
                </a:xfrm>
              </p:grpSpPr>
              <p:grpSp>
                <p:nvGrpSpPr>
                  <p:cNvPr id="914" name=""/>
                  <p:cNvGrpSpPr/>
                  <p:nvPr/>
                </p:nvGrpSpPr>
                <p:grpSpPr>
                  <a:xfrm>
                    <a:off x="4495680" y="4876920"/>
                    <a:ext cx="533520" cy="457200"/>
                    <a:chOff x="4495680" y="4876920"/>
                    <a:chExt cx="533520" cy="457200"/>
                  </a:xfrm>
                </p:grpSpPr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4495680" y="48769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4495680" y="51055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7" name=""/>
                  <p:cNvSpPr/>
                  <p:nvPr/>
                </p:nvSpPr>
                <p:spPr>
                  <a:xfrm>
                    <a:off x="4549680" y="49150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8" name=""/>
                  <p:cNvGrpSpPr/>
                  <p:nvPr/>
                </p:nvGrpSpPr>
                <p:grpSpPr>
                  <a:xfrm>
                    <a:off x="4616280" y="4953240"/>
                    <a:ext cx="304920" cy="75960"/>
                    <a:chOff x="4616280" y="4953240"/>
                    <a:chExt cx="304920" cy="75960"/>
                  </a:xfrm>
                </p:grpSpPr>
                <p:sp>
                  <p:nvSpPr>
                    <p:cNvPr id="919" name=""/>
                    <p:cNvSpPr/>
                    <p:nvPr/>
                  </p:nvSpPr>
                  <p:spPr>
                    <a:xfrm>
                      <a:off x="461628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46926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476892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484488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49212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24" name=""/>
                  <p:cNvSpPr/>
                  <p:nvPr/>
                </p:nvSpPr>
                <p:spPr>
                  <a:xfrm>
                    <a:off x="4574880" y="51530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574880" y="52200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574880" y="52833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7" name=""/>
                <p:cNvGrpSpPr/>
                <p:nvPr/>
              </p:nvGrpSpPr>
              <p:grpSpPr>
                <a:xfrm>
                  <a:off x="5029200" y="4876920"/>
                  <a:ext cx="533520" cy="457200"/>
                  <a:chOff x="5029200" y="4876920"/>
                  <a:chExt cx="533520" cy="457200"/>
                </a:xfrm>
              </p:grpSpPr>
              <p:grpSp>
                <p:nvGrpSpPr>
                  <p:cNvPr id="928" name=""/>
                  <p:cNvGrpSpPr/>
                  <p:nvPr/>
                </p:nvGrpSpPr>
                <p:grpSpPr>
                  <a:xfrm>
                    <a:off x="5029200" y="4876920"/>
                    <a:ext cx="533520" cy="457200"/>
                    <a:chOff x="5029200" y="4876920"/>
                    <a:chExt cx="533520" cy="457200"/>
                  </a:xfrm>
                </p:grpSpPr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5029200" y="48769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5029200" y="51055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1" name=""/>
                  <p:cNvSpPr/>
                  <p:nvPr/>
                </p:nvSpPr>
                <p:spPr>
                  <a:xfrm>
                    <a:off x="5083200" y="49150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5149800" y="4953240"/>
                    <a:ext cx="304920" cy="75960"/>
                    <a:chOff x="5149800" y="4953240"/>
                    <a:chExt cx="304920" cy="75960"/>
                  </a:xfrm>
                </p:grpSpPr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51498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522612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530244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53784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545472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8" name=""/>
                  <p:cNvSpPr/>
                  <p:nvPr/>
                </p:nvSpPr>
                <p:spPr>
                  <a:xfrm>
                    <a:off x="5108400" y="51530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5108400" y="52200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5108400" y="52833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1" name=""/>
                <p:cNvGrpSpPr/>
                <p:nvPr/>
              </p:nvGrpSpPr>
              <p:grpSpPr>
                <a:xfrm>
                  <a:off x="4495680" y="4876920"/>
                  <a:ext cx="533520" cy="457200"/>
                  <a:chOff x="4495680" y="4876920"/>
                  <a:chExt cx="533520" cy="457200"/>
                </a:xfrm>
              </p:grpSpPr>
              <p:grpSp>
                <p:nvGrpSpPr>
                  <p:cNvPr id="942" name=""/>
                  <p:cNvGrpSpPr/>
                  <p:nvPr/>
                </p:nvGrpSpPr>
                <p:grpSpPr>
                  <a:xfrm>
                    <a:off x="4495680" y="4876920"/>
                    <a:ext cx="533520" cy="457200"/>
                    <a:chOff x="4495680" y="4876920"/>
                    <a:chExt cx="533520" cy="457200"/>
                  </a:xfrm>
                </p:grpSpPr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4495680" y="48769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4495680" y="51055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45" name=""/>
                  <p:cNvSpPr/>
                  <p:nvPr/>
                </p:nvSpPr>
                <p:spPr>
                  <a:xfrm>
                    <a:off x="4549680" y="49150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6" name=""/>
                  <p:cNvGrpSpPr/>
                  <p:nvPr/>
                </p:nvGrpSpPr>
                <p:grpSpPr>
                  <a:xfrm>
                    <a:off x="4616280" y="4953240"/>
                    <a:ext cx="304920" cy="75960"/>
                    <a:chOff x="4616280" y="4953240"/>
                    <a:chExt cx="304920" cy="75960"/>
                  </a:xfrm>
                </p:grpSpPr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461628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46926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476892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484488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49212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52" name=""/>
                  <p:cNvSpPr/>
                  <p:nvPr/>
                </p:nvSpPr>
                <p:spPr>
                  <a:xfrm>
                    <a:off x="4574880" y="51530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4574880" y="52200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4574880" y="52833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5" name=""/>
              <p:cNvGrpSpPr/>
              <p:nvPr/>
            </p:nvGrpSpPr>
            <p:grpSpPr>
              <a:xfrm>
                <a:off x="2895480" y="4876920"/>
                <a:ext cx="533160" cy="457200"/>
                <a:chOff x="2895480" y="4876920"/>
                <a:chExt cx="533160" cy="457200"/>
              </a:xfrm>
            </p:grpSpPr>
            <p:grpSp>
              <p:nvGrpSpPr>
                <p:cNvPr id="956" name=""/>
                <p:cNvGrpSpPr/>
                <p:nvPr/>
              </p:nvGrpSpPr>
              <p:grpSpPr>
                <a:xfrm>
                  <a:off x="2895480" y="4876920"/>
                  <a:ext cx="533160" cy="457200"/>
                  <a:chOff x="2895480" y="4876920"/>
                  <a:chExt cx="533160" cy="45720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>
                    <a:off x="2895480" y="48769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0086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2895480" y="5105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0086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9" name=""/>
                <p:cNvSpPr/>
                <p:nvPr/>
              </p:nvSpPr>
              <p:spPr>
                <a:xfrm>
                  <a:off x="2971440" y="51818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2949480" y="49150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3124080" y="5181840"/>
                  <a:ext cx="7596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3429000" y="4876920"/>
                <a:ext cx="1066320" cy="457200"/>
                <a:chOff x="3429000" y="4876920"/>
                <a:chExt cx="1066320" cy="457200"/>
              </a:xfrm>
            </p:grpSpPr>
            <p:grpSp>
              <p:nvGrpSpPr>
                <p:cNvPr id="963" name=""/>
                <p:cNvGrpSpPr/>
                <p:nvPr/>
              </p:nvGrpSpPr>
              <p:grpSpPr>
                <a:xfrm>
                  <a:off x="3429000" y="4876920"/>
                  <a:ext cx="533160" cy="457200"/>
                  <a:chOff x="3429000" y="4876920"/>
                  <a:chExt cx="533160" cy="457200"/>
                </a:xfrm>
              </p:grpSpPr>
              <p:grpSp>
                <p:nvGrpSpPr>
                  <p:cNvPr id="964" name=""/>
                  <p:cNvGrpSpPr/>
                  <p:nvPr/>
                </p:nvGrpSpPr>
                <p:grpSpPr>
                  <a:xfrm>
                    <a:off x="3429000" y="4876920"/>
                    <a:ext cx="533160" cy="457200"/>
                    <a:chOff x="3429000" y="4876920"/>
                    <a:chExt cx="533160" cy="457200"/>
                  </a:xfrm>
                </p:grpSpPr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3429000" y="48769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3429000" y="51055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7" name=""/>
                  <p:cNvSpPr/>
                  <p:nvPr/>
                </p:nvSpPr>
                <p:spPr>
                  <a:xfrm>
                    <a:off x="3482640" y="49150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68" name=""/>
                  <p:cNvGrpSpPr/>
                  <p:nvPr/>
                </p:nvGrpSpPr>
                <p:grpSpPr>
                  <a:xfrm>
                    <a:off x="3549240" y="4953240"/>
                    <a:ext cx="304560" cy="75960"/>
                    <a:chOff x="3549240" y="4953240"/>
                    <a:chExt cx="304560" cy="75960"/>
                  </a:xfrm>
                </p:grpSpPr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354924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36252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370152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377748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>
                      <a:off x="38538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74" name=""/>
                  <p:cNvSpPr/>
                  <p:nvPr/>
                </p:nvSpPr>
                <p:spPr>
                  <a:xfrm>
                    <a:off x="3507840" y="5153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3507840" y="52200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3507840" y="5283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7" name=""/>
                <p:cNvGrpSpPr/>
                <p:nvPr/>
              </p:nvGrpSpPr>
              <p:grpSpPr>
                <a:xfrm>
                  <a:off x="3962160" y="4876920"/>
                  <a:ext cx="533160" cy="457200"/>
                  <a:chOff x="3962160" y="4876920"/>
                  <a:chExt cx="533160" cy="457200"/>
                </a:xfrm>
              </p:grpSpPr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3962160" y="4876920"/>
                    <a:ext cx="533160" cy="457200"/>
                    <a:chOff x="3962160" y="4876920"/>
                    <a:chExt cx="533160" cy="45720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3962160" y="48769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3962160" y="51055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81" name=""/>
                  <p:cNvSpPr/>
                  <p:nvPr/>
                </p:nvSpPr>
                <p:spPr>
                  <a:xfrm>
                    <a:off x="4015800" y="49150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82" name=""/>
                  <p:cNvGrpSpPr/>
                  <p:nvPr/>
                </p:nvGrpSpPr>
                <p:grpSpPr>
                  <a:xfrm>
                    <a:off x="4082400" y="4953240"/>
                    <a:ext cx="304560" cy="75960"/>
                    <a:chOff x="4082400" y="4953240"/>
                    <a:chExt cx="304560" cy="75960"/>
                  </a:xfrm>
                </p:grpSpPr>
                <p:sp>
                  <p:nvSpPr>
                    <p:cNvPr id="983" name=""/>
                    <p:cNvSpPr/>
                    <p:nvPr/>
                  </p:nvSpPr>
                  <p:spPr>
                    <a:xfrm>
                      <a:off x="40824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415836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423468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431064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438696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88" name=""/>
                  <p:cNvSpPr/>
                  <p:nvPr/>
                </p:nvSpPr>
                <p:spPr>
                  <a:xfrm>
                    <a:off x="4041000" y="5153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4041000" y="52200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4041000" y="5283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3429000" y="4876920"/>
                  <a:ext cx="533160" cy="457200"/>
                  <a:chOff x="3429000" y="4876920"/>
                  <a:chExt cx="533160" cy="457200"/>
                </a:xfrm>
              </p:grpSpPr>
              <p:grpSp>
                <p:nvGrpSpPr>
                  <p:cNvPr id="992" name=""/>
                  <p:cNvGrpSpPr/>
                  <p:nvPr/>
                </p:nvGrpSpPr>
                <p:grpSpPr>
                  <a:xfrm>
                    <a:off x="3429000" y="4876920"/>
                    <a:ext cx="533160" cy="457200"/>
                    <a:chOff x="3429000" y="4876920"/>
                    <a:chExt cx="533160" cy="457200"/>
                  </a:xfrm>
                </p:grpSpPr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3429000" y="48769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3429000" y="51055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5" name=""/>
                  <p:cNvSpPr/>
                  <p:nvPr/>
                </p:nvSpPr>
                <p:spPr>
                  <a:xfrm>
                    <a:off x="3482640" y="49150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6" name=""/>
                  <p:cNvGrpSpPr/>
                  <p:nvPr/>
                </p:nvGrpSpPr>
                <p:grpSpPr>
                  <a:xfrm>
                    <a:off x="3549240" y="4953240"/>
                    <a:ext cx="304560" cy="75960"/>
                    <a:chOff x="3549240" y="4953240"/>
                    <a:chExt cx="304560" cy="75960"/>
                  </a:xfrm>
                </p:grpSpPr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354924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36252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>
                      <a:off x="370152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377748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38538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02" name=""/>
                  <p:cNvSpPr/>
                  <p:nvPr/>
                </p:nvSpPr>
                <p:spPr>
                  <a:xfrm>
                    <a:off x="3507840" y="5153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507840" y="52200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3507840" y="5283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5" name=""/>
              <p:cNvGrpSpPr/>
              <p:nvPr/>
            </p:nvGrpSpPr>
            <p:grpSpPr>
              <a:xfrm>
                <a:off x="5562720" y="4876920"/>
                <a:ext cx="533160" cy="457200"/>
                <a:chOff x="5562720" y="4876920"/>
                <a:chExt cx="533160" cy="457200"/>
              </a:xfrm>
            </p:grpSpPr>
            <p:grpSp>
              <p:nvGrpSpPr>
                <p:cNvPr id="1006" name=""/>
                <p:cNvGrpSpPr/>
                <p:nvPr/>
              </p:nvGrpSpPr>
              <p:grpSpPr>
                <a:xfrm>
                  <a:off x="5562720" y="4876920"/>
                  <a:ext cx="533160" cy="457200"/>
                  <a:chOff x="5562720" y="4876920"/>
                  <a:chExt cx="533160" cy="45720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>
                    <a:off x="5562720" y="48769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5562720" y="5105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9" name=""/>
                <p:cNvSpPr/>
                <p:nvPr/>
              </p:nvSpPr>
              <p:spPr>
                <a:xfrm>
                  <a:off x="5616360" y="49150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0" name=""/>
                <p:cNvGrpSpPr/>
                <p:nvPr/>
              </p:nvGrpSpPr>
              <p:grpSpPr>
                <a:xfrm>
                  <a:off x="5682960" y="4953240"/>
                  <a:ext cx="304560" cy="75960"/>
                  <a:chOff x="5682960" y="4953240"/>
                  <a:chExt cx="304560" cy="7596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>
                    <a:off x="5682960" y="4953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5758920" y="4953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5835240" y="4953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5911200" y="4953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5987520" y="4953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6" name=""/>
                <p:cNvSpPr/>
                <p:nvPr/>
              </p:nvSpPr>
              <p:spPr>
                <a:xfrm>
                  <a:off x="5641560" y="5153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5641560" y="5220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5641560" y="5283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9" name=""/>
            <p:cNvGrpSpPr/>
            <p:nvPr/>
          </p:nvGrpSpPr>
          <p:grpSpPr>
            <a:xfrm>
              <a:off x="3124080" y="4876920"/>
              <a:ext cx="3276360" cy="1523880"/>
              <a:chOff x="3124080" y="4876920"/>
              <a:chExt cx="3276360" cy="152388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3429000" y="5943600"/>
                <a:ext cx="1066320" cy="457200"/>
                <a:chOff x="3429000" y="5943600"/>
                <a:chExt cx="1066320" cy="457200"/>
              </a:xfrm>
            </p:grpSpPr>
            <p:grpSp>
              <p:nvGrpSpPr>
                <p:cNvPr id="1021" name=""/>
                <p:cNvGrpSpPr/>
                <p:nvPr/>
              </p:nvGrpSpPr>
              <p:grpSpPr>
                <a:xfrm>
                  <a:off x="3429000" y="5943600"/>
                  <a:ext cx="533160" cy="457200"/>
                  <a:chOff x="3429000" y="5943600"/>
                  <a:chExt cx="533160" cy="457200"/>
                </a:xfrm>
              </p:grpSpPr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3429000" y="5943600"/>
                    <a:ext cx="533160" cy="457200"/>
                    <a:chOff x="3429000" y="5943600"/>
                    <a:chExt cx="533160" cy="45720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3429000" y="594360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3429000" y="617220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5" name=""/>
                  <p:cNvSpPr/>
                  <p:nvPr/>
                </p:nvSpPr>
                <p:spPr>
                  <a:xfrm>
                    <a:off x="3482640" y="598176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3549240" y="6019920"/>
                    <a:ext cx="304560" cy="75960"/>
                    <a:chOff x="3549240" y="6019920"/>
                    <a:chExt cx="304560" cy="75960"/>
                  </a:xfrm>
                </p:grpSpPr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354924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36252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370152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377748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38538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2" name=""/>
                  <p:cNvSpPr/>
                  <p:nvPr/>
                </p:nvSpPr>
                <p:spPr>
                  <a:xfrm>
                    <a:off x="3507840" y="6219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507840" y="6286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507840" y="6350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5" name=""/>
                <p:cNvGrpSpPr/>
                <p:nvPr/>
              </p:nvGrpSpPr>
              <p:grpSpPr>
                <a:xfrm>
                  <a:off x="3962160" y="5943600"/>
                  <a:ext cx="533160" cy="457200"/>
                  <a:chOff x="3962160" y="5943600"/>
                  <a:chExt cx="533160" cy="457200"/>
                </a:xfrm>
              </p:grpSpPr>
              <p:grpSp>
                <p:nvGrpSpPr>
                  <p:cNvPr id="1036" name=""/>
                  <p:cNvGrpSpPr/>
                  <p:nvPr/>
                </p:nvGrpSpPr>
                <p:grpSpPr>
                  <a:xfrm>
                    <a:off x="3962160" y="5943600"/>
                    <a:ext cx="533160" cy="457200"/>
                    <a:chOff x="3962160" y="5943600"/>
                    <a:chExt cx="533160" cy="457200"/>
                  </a:xfrm>
                </p:grpSpPr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3962160" y="594360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3962160" y="617220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9" name=""/>
                  <p:cNvSpPr/>
                  <p:nvPr/>
                </p:nvSpPr>
                <p:spPr>
                  <a:xfrm>
                    <a:off x="4015800" y="598176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0" name=""/>
                  <p:cNvGrpSpPr/>
                  <p:nvPr/>
                </p:nvGrpSpPr>
                <p:grpSpPr>
                  <a:xfrm>
                    <a:off x="4082400" y="6019920"/>
                    <a:ext cx="304560" cy="75960"/>
                    <a:chOff x="4082400" y="6019920"/>
                    <a:chExt cx="304560" cy="75960"/>
                  </a:xfrm>
                </p:grpSpPr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40824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415836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423468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431064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438696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6" name=""/>
                  <p:cNvSpPr/>
                  <p:nvPr/>
                </p:nvSpPr>
                <p:spPr>
                  <a:xfrm>
                    <a:off x="4041000" y="6219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4041000" y="6286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4041000" y="6350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9" name=""/>
                <p:cNvGrpSpPr/>
                <p:nvPr/>
              </p:nvGrpSpPr>
              <p:grpSpPr>
                <a:xfrm>
                  <a:off x="3429000" y="5943600"/>
                  <a:ext cx="533160" cy="457200"/>
                  <a:chOff x="3429000" y="5943600"/>
                  <a:chExt cx="533160" cy="457200"/>
                </a:xfrm>
              </p:grpSpPr>
              <p:grpSp>
                <p:nvGrpSpPr>
                  <p:cNvPr id="1050" name=""/>
                  <p:cNvGrpSpPr/>
                  <p:nvPr/>
                </p:nvGrpSpPr>
                <p:grpSpPr>
                  <a:xfrm>
                    <a:off x="3429000" y="5943600"/>
                    <a:ext cx="533160" cy="457200"/>
                    <a:chOff x="3429000" y="5943600"/>
                    <a:chExt cx="533160" cy="457200"/>
                  </a:xfrm>
                </p:grpSpPr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3429000" y="594360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3429000" y="617220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3" name=""/>
                  <p:cNvSpPr/>
                  <p:nvPr/>
                </p:nvSpPr>
                <p:spPr>
                  <a:xfrm>
                    <a:off x="3482640" y="598176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4" name=""/>
                  <p:cNvGrpSpPr/>
                  <p:nvPr/>
                </p:nvGrpSpPr>
                <p:grpSpPr>
                  <a:xfrm>
                    <a:off x="3549240" y="6019920"/>
                    <a:ext cx="304560" cy="75960"/>
                    <a:chOff x="3549240" y="6019920"/>
                    <a:chExt cx="304560" cy="75960"/>
                  </a:xfrm>
                </p:grpSpPr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354924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36252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370152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377748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38538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0" name=""/>
                  <p:cNvSpPr/>
                  <p:nvPr/>
                </p:nvSpPr>
                <p:spPr>
                  <a:xfrm>
                    <a:off x="3507840" y="6219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507840" y="6286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507840" y="6350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5562720" y="5943600"/>
                <a:ext cx="533160" cy="457200"/>
                <a:chOff x="5562720" y="5943600"/>
                <a:chExt cx="533160" cy="457200"/>
              </a:xfrm>
            </p:grpSpPr>
            <p:grpSp>
              <p:nvGrpSpPr>
                <p:cNvPr id="1064" name=""/>
                <p:cNvGrpSpPr/>
                <p:nvPr/>
              </p:nvGrpSpPr>
              <p:grpSpPr>
                <a:xfrm>
                  <a:off x="5562720" y="5943600"/>
                  <a:ext cx="533160" cy="457200"/>
                  <a:chOff x="5562720" y="5943600"/>
                  <a:chExt cx="533160" cy="457200"/>
                </a:xfrm>
              </p:grpSpPr>
              <p:sp>
                <p:nvSpPr>
                  <p:cNvPr id="1065" name=""/>
                  <p:cNvSpPr/>
                  <p:nvPr/>
                </p:nvSpPr>
                <p:spPr>
                  <a:xfrm>
                    <a:off x="5562720" y="59436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5562720" y="61722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7" name=""/>
                <p:cNvSpPr/>
                <p:nvPr/>
              </p:nvSpPr>
              <p:spPr>
                <a:xfrm>
                  <a:off x="5616360" y="59817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8" name=""/>
                <p:cNvGrpSpPr/>
                <p:nvPr/>
              </p:nvGrpSpPr>
              <p:grpSpPr>
                <a:xfrm>
                  <a:off x="5682960" y="6019920"/>
                  <a:ext cx="304560" cy="75960"/>
                  <a:chOff x="5682960" y="6019920"/>
                  <a:chExt cx="304560" cy="75960"/>
                </a:xfrm>
              </p:grpSpPr>
              <p:sp>
                <p:nvSpPr>
                  <p:cNvPr id="1069" name=""/>
                  <p:cNvSpPr/>
                  <p:nvPr/>
                </p:nvSpPr>
                <p:spPr>
                  <a:xfrm>
                    <a:off x="5682960" y="60199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758920" y="60199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5835240" y="60199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5911200" y="60199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5987520" y="60199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4" name=""/>
                <p:cNvSpPr/>
                <p:nvPr/>
              </p:nvSpPr>
              <p:spPr>
                <a:xfrm>
                  <a:off x="5641560" y="62197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5641560" y="62866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5641560" y="6350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3124080" y="5943600"/>
                <a:ext cx="304560" cy="457200"/>
                <a:chOff x="3124080" y="5943600"/>
                <a:chExt cx="304560" cy="4572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124080" y="594360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3124080" y="617220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200040" y="624852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276360" y="624852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4495680" y="5943600"/>
                <a:ext cx="1067040" cy="457200"/>
                <a:chOff x="4495680" y="5943600"/>
                <a:chExt cx="1067040" cy="457200"/>
              </a:xfrm>
            </p:grpSpPr>
            <p:grpSp>
              <p:nvGrpSpPr>
                <p:cNvPr id="1083" name=""/>
                <p:cNvGrpSpPr/>
                <p:nvPr/>
              </p:nvGrpSpPr>
              <p:grpSpPr>
                <a:xfrm>
                  <a:off x="4495680" y="5943600"/>
                  <a:ext cx="533520" cy="457200"/>
                  <a:chOff x="4495680" y="5943600"/>
                  <a:chExt cx="533520" cy="457200"/>
                </a:xfrm>
              </p:grpSpPr>
              <p:grpSp>
                <p:nvGrpSpPr>
                  <p:cNvPr id="1084" name=""/>
                  <p:cNvGrpSpPr/>
                  <p:nvPr/>
                </p:nvGrpSpPr>
                <p:grpSpPr>
                  <a:xfrm>
                    <a:off x="4495680" y="5943600"/>
                    <a:ext cx="533520" cy="457200"/>
                    <a:chOff x="4495680" y="5943600"/>
                    <a:chExt cx="533520" cy="457200"/>
                  </a:xfrm>
                </p:grpSpPr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4495680" y="594360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4495680" y="617220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7" name=""/>
                  <p:cNvSpPr/>
                  <p:nvPr/>
                </p:nvSpPr>
                <p:spPr>
                  <a:xfrm>
                    <a:off x="4549680" y="598176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8" name=""/>
                  <p:cNvGrpSpPr/>
                  <p:nvPr/>
                </p:nvGrpSpPr>
                <p:grpSpPr>
                  <a:xfrm>
                    <a:off x="4616280" y="6019920"/>
                    <a:ext cx="304920" cy="75960"/>
                    <a:chOff x="4616280" y="6019920"/>
                    <a:chExt cx="304920" cy="75960"/>
                  </a:xfrm>
                </p:grpSpPr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461628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46926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476892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484488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49212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94" name=""/>
                  <p:cNvSpPr/>
                  <p:nvPr/>
                </p:nvSpPr>
                <p:spPr>
                  <a:xfrm>
                    <a:off x="4574880" y="621972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574880" y="62866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4574880" y="63500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7" name=""/>
                <p:cNvGrpSpPr/>
                <p:nvPr/>
              </p:nvGrpSpPr>
              <p:grpSpPr>
                <a:xfrm>
                  <a:off x="5029200" y="5943600"/>
                  <a:ext cx="533520" cy="457200"/>
                  <a:chOff x="5029200" y="5943600"/>
                  <a:chExt cx="533520" cy="457200"/>
                </a:xfrm>
              </p:grpSpPr>
              <p:grpSp>
                <p:nvGrpSpPr>
                  <p:cNvPr id="1098" name=""/>
                  <p:cNvGrpSpPr/>
                  <p:nvPr/>
                </p:nvGrpSpPr>
                <p:grpSpPr>
                  <a:xfrm>
                    <a:off x="5029200" y="5943600"/>
                    <a:ext cx="533520" cy="457200"/>
                    <a:chOff x="5029200" y="5943600"/>
                    <a:chExt cx="533520" cy="457200"/>
                  </a:xfrm>
                </p:grpSpPr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5029200" y="594360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5029200" y="617220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1" name=""/>
                  <p:cNvSpPr/>
                  <p:nvPr/>
                </p:nvSpPr>
                <p:spPr>
                  <a:xfrm>
                    <a:off x="5083200" y="598176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02" name=""/>
                  <p:cNvGrpSpPr/>
                  <p:nvPr/>
                </p:nvGrpSpPr>
                <p:grpSpPr>
                  <a:xfrm>
                    <a:off x="5149800" y="6019920"/>
                    <a:ext cx="304920" cy="75960"/>
                    <a:chOff x="5149800" y="6019920"/>
                    <a:chExt cx="304920" cy="75960"/>
                  </a:xfrm>
                </p:grpSpPr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51498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522612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530244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>
                      <a:off x="53784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>
                      <a:off x="545472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8" name=""/>
                  <p:cNvSpPr/>
                  <p:nvPr/>
                </p:nvSpPr>
                <p:spPr>
                  <a:xfrm>
                    <a:off x="5108400" y="621972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5108400" y="62866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5108400" y="63500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4495680" y="5943600"/>
                  <a:ext cx="533520" cy="457200"/>
                  <a:chOff x="4495680" y="5943600"/>
                  <a:chExt cx="533520" cy="457200"/>
                </a:xfrm>
              </p:grpSpPr>
              <p:grpSp>
                <p:nvGrpSpPr>
                  <p:cNvPr id="1112" name=""/>
                  <p:cNvGrpSpPr/>
                  <p:nvPr/>
                </p:nvGrpSpPr>
                <p:grpSpPr>
                  <a:xfrm>
                    <a:off x="4495680" y="5943600"/>
                    <a:ext cx="533520" cy="457200"/>
                    <a:chOff x="4495680" y="5943600"/>
                    <a:chExt cx="533520" cy="457200"/>
                  </a:xfrm>
                </p:grpSpPr>
                <p:sp>
                  <p:nvSpPr>
                    <p:cNvPr id="1113" name=""/>
                    <p:cNvSpPr/>
                    <p:nvPr/>
                  </p:nvSpPr>
                  <p:spPr>
                    <a:xfrm>
                      <a:off x="4495680" y="594360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4" name=""/>
                    <p:cNvSpPr/>
                    <p:nvPr/>
                  </p:nvSpPr>
                  <p:spPr>
                    <a:xfrm>
                      <a:off x="4495680" y="617220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5" name=""/>
                  <p:cNvSpPr/>
                  <p:nvPr/>
                </p:nvSpPr>
                <p:spPr>
                  <a:xfrm>
                    <a:off x="4549680" y="598176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16" name=""/>
                  <p:cNvGrpSpPr/>
                  <p:nvPr/>
                </p:nvGrpSpPr>
                <p:grpSpPr>
                  <a:xfrm>
                    <a:off x="4616280" y="6019920"/>
                    <a:ext cx="304920" cy="75960"/>
                    <a:chOff x="4616280" y="6019920"/>
                    <a:chExt cx="304920" cy="75960"/>
                  </a:xfrm>
                </p:grpSpPr>
                <p:sp>
                  <p:nvSpPr>
                    <p:cNvPr id="1117" name=""/>
                    <p:cNvSpPr/>
                    <p:nvPr/>
                  </p:nvSpPr>
                  <p:spPr>
                    <a:xfrm>
                      <a:off x="461628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>
                      <a:off x="46926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9" name=""/>
                    <p:cNvSpPr/>
                    <p:nvPr/>
                  </p:nvSpPr>
                  <p:spPr>
                    <a:xfrm>
                      <a:off x="476892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>
                      <a:off x="484488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49212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22" name=""/>
                  <p:cNvSpPr/>
                  <p:nvPr/>
                </p:nvSpPr>
                <p:spPr>
                  <a:xfrm>
                    <a:off x="4574880" y="621972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4880" y="62866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574880" y="63500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25" name=""/>
              <p:cNvGrpSpPr/>
              <p:nvPr/>
            </p:nvGrpSpPr>
            <p:grpSpPr>
              <a:xfrm>
                <a:off x="6095880" y="4876920"/>
                <a:ext cx="304560" cy="457200"/>
                <a:chOff x="6095880" y="4876920"/>
                <a:chExt cx="304560" cy="4572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095880" y="487692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095880" y="510552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6171840" y="51818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248160" y="51818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30" name=""/>
              <p:cNvCxnSpPr>
                <a:stCxn id="1127" idx="2"/>
                <a:endCxn id="1078" idx="0"/>
              </p:cNvCxnSpPr>
              <p:nvPr/>
            </p:nvCxnSpPr>
            <p:spPr>
              <a:xfrm rot="5400000">
                <a:off x="4457160" y="4152600"/>
                <a:ext cx="610200" cy="297252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ff6600"/>
                </a:solidFill>
                <a:miter/>
              </a:ln>
            </p:spPr>
          </p:cxnSp>
        </p:grpSp>
      </p:grpSp>
      <p:grpSp>
        <p:nvGrpSpPr>
          <p:cNvPr id="1131" name=""/>
          <p:cNvGrpSpPr/>
          <p:nvPr/>
        </p:nvGrpSpPr>
        <p:grpSpPr>
          <a:xfrm>
            <a:off x="6781680" y="1905120"/>
            <a:ext cx="1865520" cy="1447560"/>
            <a:chOff x="6781680" y="1905120"/>
            <a:chExt cx="1865520" cy="1447560"/>
          </a:xfrm>
        </p:grpSpPr>
        <p:sp>
          <p:nvSpPr>
            <p:cNvPr id="1132" name=""/>
            <p:cNvSpPr/>
            <p:nvPr/>
          </p:nvSpPr>
          <p:spPr>
            <a:xfrm>
              <a:off x="6781680" y="1905120"/>
              <a:ext cx="0" cy="14475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58000" y="1905120"/>
              <a:ext cx="178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Barramento 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6781680" y="3886200"/>
            <a:ext cx="1941480" cy="2514600"/>
            <a:chOff x="6781680" y="3886200"/>
            <a:chExt cx="1941480" cy="2514600"/>
          </a:xfrm>
        </p:grpSpPr>
        <p:sp>
          <p:nvSpPr>
            <p:cNvPr id="1135" name=""/>
            <p:cNvSpPr/>
            <p:nvPr/>
          </p:nvSpPr>
          <p:spPr>
            <a:xfrm>
              <a:off x="6781680" y="3886200"/>
              <a:ext cx="0" cy="25146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934320" y="3886200"/>
              <a:ext cx="178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Barramentos Remo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5029200" y="1828800"/>
            <a:ext cx="533520" cy="457200"/>
            <a:chOff x="5029200" y="1828800"/>
            <a:chExt cx="533520" cy="457200"/>
          </a:xfrm>
        </p:grpSpPr>
        <p:grpSp>
          <p:nvGrpSpPr>
            <p:cNvPr id="1138" name=""/>
            <p:cNvGrpSpPr/>
            <p:nvPr/>
          </p:nvGrpSpPr>
          <p:grpSpPr>
            <a:xfrm>
              <a:off x="5029200" y="1828800"/>
              <a:ext cx="533520" cy="457200"/>
              <a:chOff x="5029200" y="1828800"/>
              <a:chExt cx="533520" cy="457200"/>
            </a:xfrm>
          </p:grpSpPr>
          <p:sp>
            <p:nvSpPr>
              <p:cNvPr id="1139" name=""/>
              <p:cNvSpPr/>
              <p:nvPr/>
            </p:nvSpPr>
            <p:spPr>
              <a:xfrm>
                <a:off x="5029200" y="182880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029200" y="205740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5083200" y="186696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5149800" y="1905120"/>
              <a:ext cx="304920" cy="75960"/>
              <a:chOff x="5149800" y="1905120"/>
              <a:chExt cx="304920" cy="75960"/>
            </a:xfrm>
          </p:grpSpPr>
          <p:sp>
            <p:nvSpPr>
              <p:cNvPr id="1143" name=""/>
              <p:cNvSpPr/>
              <p:nvPr/>
            </p:nvSpPr>
            <p:spPr>
              <a:xfrm>
                <a:off x="514980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22612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30244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37840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45472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5108400" y="2104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108400" y="2171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108400" y="2235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5562720" y="1828800"/>
            <a:ext cx="533160" cy="457200"/>
            <a:chOff x="5562720" y="1828800"/>
            <a:chExt cx="533160" cy="457200"/>
          </a:xfrm>
        </p:grpSpPr>
        <p:grpSp>
          <p:nvGrpSpPr>
            <p:cNvPr id="1152" name=""/>
            <p:cNvGrpSpPr/>
            <p:nvPr/>
          </p:nvGrpSpPr>
          <p:grpSpPr>
            <a:xfrm>
              <a:off x="5562720" y="1828800"/>
              <a:ext cx="533160" cy="457200"/>
              <a:chOff x="5562720" y="1828800"/>
              <a:chExt cx="533160" cy="457200"/>
            </a:xfrm>
          </p:grpSpPr>
          <p:sp>
            <p:nvSpPr>
              <p:cNvPr id="1153" name=""/>
              <p:cNvSpPr/>
              <p:nvPr/>
            </p:nvSpPr>
            <p:spPr>
              <a:xfrm>
                <a:off x="5562720" y="1828800"/>
                <a:ext cx="53316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562720" y="2057400"/>
                <a:ext cx="53316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5" name=""/>
            <p:cNvSpPr/>
            <p:nvPr/>
          </p:nvSpPr>
          <p:spPr>
            <a:xfrm>
              <a:off x="5616360" y="1866960"/>
              <a:ext cx="4284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5682960" y="1905120"/>
              <a:ext cx="304560" cy="75960"/>
              <a:chOff x="5682960" y="1905120"/>
              <a:chExt cx="304560" cy="75960"/>
            </a:xfrm>
          </p:grpSpPr>
          <p:sp>
            <p:nvSpPr>
              <p:cNvPr id="1157" name=""/>
              <p:cNvSpPr/>
              <p:nvPr/>
            </p:nvSpPr>
            <p:spPr>
              <a:xfrm>
                <a:off x="568296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75892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83524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1120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98752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5641560" y="2104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641560" y="2171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641560" y="2235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3429000" y="2819520"/>
            <a:ext cx="533520" cy="457200"/>
            <a:chOff x="3429000" y="2819520"/>
            <a:chExt cx="533520" cy="457200"/>
          </a:xfrm>
        </p:grpSpPr>
        <p:grpSp>
          <p:nvGrpSpPr>
            <p:cNvPr id="1166" name=""/>
            <p:cNvGrpSpPr/>
            <p:nvPr/>
          </p:nvGrpSpPr>
          <p:grpSpPr>
            <a:xfrm>
              <a:off x="3429000" y="2819520"/>
              <a:ext cx="533520" cy="457200"/>
              <a:chOff x="3429000" y="2819520"/>
              <a:chExt cx="533520" cy="457200"/>
            </a:xfrm>
          </p:grpSpPr>
          <p:sp>
            <p:nvSpPr>
              <p:cNvPr id="1167" name=""/>
              <p:cNvSpPr/>
              <p:nvPr/>
            </p:nvSpPr>
            <p:spPr>
              <a:xfrm>
                <a:off x="3429000" y="281952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429000" y="304812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9" name=""/>
            <p:cNvSpPr/>
            <p:nvPr/>
          </p:nvSpPr>
          <p:spPr>
            <a:xfrm>
              <a:off x="3483000" y="285768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0" name=""/>
            <p:cNvGrpSpPr/>
            <p:nvPr/>
          </p:nvGrpSpPr>
          <p:grpSpPr>
            <a:xfrm>
              <a:off x="3549600" y="2895840"/>
              <a:ext cx="304920" cy="75960"/>
              <a:chOff x="3549600" y="2895840"/>
              <a:chExt cx="304920" cy="75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354960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6259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70224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77820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8545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>
              <a:off x="3508200" y="30956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08200" y="3162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508200" y="3225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3962520" y="2819520"/>
            <a:ext cx="533160" cy="457200"/>
            <a:chOff x="3962520" y="2819520"/>
            <a:chExt cx="533160" cy="457200"/>
          </a:xfrm>
        </p:grpSpPr>
        <p:grpSp>
          <p:nvGrpSpPr>
            <p:cNvPr id="1180" name=""/>
            <p:cNvGrpSpPr/>
            <p:nvPr/>
          </p:nvGrpSpPr>
          <p:grpSpPr>
            <a:xfrm>
              <a:off x="3962520" y="2819520"/>
              <a:ext cx="533160" cy="457200"/>
              <a:chOff x="3962520" y="2819520"/>
              <a:chExt cx="533160" cy="457200"/>
            </a:xfrm>
          </p:grpSpPr>
          <p:sp>
            <p:nvSpPr>
              <p:cNvPr id="1181" name=""/>
              <p:cNvSpPr/>
              <p:nvPr/>
            </p:nvSpPr>
            <p:spPr>
              <a:xfrm>
                <a:off x="3962520" y="2819520"/>
                <a:ext cx="53316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962520" y="3048120"/>
                <a:ext cx="53316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>
              <a:off x="4016160" y="2857680"/>
              <a:ext cx="4284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4" name=""/>
            <p:cNvGrpSpPr/>
            <p:nvPr/>
          </p:nvGrpSpPr>
          <p:grpSpPr>
            <a:xfrm>
              <a:off x="4082760" y="2895840"/>
              <a:ext cx="304560" cy="75960"/>
              <a:chOff x="4082760" y="2895840"/>
              <a:chExt cx="304560" cy="75960"/>
            </a:xfrm>
          </p:grpSpPr>
          <p:sp>
            <p:nvSpPr>
              <p:cNvPr id="1185" name=""/>
              <p:cNvSpPr/>
              <p:nvPr/>
            </p:nvSpPr>
            <p:spPr>
              <a:xfrm>
                <a:off x="408276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1587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23504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1100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3873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4041360" y="3095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041360" y="3162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041360" y="3225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4495680" y="2819520"/>
            <a:ext cx="533520" cy="457200"/>
            <a:chOff x="4495680" y="2819520"/>
            <a:chExt cx="533520" cy="457200"/>
          </a:xfrm>
        </p:grpSpPr>
        <p:grpSp>
          <p:nvGrpSpPr>
            <p:cNvPr id="1194" name=""/>
            <p:cNvGrpSpPr/>
            <p:nvPr/>
          </p:nvGrpSpPr>
          <p:grpSpPr>
            <a:xfrm>
              <a:off x="4495680" y="2819520"/>
              <a:ext cx="533520" cy="457200"/>
              <a:chOff x="4495680" y="2819520"/>
              <a:chExt cx="533520" cy="457200"/>
            </a:xfrm>
          </p:grpSpPr>
          <p:sp>
            <p:nvSpPr>
              <p:cNvPr id="1195" name=""/>
              <p:cNvSpPr/>
              <p:nvPr/>
            </p:nvSpPr>
            <p:spPr>
              <a:xfrm>
                <a:off x="4495680" y="281952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495680" y="304812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4549680" y="285768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8" name=""/>
            <p:cNvGrpSpPr/>
            <p:nvPr/>
          </p:nvGrpSpPr>
          <p:grpSpPr>
            <a:xfrm>
              <a:off x="4616280" y="2895840"/>
              <a:ext cx="304920" cy="75960"/>
              <a:chOff x="4616280" y="2895840"/>
              <a:chExt cx="304920" cy="75960"/>
            </a:xfrm>
          </p:grpSpPr>
          <p:sp>
            <p:nvSpPr>
              <p:cNvPr id="1199" name=""/>
              <p:cNvSpPr/>
              <p:nvPr/>
            </p:nvSpPr>
            <p:spPr>
              <a:xfrm>
                <a:off x="461628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69260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7689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4488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92120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4574880" y="30956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574880" y="3162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574880" y="3225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5029200" y="2819520"/>
            <a:ext cx="533520" cy="457200"/>
            <a:chOff x="5029200" y="2819520"/>
            <a:chExt cx="533520" cy="457200"/>
          </a:xfrm>
        </p:grpSpPr>
        <p:grpSp>
          <p:nvGrpSpPr>
            <p:cNvPr id="1208" name=""/>
            <p:cNvGrpSpPr/>
            <p:nvPr/>
          </p:nvGrpSpPr>
          <p:grpSpPr>
            <a:xfrm>
              <a:off x="5029200" y="2819520"/>
              <a:ext cx="533520" cy="457200"/>
              <a:chOff x="5029200" y="2819520"/>
              <a:chExt cx="533520" cy="457200"/>
            </a:xfrm>
          </p:grpSpPr>
          <p:sp>
            <p:nvSpPr>
              <p:cNvPr id="1209" name=""/>
              <p:cNvSpPr/>
              <p:nvPr/>
            </p:nvSpPr>
            <p:spPr>
              <a:xfrm>
                <a:off x="5029200" y="281952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029200" y="304812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1" name=""/>
            <p:cNvSpPr/>
            <p:nvPr/>
          </p:nvSpPr>
          <p:spPr>
            <a:xfrm>
              <a:off x="5083200" y="285768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5149800" y="2895840"/>
              <a:ext cx="304920" cy="75960"/>
              <a:chOff x="5149800" y="2895840"/>
              <a:chExt cx="304920" cy="75960"/>
            </a:xfrm>
          </p:grpSpPr>
          <p:sp>
            <p:nvSpPr>
              <p:cNvPr id="1213" name=""/>
              <p:cNvSpPr/>
              <p:nvPr/>
            </p:nvSpPr>
            <p:spPr>
              <a:xfrm>
                <a:off x="514980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2261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30244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37840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4547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>
              <a:off x="5108400" y="30956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08400" y="3162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08400" y="3225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5562720" y="2819520"/>
            <a:ext cx="533160" cy="457200"/>
            <a:chOff x="5562720" y="2819520"/>
            <a:chExt cx="533160" cy="457200"/>
          </a:xfrm>
        </p:grpSpPr>
        <p:grpSp>
          <p:nvGrpSpPr>
            <p:cNvPr id="1222" name=""/>
            <p:cNvGrpSpPr/>
            <p:nvPr/>
          </p:nvGrpSpPr>
          <p:grpSpPr>
            <a:xfrm>
              <a:off x="5562720" y="2819520"/>
              <a:ext cx="533160" cy="457200"/>
              <a:chOff x="5562720" y="2819520"/>
              <a:chExt cx="533160" cy="457200"/>
            </a:xfrm>
          </p:grpSpPr>
          <p:sp>
            <p:nvSpPr>
              <p:cNvPr id="1223" name=""/>
              <p:cNvSpPr/>
              <p:nvPr/>
            </p:nvSpPr>
            <p:spPr>
              <a:xfrm>
                <a:off x="5562720" y="2819520"/>
                <a:ext cx="53316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562720" y="3048120"/>
                <a:ext cx="53316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>
              <a:off x="5616360" y="2857680"/>
              <a:ext cx="4284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5682960" y="2895840"/>
              <a:ext cx="304560" cy="75960"/>
              <a:chOff x="5682960" y="2895840"/>
              <a:chExt cx="304560" cy="75960"/>
            </a:xfrm>
          </p:grpSpPr>
          <p:sp>
            <p:nvSpPr>
              <p:cNvPr id="1227" name=""/>
              <p:cNvSpPr/>
              <p:nvPr/>
            </p:nvSpPr>
            <p:spPr>
              <a:xfrm>
                <a:off x="568296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7589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83524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91120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9875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2" name=""/>
            <p:cNvSpPr/>
            <p:nvPr/>
          </p:nvSpPr>
          <p:spPr>
            <a:xfrm>
              <a:off x="5641560" y="3095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641560" y="3162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641560" y="3225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228600" y="1232640"/>
            <a:ext cx="3199680" cy="1053360"/>
            <a:chOff x="228600" y="1232640"/>
            <a:chExt cx="3199680" cy="1053360"/>
          </a:xfrm>
        </p:grpSpPr>
        <p:grpSp>
          <p:nvGrpSpPr>
            <p:cNvPr id="1236" name=""/>
            <p:cNvGrpSpPr/>
            <p:nvPr/>
          </p:nvGrpSpPr>
          <p:grpSpPr>
            <a:xfrm>
              <a:off x="2863800" y="1828800"/>
              <a:ext cx="564480" cy="457200"/>
              <a:chOff x="2863800" y="1828800"/>
              <a:chExt cx="564480" cy="457200"/>
            </a:xfrm>
          </p:grpSpPr>
          <p:grpSp>
            <p:nvGrpSpPr>
              <p:cNvPr id="1237" name=""/>
              <p:cNvGrpSpPr/>
              <p:nvPr/>
            </p:nvGrpSpPr>
            <p:grpSpPr>
              <a:xfrm>
                <a:off x="2863800" y="1828800"/>
                <a:ext cx="564480" cy="457200"/>
                <a:chOff x="2863800" y="1828800"/>
                <a:chExt cx="564480" cy="45720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2863800" y="1828800"/>
                  <a:ext cx="56448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863800" y="2057400"/>
                  <a:ext cx="56448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0" name=""/>
              <p:cNvSpPr/>
              <p:nvPr/>
            </p:nvSpPr>
            <p:spPr>
              <a:xfrm>
                <a:off x="2944440" y="2133720"/>
                <a:ext cx="161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920680" y="1866960"/>
                <a:ext cx="4539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186720" y="2133720"/>
                <a:ext cx="161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025440" y="1905120"/>
                <a:ext cx="16128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228600" y="1232640"/>
              <a:ext cx="1523880" cy="2962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U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152280" y="2286000"/>
            <a:ext cx="5943600" cy="2535120"/>
            <a:chOff x="152280" y="2286000"/>
            <a:chExt cx="5943600" cy="2535120"/>
          </a:xfrm>
        </p:grpSpPr>
        <p:sp>
          <p:nvSpPr>
            <p:cNvPr id="1246" name=""/>
            <p:cNvSpPr/>
            <p:nvPr/>
          </p:nvSpPr>
          <p:spPr>
            <a:xfrm>
              <a:off x="2971800" y="2286000"/>
              <a:ext cx="0" cy="1676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7" name=""/>
            <p:cNvGrpSpPr/>
            <p:nvPr/>
          </p:nvGrpSpPr>
          <p:grpSpPr>
            <a:xfrm>
              <a:off x="4495680" y="3886200"/>
              <a:ext cx="1067040" cy="457200"/>
              <a:chOff x="4495680" y="3886200"/>
              <a:chExt cx="1067040" cy="457200"/>
            </a:xfrm>
          </p:grpSpPr>
          <p:grpSp>
            <p:nvGrpSpPr>
              <p:cNvPr id="1248" name=""/>
              <p:cNvGrpSpPr/>
              <p:nvPr/>
            </p:nvGrpSpPr>
            <p:grpSpPr>
              <a:xfrm>
                <a:off x="4495680" y="3886200"/>
                <a:ext cx="533520" cy="457200"/>
                <a:chOff x="4495680" y="3886200"/>
                <a:chExt cx="533520" cy="457200"/>
              </a:xfrm>
            </p:grpSpPr>
            <p:grpSp>
              <p:nvGrpSpPr>
                <p:cNvPr id="1249" name=""/>
                <p:cNvGrpSpPr/>
                <p:nvPr/>
              </p:nvGrpSpPr>
              <p:grpSpPr>
                <a:xfrm>
                  <a:off x="4495680" y="3886200"/>
                  <a:ext cx="533520" cy="457200"/>
                  <a:chOff x="4495680" y="3886200"/>
                  <a:chExt cx="533520" cy="45720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>
                    <a:off x="4495680" y="38862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495680" y="4114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2" name=""/>
                <p:cNvSpPr/>
                <p:nvPr/>
              </p:nvSpPr>
              <p:spPr>
                <a:xfrm>
                  <a:off x="4549680" y="39243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3" name=""/>
                <p:cNvGrpSpPr/>
                <p:nvPr/>
              </p:nvGrpSpPr>
              <p:grpSpPr>
                <a:xfrm>
                  <a:off x="4616280" y="3962520"/>
                  <a:ext cx="304920" cy="75960"/>
                  <a:chOff x="4616280" y="3962520"/>
                  <a:chExt cx="304920" cy="75960"/>
                </a:xfrm>
              </p:grpSpPr>
              <p:sp>
                <p:nvSpPr>
                  <p:cNvPr id="1254" name=""/>
                  <p:cNvSpPr/>
                  <p:nvPr/>
                </p:nvSpPr>
                <p:spPr>
                  <a:xfrm>
                    <a:off x="461628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926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76892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84488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9212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"/>
                <p:cNvSpPr/>
                <p:nvPr/>
              </p:nvSpPr>
              <p:spPr>
                <a:xfrm>
                  <a:off x="4574880" y="41623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4574880" y="42292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574880" y="42926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5029200" y="3886200"/>
                <a:ext cx="533520" cy="457200"/>
                <a:chOff x="5029200" y="3886200"/>
                <a:chExt cx="533520" cy="457200"/>
              </a:xfrm>
            </p:grpSpPr>
            <p:grpSp>
              <p:nvGrpSpPr>
                <p:cNvPr id="1263" name=""/>
                <p:cNvGrpSpPr/>
                <p:nvPr/>
              </p:nvGrpSpPr>
              <p:grpSpPr>
                <a:xfrm>
                  <a:off x="5029200" y="3886200"/>
                  <a:ext cx="533520" cy="457200"/>
                  <a:chOff x="5029200" y="3886200"/>
                  <a:chExt cx="533520" cy="457200"/>
                </a:xfrm>
              </p:grpSpPr>
              <p:sp>
                <p:nvSpPr>
                  <p:cNvPr id="1264" name=""/>
                  <p:cNvSpPr/>
                  <p:nvPr/>
                </p:nvSpPr>
                <p:spPr>
                  <a:xfrm>
                    <a:off x="5029200" y="38862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5029200" y="4114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6" name=""/>
                <p:cNvSpPr/>
                <p:nvPr/>
              </p:nvSpPr>
              <p:spPr>
                <a:xfrm>
                  <a:off x="5083200" y="39243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7" name=""/>
                <p:cNvGrpSpPr/>
                <p:nvPr/>
              </p:nvGrpSpPr>
              <p:grpSpPr>
                <a:xfrm>
                  <a:off x="5149800" y="3962520"/>
                  <a:ext cx="304920" cy="75960"/>
                  <a:chOff x="5149800" y="3962520"/>
                  <a:chExt cx="304920" cy="75960"/>
                </a:xfrm>
              </p:grpSpPr>
              <p:sp>
                <p:nvSpPr>
                  <p:cNvPr id="1268" name=""/>
                  <p:cNvSpPr/>
                  <p:nvPr/>
                </p:nvSpPr>
                <p:spPr>
                  <a:xfrm>
                    <a:off x="51498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522612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530244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53784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545472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3" name=""/>
                <p:cNvSpPr/>
                <p:nvPr/>
              </p:nvSpPr>
              <p:spPr>
                <a:xfrm>
                  <a:off x="5108400" y="41623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08400" y="42292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08400" y="42926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6" name=""/>
              <p:cNvGrpSpPr/>
              <p:nvPr/>
            </p:nvGrpSpPr>
            <p:grpSpPr>
              <a:xfrm>
                <a:off x="4495680" y="3886200"/>
                <a:ext cx="533520" cy="457200"/>
                <a:chOff x="4495680" y="3886200"/>
                <a:chExt cx="533520" cy="457200"/>
              </a:xfrm>
            </p:grpSpPr>
            <p:grpSp>
              <p:nvGrpSpPr>
                <p:cNvPr id="1277" name=""/>
                <p:cNvGrpSpPr/>
                <p:nvPr/>
              </p:nvGrpSpPr>
              <p:grpSpPr>
                <a:xfrm>
                  <a:off x="4495680" y="3886200"/>
                  <a:ext cx="533520" cy="457200"/>
                  <a:chOff x="4495680" y="3886200"/>
                  <a:chExt cx="533520" cy="45720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4495680" y="38862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4495680" y="4114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0" name=""/>
                <p:cNvSpPr/>
                <p:nvPr/>
              </p:nvSpPr>
              <p:spPr>
                <a:xfrm>
                  <a:off x="4549680" y="39243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1" name=""/>
                <p:cNvGrpSpPr/>
                <p:nvPr/>
              </p:nvGrpSpPr>
              <p:grpSpPr>
                <a:xfrm>
                  <a:off x="4616280" y="3962520"/>
                  <a:ext cx="304920" cy="75960"/>
                  <a:chOff x="4616280" y="3962520"/>
                  <a:chExt cx="304920" cy="759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461628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46926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476892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484488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49212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7" name=""/>
                <p:cNvSpPr/>
                <p:nvPr/>
              </p:nvSpPr>
              <p:spPr>
                <a:xfrm>
                  <a:off x="4574880" y="41623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4574880" y="42292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4574880" y="42926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0" name=""/>
            <p:cNvGrpSpPr/>
            <p:nvPr/>
          </p:nvGrpSpPr>
          <p:grpSpPr>
            <a:xfrm>
              <a:off x="2895480" y="3886200"/>
              <a:ext cx="533160" cy="457200"/>
              <a:chOff x="2895480" y="3886200"/>
              <a:chExt cx="533160" cy="457200"/>
            </a:xfrm>
          </p:grpSpPr>
          <p:grpSp>
            <p:nvGrpSpPr>
              <p:cNvPr id="1291" name=""/>
              <p:cNvGrpSpPr/>
              <p:nvPr/>
            </p:nvGrpSpPr>
            <p:grpSpPr>
              <a:xfrm>
                <a:off x="2895480" y="3886200"/>
                <a:ext cx="533160" cy="457200"/>
                <a:chOff x="2895480" y="3886200"/>
                <a:chExt cx="533160" cy="45720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2895480" y="38862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895480" y="41148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4" name=""/>
              <p:cNvSpPr/>
              <p:nvPr/>
            </p:nvSpPr>
            <p:spPr>
              <a:xfrm>
                <a:off x="297144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949480" y="392436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12408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3429000" y="3886200"/>
              <a:ext cx="1066320" cy="457200"/>
              <a:chOff x="3429000" y="3886200"/>
              <a:chExt cx="1066320" cy="457200"/>
            </a:xfrm>
          </p:grpSpPr>
          <p:grpSp>
            <p:nvGrpSpPr>
              <p:cNvPr id="1298" name=""/>
              <p:cNvGrpSpPr/>
              <p:nvPr/>
            </p:nvGrpSpPr>
            <p:grpSpPr>
              <a:xfrm>
                <a:off x="3429000" y="3886200"/>
                <a:ext cx="533160" cy="457200"/>
                <a:chOff x="3429000" y="3886200"/>
                <a:chExt cx="533160" cy="457200"/>
              </a:xfrm>
            </p:grpSpPr>
            <p:grpSp>
              <p:nvGrpSpPr>
                <p:cNvPr id="1299" name=""/>
                <p:cNvGrpSpPr/>
                <p:nvPr/>
              </p:nvGrpSpPr>
              <p:grpSpPr>
                <a:xfrm>
                  <a:off x="3429000" y="3886200"/>
                  <a:ext cx="533160" cy="457200"/>
                  <a:chOff x="3429000" y="3886200"/>
                  <a:chExt cx="533160" cy="45720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>
                    <a:off x="3429000" y="38862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3429000" y="4114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2" name=""/>
                <p:cNvSpPr/>
                <p:nvPr/>
              </p:nvSpPr>
              <p:spPr>
                <a:xfrm>
                  <a:off x="3482640" y="39243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3" name=""/>
                <p:cNvGrpSpPr/>
                <p:nvPr/>
              </p:nvGrpSpPr>
              <p:grpSpPr>
                <a:xfrm>
                  <a:off x="3549240" y="3962520"/>
                  <a:ext cx="304560" cy="75960"/>
                  <a:chOff x="3549240" y="3962520"/>
                  <a:chExt cx="304560" cy="75960"/>
                </a:xfrm>
              </p:grpSpPr>
              <p:sp>
                <p:nvSpPr>
                  <p:cNvPr id="1304" name=""/>
                  <p:cNvSpPr/>
                  <p:nvPr/>
                </p:nvSpPr>
                <p:spPr>
                  <a:xfrm>
                    <a:off x="354924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6252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370152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377748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38538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9" name=""/>
                <p:cNvSpPr/>
                <p:nvPr/>
              </p:nvSpPr>
              <p:spPr>
                <a:xfrm>
                  <a:off x="3507840" y="41623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3507840" y="42292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3507840" y="4292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3962160" y="3886200"/>
                <a:ext cx="533160" cy="457200"/>
                <a:chOff x="3962160" y="3886200"/>
                <a:chExt cx="533160" cy="457200"/>
              </a:xfrm>
            </p:grpSpPr>
            <p:grpSp>
              <p:nvGrpSpPr>
                <p:cNvPr id="1313" name=""/>
                <p:cNvGrpSpPr/>
                <p:nvPr/>
              </p:nvGrpSpPr>
              <p:grpSpPr>
                <a:xfrm>
                  <a:off x="3962160" y="3886200"/>
                  <a:ext cx="533160" cy="457200"/>
                  <a:chOff x="3962160" y="3886200"/>
                  <a:chExt cx="533160" cy="457200"/>
                </a:xfrm>
              </p:grpSpPr>
              <p:sp>
                <p:nvSpPr>
                  <p:cNvPr id="1314" name=""/>
                  <p:cNvSpPr/>
                  <p:nvPr/>
                </p:nvSpPr>
                <p:spPr>
                  <a:xfrm>
                    <a:off x="3962160" y="38862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3962160" y="4114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6" name=""/>
                <p:cNvSpPr/>
                <p:nvPr/>
              </p:nvSpPr>
              <p:spPr>
                <a:xfrm>
                  <a:off x="4015800" y="39243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7" name=""/>
                <p:cNvGrpSpPr/>
                <p:nvPr/>
              </p:nvGrpSpPr>
              <p:grpSpPr>
                <a:xfrm>
                  <a:off x="4082400" y="3962520"/>
                  <a:ext cx="304560" cy="75960"/>
                  <a:chOff x="4082400" y="3962520"/>
                  <a:chExt cx="304560" cy="75960"/>
                </a:xfrm>
              </p:grpSpPr>
              <p:sp>
                <p:nvSpPr>
                  <p:cNvPr id="1318" name=""/>
                  <p:cNvSpPr/>
                  <p:nvPr/>
                </p:nvSpPr>
                <p:spPr>
                  <a:xfrm>
                    <a:off x="40824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415836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423468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431064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438696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3" name=""/>
                <p:cNvSpPr/>
                <p:nvPr/>
              </p:nvSpPr>
              <p:spPr>
                <a:xfrm>
                  <a:off x="4041000" y="41623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4041000" y="42292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4041000" y="4292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3429000" y="3886200"/>
                <a:ext cx="533160" cy="457200"/>
                <a:chOff x="3429000" y="3886200"/>
                <a:chExt cx="533160" cy="457200"/>
              </a:xfrm>
            </p:grpSpPr>
            <p:grpSp>
              <p:nvGrpSpPr>
                <p:cNvPr id="1327" name=""/>
                <p:cNvGrpSpPr/>
                <p:nvPr/>
              </p:nvGrpSpPr>
              <p:grpSpPr>
                <a:xfrm>
                  <a:off x="3429000" y="3886200"/>
                  <a:ext cx="533160" cy="457200"/>
                  <a:chOff x="3429000" y="3886200"/>
                  <a:chExt cx="533160" cy="45720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3429000" y="38862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3429000" y="4114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0" name=""/>
                <p:cNvSpPr/>
                <p:nvPr/>
              </p:nvSpPr>
              <p:spPr>
                <a:xfrm>
                  <a:off x="3482640" y="39243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1" name=""/>
                <p:cNvGrpSpPr/>
                <p:nvPr/>
              </p:nvGrpSpPr>
              <p:grpSpPr>
                <a:xfrm>
                  <a:off x="3549240" y="3962520"/>
                  <a:ext cx="304560" cy="75960"/>
                  <a:chOff x="3549240" y="3962520"/>
                  <a:chExt cx="304560" cy="75960"/>
                </a:xfrm>
              </p:grpSpPr>
              <p:sp>
                <p:nvSpPr>
                  <p:cNvPr id="1332" name=""/>
                  <p:cNvSpPr/>
                  <p:nvPr/>
                </p:nvSpPr>
                <p:spPr>
                  <a:xfrm>
                    <a:off x="354924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36252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370152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377748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38538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7" name=""/>
                <p:cNvSpPr/>
                <p:nvPr/>
              </p:nvSpPr>
              <p:spPr>
                <a:xfrm>
                  <a:off x="3507840" y="41623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507840" y="42292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507840" y="4292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0" name=""/>
            <p:cNvSpPr/>
            <p:nvPr/>
          </p:nvSpPr>
          <p:spPr>
            <a:xfrm>
              <a:off x="152280" y="3976200"/>
              <a:ext cx="1600200" cy="84492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abeças de Rede de Ca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1" name=""/>
            <p:cNvGrpSpPr/>
            <p:nvPr/>
          </p:nvGrpSpPr>
          <p:grpSpPr>
            <a:xfrm>
              <a:off x="5562720" y="3886200"/>
              <a:ext cx="533160" cy="457200"/>
              <a:chOff x="5562720" y="3886200"/>
              <a:chExt cx="533160" cy="457200"/>
            </a:xfrm>
          </p:grpSpPr>
          <p:grpSp>
            <p:nvGrpSpPr>
              <p:cNvPr id="1342" name=""/>
              <p:cNvGrpSpPr/>
              <p:nvPr/>
            </p:nvGrpSpPr>
            <p:grpSpPr>
              <a:xfrm>
                <a:off x="5562720" y="3886200"/>
                <a:ext cx="533160" cy="457200"/>
                <a:chOff x="5562720" y="3886200"/>
                <a:chExt cx="533160" cy="45720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5562720" y="38862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5562720" y="41148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5" name=""/>
              <p:cNvSpPr/>
              <p:nvPr/>
            </p:nvSpPr>
            <p:spPr>
              <a:xfrm>
                <a:off x="5616360" y="392436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6" name=""/>
              <p:cNvGrpSpPr/>
              <p:nvPr/>
            </p:nvGrpSpPr>
            <p:grpSpPr>
              <a:xfrm>
                <a:off x="5682960" y="3962520"/>
                <a:ext cx="304560" cy="75960"/>
                <a:chOff x="5682960" y="3962520"/>
                <a:chExt cx="304560" cy="7596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5682960" y="3962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5758920" y="3962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5835240" y="3962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5911200" y="3962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987520" y="3962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2" name=""/>
              <p:cNvSpPr/>
              <p:nvPr/>
            </p:nvSpPr>
            <p:spPr>
              <a:xfrm>
                <a:off x="5641560" y="41623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641560" y="4229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641560" y="42926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ahoma"/>
              </a:rPr>
              <a:t>Capacidades do Barramento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1676520" y="1828800"/>
            <a:ext cx="6400800" cy="457200"/>
            <a:chOff x="1676520" y="1828800"/>
            <a:chExt cx="6400800" cy="457200"/>
          </a:xfrm>
        </p:grpSpPr>
        <p:grpSp>
          <p:nvGrpSpPr>
            <p:cNvPr id="1357" name=""/>
            <p:cNvGrpSpPr/>
            <p:nvPr/>
          </p:nvGrpSpPr>
          <p:grpSpPr>
            <a:xfrm>
              <a:off x="1676520" y="1828800"/>
              <a:ext cx="533160" cy="457200"/>
              <a:chOff x="1676520" y="1828800"/>
              <a:chExt cx="533160" cy="457200"/>
            </a:xfrm>
          </p:grpSpPr>
          <p:grpSp>
            <p:nvGrpSpPr>
              <p:cNvPr id="1358" name=""/>
              <p:cNvGrpSpPr/>
              <p:nvPr/>
            </p:nvGrpSpPr>
            <p:grpSpPr>
              <a:xfrm>
                <a:off x="1676520" y="1828800"/>
                <a:ext cx="533160" cy="457200"/>
                <a:chOff x="1676520" y="1828800"/>
                <a:chExt cx="533160" cy="45720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1676520" y="18288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676520" y="20574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>
                <a:off x="1752480" y="2133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730160" y="186696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2743200" y="1828800"/>
              <a:ext cx="1066320" cy="457200"/>
              <a:chOff x="2743200" y="1828800"/>
              <a:chExt cx="1066320" cy="457200"/>
            </a:xfrm>
          </p:grpSpPr>
          <p:grpSp>
            <p:nvGrpSpPr>
              <p:cNvPr id="1364" name=""/>
              <p:cNvGrpSpPr/>
              <p:nvPr/>
            </p:nvGrpSpPr>
            <p:grpSpPr>
              <a:xfrm>
                <a:off x="2743200" y="1828800"/>
                <a:ext cx="533160" cy="457200"/>
                <a:chOff x="2743200" y="1828800"/>
                <a:chExt cx="533160" cy="457200"/>
              </a:xfrm>
            </p:grpSpPr>
            <p:grpSp>
              <p:nvGrpSpPr>
                <p:cNvPr id="1365" name=""/>
                <p:cNvGrpSpPr/>
                <p:nvPr/>
              </p:nvGrpSpPr>
              <p:grpSpPr>
                <a:xfrm>
                  <a:off x="2743200" y="1828800"/>
                  <a:ext cx="533160" cy="457200"/>
                  <a:chOff x="2743200" y="1828800"/>
                  <a:chExt cx="533160" cy="457200"/>
                </a:xfrm>
              </p:grpSpPr>
              <p:sp>
                <p:nvSpPr>
                  <p:cNvPr id="1366" name=""/>
                  <p:cNvSpPr/>
                  <p:nvPr/>
                </p:nvSpPr>
                <p:spPr>
                  <a:xfrm>
                    <a:off x="274320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274320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8" name=""/>
                <p:cNvSpPr/>
                <p:nvPr/>
              </p:nvSpPr>
              <p:spPr>
                <a:xfrm>
                  <a:off x="279684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9" name=""/>
                <p:cNvGrpSpPr/>
                <p:nvPr/>
              </p:nvGrpSpPr>
              <p:grpSpPr>
                <a:xfrm>
                  <a:off x="2863440" y="1905120"/>
                  <a:ext cx="304560" cy="75960"/>
                  <a:chOff x="2863440" y="1905120"/>
                  <a:chExt cx="304560" cy="75960"/>
                </a:xfrm>
              </p:grpSpPr>
              <p:sp>
                <p:nvSpPr>
                  <p:cNvPr id="1370" name=""/>
                  <p:cNvSpPr/>
                  <p:nvPr/>
                </p:nvSpPr>
                <p:spPr>
                  <a:xfrm>
                    <a:off x="28634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2939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30157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30916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31680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5" name=""/>
                <p:cNvSpPr/>
                <p:nvPr/>
              </p:nvSpPr>
              <p:spPr>
                <a:xfrm>
                  <a:off x="282204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82204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282204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3276360" y="1828800"/>
                <a:ext cx="533160" cy="457200"/>
                <a:chOff x="3276360" y="1828800"/>
                <a:chExt cx="533160" cy="457200"/>
              </a:xfrm>
            </p:grpSpPr>
            <p:grpSp>
              <p:nvGrpSpPr>
                <p:cNvPr id="1379" name=""/>
                <p:cNvGrpSpPr/>
                <p:nvPr/>
              </p:nvGrpSpPr>
              <p:grpSpPr>
                <a:xfrm>
                  <a:off x="3276360" y="1828800"/>
                  <a:ext cx="533160" cy="457200"/>
                  <a:chOff x="3276360" y="1828800"/>
                  <a:chExt cx="533160" cy="457200"/>
                </a:xfrm>
              </p:grpSpPr>
              <p:sp>
                <p:nvSpPr>
                  <p:cNvPr id="1380" name=""/>
                  <p:cNvSpPr/>
                  <p:nvPr/>
                </p:nvSpPr>
                <p:spPr>
                  <a:xfrm>
                    <a:off x="327636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327636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2" name=""/>
                <p:cNvSpPr/>
                <p:nvPr/>
              </p:nvSpPr>
              <p:spPr>
                <a:xfrm>
                  <a:off x="333000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3" name=""/>
                <p:cNvGrpSpPr/>
                <p:nvPr/>
              </p:nvGrpSpPr>
              <p:grpSpPr>
                <a:xfrm>
                  <a:off x="3396600" y="1905120"/>
                  <a:ext cx="304560" cy="75960"/>
                  <a:chOff x="3396600" y="1905120"/>
                  <a:chExt cx="304560" cy="75960"/>
                </a:xfrm>
              </p:grpSpPr>
              <p:sp>
                <p:nvSpPr>
                  <p:cNvPr id="1384" name=""/>
                  <p:cNvSpPr/>
                  <p:nvPr/>
                </p:nvSpPr>
                <p:spPr>
                  <a:xfrm>
                    <a:off x="33966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34725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35488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36248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37011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9" name=""/>
                <p:cNvSpPr/>
                <p:nvPr/>
              </p:nvSpPr>
              <p:spPr>
                <a:xfrm>
                  <a:off x="335520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335520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335520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2743200" y="1828800"/>
                <a:ext cx="533160" cy="457200"/>
                <a:chOff x="2743200" y="1828800"/>
                <a:chExt cx="533160" cy="457200"/>
              </a:xfrm>
            </p:grpSpPr>
            <p:grpSp>
              <p:nvGrpSpPr>
                <p:cNvPr id="1393" name=""/>
                <p:cNvGrpSpPr/>
                <p:nvPr/>
              </p:nvGrpSpPr>
              <p:grpSpPr>
                <a:xfrm>
                  <a:off x="2743200" y="1828800"/>
                  <a:ext cx="533160" cy="457200"/>
                  <a:chOff x="2743200" y="1828800"/>
                  <a:chExt cx="533160" cy="457200"/>
                </a:xfrm>
              </p:grpSpPr>
              <p:sp>
                <p:nvSpPr>
                  <p:cNvPr id="1394" name=""/>
                  <p:cNvSpPr/>
                  <p:nvPr/>
                </p:nvSpPr>
                <p:spPr>
                  <a:xfrm>
                    <a:off x="274320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274320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6" name=""/>
                <p:cNvSpPr/>
                <p:nvPr/>
              </p:nvSpPr>
              <p:spPr>
                <a:xfrm>
                  <a:off x="279684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7" name=""/>
                <p:cNvGrpSpPr/>
                <p:nvPr/>
              </p:nvGrpSpPr>
              <p:grpSpPr>
                <a:xfrm>
                  <a:off x="2863440" y="1905120"/>
                  <a:ext cx="304560" cy="75960"/>
                  <a:chOff x="2863440" y="1905120"/>
                  <a:chExt cx="304560" cy="75960"/>
                </a:xfrm>
              </p:grpSpPr>
              <p:sp>
                <p:nvSpPr>
                  <p:cNvPr id="1398" name=""/>
                  <p:cNvSpPr/>
                  <p:nvPr/>
                </p:nvSpPr>
                <p:spPr>
                  <a:xfrm>
                    <a:off x="28634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2939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30157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30916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31680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3" name=""/>
                <p:cNvSpPr/>
                <p:nvPr/>
              </p:nvSpPr>
              <p:spPr>
                <a:xfrm>
                  <a:off x="282204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282204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282204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6" name=""/>
            <p:cNvGrpSpPr/>
            <p:nvPr/>
          </p:nvGrpSpPr>
          <p:grpSpPr>
            <a:xfrm>
              <a:off x="2209680" y="1828800"/>
              <a:ext cx="564480" cy="457200"/>
              <a:chOff x="2209680" y="1828800"/>
              <a:chExt cx="564480" cy="457200"/>
            </a:xfrm>
          </p:grpSpPr>
          <p:grpSp>
            <p:nvGrpSpPr>
              <p:cNvPr id="1407" name=""/>
              <p:cNvGrpSpPr/>
              <p:nvPr/>
            </p:nvGrpSpPr>
            <p:grpSpPr>
              <a:xfrm>
                <a:off x="2209680" y="1828800"/>
                <a:ext cx="564480" cy="457200"/>
                <a:chOff x="2209680" y="1828800"/>
                <a:chExt cx="564480" cy="45720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2209680" y="1828800"/>
                  <a:ext cx="56448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2209680" y="2057400"/>
                  <a:ext cx="56448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0" name=""/>
              <p:cNvSpPr/>
              <p:nvPr/>
            </p:nvSpPr>
            <p:spPr>
              <a:xfrm>
                <a:off x="2290320" y="2133720"/>
                <a:ext cx="161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266560" y="1866960"/>
                <a:ext cx="4539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532600" y="2133720"/>
                <a:ext cx="161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371320" y="1905120"/>
                <a:ext cx="16128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809880" y="1828800"/>
              <a:ext cx="1067040" cy="457200"/>
              <a:chOff x="3809880" y="1828800"/>
              <a:chExt cx="1067040" cy="457200"/>
            </a:xfrm>
          </p:grpSpPr>
          <p:grpSp>
            <p:nvGrpSpPr>
              <p:cNvPr id="1415" name=""/>
              <p:cNvGrpSpPr/>
              <p:nvPr/>
            </p:nvGrpSpPr>
            <p:grpSpPr>
              <a:xfrm>
                <a:off x="3809880" y="1828800"/>
                <a:ext cx="533520" cy="457200"/>
                <a:chOff x="3809880" y="1828800"/>
                <a:chExt cx="533520" cy="457200"/>
              </a:xfrm>
            </p:grpSpPr>
            <p:grpSp>
              <p:nvGrpSpPr>
                <p:cNvPr id="1416" name=""/>
                <p:cNvGrpSpPr/>
                <p:nvPr/>
              </p:nvGrpSpPr>
              <p:grpSpPr>
                <a:xfrm>
                  <a:off x="3809880" y="1828800"/>
                  <a:ext cx="533520" cy="457200"/>
                  <a:chOff x="3809880" y="1828800"/>
                  <a:chExt cx="533520" cy="457200"/>
                </a:xfrm>
              </p:grpSpPr>
              <p:sp>
                <p:nvSpPr>
                  <p:cNvPr id="1417" name=""/>
                  <p:cNvSpPr/>
                  <p:nvPr/>
                </p:nvSpPr>
                <p:spPr>
                  <a:xfrm>
                    <a:off x="3809880" y="1828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3809880" y="20574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9" name=""/>
                <p:cNvSpPr/>
                <p:nvPr/>
              </p:nvSpPr>
              <p:spPr>
                <a:xfrm>
                  <a:off x="3863880" y="18669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0" name=""/>
                <p:cNvGrpSpPr/>
                <p:nvPr/>
              </p:nvGrpSpPr>
              <p:grpSpPr>
                <a:xfrm>
                  <a:off x="3930480" y="1905120"/>
                  <a:ext cx="304920" cy="75960"/>
                  <a:chOff x="3930480" y="1905120"/>
                  <a:chExt cx="304920" cy="75960"/>
                </a:xfrm>
              </p:grpSpPr>
              <p:sp>
                <p:nvSpPr>
                  <p:cNvPr id="1421" name=""/>
                  <p:cNvSpPr/>
                  <p:nvPr/>
                </p:nvSpPr>
                <p:spPr>
                  <a:xfrm>
                    <a:off x="39304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40068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40831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41590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4235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6" name=""/>
                <p:cNvSpPr/>
                <p:nvPr/>
              </p:nvSpPr>
              <p:spPr>
                <a:xfrm>
                  <a:off x="3889080" y="21049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3889080" y="21718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3889080" y="2235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4343400" y="1828800"/>
                <a:ext cx="533520" cy="457200"/>
                <a:chOff x="4343400" y="1828800"/>
                <a:chExt cx="533520" cy="457200"/>
              </a:xfrm>
            </p:grpSpPr>
            <p:grpSp>
              <p:nvGrpSpPr>
                <p:cNvPr id="1430" name=""/>
                <p:cNvGrpSpPr/>
                <p:nvPr/>
              </p:nvGrpSpPr>
              <p:grpSpPr>
                <a:xfrm>
                  <a:off x="4343400" y="1828800"/>
                  <a:ext cx="533520" cy="457200"/>
                  <a:chOff x="4343400" y="1828800"/>
                  <a:chExt cx="533520" cy="457200"/>
                </a:xfrm>
              </p:grpSpPr>
              <p:sp>
                <p:nvSpPr>
                  <p:cNvPr id="1431" name=""/>
                  <p:cNvSpPr/>
                  <p:nvPr/>
                </p:nvSpPr>
                <p:spPr>
                  <a:xfrm>
                    <a:off x="4343400" y="1828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4343400" y="20574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3" name=""/>
                <p:cNvSpPr/>
                <p:nvPr/>
              </p:nvSpPr>
              <p:spPr>
                <a:xfrm>
                  <a:off x="4397400" y="18669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4" name=""/>
                <p:cNvGrpSpPr/>
                <p:nvPr/>
              </p:nvGrpSpPr>
              <p:grpSpPr>
                <a:xfrm>
                  <a:off x="4464000" y="1905120"/>
                  <a:ext cx="304920" cy="75960"/>
                  <a:chOff x="4464000" y="1905120"/>
                  <a:chExt cx="304920" cy="75960"/>
                </a:xfrm>
              </p:grpSpPr>
              <p:sp>
                <p:nvSpPr>
                  <p:cNvPr id="1435" name=""/>
                  <p:cNvSpPr/>
                  <p:nvPr/>
                </p:nvSpPr>
                <p:spPr>
                  <a:xfrm>
                    <a:off x="44640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45403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46166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46926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47689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0" name=""/>
                <p:cNvSpPr/>
                <p:nvPr/>
              </p:nvSpPr>
              <p:spPr>
                <a:xfrm>
                  <a:off x="4422600" y="21049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4422600" y="21718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4422600" y="2235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3" name=""/>
              <p:cNvGrpSpPr/>
              <p:nvPr/>
            </p:nvGrpSpPr>
            <p:grpSpPr>
              <a:xfrm>
                <a:off x="3809880" y="1828800"/>
                <a:ext cx="533520" cy="457200"/>
                <a:chOff x="3809880" y="1828800"/>
                <a:chExt cx="533520" cy="457200"/>
              </a:xfrm>
            </p:grpSpPr>
            <p:grpSp>
              <p:nvGrpSpPr>
                <p:cNvPr id="1444" name=""/>
                <p:cNvGrpSpPr/>
                <p:nvPr/>
              </p:nvGrpSpPr>
              <p:grpSpPr>
                <a:xfrm>
                  <a:off x="3809880" y="1828800"/>
                  <a:ext cx="533520" cy="457200"/>
                  <a:chOff x="3809880" y="1828800"/>
                  <a:chExt cx="533520" cy="457200"/>
                </a:xfrm>
              </p:grpSpPr>
              <p:sp>
                <p:nvSpPr>
                  <p:cNvPr id="1445" name=""/>
                  <p:cNvSpPr/>
                  <p:nvPr/>
                </p:nvSpPr>
                <p:spPr>
                  <a:xfrm>
                    <a:off x="3809880" y="1828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3809880" y="20574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7" name=""/>
                <p:cNvSpPr/>
                <p:nvPr/>
              </p:nvSpPr>
              <p:spPr>
                <a:xfrm>
                  <a:off x="3863880" y="18669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8" name=""/>
                <p:cNvGrpSpPr/>
                <p:nvPr/>
              </p:nvGrpSpPr>
              <p:grpSpPr>
                <a:xfrm>
                  <a:off x="3930480" y="1905120"/>
                  <a:ext cx="304920" cy="75960"/>
                  <a:chOff x="3930480" y="1905120"/>
                  <a:chExt cx="304920" cy="75960"/>
                </a:xfrm>
              </p:grpSpPr>
              <p:sp>
                <p:nvSpPr>
                  <p:cNvPr id="1449" name=""/>
                  <p:cNvSpPr/>
                  <p:nvPr/>
                </p:nvSpPr>
                <p:spPr>
                  <a:xfrm>
                    <a:off x="39304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40068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40831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41590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4235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4" name=""/>
                <p:cNvSpPr/>
                <p:nvPr/>
              </p:nvSpPr>
              <p:spPr>
                <a:xfrm>
                  <a:off x="3889080" y="21049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3889080" y="21718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3889080" y="2235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7" name=""/>
            <p:cNvGrpSpPr/>
            <p:nvPr/>
          </p:nvGrpSpPr>
          <p:grpSpPr>
            <a:xfrm>
              <a:off x="4876920" y="1828800"/>
              <a:ext cx="1066320" cy="457200"/>
              <a:chOff x="4876920" y="1828800"/>
              <a:chExt cx="1066320" cy="457200"/>
            </a:xfrm>
          </p:grpSpPr>
          <p:grpSp>
            <p:nvGrpSpPr>
              <p:cNvPr id="1458" name=""/>
              <p:cNvGrpSpPr/>
              <p:nvPr/>
            </p:nvGrpSpPr>
            <p:grpSpPr>
              <a:xfrm>
                <a:off x="4876920" y="1828800"/>
                <a:ext cx="533160" cy="457200"/>
                <a:chOff x="4876920" y="1828800"/>
                <a:chExt cx="533160" cy="457200"/>
              </a:xfrm>
            </p:grpSpPr>
            <p:grpSp>
              <p:nvGrpSpPr>
                <p:cNvPr id="1459" name=""/>
                <p:cNvGrpSpPr/>
                <p:nvPr/>
              </p:nvGrpSpPr>
              <p:grpSpPr>
                <a:xfrm>
                  <a:off x="4876920" y="1828800"/>
                  <a:ext cx="533160" cy="457200"/>
                  <a:chOff x="4876920" y="1828800"/>
                  <a:chExt cx="533160" cy="457200"/>
                </a:xfrm>
              </p:grpSpPr>
              <p:sp>
                <p:nvSpPr>
                  <p:cNvPr id="1460" name=""/>
                  <p:cNvSpPr/>
                  <p:nvPr/>
                </p:nvSpPr>
                <p:spPr>
                  <a:xfrm>
                    <a:off x="487692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487692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2" name=""/>
                <p:cNvSpPr/>
                <p:nvPr/>
              </p:nvSpPr>
              <p:spPr>
                <a:xfrm>
                  <a:off x="493056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3" name=""/>
                <p:cNvGrpSpPr/>
                <p:nvPr/>
              </p:nvGrpSpPr>
              <p:grpSpPr>
                <a:xfrm>
                  <a:off x="4997160" y="1905120"/>
                  <a:ext cx="304560" cy="75960"/>
                  <a:chOff x="4997160" y="1905120"/>
                  <a:chExt cx="304560" cy="75960"/>
                </a:xfrm>
              </p:grpSpPr>
              <p:sp>
                <p:nvSpPr>
                  <p:cNvPr id="1464" name=""/>
                  <p:cNvSpPr/>
                  <p:nvPr/>
                </p:nvSpPr>
                <p:spPr>
                  <a:xfrm>
                    <a:off x="49971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50731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51494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5225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53017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9" name=""/>
                <p:cNvSpPr/>
                <p:nvPr/>
              </p:nvSpPr>
              <p:spPr>
                <a:xfrm>
                  <a:off x="495576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495576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495576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5410080" y="1828800"/>
                <a:ext cx="533160" cy="457200"/>
                <a:chOff x="5410080" y="1828800"/>
                <a:chExt cx="533160" cy="457200"/>
              </a:xfrm>
            </p:grpSpPr>
            <p:grpSp>
              <p:nvGrpSpPr>
                <p:cNvPr id="1473" name=""/>
                <p:cNvGrpSpPr/>
                <p:nvPr/>
              </p:nvGrpSpPr>
              <p:grpSpPr>
                <a:xfrm>
                  <a:off x="5410080" y="1828800"/>
                  <a:ext cx="533160" cy="457200"/>
                  <a:chOff x="5410080" y="1828800"/>
                  <a:chExt cx="533160" cy="457200"/>
                </a:xfrm>
              </p:grpSpPr>
              <p:sp>
                <p:nvSpPr>
                  <p:cNvPr id="1474" name=""/>
                  <p:cNvSpPr/>
                  <p:nvPr/>
                </p:nvSpPr>
                <p:spPr>
                  <a:xfrm>
                    <a:off x="541008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541008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6" name=""/>
                <p:cNvSpPr/>
                <p:nvPr/>
              </p:nvSpPr>
              <p:spPr>
                <a:xfrm>
                  <a:off x="546372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7" name=""/>
                <p:cNvGrpSpPr/>
                <p:nvPr/>
              </p:nvGrpSpPr>
              <p:grpSpPr>
                <a:xfrm>
                  <a:off x="5530320" y="1905120"/>
                  <a:ext cx="304560" cy="75960"/>
                  <a:chOff x="5530320" y="1905120"/>
                  <a:chExt cx="304560" cy="75960"/>
                </a:xfrm>
              </p:grpSpPr>
              <p:sp>
                <p:nvSpPr>
                  <p:cNvPr id="1478" name=""/>
                  <p:cNvSpPr/>
                  <p:nvPr/>
                </p:nvSpPr>
                <p:spPr>
                  <a:xfrm>
                    <a:off x="55303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56062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56826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>
                    <a:off x="57585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58348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3" name=""/>
                <p:cNvSpPr/>
                <p:nvPr/>
              </p:nvSpPr>
              <p:spPr>
                <a:xfrm>
                  <a:off x="548892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548892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548892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6" name=""/>
              <p:cNvGrpSpPr/>
              <p:nvPr/>
            </p:nvGrpSpPr>
            <p:grpSpPr>
              <a:xfrm>
                <a:off x="4876920" y="1828800"/>
                <a:ext cx="533160" cy="457200"/>
                <a:chOff x="4876920" y="1828800"/>
                <a:chExt cx="533160" cy="457200"/>
              </a:xfrm>
            </p:grpSpPr>
            <p:grpSp>
              <p:nvGrpSpPr>
                <p:cNvPr id="1487" name=""/>
                <p:cNvGrpSpPr/>
                <p:nvPr/>
              </p:nvGrpSpPr>
              <p:grpSpPr>
                <a:xfrm>
                  <a:off x="4876920" y="1828800"/>
                  <a:ext cx="533160" cy="457200"/>
                  <a:chOff x="4876920" y="1828800"/>
                  <a:chExt cx="533160" cy="457200"/>
                </a:xfrm>
              </p:grpSpPr>
              <p:sp>
                <p:nvSpPr>
                  <p:cNvPr id="1488" name=""/>
                  <p:cNvSpPr/>
                  <p:nvPr/>
                </p:nvSpPr>
                <p:spPr>
                  <a:xfrm>
                    <a:off x="487692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487692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0" name=""/>
                <p:cNvSpPr/>
                <p:nvPr/>
              </p:nvSpPr>
              <p:spPr>
                <a:xfrm>
                  <a:off x="493056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1" name=""/>
                <p:cNvGrpSpPr/>
                <p:nvPr/>
              </p:nvGrpSpPr>
              <p:grpSpPr>
                <a:xfrm>
                  <a:off x="4997160" y="1905120"/>
                  <a:ext cx="304560" cy="75960"/>
                  <a:chOff x="4997160" y="1905120"/>
                  <a:chExt cx="304560" cy="7596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49971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50731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51494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>
                    <a:off x="5225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53017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7" name=""/>
                <p:cNvSpPr/>
                <p:nvPr/>
              </p:nvSpPr>
              <p:spPr>
                <a:xfrm>
                  <a:off x="495576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495576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495576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0" name=""/>
            <p:cNvGrpSpPr/>
            <p:nvPr/>
          </p:nvGrpSpPr>
          <p:grpSpPr>
            <a:xfrm>
              <a:off x="5943600" y="1828800"/>
              <a:ext cx="1066320" cy="457200"/>
              <a:chOff x="5943600" y="1828800"/>
              <a:chExt cx="1066320" cy="457200"/>
            </a:xfrm>
          </p:grpSpPr>
          <p:grpSp>
            <p:nvGrpSpPr>
              <p:cNvPr id="1501" name=""/>
              <p:cNvGrpSpPr/>
              <p:nvPr/>
            </p:nvGrpSpPr>
            <p:grpSpPr>
              <a:xfrm>
                <a:off x="5943600" y="1828800"/>
                <a:ext cx="533160" cy="457200"/>
                <a:chOff x="5943600" y="1828800"/>
                <a:chExt cx="533160" cy="457200"/>
              </a:xfrm>
            </p:grpSpPr>
            <p:grpSp>
              <p:nvGrpSpPr>
                <p:cNvPr id="1502" name=""/>
                <p:cNvGrpSpPr/>
                <p:nvPr/>
              </p:nvGrpSpPr>
              <p:grpSpPr>
                <a:xfrm>
                  <a:off x="5943600" y="1828800"/>
                  <a:ext cx="533160" cy="457200"/>
                  <a:chOff x="5943600" y="1828800"/>
                  <a:chExt cx="533160" cy="457200"/>
                </a:xfrm>
              </p:grpSpPr>
              <p:sp>
                <p:nvSpPr>
                  <p:cNvPr id="1503" name=""/>
                  <p:cNvSpPr/>
                  <p:nvPr/>
                </p:nvSpPr>
                <p:spPr>
                  <a:xfrm>
                    <a:off x="594360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594360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5" name=""/>
                <p:cNvSpPr/>
                <p:nvPr/>
              </p:nvSpPr>
              <p:spPr>
                <a:xfrm>
                  <a:off x="599724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6" name=""/>
                <p:cNvGrpSpPr/>
                <p:nvPr/>
              </p:nvGrpSpPr>
              <p:grpSpPr>
                <a:xfrm>
                  <a:off x="6063840" y="1905120"/>
                  <a:ext cx="304560" cy="75960"/>
                  <a:chOff x="6063840" y="1905120"/>
                  <a:chExt cx="304560" cy="75960"/>
                </a:xfrm>
              </p:grpSpPr>
              <p:sp>
                <p:nvSpPr>
                  <p:cNvPr id="1507" name=""/>
                  <p:cNvSpPr/>
                  <p:nvPr/>
                </p:nvSpPr>
                <p:spPr>
                  <a:xfrm>
                    <a:off x="60638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61398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62161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62920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6368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2" name=""/>
                <p:cNvSpPr/>
                <p:nvPr/>
              </p:nvSpPr>
              <p:spPr>
                <a:xfrm>
                  <a:off x="602244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602244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602244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6476760" y="1828800"/>
                <a:ext cx="533160" cy="457200"/>
                <a:chOff x="6476760" y="1828800"/>
                <a:chExt cx="533160" cy="457200"/>
              </a:xfrm>
            </p:grpSpPr>
            <p:grpSp>
              <p:nvGrpSpPr>
                <p:cNvPr id="1516" name=""/>
                <p:cNvGrpSpPr/>
                <p:nvPr/>
              </p:nvGrpSpPr>
              <p:grpSpPr>
                <a:xfrm>
                  <a:off x="6476760" y="1828800"/>
                  <a:ext cx="533160" cy="457200"/>
                  <a:chOff x="6476760" y="1828800"/>
                  <a:chExt cx="533160" cy="45720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647676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647676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9" name=""/>
                <p:cNvSpPr/>
                <p:nvPr/>
              </p:nvSpPr>
              <p:spPr>
                <a:xfrm>
                  <a:off x="653040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0" name=""/>
                <p:cNvGrpSpPr/>
                <p:nvPr/>
              </p:nvGrpSpPr>
              <p:grpSpPr>
                <a:xfrm>
                  <a:off x="6597000" y="1905120"/>
                  <a:ext cx="304560" cy="75960"/>
                  <a:chOff x="6597000" y="1905120"/>
                  <a:chExt cx="304560" cy="7596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>
                    <a:off x="65970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66729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67492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68252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69015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6" name=""/>
                <p:cNvSpPr/>
                <p:nvPr/>
              </p:nvSpPr>
              <p:spPr>
                <a:xfrm>
                  <a:off x="655560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655560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655560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9" name=""/>
              <p:cNvGrpSpPr/>
              <p:nvPr/>
            </p:nvGrpSpPr>
            <p:grpSpPr>
              <a:xfrm>
                <a:off x="5943600" y="1828800"/>
                <a:ext cx="533160" cy="457200"/>
                <a:chOff x="5943600" y="1828800"/>
                <a:chExt cx="533160" cy="457200"/>
              </a:xfrm>
            </p:grpSpPr>
            <p:grpSp>
              <p:nvGrpSpPr>
                <p:cNvPr id="1530" name=""/>
                <p:cNvGrpSpPr/>
                <p:nvPr/>
              </p:nvGrpSpPr>
              <p:grpSpPr>
                <a:xfrm>
                  <a:off x="5943600" y="1828800"/>
                  <a:ext cx="533160" cy="457200"/>
                  <a:chOff x="5943600" y="1828800"/>
                  <a:chExt cx="533160" cy="457200"/>
                </a:xfrm>
              </p:grpSpPr>
              <p:sp>
                <p:nvSpPr>
                  <p:cNvPr id="1531" name=""/>
                  <p:cNvSpPr/>
                  <p:nvPr/>
                </p:nvSpPr>
                <p:spPr>
                  <a:xfrm>
                    <a:off x="594360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594360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3" name=""/>
                <p:cNvSpPr/>
                <p:nvPr/>
              </p:nvSpPr>
              <p:spPr>
                <a:xfrm>
                  <a:off x="599724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4" name=""/>
                <p:cNvGrpSpPr/>
                <p:nvPr/>
              </p:nvGrpSpPr>
              <p:grpSpPr>
                <a:xfrm>
                  <a:off x="6063840" y="1905120"/>
                  <a:ext cx="304560" cy="75960"/>
                  <a:chOff x="6063840" y="1905120"/>
                  <a:chExt cx="304560" cy="7596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>
                    <a:off x="60638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61398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62161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62920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6368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0" name=""/>
                <p:cNvSpPr/>
                <p:nvPr/>
              </p:nvSpPr>
              <p:spPr>
                <a:xfrm>
                  <a:off x="602244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602244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602244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3" name=""/>
            <p:cNvGrpSpPr/>
            <p:nvPr/>
          </p:nvGrpSpPr>
          <p:grpSpPr>
            <a:xfrm>
              <a:off x="7010280" y="1828800"/>
              <a:ext cx="1067040" cy="457200"/>
              <a:chOff x="7010280" y="1828800"/>
              <a:chExt cx="1067040" cy="457200"/>
            </a:xfrm>
          </p:grpSpPr>
          <p:grpSp>
            <p:nvGrpSpPr>
              <p:cNvPr id="1544" name=""/>
              <p:cNvGrpSpPr/>
              <p:nvPr/>
            </p:nvGrpSpPr>
            <p:grpSpPr>
              <a:xfrm>
                <a:off x="7010280" y="1828800"/>
                <a:ext cx="533520" cy="457200"/>
                <a:chOff x="7010280" y="1828800"/>
                <a:chExt cx="533520" cy="457200"/>
              </a:xfrm>
            </p:grpSpPr>
            <p:grpSp>
              <p:nvGrpSpPr>
                <p:cNvPr id="1545" name=""/>
                <p:cNvGrpSpPr/>
                <p:nvPr/>
              </p:nvGrpSpPr>
              <p:grpSpPr>
                <a:xfrm>
                  <a:off x="7010280" y="1828800"/>
                  <a:ext cx="533520" cy="457200"/>
                  <a:chOff x="7010280" y="1828800"/>
                  <a:chExt cx="533520" cy="45720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>
                    <a:off x="7010280" y="1828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7010280" y="20574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8" name=""/>
                <p:cNvSpPr/>
                <p:nvPr/>
              </p:nvSpPr>
              <p:spPr>
                <a:xfrm>
                  <a:off x="7064280" y="18669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9" name=""/>
                <p:cNvGrpSpPr/>
                <p:nvPr/>
              </p:nvGrpSpPr>
              <p:grpSpPr>
                <a:xfrm>
                  <a:off x="7130880" y="1905120"/>
                  <a:ext cx="304920" cy="75960"/>
                  <a:chOff x="7130880" y="1905120"/>
                  <a:chExt cx="304920" cy="75960"/>
                </a:xfrm>
              </p:grpSpPr>
              <p:sp>
                <p:nvSpPr>
                  <p:cNvPr id="1550" name=""/>
                  <p:cNvSpPr/>
                  <p:nvPr/>
                </p:nvSpPr>
                <p:spPr>
                  <a:xfrm>
                    <a:off x="71308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72072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72835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73594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74358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5" name=""/>
                <p:cNvSpPr/>
                <p:nvPr/>
              </p:nvSpPr>
              <p:spPr>
                <a:xfrm>
                  <a:off x="7089480" y="21049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7089480" y="21718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7089480" y="2235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8" name=""/>
              <p:cNvGrpSpPr/>
              <p:nvPr/>
            </p:nvGrpSpPr>
            <p:grpSpPr>
              <a:xfrm>
                <a:off x="7543800" y="1828800"/>
                <a:ext cx="533520" cy="457200"/>
                <a:chOff x="7543800" y="1828800"/>
                <a:chExt cx="533520" cy="457200"/>
              </a:xfrm>
            </p:grpSpPr>
            <p:grpSp>
              <p:nvGrpSpPr>
                <p:cNvPr id="1559" name=""/>
                <p:cNvGrpSpPr/>
                <p:nvPr/>
              </p:nvGrpSpPr>
              <p:grpSpPr>
                <a:xfrm>
                  <a:off x="7543800" y="1828800"/>
                  <a:ext cx="533520" cy="457200"/>
                  <a:chOff x="7543800" y="1828800"/>
                  <a:chExt cx="533520" cy="457200"/>
                </a:xfrm>
              </p:grpSpPr>
              <p:sp>
                <p:nvSpPr>
                  <p:cNvPr id="1560" name=""/>
                  <p:cNvSpPr/>
                  <p:nvPr/>
                </p:nvSpPr>
                <p:spPr>
                  <a:xfrm>
                    <a:off x="7543800" y="1828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7543800" y="20574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2" name=""/>
                <p:cNvSpPr/>
                <p:nvPr/>
              </p:nvSpPr>
              <p:spPr>
                <a:xfrm>
                  <a:off x="7597800" y="18669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3" name=""/>
                <p:cNvGrpSpPr/>
                <p:nvPr/>
              </p:nvGrpSpPr>
              <p:grpSpPr>
                <a:xfrm>
                  <a:off x="7664400" y="1905120"/>
                  <a:ext cx="304920" cy="75960"/>
                  <a:chOff x="7664400" y="1905120"/>
                  <a:chExt cx="304920" cy="75960"/>
                </a:xfrm>
              </p:grpSpPr>
              <p:sp>
                <p:nvSpPr>
                  <p:cNvPr id="1564" name=""/>
                  <p:cNvSpPr/>
                  <p:nvPr/>
                </p:nvSpPr>
                <p:spPr>
                  <a:xfrm>
                    <a:off x="7664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77407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78170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78930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79693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9" name=""/>
                <p:cNvSpPr/>
                <p:nvPr/>
              </p:nvSpPr>
              <p:spPr>
                <a:xfrm>
                  <a:off x="7623000" y="21049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7623000" y="21718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7623000" y="2235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7010280" y="1828800"/>
                <a:ext cx="533520" cy="457200"/>
                <a:chOff x="7010280" y="1828800"/>
                <a:chExt cx="533520" cy="457200"/>
              </a:xfrm>
            </p:grpSpPr>
            <p:grpSp>
              <p:nvGrpSpPr>
                <p:cNvPr id="1573" name=""/>
                <p:cNvGrpSpPr/>
                <p:nvPr/>
              </p:nvGrpSpPr>
              <p:grpSpPr>
                <a:xfrm>
                  <a:off x="7010280" y="1828800"/>
                  <a:ext cx="533520" cy="457200"/>
                  <a:chOff x="7010280" y="1828800"/>
                  <a:chExt cx="533520" cy="457200"/>
                </a:xfrm>
              </p:grpSpPr>
              <p:sp>
                <p:nvSpPr>
                  <p:cNvPr id="1574" name=""/>
                  <p:cNvSpPr/>
                  <p:nvPr/>
                </p:nvSpPr>
                <p:spPr>
                  <a:xfrm>
                    <a:off x="7010280" y="1828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>
                    <a:off x="7010280" y="20574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6" name=""/>
                <p:cNvSpPr/>
                <p:nvPr/>
              </p:nvSpPr>
              <p:spPr>
                <a:xfrm>
                  <a:off x="7064280" y="18669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7" name=""/>
                <p:cNvGrpSpPr/>
                <p:nvPr/>
              </p:nvGrpSpPr>
              <p:grpSpPr>
                <a:xfrm>
                  <a:off x="7130880" y="1905120"/>
                  <a:ext cx="304920" cy="75960"/>
                  <a:chOff x="7130880" y="1905120"/>
                  <a:chExt cx="304920" cy="75960"/>
                </a:xfrm>
              </p:grpSpPr>
              <p:sp>
                <p:nvSpPr>
                  <p:cNvPr id="1578" name=""/>
                  <p:cNvSpPr/>
                  <p:nvPr/>
                </p:nvSpPr>
                <p:spPr>
                  <a:xfrm>
                    <a:off x="71308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72072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72835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73594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74358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3" name=""/>
                <p:cNvSpPr/>
                <p:nvPr/>
              </p:nvSpPr>
              <p:spPr>
                <a:xfrm>
                  <a:off x="7089480" y="21049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089480" y="21718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089480" y="2235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86" name=""/>
          <p:cNvGrpSpPr/>
          <p:nvPr/>
        </p:nvGrpSpPr>
        <p:grpSpPr>
          <a:xfrm>
            <a:off x="2438280" y="1828800"/>
            <a:ext cx="5943600" cy="4419720"/>
            <a:chOff x="2438280" y="1828800"/>
            <a:chExt cx="5943600" cy="4419720"/>
          </a:xfrm>
        </p:grpSpPr>
        <p:grpSp>
          <p:nvGrpSpPr>
            <p:cNvPr id="1587" name=""/>
            <p:cNvGrpSpPr/>
            <p:nvPr/>
          </p:nvGrpSpPr>
          <p:grpSpPr>
            <a:xfrm>
              <a:off x="2438280" y="1828800"/>
              <a:ext cx="5943600" cy="1905120"/>
              <a:chOff x="2438280" y="1828800"/>
              <a:chExt cx="5943600" cy="1905120"/>
            </a:xfrm>
          </p:grpSpPr>
          <p:cxnSp>
            <p:nvCxnSpPr>
              <p:cNvPr id="1588" name=""/>
              <p:cNvCxnSpPr>
                <a:stCxn id="1589" idx="2"/>
                <a:endCxn id="1590" idx="0"/>
              </p:cNvCxnSpPr>
              <p:nvPr/>
            </p:nvCxnSpPr>
            <p:spPr>
              <a:xfrm rot="5400000">
                <a:off x="4914000" y="-38160"/>
                <a:ext cx="991440" cy="563940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ff6600"/>
                </a:solidFill>
                <a:miter/>
              </a:ln>
            </p:spPr>
          </p:cxnSp>
          <p:grpSp>
            <p:nvGrpSpPr>
              <p:cNvPr id="1591" name=""/>
              <p:cNvGrpSpPr/>
              <p:nvPr/>
            </p:nvGrpSpPr>
            <p:grpSpPr>
              <a:xfrm>
                <a:off x="8077320" y="1828800"/>
                <a:ext cx="304560" cy="457200"/>
                <a:chOff x="8077320" y="1828800"/>
                <a:chExt cx="304560" cy="457200"/>
              </a:xfrm>
            </p:grpSpPr>
            <p:sp>
              <p:nvSpPr>
                <p:cNvPr id="1592" name=""/>
                <p:cNvSpPr/>
                <p:nvPr/>
              </p:nvSpPr>
              <p:spPr>
                <a:xfrm>
                  <a:off x="8077320" y="182880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8077320" y="205740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8153280" y="213372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8229600" y="213372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5" name=""/>
              <p:cNvGrpSpPr/>
              <p:nvPr/>
            </p:nvGrpSpPr>
            <p:grpSpPr>
              <a:xfrm>
                <a:off x="2438280" y="3276720"/>
                <a:ext cx="304560" cy="457200"/>
                <a:chOff x="2438280" y="3276720"/>
                <a:chExt cx="304560" cy="457200"/>
              </a:xfrm>
            </p:grpSpPr>
            <p:sp>
              <p:nvSpPr>
                <p:cNvPr id="1590" name=""/>
                <p:cNvSpPr/>
                <p:nvPr/>
              </p:nvSpPr>
              <p:spPr>
                <a:xfrm>
                  <a:off x="2438280" y="327672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2438280" y="350532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2514240" y="35816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2590560" y="35816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2743200" y="3276720"/>
                <a:ext cx="1066320" cy="457200"/>
                <a:chOff x="2743200" y="3276720"/>
                <a:chExt cx="1066320" cy="457200"/>
              </a:xfrm>
            </p:grpSpPr>
            <p:grpSp>
              <p:nvGrpSpPr>
                <p:cNvPr id="1600" name=""/>
                <p:cNvGrpSpPr/>
                <p:nvPr/>
              </p:nvGrpSpPr>
              <p:grpSpPr>
                <a:xfrm>
                  <a:off x="2743200" y="3276720"/>
                  <a:ext cx="533160" cy="457200"/>
                  <a:chOff x="2743200" y="3276720"/>
                  <a:chExt cx="533160" cy="457200"/>
                </a:xfrm>
              </p:grpSpPr>
              <p:grpSp>
                <p:nvGrpSpPr>
                  <p:cNvPr id="1601" name=""/>
                  <p:cNvGrpSpPr/>
                  <p:nvPr/>
                </p:nvGrpSpPr>
                <p:grpSpPr>
                  <a:xfrm>
                    <a:off x="2743200" y="3276720"/>
                    <a:ext cx="533160" cy="457200"/>
                    <a:chOff x="2743200" y="3276720"/>
                    <a:chExt cx="533160" cy="457200"/>
                  </a:xfrm>
                </p:grpSpPr>
                <p:sp>
                  <p:nvSpPr>
                    <p:cNvPr id="1602" name=""/>
                    <p:cNvSpPr/>
                    <p:nvPr/>
                  </p:nvSpPr>
                  <p:spPr>
                    <a:xfrm>
                      <a:off x="274320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3" name=""/>
                    <p:cNvSpPr/>
                    <p:nvPr/>
                  </p:nvSpPr>
                  <p:spPr>
                    <a:xfrm>
                      <a:off x="274320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04" name=""/>
                  <p:cNvSpPr/>
                  <p:nvPr/>
                </p:nvSpPr>
                <p:spPr>
                  <a:xfrm>
                    <a:off x="279684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5" name=""/>
                  <p:cNvGrpSpPr/>
                  <p:nvPr/>
                </p:nvGrpSpPr>
                <p:grpSpPr>
                  <a:xfrm>
                    <a:off x="2863440" y="3353040"/>
                    <a:ext cx="304560" cy="75960"/>
                    <a:chOff x="2863440" y="3353040"/>
                    <a:chExt cx="304560" cy="75960"/>
                  </a:xfrm>
                </p:grpSpPr>
                <p:sp>
                  <p:nvSpPr>
                    <p:cNvPr id="1606" name=""/>
                    <p:cNvSpPr/>
                    <p:nvPr/>
                  </p:nvSpPr>
                  <p:spPr>
                    <a:xfrm>
                      <a:off x="28634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7" name=""/>
                    <p:cNvSpPr/>
                    <p:nvPr/>
                  </p:nvSpPr>
                  <p:spPr>
                    <a:xfrm>
                      <a:off x="2939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8" name=""/>
                    <p:cNvSpPr/>
                    <p:nvPr/>
                  </p:nvSpPr>
                  <p:spPr>
                    <a:xfrm>
                      <a:off x="30157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9" name=""/>
                    <p:cNvSpPr/>
                    <p:nvPr/>
                  </p:nvSpPr>
                  <p:spPr>
                    <a:xfrm>
                      <a:off x="30916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0" name=""/>
                    <p:cNvSpPr/>
                    <p:nvPr/>
                  </p:nvSpPr>
                  <p:spPr>
                    <a:xfrm>
                      <a:off x="31680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11" name=""/>
                  <p:cNvSpPr/>
                  <p:nvPr/>
                </p:nvSpPr>
                <p:spPr>
                  <a:xfrm>
                    <a:off x="282204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282204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282204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4" name=""/>
                <p:cNvGrpSpPr/>
                <p:nvPr/>
              </p:nvGrpSpPr>
              <p:grpSpPr>
                <a:xfrm>
                  <a:off x="3276360" y="3276720"/>
                  <a:ext cx="533160" cy="457200"/>
                  <a:chOff x="3276360" y="3276720"/>
                  <a:chExt cx="533160" cy="457200"/>
                </a:xfrm>
              </p:grpSpPr>
              <p:grpSp>
                <p:nvGrpSpPr>
                  <p:cNvPr id="1615" name=""/>
                  <p:cNvGrpSpPr/>
                  <p:nvPr/>
                </p:nvGrpSpPr>
                <p:grpSpPr>
                  <a:xfrm>
                    <a:off x="3276360" y="3276720"/>
                    <a:ext cx="533160" cy="457200"/>
                    <a:chOff x="3276360" y="3276720"/>
                    <a:chExt cx="533160" cy="457200"/>
                  </a:xfrm>
                </p:grpSpPr>
                <p:sp>
                  <p:nvSpPr>
                    <p:cNvPr id="1616" name=""/>
                    <p:cNvSpPr/>
                    <p:nvPr/>
                  </p:nvSpPr>
                  <p:spPr>
                    <a:xfrm>
                      <a:off x="327636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7" name=""/>
                    <p:cNvSpPr/>
                    <p:nvPr/>
                  </p:nvSpPr>
                  <p:spPr>
                    <a:xfrm>
                      <a:off x="327636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18" name=""/>
                  <p:cNvSpPr/>
                  <p:nvPr/>
                </p:nvSpPr>
                <p:spPr>
                  <a:xfrm>
                    <a:off x="333000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19" name=""/>
                  <p:cNvGrpSpPr/>
                  <p:nvPr/>
                </p:nvGrpSpPr>
                <p:grpSpPr>
                  <a:xfrm>
                    <a:off x="3396600" y="3353040"/>
                    <a:ext cx="304560" cy="75960"/>
                    <a:chOff x="3396600" y="3353040"/>
                    <a:chExt cx="304560" cy="75960"/>
                  </a:xfrm>
                </p:grpSpPr>
                <p:sp>
                  <p:nvSpPr>
                    <p:cNvPr id="1620" name=""/>
                    <p:cNvSpPr/>
                    <p:nvPr/>
                  </p:nvSpPr>
                  <p:spPr>
                    <a:xfrm>
                      <a:off x="33966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1" name=""/>
                    <p:cNvSpPr/>
                    <p:nvPr/>
                  </p:nvSpPr>
                  <p:spPr>
                    <a:xfrm>
                      <a:off x="347256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2" name=""/>
                    <p:cNvSpPr/>
                    <p:nvPr/>
                  </p:nvSpPr>
                  <p:spPr>
                    <a:xfrm>
                      <a:off x="35488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3" name=""/>
                    <p:cNvSpPr/>
                    <p:nvPr/>
                  </p:nvSpPr>
                  <p:spPr>
                    <a:xfrm>
                      <a:off x="36248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4" name=""/>
                    <p:cNvSpPr/>
                    <p:nvPr/>
                  </p:nvSpPr>
                  <p:spPr>
                    <a:xfrm>
                      <a:off x="370116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25" name=""/>
                  <p:cNvSpPr/>
                  <p:nvPr/>
                </p:nvSpPr>
                <p:spPr>
                  <a:xfrm>
                    <a:off x="335520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335520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335520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8" name=""/>
                <p:cNvGrpSpPr/>
                <p:nvPr/>
              </p:nvGrpSpPr>
              <p:grpSpPr>
                <a:xfrm>
                  <a:off x="2743200" y="3276720"/>
                  <a:ext cx="533160" cy="457200"/>
                  <a:chOff x="2743200" y="3276720"/>
                  <a:chExt cx="533160" cy="457200"/>
                </a:xfrm>
              </p:grpSpPr>
              <p:grpSp>
                <p:nvGrpSpPr>
                  <p:cNvPr id="1629" name=""/>
                  <p:cNvGrpSpPr/>
                  <p:nvPr/>
                </p:nvGrpSpPr>
                <p:grpSpPr>
                  <a:xfrm>
                    <a:off x="2743200" y="3276720"/>
                    <a:ext cx="533160" cy="457200"/>
                    <a:chOff x="2743200" y="3276720"/>
                    <a:chExt cx="533160" cy="457200"/>
                  </a:xfrm>
                </p:grpSpPr>
                <p:sp>
                  <p:nvSpPr>
                    <p:cNvPr id="1630" name=""/>
                    <p:cNvSpPr/>
                    <p:nvPr/>
                  </p:nvSpPr>
                  <p:spPr>
                    <a:xfrm>
                      <a:off x="274320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1" name=""/>
                    <p:cNvSpPr/>
                    <p:nvPr/>
                  </p:nvSpPr>
                  <p:spPr>
                    <a:xfrm>
                      <a:off x="274320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2" name=""/>
                  <p:cNvSpPr/>
                  <p:nvPr/>
                </p:nvSpPr>
                <p:spPr>
                  <a:xfrm>
                    <a:off x="279684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33" name=""/>
                  <p:cNvGrpSpPr/>
                  <p:nvPr/>
                </p:nvGrpSpPr>
                <p:grpSpPr>
                  <a:xfrm>
                    <a:off x="2863440" y="3353040"/>
                    <a:ext cx="304560" cy="75960"/>
                    <a:chOff x="2863440" y="3353040"/>
                    <a:chExt cx="304560" cy="75960"/>
                  </a:xfrm>
                </p:grpSpPr>
                <p:sp>
                  <p:nvSpPr>
                    <p:cNvPr id="1634" name=""/>
                    <p:cNvSpPr/>
                    <p:nvPr/>
                  </p:nvSpPr>
                  <p:spPr>
                    <a:xfrm>
                      <a:off x="28634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5" name=""/>
                    <p:cNvSpPr/>
                    <p:nvPr/>
                  </p:nvSpPr>
                  <p:spPr>
                    <a:xfrm>
                      <a:off x="2939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6" name=""/>
                    <p:cNvSpPr/>
                    <p:nvPr/>
                  </p:nvSpPr>
                  <p:spPr>
                    <a:xfrm>
                      <a:off x="30157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7" name=""/>
                    <p:cNvSpPr/>
                    <p:nvPr/>
                  </p:nvSpPr>
                  <p:spPr>
                    <a:xfrm>
                      <a:off x="30916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8" name=""/>
                    <p:cNvSpPr/>
                    <p:nvPr/>
                  </p:nvSpPr>
                  <p:spPr>
                    <a:xfrm>
                      <a:off x="31680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9" name=""/>
                  <p:cNvSpPr/>
                  <p:nvPr/>
                </p:nvSpPr>
                <p:spPr>
                  <a:xfrm>
                    <a:off x="282204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282204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282204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42" name=""/>
              <p:cNvGrpSpPr/>
              <p:nvPr/>
            </p:nvGrpSpPr>
            <p:grpSpPr>
              <a:xfrm>
                <a:off x="3809880" y="3276720"/>
                <a:ext cx="1067040" cy="457200"/>
                <a:chOff x="3809880" y="3276720"/>
                <a:chExt cx="1067040" cy="457200"/>
              </a:xfrm>
            </p:grpSpPr>
            <p:grpSp>
              <p:nvGrpSpPr>
                <p:cNvPr id="1643" name=""/>
                <p:cNvGrpSpPr/>
                <p:nvPr/>
              </p:nvGrpSpPr>
              <p:grpSpPr>
                <a:xfrm>
                  <a:off x="3809880" y="3276720"/>
                  <a:ext cx="533520" cy="457200"/>
                  <a:chOff x="3809880" y="3276720"/>
                  <a:chExt cx="533520" cy="457200"/>
                </a:xfrm>
              </p:grpSpPr>
              <p:grpSp>
                <p:nvGrpSpPr>
                  <p:cNvPr id="1644" name=""/>
                  <p:cNvGrpSpPr/>
                  <p:nvPr/>
                </p:nvGrpSpPr>
                <p:grpSpPr>
                  <a:xfrm>
                    <a:off x="3809880" y="3276720"/>
                    <a:ext cx="533520" cy="457200"/>
                    <a:chOff x="3809880" y="3276720"/>
                    <a:chExt cx="533520" cy="457200"/>
                  </a:xfrm>
                </p:grpSpPr>
                <p:sp>
                  <p:nvSpPr>
                    <p:cNvPr id="1645" name=""/>
                    <p:cNvSpPr/>
                    <p:nvPr/>
                  </p:nvSpPr>
                  <p:spPr>
                    <a:xfrm>
                      <a:off x="3809880" y="32767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6" name=""/>
                    <p:cNvSpPr/>
                    <p:nvPr/>
                  </p:nvSpPr>
                  <p:spPr>
                    <a:xfrm>
                      <a:off x="3809880" y="3505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47" name=""/>
                  <p:cNvSpPr/>
                  <p:nvPr/>
                </p:nvSpPr>
                <p:spPr>
                  <a:xfrm>
                    <a:off x="3863880" y="33148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48" name=""/>
                  <p:cNvGrpSpPr/>
                  <p:nvPr/>
                </p:nvGrpSpPr>
                <p:grpSpPr>
                  <a:xfrm>
                    <a:off x="3930480" y="3353040"/>
                    <a:ext cx="304920" cy="75960"/>
                    <a:chOff x="3930480" y="3353040"/>
                    <a:chExt cx="304920" cy="75960"/>
                  </a:xfrm>
                </p:grpSpPr>
                <p:sp>
                  <p:nvSpPr>
                    <p:cNvPr id="1649" name=""/>
                    <p:cNvSpPr/>
                    <p:nvPr/>
                  </p:nvSpPr>
                  <p:spPr>
                    <a:xfrm>
                      <a:off x="39304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0" name=""/>
                    <p:cNvSpPr/>
                    <p:nvPr/>
                  </p:nvSpPr>
                  <p:spPr>
                    <a:xfrm>
                      <a:off x="40068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1" name=""/>
                    <p:cNvSpPr/>
                    <p:nvPr/>
                  </p:nvSpPr>
                  <p:spPr>
                    <a:xfrm>
                      <a:off x="40831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2" name=""/>
                    <p:cNvSpPr/>
                    <p:nvPr/>
                  </p:nvSpPr>
                  <p:spPr>
                    <a:xfrm>
                      <a:off x="41590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3" name=""/>
                    <p:cNvSpPr/>
                    <p:nvPr/>
                  </p:nvSpPr>
                  <p:spPr>
                    <a:xfrm>
                      <a:off x="4235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54" name=""/>
                  <p:cNvSpPr/>
                  <p:nvPr/>
                </p:nvSpPr>
                <p:spPr>
                  <a:xfrm>
                    <a:off x="3889080" y="3552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3889080" y="36198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3889080" y="36831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7" name=""/>
                <p:cNvGrpSpPr/>
                <p:nvPr/>
              </p:nvGrpSpPr>
              <p:grpSpPr>
                <a:xfrm>
                  <a:off x="4343400" y="3276720"/>
                  <a:ext cx="533520" cy="457200"/>
                  <a:chOff x="4343400" y="3276720"/>
                  <a:chExt cx="533520" cy="457200"/>
                </a:xfrm>
              </p:grpSpPr>
              <p:grpSp>
                <p:nvGrpSpPr>
                  <p:cNvPr id="1658" name=""/>
                  <p:cNvGrpSpPr/>
                  <p:nvPr/>
                </p:nvGrpSpPr>
                <p:grpSpPr>
                  <a:xfrm>
                    <a:off x="4343400" y="3276720"/>
                    <a:ext cx="533520" cy="457200"/>
                    <a:chOff x="4343400" y="3276720"/>
                    <a:chExt cx="533520" cy="457200"/>
                  </a:xfrm>
                </p:grpSpPr>
                <p:sp>
                  <p:nvSpPr>
                    <p:cNvPr id="1659" name=""/>
                    <p:cNvSpPr/>
                    <p:nvPr/>
                  </p:nvSpPr>
                  <p:spPr>
                    <a:xfrm>
                      <a:off x="4343400" y="32767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0" name=""/>
                    <p:cNvSpPr/>
                    <p:nvPr/>
                  </p:nvSpPr>
                  <p:spPr>
                    <a:xfrm>
                      <a:off x="4343400" y="3505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1" name=""/>
                  <p:cNvSpPr/>
                  <p:nvPr/>
                </p:nvSpPr>
                <p:spPr>
                  <a:xfrm>
                    <a:off x="4397400" y="33148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62" name=""/>
                  <p:cNvGrpSpPr/>
                  <p:nvPr/>
                </p:nvGrpSpPr>
                <p:grpSpPr>
                  <a:xfrm>
                    <a:off x="4464000" y="3353040"/>
                    <a:ext cx="304920" cy="75960"/>
                    <a:chOff x="4464000" y="3353040"/>
                    <a:chExt cx="304920" cy="75960"/>
                  </a:xfrm>
                </p:grpSpPr>
                <p:sp>
                  <p:nvSpPr>
                    <p:cNvPr id="1663" name=""/>
                    <p:cNvSpPr/>
                    <p:nvPr/>
                  </p:nvSpPr>
                  <p:spPr>
                    <a:xfrm>
                      <a:off x="44640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4" name=""/>
                    <p:cNvSpPr/>
                    <p:nvPr/>
                  </p:nvSpPr>
                  <p:spPr>
                    <a:xfrm>
                      <a:off x="45403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5" name=""/>
                    <p:cNvSpPr/>
                    <p:nvPr/>
                  </p:nvSpPr>
                  <p:spPr>
                    <a:xfrm>
                      <a:off x="46166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6" name=""/>
                    <p:cNvSpPr/>
                    <p:nvPr/>
                  </p:nvSpPr>
                  <p:spPr>
                    <a:xfrm>
                      <a:off x="46926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7" name=""/>
                    <p:cNvSpPr/>
                    <p:nvPr/>
                  </p:nvSpPr>
                  <p:spPr>
                    <a:xfrm>
                      <a:off x="47689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8" name=""/>
                  <p:cNvSpPr/>
                  <p:nvPr/>
                </p:nvSpPr>
                <p:spPr>
                  <a:xfrm>
                    <a:off x="4422600" y="3552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4422600" y="36198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4422600" y="36831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1" name=""/>
                <p:cNvGrpSpPr/>
                <p:nvPr/>
              </p:nvGrpSpPr>
              <p:grpSpPr>
                <a:xfrm>
                  <a:off x="3809880" y="3276720"/>
                  <a:ext cx="533520" cy="457200"/>
                  <a:chOff x="3809880" y="3276720"/>
                  <a:chExt cx="533520" cy="457200"/>
                </a:xfrm>
              </p:grpSpPr>
              <p:grpSp>
                <p:nvGrpSpPr>
                  <p:cNvPr id="1672" name=""/>
                  <p:cNvGrpSpPr/>
                  <p:nvPr/>
                </p:nvGrpSpPr>
                <p:grpSpPr>
                  <a:xfrm>
                    <a:off x="3809880" y="3276720"/>
                    <a:ext cx="533520" cy="457200"/>
                    <a:chOff x="3809880" y="3276720"/>
                    <a:chExt cx="533520" cy="457200"/>
                  </a:xfrm>
                </p:grpSpPr>
                <p:sp>
                  <p:nvSpPr>
                    <p:cNvPr id="1673" name=""/>
                    <p:cNvSpPr/>
                    <p:nvPr/>
                  </p:nvSpPr>
                  <p:spPr>
                    <a:xfrm>
                      <a:off x="3809880" y="32767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4" name=""/>
                    <p:cNvSpPr/>
                    <p:nvPr/>
                  </p:nvSpPr>
                  <p:spPr>
                    <a:xfrm>
                      <a:off x="3809880" y="3505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75" name=""/>
                  <p:cNvSpPr/>
                  <p:nvPr/>
                </p:nvSpPr>
                <p:spPr>
                  <a:xfrm>
                    <a:off x="3863880" y="33148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76" name=""/>
                  <p:cNvGrpSpPr/>
                  <p:nvPr/>
                </p:nvGrpSpPr>
                <p:grpSpPr>
                  <a:xfrm>
                    <a:off x="3930480" y="3353040"/>
                    <a:ext cx="304920" cy="75960"/>
                    <a:chOff x="3930480" y="3353040"/>
                    <a:chExt cx="304920" cy="75960"/>
                  </a:xfrm>
                </p:grpSpPr>
                <p:sp>
                  <p:nvSpPr>
                    <p:cNvPr id="1677" name=""/>
                    <p:cNvSpPr/>
                    <p:nvPr/>
                  </p:nvSpPr>
                  <p:spPr>
                    <a:xfrm>
                      <a:off x="39304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8" name=""/>
                    <p:cNvSpPr/>
                    <p:nvPr/>
                  </p:nvSpPr>
                  <p:spPr>
                    <a:xfrm>
                      <a:off x="40068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9" name=""/>
                    <p:cNvSpPr/>
                    <p:nvPr/>
                  </p:nvSpPr>
                  <p:spPr>
                    <a:xfrm>
                      <a:off x="40831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0" name=""/>
                    <p:cNvSpPr/>
                    <p:nvPr/>
                  </p:nvSpPr>
                  <p:spPr>
                    <a:xfrm>
                      <a:off x="41590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1" name=""/>
                    <p:cNvSpPr/>
                    <p:nvPr/>
                  </p:nvSpPr>
                  <p:spPr>
                    <a:xfrm>
                      <a:off x="4235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82" name=""/>
                  <p:cNvSpPr/>
                  <p:nvPr/>
                </p:nvSpPr>
                <p:spPr>
                  <a:xfrm>
                    <a:off x="3889080" y="3552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3889080" y="36198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3889080" y="36831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85" name=""/>
              <p:cNvGrpSpPr/>
              <p:nvPr/>
            </p:nvGrpSpPr>
            <p:grpSpPr>
              <a:xfrm>
                <a:off x="4876920" y="3276720"/>
                <a:ext cx="1066320" cy="457200"/>
                <a:chOff x="4876920" y="3276720"/>
                <a:chExt cx="1066320" cy="457200"/>
              </a:xfrm>
            </p:grpSpPr>
            <p:grpSp>
              <p:nvGrpSpPr>
                <p:cNvPr id="1686" name=""/>
                <p:cNvGrpSpPr/>
                <p:nvPr/>
              </p:nvGrpSpPr>
              <p:grpSpPr>
                <a:xfrm>
                  <a:off x="4876920" y="3276720"/>
                  <a:ext cx="533160" cy="457200"/>
                  <a:chOff x="4876920" y="3276720"/>
                  <a:chExt cx="533160" cy="457200"/>
                </a:xfrm>
              </p:grpSpPr>
              <p:grpSp>
                <p:nvGrpSpPr>
                  <p:cNvPr id="1687" name=""/>
                  <p:cNvGrpSpPr/>
                  <p:nvPr/>
                </p:nvGrpSpPr>
                <p:grpSpPr>
                  <a:xfrm>
                    <a:off x="4876920" y="3276720"/>
                    <a:ext cx="533160" cy="457200"/>
                    <a:chOff x="4876920" y="3276720"/>
                    <a:chExt cx="533160" cy="457200"/>
                  </a:xfrm>
                </p:grpSpPr>
                <p:sp>
                  <p:nvSpPr>
                    <p:cNvPr id="1688" name=""/>
                    <p:cNvSpPr/>
                    <p:nvPr/>
                  </p:nvSpPr>
                  <p:spPr>
                    <a:xfrm>
                      <a:off x="487692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>
                      <a:off x="487692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90" name=""/>
                  <p:cNvSpPr/>
                  <p:nvPr/>
                </p:nvSpPr>
                <p:spPr>
                  <a:xfrm>
                    <a:off x="493056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91" name=""/>
                  <p:cNvGrpSpPr/>
                  <p:nvPr/>
                </p:nvGrpSpPr>
                <p:grpSpPr>
                  <a:xfrm>
                    <a:off x="4997160" y="3353040"/>
                    <a:ext cx="304560" cy="75960"/>
                    <a:chOff x="4997160" y="3353040"/>
                    <a:chExt cx="304560" cy="75960"/>
                  </a:xfrm>
                </p:grpSpPr>
                <p:sp>
                  <p:nvSpPr>
                    <p:cNvPr id="1692" name=""/>
                    <p:cNvSpPr/>
                    <p:nvPr/>
                  </p:nvSpPr>
                  <p:spPr>
                    <a:xfrm>
                      <a:off x="499716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50731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4" name=""/>
                    <p:cNvSpPr/>
                    <p:nvPr/>
                  </p:nvSpPr>
                  <p:spPr>
                    <a:xfrm>
                      <a:off x="51494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5" name=""/>
                    <p:cNvSpPr/>
                    <p:nvPr/>
                  </p:nvSpPr>
                  <p:spPr>
                    <a:xfrm>
                      <a:off x="5225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6" name=""/>
                    <p:cNvSpPr/>
                    <p:nvPr/>
                  </p:nvSpPr>
                  <p:spPr>
                    <a:xfrm>
                      <a:off x="53017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97" name=""/>
                  <p:cNvSpPr/>
                  <p:nvPr/>
                </p:nvSpPr>
                <p:spPr>
                  <a:xfrm>
                    <a:off x="495576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495576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495576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0" name=""/>
                <p:cNvGrpSpPr/>
                <p:nvPr/>
              </p:nvGrpSpPr>
              <p:grpSpPr>
                <a:xfrm>
                  <a:off x="5410080" y="3276720"/>
                  <a:ext cx="533160" cy="457200"/>
                  <a:chOff x="5410080" y="3276720"/>
                  <a:chExt cx="533160" cy="457200"/>
                </a:xfrm>
              </p:grpSpPr>
              <p:grpSp>
                <p:nvGrpSpPr>
                  <p:cNvPr id="1701" name=""/>
                  <p:cNvGrpSpPr/>
                  <p:nvPr/>
                </p:nvGrpSpPr>
                <p:grpSpPr>
                  <a:xfrm>
                    <a:off x="5410080" y="3276720"/>
                    <a:ext cx="533160" cy="457200"/>
                    <a:chOff x="5410080" y="3276720"/>
                    <a:chExt cx="533160" cy="457200"/>
                  </a:xfrm>
                </p:grpSpPr>
                <p:sp>
                  <p:nvSpPr>
                    <p:cNvPr id="1702" name=""/>
                    <p:cNvSpPr/>
                    <p:nvPr/>
                  </p:nvSpPr>
                  <p:spPr>
                    <a:xfrm>
                      <a:off x="541008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3" name=""/>
                    <p:cNvSpPr/>
                    <p:nvPr/>
                  </p:nvSpPr>
                  <p:spPr>
                    <a:xfrm>
                      <a:off x="541008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04" name=""/>
                  <p:cNvSpPr/>
                  <p:nvPr/>
                </p:nvSpPr>
                <p:spPr>
                  <a:xfrm>
                    <a:off x="546372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05" name=""/>
                  <p:cNvGrpSpPr/>
                  <p:nvPr/>
                </p:nvGrpSpPr>
                <p:grpSpPr>
                  <a:xfrm>
                    <a:off x="5530320" y="3353040"/>
                    <a:ext cx="304560" cy="75960"/>
                    <a:chOff x="5530320" y="3353040"/>
                    <a:chExt cx="304560" cy="75960"/>
                  </a:xfrm>
                </p:grpSpPr>
                <p:sp>
                  <p:nvSpPr>
                    <p:cNvPr id="1706" name=""/>
                    <p:cNvSpPr/>
                    <p:nvPr/>
                  </p:nvSpPr>
                  <p:spPr>
                    <a:xfrm>
                      <a:off x="55303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7" name=""/>
                    <p:cNvSpPr/>
                    <p:nvPr/>
                  </p:nvSpPr>
                  <p:spPr>
                    <a:xfrm>
                      <a:off x="56062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8" name=""/>
                    <p:cNvSpPr/>
                    <p:nvPr/>
                  </p:nvSpPr>
                  <p:spPr>
                    <a:xfrm>
                      <a:off x="56826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9" name=""/>
                    <p:cNvSpPr/>
                    <p:nvPr/>
                  </p:nvSpPr>
                  <p:spPr>
                    <a:xfrm>
                      <a:off x="575856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0" name=""/>
                    <p:cNvSpPr/>
                    <p:nvPr/>
                  </p:nvSpPr>
                  <p:spPr>
                    <a:xfrm>
                      <a:off x="58348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1" name=""/>
                  <p:cNvSpPr/>
                  <p:nvPr/>
                </p:nvSpPr>
                <p:spPr>
                  <a:xfrm>
                    <a:off x="548892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548892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548892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4" name=""/>
                <p:cNvGrpSpPr/>
                <p:nvPr/>
              </p:nvGrpSpPr>
              <p:grpSpPr>
                <a:xfrm>
                  <a:off x="4876920" y="3276720"/>
                  <a:ext cx="533160" cy="457200"/>
                  <a:chOff x="4876920" y="3276720"/>
                  <a:chExt cx="533160" cy="457200"/>
                </a:xfrm>
              </p:grpSpPr>
              <p:grpSp>
                <p:nvGrpSpPr>
                  <p:cNvPr id="1715" name=""/>
                  <p:cNvGrpSpPr/>
                  <p:nvPr/>
                </p:nvGrpSpPr>
                <p:grpSpPr>
                  <a:xfrm>
                    <a:off x="4876920" y="3276720"/>
                    <a:ext cx="533160" cy="457200"/>
                    <a:chOff x="4876920" y="3276720"/>
                    <a:chExt cx="533160" cy="457200"/>
                  </a:xfrm>
                </p:grpSpPr>
                <p:sp>
                  <p:nvSpPr>
                    <p:cNvPr id="1716" name=""/>
                    <p:cNvSpPr/>
                    <p:nvPr/>
                  </p:nvSpPr>
                  <p:spPr>
                    <a:xfrm>
                      <a:off x="487692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7" name=""/>
                    <p:cNvSpPr/>
                    <p:nvPr/>
                  </p:nvSpPr>
                  <p:spPr>
                    <a:xfrm>
                      <a:off x="487692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8" name=""/>
                  <p:cNvSpPr/>
                  <p:nvPr/>
                </p:nvSpPr>
                <p:spPr>
                  <a:xfrm>
                    <a:off x="493056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19" name=""/>
                  <p:cNvGrpSpPr/>
                  <p:nvPr/>
                </p:nvGrpSpPr>
                <p:grpSpPr>
                  <a:xfrm>
                    <a:off x="4997160" y="3353040"/>
                    <a:ext cx="304560" cy="75960"/>
                    <a:chOff x="4997160" y="3353040"/>
                    <a:chExt cx="304560" cy="75960"/>
                  </a:xfrm>
                </p:grpSpPr>
                <p:sp>
                  <p:nvSpPr>
                    <p:cNvPr id="1720" name=""/>
                    <p:cNvSpPr/>
                    <p:nvPr/>
                  </p:nvSpPr>
                  <p:spPr>
                    <a:xfrm>
                      <a:off x="499716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1" name=""/>
                    <p:cNvSpPr/>
                    <p:nvPr/>
                  </p:nvSpPr>
                  <p:spPr>
                    <a:xfrm>
                      <a:off x="50731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2" name=""/>
                    <p:cNvSpPr/>
                    <p:nvPr/>
                  </p:nvSpPr>
                  <p:spPr>
                    <a:xfrm>
                      <a:off x="51494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3" name=""/>
                    <p:cNvSpPr/>
                    <p:nvPr/>
                  </p:nvSpPr>
                  <p:spPr>
                    <a:xfrm>
                      <a:off x="5225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4" name=""/>
                    <p:cNvSpPr/>
                    <p:nvPr/>
                  </p:nvSpPr>
                  <p:spPr>
                    <a:xfrm>
                      <a:off x="53017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25" name=""/>
                  <p:cNvSpPr/>
                  <p:nvPr/>
                </p:nvSpPr>
                <p:spPr>
                  <a:xfrm>
                    <a:off x="495576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495576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495576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8" name=""/>
              <p:cNvGrpSpPr/>
              <p:nvPr/>
            </p:nvGrpSpPr>
            <p:grpSpPr>
              <a:xfrm>
                <a:off x="5943600" y="3276720"/>
                <a:ext cx="1066320" cy="457200"/>
                <a:chOff x="5943600" y="3276720"/>
                <a:chExt cx="1066320" cy="457200"/>
              </a:xfrm>
            </p:grpSpPr>
            <p:grpSp>
              <p:nvGrpSpPr>
                <p:cNvPr id="1729" name=""/>
                <p:cNvGrpSpPr/>
                <p:nvPr/>
              </p:nvGrpSpPr>
              <p:grpSpPr>
                <a:xfrm>
                  <a:off x="5943600" y="3276720"/>
                  <a:ext cx="533160" cy="457200"/>
                  <a:chOff x="5943600" y="3276720"/>
                  <a:chExt cx="533160" cy="457200"/>
                </a:xfrm>
              </p:grpSpPr>
              <p:grpSp>
                <p:nvGrpSpPr>
                  <p:cNvPr id="1730" name=""/>
                  <p:cNvGrpSpPr/>
                  <p:nvPr/>
                </p:nvGrpSpPr>
                <p:grpSpPr>
                  <a:xfrm>
                    <a:off x="5943600" y="3276720"/>
                    <a:ext cx="533160" cy="457200"/>
                    <a:chOff x="5943600" y="3276720"/>
                    <a:chExt cx="533160" cy="457200"/>
                  </a:xfrm>
                </p:grpSpPr>
                <p:sp>
                  <p:nvSpPr>
                    <p:cNvPr id="1731" name=""/>
                    <p:cNvSpPr/>
                    <p:nvPr/>
                  </p:nvSpPr>
                  <p:spPr>
                    <a:xfrm>
                      <a:off x="594360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2" name=""/>
                    <p:cNvSpPr/>
                    <p:nvPr/>
                  </p:nvSpPr>
                  <p:spPr>
                    <a:xfrm>
                      <a:off x="594360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33" name=""/>
                  <p:cNvSpPr/>
                  <p:nvPr/>
                </p:nvSpPr>
                <p:spPr>
                  <a:xfrm>
                    <a:off x="599724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4" name=""/>
                  <p:cNvGrpSpPr/>
                  <p:nvPr/>
                </p:nvGrpSpPr>
                <p:grpSpPr>
                  <a:xfrm>
                    <a:off x="6063840" y="3353040"/>
                    <a:ext cx="304560" cy="75960"/>
                    <a:chOff x="6063840" y="3353040"/>
                    <a:chExt cx="304560" cy="75960"/>
                  </a:xfrm>
                </p:grpSpPr>
                <p:sp>
                  <p:nvSpPr>
                    <p:cNvPr id="1735" name=""/>
                    <p:cNvSpPr/>
                    <p:nvPr/>
                  </p:nvSpPr>
                  <p:spPr>
                    <a:xfrm>
                      <a:off x="60638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6" name=""/>
                    <p:cNvSpPr/>
                    <p:nvPr/>
                  </p:nvSpPr>
                  <p:spPr>
                    <a:xfrm>
                      <a:off x="61398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7" name=""/>
                    <p:cNvSpPr/>
                    <p:nvPr/>
                  </p:nvSpPr>
                  <p:spPr>
                    <a:xfrm>
                      <a:off x="62161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8" name=""/>
                    <p:cNvSpPr/>
                    <p:nvPr/>
                  </p:nvSpPr>
                  <p:spPr>
                    <a:xfrm>
                      <a:off x="62920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9" name=""/>
                    <p:cNvSpPr/>
                    <p:nvPr/>
                  </p:nvSpPr>
                  <p:spPr>
                    <a:xfrm>
                      <a:off x="6368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40" name=""/>
                  <p:cNvSpPr/>
                  <p:nvPr/>
                </p:nvSpPr>
                <p:spPr>
                  <a:xfrm>
                    <a:off x="602244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602244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602244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3" name=""/>
                <p:cNvGrpSpPr/>
                <p:nvPr/>
              </p:nvGrpSpPr>
              <p:grpSpPr>
                <a:xfrm>
                  <a:off x="6476760" y="3276720"/>
                  <a:ext cx="533160" cy="457200"/>
                  <a:chOff x="6476760" y="3276720"/>
                  <a:chExt cx="533160" cy="457200"/>
                </a:xfrm>
              </p:grpSpPr>
              <p:grpSp>
                <p:nvGrpSpPr>
                  <p:cNvPr id="1744" name=""/>
                  <p:cNvGrpSpPr/>
                  <p:nvPr/>
                </p:nvGrpSpPr>
                <p:grpSpPr>
                  <a:xfrm>
                    <a:off x="6476760" y="3276720"/>
                    <a:ext cx="533160" cy="457200"/>
                    <a:chOff x="6476760" y="3276720"/>
                    <a:chExt cx="533160" cy="457200"/>
                  </a:xfrm>
                </p:grpSpPr>
                <p:sp>
                  <p:nvSpPr>
                    <p:cNvPr id="1745" name=""/>
                    <p:cNvSpPr/>
                    <p:nvPr/>
                  </p:nvSpPr>
                  <p:spPr>
                    <a:xfrm>
                      <a:off x="647676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6" name=""/>
                    <p:cNvSpPr/>
                    <p:nvPr/>
                  </p:nvSpPr>
                  <p:spPr>
                    <a:xfrm>
                      <a:off x="647676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47" name=""/>
                  <p:cNvSpPr/>
                  <p:nvPr/>
                </p:nvSpPr>
                <p:spPr>
                  <a:xfrm>
                    <a:off x="653040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8" name=""/>
                  <p:cNvGrpSpPr/>
                  <p:nvPr/>
                </p:nvGrpSpPr>
                <p:grpSpPr>
                  <a:xfrm>
                    <a:off x="6597000" y="3353040"/>
                    <a:ext cx="304560" cy="75960"/>
                    <a:chOff x="6597000" y="3353040"/>
                    <a:chExt cx="304560" cy="75960"/>
                  </a:xfrm>
                </p:grpSpPr>
                <p:sp>
                  <p:nvSpPr>
                    <p:cNvPr id="1749" name=""/>
                    <p:cNvSpPr/>
                    <p:nvPr/>
                  </p:nvSpPr>
                  <p:spPr>
                    <a:xfrm>
                      <a:off x="65970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0" name=""/>
                    <p:cNvSpPr/>
                    <p:nvPr/>
                  </p:nvSpPr>
                  <p:spPr>
                    <a:xfrm>
                      <a:off x="667296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1" name=""/>
                    <p:cNvSpPr/>
                    <p:nvPr/>
                  </p:nvSpPr>
                  <p:spPr>
                    <a:xfrm>
                      <a:off x="67492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2" name=""/>
                    <p:cNvSpPr/>
                    <p:nvPr/>
                  </p:nvSpPr>
                  <p:spPr>
                    <a:xfrm>
                      <a:off x="68252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3" name=""/>
                    <p:cNvSpPr/>
                    <p:nvPr/>
                  </p:nvSpPr>
                  <p:spPr>
                    <a:xfrm>
                      <a:off x="690156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54" name=""/>
                  <p:cNvSpPr/>
                  <p:nvPr/>
                </p:nvSpPr>
                <p:spPr>
                  <a:xfrm>
                    <a:off x="655560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655560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655560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7" name=""/>
                <p:cNvGrpSpPr/>
                <p:nvPr/>
              </p:nvGrpSpPr>
              <p:grpSpPr>
                <a:xfrm>
                  <a:off x="5943600" y="3276720"/>
                  <a:ext cx="533160" cy="457200"/>
                  <a:chOff x="5943600" y="3276720"/>
                  <a:chExt cx="533160" cy="457200"/>
                </a:xfrm>
              </p:grpSpPr>
              <p:grpSp>
                <p:nvGrpSpPr>
                  <p:cNvPr id="1758" name=""/>
                  <p:cNvGrpSpPr/>
                  <p:nvPr/>
                </p:nvGrpSpPr>
                <p:grpSpPr>
                  <a:xfrm>
                    <a:off x="5943600" y="3276720"/>
                    <a:ext cx="533160" cy="457200"/>
                    <a:chOff x="5943600" y="3276720"/>
                    <a:chExt cx="533160" cy="457200"/>
                  </a:xfrm>
                </p:grpSpPr>
                <p:sp>
                  <p:nvSpPr>
                    <p:cNvPr id="1759" name=""/>
                    <p:cNvSpPr/>
                    <p:nvPr/>
                  </p:nvSpPr>
                  <p:spPr>
                    <a:xfrm>
                      <a:off x="594360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0" name=""/>
                    <p:cNvSpPr/>
                    <p:nvPr/>
                  </p:nvSpPr>
                  <p:spPr>
                    <a:xfrm>
                      <a:off x="594360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61" name=""/>
                  <p:cNvSpPr/>
                  <p:nvPr/>
                </p:nvSpPr>
                <p:spPr>
                  <a:xfrm>
                    <a:off x="599724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62" name=""/>
                  <p:cNvGrpSpPr/>
                  <p:nvPr/>
                </p:nvGrpSpPr>
                <p:grpSpPr>
                  <a:xfrm>
                    <a:off x="6063840" y="3353040"/>
                    <a:ext cx="304560" cy="75960"/>
                    <a:chOff x="6063840" y="3353040"/>
                    <a:chExt cx="304560" cy="75960"/>
                  </a:xfrm>
                </p:grpSpPr>
                <p:sp>
                  <p:nvSpPr>
                    <p:cNvPr id="1763" name=""/>
                    <p:cNvSpPr/>
                    <p:nvPr/>
                  </p:nvSpPr>
                  <p:spPr>
                    <a:xfrm>
                      <a:off x="60638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4" name=""/>
                    <p:cNvSpPr/>
                    <p:nvPr/>
                  </p:nvSpPr>
                  <p:spPr>
                    <a:xfrm>
                      <a:off x="61398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5" name=""/>
                    <p:cNvSpPr/>
                    <p:nvPr/>
                  </p:nvSpPr>
                  <p:spPr>
                    <a:xfrm>
                      <a:off x="62161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6" name=""/>
                    <p:cNvSpPr/>
                    <p:nvPr/>
                  </p:nvSpPr>
                  <p:spPr>
                    <a:xfrm>
                      <a:off x="62920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7" name=""/>
                    <p:cNvSpPr/>
                    <p:nvPr/>
                  </p:nvSpPr>
                  <p:spPr>
                    <a:xfrm>
                      <a:off x="6368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68" name=""/>
                  <p:cNvSpPr/>
                  <p:nvPr/>
                </p:nvSpPr>
                <p:spPr>
                  <a:xfrm>
                    <a:off x="602244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602244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602244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1" name=""/>
              <p:cNvGrpSpPr/>
              <p:nvPr/>
            </p:nvGrpSpPr>
            <p:grpSpPr>
              <a:xfrm>
                <a:off x="7010280" y="3276720"/>
                <a:ext cx="1067040" cy="457200"/>
                <a:chOff x="7010280" y="3276720"/>
                <a:chExt cx="1067040" cy="457200"/>
              </a:xfrm>
            </p:grpSpPr>
            <p:grpSp>
              <p:nvGrpSpPr>
                <p:cNvPr id="1772" name=""/>
                <p:cNvGrpSpPr/>
                <p:nvPr/>
              </p:nvGrpSpPr>
              <p:grpSpPr>
                <a:xfrm>
                  <a:off x="7010280" y="3276720"/>
                  <a:ext cx="533520" cy="457200"/>
                  <a:chOff x="7010280" y="3276720"/>
                  <a:chExt cx="533520" cy="457200"/>
                </a:xfrm>
              </p:grpSpPr>
              <p:grpSp>
                <p:nvGrpSpPr>
                  <p:cNvPr id="1773" name=""/>
                  <p:cNvGrpSpPr/>
                  <p:nvPr/>
                </p:nvGrpSpPr>
                <p:grpSpPr>
                  <a:xfrm>
                    <a:off x="7010280" y="3276720"/>
                    <a:ext cx="533520" cy="457200"/>
                    <a:chOff x="7010280" y="3276720"/>
                    <a:chExt cx="533520" cy="457200"/>
                  </a:xfrm>
                </p:grpSpPr>
                <p:sp>
                  <p:nvSpPr>
                    <p:cNvPr id="1774" name=""/>
                    <p:cNvSpPr/>
                    <p:nvPr/>
                  </p:nvSpPr>
                  <p:spPr>
                    <a:xfrm>
                      <a:off x="7010280" y="32767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5" name=""/>
                    <p:cNvSpPr/>
                    <p:nvPr/>
                  </p:nvSpPr>
                  <p:spPr>
                    <a:xfrm>
                      <a:off x="7010280" y="3505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76" name=""/>
                  <p:cNvSpPr/>
                  <p:nvPr/>
                </p:nvSpPr>
                <p:spPr>
                  <a:xfrm>
                    <a:off x="7064280" y="33148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77" name=""/>
                  <p:cNvGrpSpPr/>
                  <p:nvPr/>
                </p:nvGrpSpPr>
                <p:grpSpPr>
                  <a:xfrm>
                    <a:off x="7130880" y="3353040"/>
                    <a:ext cx="304920" cy="75960"/>
                    <a:chOff x="7130880" y="3353040"/>
                    <a:chExt cx="304920" cy="75960"/>
                  </a:xfrm>
                </p:grpSpPr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71308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9" name=""/>
                    <p:cNvSpPr/>
                    <p:nvPr/>
                  </p:nvSpPr>
                  <p:spPr>
                    <a:xfrm>
                      <a:off x="72072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0" name=""/>
                    <p:cNvSpPr/>
                    <p:nvPr/>
                  </p:nvSpPr>
                  <p:spPr>
                    <a:xfrm>
                      <a:off x="72835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1" name=""/>
                    <p:cNvSpPr/>
                    <p:nvPr/>
                  </p:nvSpPr>
                  <p:spPr>
                    <a:xfrm>
                      <a:off x="73594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2" name=""/>
                    <p:cNvSpPr/>
                    <p:nvPr/>
                  </p:nvSpPr>
                  <p:spPr>
                    <a:xfrm>
                      <a:off x="74358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83" name=""/>
                  <p:cNvSpPr/>
                  <p:nvPr/>
                </p:nvSpPr>
                <p:spPr>
                  <a:xfrm>
                    <a:off x="7089480" y="3552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7089480" y="36198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>
                    <a:off x="7089480" y="36831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6" name=""/>
                <p:cNvGrpSpPr/>
                <p:nvPr/>
              </p:nvGrpSpPr>
              <p:grpSpPr>
                <a:xfrm>
                  <a:off x="7543800" y="3276720"/>
                  <a:ext cx="533520" cy="457200"/>
                  <a:chOff x="7543800" y="3276720"/>
                  <a:chExt cx="533520" cy="457200"/>
                </a:xfrm>
              </p:grpSpPr>
              <p:grpSp>
                <p:nvGrpSpPr>
                  <p:cNvPr id="1787" name=""/>
                  <p:cNvGrpSpPr/>
                  <p:nvPr/>
                </p:nvGrpSpPr>
                <p:grpSpPr>
                  <a:xfrm>
                    <a:off x="7543800" y="3276720"/>
                    <a:ext cx="533520" cy="457200"/>
                    <a:chOff x="7543800" y="3276720"/>
                    <a:chExt cx="533520" cy="457200"/>
                  </a:xfrm>
                </p:grpSpPr>
                <p:sp>
                  <p:nvSpPr>
                    <p:cNvPr id="1788" name=""/>
                    <p:cNvSpPr/>
                    <p:nvPr/>
                  </p:nvSpPr>
                  <p:spPr>
                    <a:xfrm>
                      <a:off x="7543800" y="32767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9" name=""/>
                    <p:cNvSpPr/>
                    <p:nvPr/>
                  </p:nvSpPr>
                  <p:spPr>
                    <a:xfrm>
                      <a:off x="7543800" y="3505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0" name=""/>
                  <p:cNvSpPr/>
                  <p:nvPr/>
                </p:nvSpPr>
                <p:spPr>
                  <a:xfrm>
                    <a:off x="7597800" y="33148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91" name=""/>
                  <p:cNvGrpSpPr/>
                  <p:nvPr/>
                </p:nvGrpSpPr>
                <p:grpSpPr>
                  <a:xfrm>
                    <a:off x="7664400" y="3353040"/>
                    <a:ext cx="304920" cy="75960"/>
                    <a:chOff x="7664400" y="3353040"/>
                    <a:chExt cx="304920" cy="75960"/>
                  </a:xfrm>
                </p:grpSpPr>
                <p:sp>
                  <p:nvSpPr>
                    <p:cNvPr id="1792" name=""/>
                    <p:cNvSpPr/>
                    <p:nvPr/>
                  </p:nvSpPr>
                  <p:spPr>
                    <a:xfrm>
                      <a:off x="7664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3" name=""/>
                    <p:cNvSpPr/>
                    <p:nvPr/>
                  </p:nvSpPr>
                  <p:spPr>
                    <a:xfrm>
                      <a:off x="77407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4" name=""/>
                    <p:cNvSpPr/>
                    <p:nvPr/>
                  </p:nvSpPr>
                  <p:spPr>
                    <a:xfrm>
                      <a:off x="78170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5" name=""/>
                    <p:cNvSpPr/>
                    <p:nvPr/>
                  </p:nvSpPr>
                  <p:spPr>
                    <a:xfrm>
                      <a:off x="78930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6" name=""/>
                    <p:cNvSpPr/>
                    <p:nvPr/>
                  </p:nvSpPr>
                  <p:spPr>
                    <a:xfrm>
                      <a:off x="79693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7" name=""/>
                  <p:cNvSpPr/>
                  <p:nvPr/>
                </p:nvSpPr>
                <p:spPr>
                  <a:xfrm>
                    <a:off x="7623000" y="3552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7623000" y="36198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>
                    <a:off x="7623000" y="36831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0" name=""/>
                <p:cNvGrpSpPr/>
                <p:nvPr/>
              </p:nvGrpSpPr>
              <p:grpSpPr>
                <a:xfrm>
                  <a:off x="7010280" y="3276720"/>
                  <a:ext cx="533520" cy="457200"/>
                  <a:chOff x="7010280" y="3276720"/>
                  <a:chExt cx="533520" cy="457200"/>
                </a:xfrm>
              </p:grpSpPr>
              <p:grpSp>
                <p:nvGrpSpPr>
                  <p:cNvPr id="1801" name=""/>
                  <p:cNvGrpSpPr/>
                  <p:nvPr/>
                </p:nvGrpSpPr>
                <p:grpSpPr>
                  <a:xfrm>
                    <a:off x="7010280" y="3276720"/>
                    <a:ext cx="533520" cy="457200"/>
                    <a:chOff x="7010280" y="3276720"/>
                    <a:chExt cx="533520" cy="457200"/>
                  </a:xfrm>
                </p:grpSpPr>
                <p:sp>
                  <p:nvSpPr>
                    <p:cNvPr id="1802" name=""/>
                    <p:cNvSpPr/>
                    <p:nvPr/>
                  </p:nvSpPr>
                  <p:spPr>
                    <a:xfrm>
                      <a:off x="7010280" y="32767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3" name=""/>
                    <p:cNvSpPr/>
                    <p:nvPr/>
                  </p:nvSpPr>
                  <p:spPr>
                    <a:xfrm>
                      <a:off x="7010280" y="3505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04" name=""/>
                  <p:cNvSpPr/>
                  <p:nvPr/>
                </p:nvSpPr>
                <p:spPr>
                  <a:xfrm>
                    <a:off x="7064280" y="33148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05" name=""/>
                  <p:cNvGrpSpPr/>
                  <p:nvPr/>
                </p:nvGrpSpPr>
                <p:grpSpPr>
                  <a:xfrm>
                    <a:off x="7130880" y="3353040"/>
                    <a:ext cx="304920" cy="75960"/>
                    <a:chOff x="7130880" y="3353040"/>
                    <a:chExt cx="304920" cy="75960"/>
                  </a:xfrm>
                </p:grpSpPr>
                <p:sp>
                  <p:nvSpPr>
                    <p:cNvPr id="1806" name=""/>
                    <p:cNvSpPr/>
                    <p:nvPr/>
                  </p:nvSpPr>
                  <p:spPr>
                    <a:xfrm>
                      <a:off x="71308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7" name=""/>
                    <p:cNvSpPr/>
                    <p:nvPr/>
                  </p:nvSpPr>
                  <p:spPr>
                    <a:xfrm>
                      <a:off x="72072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8" name=""/>
                    <p:cNvSpPr/>
                    <p:nvPr/>
                  </p:nvSpPr>
                  <p:spPr>
                    <a:xfrm>
                      <a:off x="72835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9" name=""/>
                    <p:cNvSpPr/>
                    <p:nvPr/>
                  </p:nvSpPr>
                  <p:spPr>
                    <a:xfrm>
                      <a:off x="73594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0" name=""/>
                    <p:cNvSpPr/>
                    <p:nvPr/>
                  </p:nvSpPr>
                  <p:spPr>
                    <a:xfrm>
                      <a:off x="74358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11" name=""/>
                  <p:cNvSpPr/>
                  <p:nvPr/>
                </p:nvSpPr>
                <p:spPr>
                  <a:xfrm>
                    <a:off x="7089480" y="3552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>
                    <a:off x="7089480" y="36198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>
                    <a:off x="7089480" y="36831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14" name=""/>
            <p:cNvGrpSpPr/>
            <p:nvPr/>
          </p:nvGrpSpPr>
          <p:grpSpPr>
            <a:xfrm>
              <a:off x="2438280" y="3276720"/>
              <a:ext cx="5943600" cy="1904760"/>
              <a:chOff x="2438280" y="3276720"/>
              <a:chExt cx="5943600" cy="1904760"/>
            </a:xfrm>
          </p:grpSpPr>
          <p:cxnSp>
            <p:nvCxnSpPr>
              <p:cNvPr id="1815" name=""/>
              <p:cNvCxnSpPr>
                <a:stCxn id="1816" idx="2"/>
                <a:endCxn id="1817" idx="0"/>
              </p:cNvCxnSpPr>
              <p:nvPr/>
            </p:nvCxnSpPr>
            <p:spPr>
              <a:xfrm rot="5400000">
                <a:off x="4914360" y="1409400"/>
                <a:ext cx="991080" cy="563940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ff6600"/>
                </a:solidFill>
                <a:miter/>
              </a:ln>
            </p:spPr>
          </p:cxnSp>
          <p:grpSp>
            <p:nvGrpSpPr>
              <p:cNvPr id="1818" name=""/>
              <p:cNvGrpSpPr/>
              <p:nvPr/>
            </p:nvGrpSpPr>
            <p:grpSpPr>
              <a:xfrm>
                <a:off x="8077320" y="3276720"/>
                <a:ext cx="304560" cy="457200"/>
                <a:chOff x="8077320" y="3276720"/>
                <a:chExt cx="304560" cy="457200"/>
              </a:xfrm>
            </p:grpSpPr>
            <p:sp>
              <p:nvSpPr>
                <p:cNvPr id="1819" name=""/>
                <p:cNvSpPr/>
                <p:nvPr/>
              </p:nvSpPr>
              <p:spPr>
                <a:xfrm>
                  <a:off x="8077320" y="327672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8077320" y="350532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8153280" y="35816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8229600" y="35816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438280" y="4724280"/>
                <a:ext cx="304560" cy="457200"/>
                <a:chOff x="2438280" y="4724280"/>
                <a:chExt cx="304560" cy="457200"/>
              </a:xfrm>
            </p:grpSpPr>
            <p:sp>
              <p:nvSpPr>
                <p:cNvPr id="1817" name=""/>
                <p:cNvSpPr/>
                <p:nvPr/>
              </p:nvSpPr>
              <p:spPr>
                <a:xfrm>
                  <a:off x="2438280" y="472428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2438280" y="495288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514240" y="502920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2590560" y="502920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6" name=""/>
              <p:cNvGrpSpPr/>
              <p:nvPr/>
            </p:nvGrpSpPr>
            <p:grpSpPr>
              <a:xfrm>
                <a:off x="2743200" y="4724280"/>
                <a:ext cx="1066320" cy="457200"/>
                <a:chOff x="2743200" y="4724280"/>
                <a:chExt cx="1066320" cy="457200"/>
              </a:xfrm>
            </p:grpSpPr>
            <p:grpSp>
              <p:nvGrpSpPr>
                <p:cNvPr id="1827" name=""/>
                <p:cNvGrpSpPr/>
                <p:nvPr/>
              </p:nvGrpSpPr>
              <p:grpSpPr>
                <a:xfrm>
                  <a:off x="2743200" y="4724280"/>
                  <a:ext cx="533160" cy="457200"/>
                  <a:chOff x="2743200" y="4724280"/>
                  <a:chExt cx="533160" cy="457200"/>
                </a:xfrm>
              </p:grpSpPr>
              <p:grpSp>
                <p:nvGrpSpPr>
                  <p:cNvPr id="1828" name=""/>
                  <p:cNvGrpSpPr/>
                  <p:nvPr/>
                </p:nvGrpSpPr>
                <p:grpSpPr>
                  <a:xfrm>
                    <a:off x="2743200" y="4724280"/>
                    <a:ext cx="533160" cy="457200"/>
                    <a:chOff x="2743200" y="4724280"/>
                    <a:chExt cx="533160" cy="457200"/>
                  </a:xfrm>
                </p:grpSpPr>
                <p:sp>
                  <p:nvSpPr>
                    <p:cNvPr id="1829" name=""/>
                    <p:cNvSpPr/>
                    <p:nvPr/>
                  </p:nvSpPr>
                  <p:spPr>
                    <a:xfrm>
                      <a:off x="2743200" y="47242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0" name=""/>
                    <p:cNvSpPr/>
                    <p:nvPr/>
                  </p:nvSpPr>
                  <p:spPr>
                    <a:xfrm>
                      <a:off x="2743200" y="49528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31" name=""/>
                  <p:cNvSpPr/>
                  <p:nvPr/>
                </p:nvSpPr>
                <p:spPr>
                  <a:xfrm>
                    <a:off x="2796840" y="476244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32" name=""/>
                  <p:cNvGrpSpPr/>
                  <p:nvPr/>
                </p:nvGrpSpPr>
                <p:grpSpPr>
                  <a:xfrm>
                    <a:off x="2863440" y="4800600"/>
                    <a:ext cx="304560" cy="75960"/>
                    <a:chOff x="2863440" y="4800600"/>
                    <a:chExt cx="304560" cy="75960"/>
                  </a:xfrm>
                </p:grpSpPr>
                <p:sp>
                  <p:nvSpPr>
                    <p:cNvPr id="1833" name=""/>
                    <p:cNvSpPr/>
                    <p:nvPr/>
                  </p:nvSpPr>
                  <p:spPr>
                    <a:xfrm>
                      <a:off x="286344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4" name=""/>
                    <p:cNvSpPr/>
                    <p:nvPr/>
                  </p:nvSpPr>
                  <p:spPr>
                    <a:xfrm>
                      <a:off x="29394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5" name=""/>
                    <p:cNvSpPr/>
                    <p:nvPr/>
                  </p:nvSpPr>
                  <p:spPr>
                    <a:xfrm>
                      <a:off x="30157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6" name=""/>
                    <p:cNvSpPr/>
                    <p:nvPr/>
                  </p:nvSpPr>
                  <p:spPr>
                    <a:xfrm>
                      <a:off x="30916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7" name=""/>
                    <p:cNvSpPr/>
                    <p:nvPr/>
                  </p:nvSpPr>
                  <p:spPr>
                    <a:xfrm>
                      <a:off x="31680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38" name=""/>
                  <p:cNvSpPr/>
                  <p:nvPr/>
                </p:nvSpPr>
                <p:spPr>
                  <a:xfrm>
                    <a:off x="2822040" y="5000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2822040" y="5067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>
                    <a:off x="2822040" y="5130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1" name=""/>
                <p:cNvGrpSpPr/>
                <p:nvPr/>
              </p:nvGrpSpPr>
              <p:grpSpPr>
                <a:xfrm>
                  <a:off x="3276360" y="4724280"/>
                  <a:ext cx="533160" cy="457200"/>
                  <a:chOff x="3276360" y="4724280"/>
                  <a:chExt cx="533160" cy="457200"/>
                </a:xfrm>
              </p:grpSpPr>
              <p:grpSp>
                <p:nvGrpSpPr>
                  <p:cNvPr id="1842" name=""/>
                  <p:cNvGrpSpPr/>
                  <p:nvPr/>
                </p:nvGrpSpPr>
                <p:grpSpPr>
                  <a:xfrm>
                    <a:off x="3276360" y="4724280"/>
                    <a:ext cx="533160" cy="457200"/>
                    <a:chOff x="3276360" y="4724280"/>
                    <a:chExt cx="533160" cy="457200"/>
                  </a:xfrm>
                </p:grpSpPr>
                <p:sp>
                  <p:nvSpPr>
                    <p:cNvPr id="1843" name=""/>
                    <p:cNvSpPr/>
                    <p:nvPr/>
                  </p:nvSpPr>
                  <p:spPr>
                    <a:xfrm>
                      <a:off x="3276360" y="47242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4" name=""/>
                    <p:cNvSpPr/>
                    <p:nvPr/>
                  </p:nvSpPr>
                  <p:spPr>
                    <a:xfrm>
                      <a:off x="3276360" y="49528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45" name=""/>
                  <p:cNvSpPr/>
                  <p:nvPr/>
                </p:nvSpPr>
                <p:spPr>
                  <a:xfrm>
                    <a:off x="3330000" y="476244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46" name=""/>
                  <p:cNvGrpSpPr/>
                  <p:nvPr/>
                </p:nvGrpSpPr>
                <p:grpSpPr>
                  <a:xfrm>
                    <a:off x="3396600" y="4800600"/>
                    <a:ext cx="304560" cy="75960"/>
                    <a:chOff x="3396600" y="4800600"/>
                    <a:chExt cx="304560" cy="75960"/>
                  </a:xfrm>
                </p:grpSpPr>
                <p:sp>
                  <p:nvSpPr>
                    <p:cNvPr id="1847" name=""/>
                    <p:cNvSpPr/>
                    <p:nvPr/>
                  </p:nvSpPr>
                  <p:spPr>
                    <a:xfrm>
                      <a:off x="33966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8" name=""/>
                    <p:cNvSpPr/>
                    <p:nvPr/>
                  </p:nvSpPr>
                  <p:spPr>
                    <a:xfrm>
                      <a:off x="347256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>
                      <a:off x="35488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0" name=""/>
                    <p:cNvSpPr/>
                    <p:nvPr/>
                  </p:nvSpPr>
                  <p:spPr>
                    <a:xfrm>
                      <a:off x="362484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1" name=""/>
                    <p:cNvSpPr/>
                    <p:nvPr/>
                  </p:nvSpPr>
                  <p:spPr>
                    <a:xfrm>
                      <a:off x="370116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2" name=""/>
                  <p:cNvSpPr/>
                  <p:nvPr/>
                </p:nvSpPr>
                <p:spPr>
                  <a:xfrm>
                    <a:off x="3355200" y="5000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3355200" y="5067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>
                    <a:off x="3355200" y="5130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5" name=""/>
                <p:cNvGrpSpPr/>
                <p:nvPr/>
              </p:nvGrpSpPr>
              <p:grpSpPr>
                <a:xfrm>
                  <a:off x="2743200" y="4724280"/>
                  <a:ext cx="533160" cy="457200"/>
                  <a:chOff x="2743200" y="4724280"/>
                  <a:chExt cx="533160" cy="457200"/>
                </a:xfrm>
              </p:grpSpPr>
              <p:grpSp>
                <p:nvGrpSpPr>
                  <p:cNvPr id="1856" name=""/>
                  <p:cNvGrpSpPr/>
                  <p:nvPr/>
                </p:nvGrpSpPr>
                <p:grpSpPr>
                  <a:xfrm>
                    <a:off x="2743200" y="4724280"/>
                    <a:ext cx="533160" cy="457200"/>
                    <a:chOff x="2743200" y="4724280"/>
                    <a:chExt cx="533160" cy="457200"/>
                  </a:xfrm>
                </p:grpSpPr>
                <p:sp>
                  <p:nvSpPr>
                    <p:cNvPr id="1857" name=""/>
                    <p:cNvSpPr/>
                    <p:nvPr/>
                  </p:nvSpPr>
                  <p:spPr>
                    <a:xfrm>
                      <a:off x="2743200" y="47242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>
                      <a:off x="2743200" y="49528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9" name=""/>
                  <p:cNvSpPr/>
                  <p:nvPr/>
                </p:nvSpPr>
                <p:spPr>
                  <a:xfrm>
                    <a:off x="2796840" y="476244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60" name=""/>
                  <p:cNvGrpSpPr/>
                  <p:nvPr/>
                </p:nvGrpSpPr>
                <p:grpSpPr>
                  <a:xfrm>
                    <a:off x="2863440" y="4800600"/>
                    <a:ext cx="304560" cy="75960"/>
                    <a:chOff x="2863440" y="4800600"/>
                    <a:chExt cx="304560" cy="75960"/>
                  </a:xfrm>
                </p:grpSpPr>
                <p:sp>
                  <p:nvSpPr>
                    <p:cNvPr id="1861" name=""/>
                    <p:cNvSpPr/>
                    <p:nvPr/>
                  </p:nvSpPr>
                  <p:spPr>
                    <a:xfrm>
                      <a:off x="286344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2" name=""/>
                    <p:cNvSpPr/>
                    <p:nvPr/>
                  </p:nvSpPr>
                  <p:spPr>
                    <a:xfrm>
                      <a:off x="29394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3" name=""/>
                    <p:cNvSpPr/>
                    <p:nvPr/>
                  </p:nvSpPr>
                  <p:spPr>
                    <a:xfrm>
                      <a:off x="30157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4" name=""/>
                    <p:cNvSpPr/>
                    <p:nvPr/>
                  </p:nvSpPr>
                  <p:spPr>
                    <a:xfrm>
                      <a:off x="30916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5" name=""/>
                    <p:cNvSpPr/>
                    <p:nvPr/>
                  </p:nvSpPr>
                  <p:spPr>
                    <a:xfrm>
                      <a:off x="31680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66" name=""/>
                  <p:cNvSpPr/>
                  <p:nvPr/>
                </p:nvSpPr>
                <p:spPr>
                  <a:xfrm>
                    <a:off x="2822040" y="5000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2822040" y="5067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2822040" y="5130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69" name=""/>
              <p:cNvGrpSpPr/>
              <p:nvPr/>
            </p:nvGrpSpPr>
            <p:grpSpPr>
              <a:xfrm>
                <a:off x="3809880" y="4724280"/>
                <a:ext cx="1067040" cy="457200"/>
                <a:chOff x="3809880" y="4724280"/>
                <a:chExt cx="1067040" cy="457200"/>
              </a:xfrm>
            </p:grpSpPr>
            <p:grpSp>
              <p:nvGrpSpPr>
                <p:cNvPr id="1870" name=""/>
                <p:cNvGrpSpPr/>
                <p:nvPr/>
              </p:nvGrpSpPr>
              <p:grpSpPr>
                <a:xfrm>
                  <a:off x="3809880" y="4724280"/>
                  <a:ext cx="533520" cy="457200"/>
                  <a:chOff x="3809880" y="4724280"/>
                  <a:chExt cx="533520" cy="457200"/>
                </a:xfrm>
              </p:grpSpPr>
              <p:grpSp>
                <p:nvGrpSpPr>
                  <p:cNvPr id="1871" name=""/>
                  <p:cNvGrpSpPr/>
                  <p:nvPr/>
                </p:nvGrpSpPr>
                <p:grpSpPr>
                  <a:xfrm>
                    <a:off x="3809880" y="4724280"/>
                    <a:ext cx="533520" cy="457200"/>
                    <a:chOff x="3809880" y="4724280"/>
                    <a:chExt cx="533520" cy="457200"/>
                  </a:xfrm>
                </p:grpSpPr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3809880" y="472428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>
                      <a:off x="3809880" y="495288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74" name=""/>
                  <p:cNvSpPr/>
                  <p:nvPr/>
                </p:nvSpPr>
                <p:spPr>
                  <a:xfrm>
                    <a:off x="3863880" y="476244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75" name=""/>
                  <p:cNvGrpSpPr/>
                  <p:nvPr/>
                </p:nvGrpSpPr>
                <p:grpSpPr>
                  <a:xfrm>
                    <a:off x="3930480" y="4800600"/>
                    <a:ext cx="304920" cy="75960"/>
                    <a:chOff x="3930480" y="4800600"/>
                    <a:chExt cx="304920" cy="75960"/>
                  </a:xfrm>
                </p:grpSpPr>
                <p:sp>
                  <p:nvSpPr>
                    <p:cNvPr id="1876" name=""/>
                    <p:cNvSpPr/>
                    <p:nvPr/>
                  </p:nvSpPr>
                  <p:spPr>
                    <a:xfrm>
                      <a:off x="39304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7" name=""/>
                    <p:cNvSpPr/>
                    <p:nvPr/>
                  </p:nvSpPr>
                  <p:spPr>
                    <a:xfrm>
                      <a:off x="40068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8" name=""/>
                    <p:cNvSpPr/>
                    <p:nvPr/>
                  </p:nvSpPr>
                  <p:spPr>
                    <a:xfrm>
                      <a:off x="40831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9" name=""/>
                    <p:cNvSpPr/>
                    <p:nvPr/>
                  </p:nvSpPr>
                  <p:spPr>
                    <a:xfrm>
                      <a:off x="41590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0" name=""/>
                    <p:cNvSpPr/>
                    <p:nvPr/>
                  </p:nvSpPr>
                  <p:spPr>
                    <a:xfrm>
                      <a:off x="42354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81" name=""/>
                  <p:cNvSpPr/>
                  <p:nvPr/>
                </p:nvSpPr>
                <p:spPr>
                  <a:xfrm>
                    <a:off x="3889080" y="50004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3889080" y="50673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>
                    <a:off x="3889080" y="513072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4" name=""/>
                <p:cNvGrpSpPr/>
                <p:nvPr/>
              </p:nvGrpSpPr>
              <p:grpSpPr>
                <a:xfrm>
                  <a:off x="4343400" y="4724280"/>
                  <a:ext cx="533520" cy="457200"/>
                  <a:chOff x="4343400" y="4724280"/>
                  <a:chExt cx="533520" cy="457200"/>
                </a:xfrm>
              </p:grpSpPr>
              <p:grpSp>
                <p:nvGrpSpPr>
                  <p:cNvPr id="1885" name=""/>
                  <p:cNvGrpSpPr/>
                  <p:nvPr/>
                </p:nvGrpSpPr>
                <p:grpSpPr>
                  <a:xfrm>
                    <a:off x="4343400" y="4724280"/>
                    <a:ext cx="533520" cy="457200"/>
                    <a:chOff x="4343400" y="4724280"/>
                    <a:chExt cx="533520" cy="457200"/>
                  </a:xfrm>
                </p:grpSpPr>
                <p:sp>
                  <p:nvSpPr>
                    <p:cNvPr id="1886" name=""/>
                    <p:cNvSpPr/>
                    <p:nvPr/>
                  </p:nvSpPr>
                  <p:spPr>
                    <a:xfrm>
                      <a:off x="4343400" y="472428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4343400" y="495288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88" name=""/>
                  <p:cNvSpPr/>
                  <p:nvPr/>
                </p:nvSpPr>
                <p:spPr>
                  <a:xfrm>
                    <a:off x="4397400" y="476244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89" name=""/>
                  <p:cNvGrpSpPr/>
                  <p:nvPr/>
                </p:nvGrpSpPr>
                <p:grpSpPr>
                  <a:xfrm>
                    <a:off x="4464000" y="4800600"/>
                    <a:ext cx="304920" cy="75960"/>
                    <a:chOff x="4464000" y="4800600"/>
                    <a:chExt cx="304920" cy="75960"/>
                  </a:xfrm>
                </p:grpSpPr>
                <p:sp>
                  <p:nvSpPr>
                    <p:cNvPr id="1890" name=""/>
                    <p:cNvSpPr/>
                    <p:nvPr/>
                  </p:nvSpPr>
                  <p:spPr>
                    <a:xfrm>
                      <a:off x="44640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1" name=""/>
                    <p:cNvSpPr/>
                    <p:nvPr/>
                  </p:nvSpPr>
                  <p:spPr>
                    <a:xfrm>
                      <a:off x="45403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461664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3" name=""/>
                    <p:cNvSpPr/>
                    <p:nvPr/>
                  </p:nvSpPr>
                  <p:spPr>
                    <a:xfrm>
                      <a:off x="46926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47689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95" name=""/>
                  <p:cNvSpPr/>
                  <p:nvPr/>
                </p:nvSpPr>
                <p:spPr>
                  <a:xfrm>
                    <a:off x="4422600" y="50004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6" name=""/>
                  <p:cNvSpPr/>
                  <p:nvPr/>
                </p:nvSpPr>
                <p:spPr>
                  <a:xfrm>
                    <a:off x="4422600" y="50673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>
                    <a:off x="4422600" y="513072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8" name=""/>
                <p:cNvGrpSpPr/>
                <p:nvPr/>
              </p:nvGrpSpPr>
              <p:grpSpPr>
                <a:xfrm>
                  <a:off x="3809880" y="4724280"/>
                  <a:ext cx="533520" cy="457200"/>
                  <a:chOff x="3809880" y="4724280"/>
                  <a:chExt cx="533520" cy="457200"/>
                </a:xfrm>
              </p:grpSpPr>
              <p:grpSp>
                <p:nvGrpSpPr>
                  <p:cNvPr id="1899" name=""/>
                  <p:cNvGrpSpPr/>
                  <p:nvPr/>
                </p:nvGrpSpPr>
                <p:grpSpPr>
                  <a:xfrm>
                    <a:off x="3809880" y="4724280"/>
                    <a:ext cx="533520" cy="457200"/>
                    <a:chOff x="3809880" y="4724280"/>
                    <a:chExt cx="533520" cy="457200"/>
                  </a:xfrm>
                </p:grpSpPr>
                <p:sp>
                  <p:nvSpPr>
                    <p:cNvPr id="1900" name=""/>
                    <p:cNvSpPr/>
                    <p:nvPr/>
                  </p:nvSpPr>
                  <p:spPr>
                    <a:xfrm>
                      <a:off x="3809880" y="472428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1" name=""/>
                    <p:cNvSpPr/>
                    <p:nvPr/>
                  </p:nvSpPr>
                  <p:spPr>
                    <a:xfrm>
                      <a:off x="3809880" y="495288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02" name=""/>
                  <p:cNvSpPr/>
                  <p:nvPr/>
                </p:nvSpPr>
                <p:spPr>
                  <a:xfrm>
                    <a:off x="3863880" y="476244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3" name=""/>
                  <p:cNvGrpSpPr/>
                  <p:nvPr/>
                </p:nvGrpSpPr>
                <p:grpSpPr>
                  <a:xfrm>
                    <a:off x="3930480" y="4800600"/>
                    <a:ext cx="304920" cy="75960"/>
                    <a:chOff x="3930480" y="4800600"/>
                    <a:chExt cx="304920" cy="75960"/>
                  </a:xfrm>
                </p:grpSpPr>
                <p:sp>
                  <p:nvSpPr>
                    <p:cNvPr id="1904" name=""/>
                    <p:cNvSpPr/>
                    <p:nvPr/>
                  </p:nvSpPr>
                  <p:spPr>
                    <a:xfrm>
                      <a:off x="39304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5" name=""/>
                    <p:cNvSpPr/>
                    <p:nvPr/>
                  </p:nvSpPr>
                  <p:spPr>
                    <a:xfrm>
                      <a:off x="40068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6" name=""/>
                    <p:cNvSpPr/>
                    <p:nvPr/>
                  </p:nvSpPr>
                  <p:spPr>
                    <a:xfrm>
                      <a:off x="40831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7" name=""/>
                    <p:cNvSpPr/>
                    <p:nvPr/>
                  </p:nvSpPr>
                  <p:spPr>
                    <a:xfrm>
                      <a:off x="41590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8" name=""/>
                    <p:cNvSpPr/>
                    <p:nvPr/>
                  </p:nvSpPr>
                  <p:spPr>
                    <a:xfrm>
                      <a:off x="42354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09" name=""/>
                  <p:cNvSpPr/>
                  <p:nvPr/>
                </p:nvSpPr>
                <p:spPr>
                  <a:xfrm>
                    <a:off x="3889080" y="50004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3889080" y="50673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3889080" y="513072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2" name=""/>
              <p:cNvGrpSpPr/>
              <p:nvPr/>
            </p:nvGrpSpPr>
            <p:grpSpPr>
              <a:xfrm>
                <a:off x="4876920" y="4724280"/>
                <a:ext cx="1066320" cy="457200"/>
                <a:chOff x="4876920" y="4724280"/>
                <a:chExt cx="1066320" cy="457200"/>
              </a:xfrm>
            </p:grpSpPr>
            <p:grpSp>
              <p:nvGrpSpPr>
                <p:cNvPr id="1913" name=""/>
                <p:cNvGrpSpPr/>
                <p:nvPr/>
              </p:nvGrpSpPr>
              <p:grpSpPr>
                <a:xfrm>
                  <a:off x="4876920" y="4724280"/>
                  <a:ext cx="533160" cy="457200"/>
                  <a:chOff x="4876920" y="4724280"/>
                  <a:chExt cx="533160" cy="457200"/>
                </a:xfrm>
              </p:grpSpPr>
              <p:grpSp>
                <p:nvGrpSpPr>
                  <p:cNvPr id="1914" name=""/>
                  <p:cNvGrpSpPr/>
                  <p:nvPr/>
                </p:nvGrpSpPr>
                <p:grpSpPr>
                  <a:xfrm>
                    <a:off x="4876920" y="4724280"/>
                    <a:ext cx="533160" cy="457200"/>
                    <a:chOff x="4876920" y="4724280"/>
                    <a:chExt cx="533160" cy="457200"/>
                  </a:xfrm>
                </p:grpSpPr>
                <p:sp>
                  <p:nvSpPr>
                    <p:cNvPr id="1915" name=""/>
                    <p:cNvSpPr/>
                    <p:nvPr/>
                  </p:nvSpPr>
                  <p:spPr>
                    <a:xfrm>
                      <a:off x="4876920" y="47242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6" name=""/>
                    <p:cNvSpPr/>
                    <p:nvPr/>
                  </p:nvSpPr>
                  <p:spPr>
                    <a:xfrm>
                      <a:off x="4876920" y="49528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7" name=""/>
                  <p:cNvSpPr/>
                  <p:nvPr/>
                </p:nvSpPr>
                <p:spPr>
                  <a:xfrm>
                    <a:off x="4930560" y="476244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18" name=""/>
                  <p:cNvGrpSpPr/>
                  <p:nvPr/>
                </p:nvGrpSpPr>
                <p:grpSpPr>
                  <a:xfrm>
                    <a:off x="4997160" y="4800600"/>
                    <a:ext cx="304560" cy="75960"/>
                    <a:chOff x="4997160" y="4800600"/>
                    <a:chExt cx="304560" cy="75960"/>
                  </a:xfrm>
                </p:grpSpPr>
                <p:sp>
                  <p:nvSpPr>
                    <p:cNvPr id="1919" name=""/>
                    <p:cNvSpPr/>
                    <p:nvPr/>
                  </p:nvSpPr>
                  <p:spPr>
                    <a:xfrm>
                      <a:off x="499716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0" name=""/>
                    <p:cNvSpPr/>
                    <p:nvPr/>
                  </p:nvSpPr>
                  <p:spPr>
                    <a:xfrm>
                      <a:off x="50731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1" name=""/>
                    <p:cNvSpPr/>
                    <p:nvPr/>
                  </p:nvSpPr>
                  <p:spPr>
                    <a:xfrm>
                      <a:off x="514944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2" name=""/>
                    <p:cNvSpPr/>
                    <p:nvPr/>
                  </p:nvSpPr>
                  <p:spPr>
                    <a:xfrm>
                      <a:off x="52254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3" name=""/>
                    <p:cNvSpPr/>
                    <p:nvPr/>
                  </p:nvSpPr>
                  <p:spPr>
                    <a:xfrm>
                      <a:off x="53017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4" name=""/>
                  <p:cNvSpPr/>
                  <p:nvPr/>
                </p:nvSpPr>
                <p:spPr>
                  <a:xfrm>
                    <a:off x="4955760" y="5000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4955760" y="5067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4955760" y="5130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7" name=""/>
                <p:cNvGrpSpPr/>
                <p:nvPr/>
              </p:nvGrpSpPr>
              <p:grpSpPr>
                <a:xfrm>
                  <a:off x="5410080" y="4724280"/>
                  <a:ext cx="533160" cy="457200"/>
                  <a:chOff x="5410080" y="4724280"/>
                  <a:chExt cx="533160" cy="457200"/>
                </a:xfrm>
              </p:grpSpPr>
              <p:grpSp>
                <p:nvGrpSpPr>
                  <p:cNvPr id="1928" name=""/>
                  <p:cNvGrpSpPr/>
                  <p:nvPr/>
                </p:nvGrpSpPr>
                <p:grpSpPr>
                  <a:xfrm>
                    <a:off x="5410080" y="4724280"/>
                    <a:ext cx="533160" cy="457200"/>
                    <a:chOff x="5410080" y="4724280"/>
                    <a:chExt cx="533160" cy="457200"/>
                  </a:xfrm>
                </p:grpSpPr>
                <p:sp>
                  <p:nvSpPr>
                    <p:cNvPr id="1929" name=""/>
                    <p:cNvSpPr/>
                    <p:nvPr/>
                  </p:nvSpPr>
                  <p:spPr>
                    <a:xfrm>
                      <a:off x="5410080" y="47242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0" name=""/>
                    <p:cNvSpPr/>
                    <p:nvPr/>
                  </p:nvSpPr>
                  <p:spPr>
                    <a:xfrm>
                      <a:off x="5410080" y="49528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31" name=""/>
                  <p:cNvSpPr/>
                  <p:nvPr/>
                </p:nvSpPr>
                <p:spPr>
                  <a:xfrm>
                    <a:off x="5463720" y="476244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32" name=""/>
                  <p:cNvGrpSpPr/>
                  <p:nvPr/>
                </p:nvGrpSpPr>
                <p:grpSpPr>
                  <a:xfrm>
                    <a:off x="5530320" y="4800600"/>
                    <a:ext cx="304560" cy="75960"/>
                    <a:chOff x="5530320" y="4800600"/>
                    <a:chExt cx="304560" cy="75960"/>
                  </a:xfrm>
                </p:grpSpPr>
                <p:sp>
                  <p:nvSpPr>
                    <p:cNvPr id="1933" name=""/>
                    <p:cNvSpPr/>
                    <p:nvPr/>
                  </p:nvSpPr>
                  <p:spPr>
                    <a:xfrm>
                      <a:off x="55303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4" name=""/>
                    <p:cNvSpPr/>
                    <p:nvPr/>
                  </p:nvSpPr>
                  <p:spPr>
                    <a:xfrm>
                      <a:off x="56062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5" name=""/>
                    <p:cNvSpPr/>
                    <p:nvPr/>
                  </p:nvSpPr>
                  <p:spPr>
                    <a:xfrm>
                      <a:off x="56826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6" name=""/>
                    <p:cNvSpPr/>
                    <p:nvPr/>
                  </p:nvSpPr>
                  <p:spPr>
                    <a:xfrm>
                      <a:off x="575856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7" name=""/>
                    <p:cNvSpPr/>
                    <p:nvPr/>
                  </p:nvSpPr>
                  <p:spPr>
                    <a:xfrm>
                      <a:off x="58348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38" name=""/>
                  <p:cNvSpPr/>
                  <p:nvPr/>
                </p:nvSpPr>
                <p:spPr>
                  <a:xfrm>
                    <a:off x="5488920" y="5000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5488920" y="5067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>
                    <a:off x="5488920" y="5130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1" name=""/>
                <p:cNvGrpSpPr/>
                <p:nvPr/>
              </p:nvGrpSpPr>
              <p:grpSpPr>
                <a:xfrm>
                  <a:off x="4876920" y="4724280"/>
                  <a:ext cx="533160" cy="457200"/>
                  <a:chOff x="4876920" y="4724280"/>
                  <a:chExt cx="533160" cy="457200"/>
                </a:xfrm>
              </p:grpSpPr>
              <p:grpSp>
                <p:nvGrpSpPr>
                  <p:cNvPr id="1942" name=""/>
                  <p:cNvGrpSpPr/>
                  <p:nvPr/>
                </p:nvGrpSpPr>
                <p:grpSpPr>
                  <a:xfrm>
                    <a:off x="4876920" y="4724280"/>
                    <a:ext cx="533160" cy="457200"/>
                    <a:chOff x="4876920" y="4724280"/>
                    <a:chExt cx="533160" cy="457200"/>
                  </a:xfrm>
                </p:grpSpPr>
                <p:sp>
                  <p:nvSpPr>
                    <p:cNvPr id="1943" name=""/>
                    <p:cNvSpPr/>
                    <p:nvPr/>
                  </p:nvSpPr>
                  <p:spPr>
                    <a:xfrm>
                      <a:off x="4876920" y="47242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4" name=""/>
                    <p:cNvSpPr/>
                    <p:nvPr/>
                  </p:nvSpPr>
                  <p:spPr>
                    <a:xfrm>
                      <a:off x="4876920" y="49528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45" name=""/>
                  <p:cNvSpPr/>
                  <p:nvPr/>
                </p:nvSpPr>
                <p:spPr>
                  <a:xfrm>
                    <a:off x="4930560" y="476244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46" name=""/>
                  <p:cNvGrpSpPr/>
                  <p:nvPr/>
                </p:nvGrpSpPr>
                <p:grpSpPr>
                  <a:xfrm>
                    <a:off x="4997160" y="4800600"/>
                    <a:ext cx="304560" cy="75960"/>
                    <a:chOff x="4997160" y="4800600"/>
                    <a:chExt cx="304560" cy="75960"/>
                  </a:xfrm>
                </p:grpSpPr>
                <p:sp>
                  <p:nvSpPr>
                    <p:cNvPr id="1947" name=""/>
                    <p:cNvSpPr/>
                    <p:nvPr/>
                  </p:nvSpPr>
                  <p:spPr>
                    <a:xfrm>
                      <a:off x="499716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8" name=""/>
                    <p:cNvSpPr/>
                    <p:nvPr/>
                  </p:nvSpPr>
                  <p:spPr>
                    <a:xfrm>
                      <a:off x="50731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9" name=""/>
                    <p:cNvSpPr/>
                    <p:nvPr/>
                  </p:nvSpPr>
                  <p:spPr>
                    <a:xfrm>
                      <a:off x="514944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0" name=""/>
                    <p:cNvSpPr/>
                    <p:nvPr/>
                  </p:nvSpPr>
                  <p:spPr>
                    <a:xfrm>
                      <a:off x="52254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1" name=""/>
                    <p:cNvSpPr/>
                    <p:nvPr/>
                  </p:nvSpPr>
                  <p:spPr>
                    <a:xfrm>
                      <a:off x="53017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2" name=""/>
                  <p:cNvSpPr/>
                  <p:nvPr/>
                </p:nvSpPr>
                <p:spPr>
                  <a:xfrm>
                    <a:off x="4955760" y="5000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>
                    <a:off x="4955760" y="5067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4955760" y="5130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55" name=""/>
            <p:cNvGrpSpPr/>
            <p:nvPr/>
          </p:nvGrpSpPr>
          <p:grpSpPr>
            <a:xfrm>
              <a:off x="2438280" y="4724280"/>
              <a:ext cx="3809880" cy="1524240"/>
              <a:chOff x="2438280" y="4724280"/>
              <a:chExt cx="3809880" cy="1524240"/>
            </a:xfrm>
          </p:grpSpPr>
          <p:grpSp>
            <p:nvGrpSpPr>
              <p:cNvPr id="1956" name=""/>
              <p:cNvGrpSpPr/>
              <p:nvPr/>
            </p:nvGrpSpPr>
            <p:grpSpPr>
              <a:xfrm>
                <a:off x="2743200" y="5791320"/>
                <a:ext cx="1066320" cy="457200"/>
                <a:chOff x="2743200" y="5791320"/>
                <a:chExt cx="1066320" cy="457200"/>
              </a:xfrm>
            </p:grpSpPr>
            <p:grpSp>
              <p:nvGrpSpPr>
                <p:cNvPr id="1957" name=""/>
                <p:cNvGrpSpPr/>
                <p:nvPr/>
              </p:nvGrpSpPr>
              <p:grpSpPr>
                <a:xfrm>
                  <a:off x="2743200" y="5791320"/>
                  <a:ext cx="533160" cy="457200"/>
                  <a:chOff x="2743200" y="5791320"/>
                  <a:chExt cx="533160" cy="457200"/>
                </a:xfrm>
              </p:grpSpPr>
              <p:grpSp>
                <p:nvGrpSpPr>
                  <p:cNvPr id="1958" name=""/>
                  <p:cNvGrpSpPr/>
                  <p:nvPr/>
                </p:nvGrpSpPr>
                <p:grpSpPr>
                  <a:xfrm>
                    <a:off x="2743200" y="5791320"/>
                    <a:ext cx="533160" cy="457200"/>
                    <a:chOff x="2743200" y="5791320"/>
                    <a:chExt cx="533160" cy="457200"/>
                  </a:xfrm>
                </p:grpSpPr>
                <p:sp>
                  <p:nvSpPr>
                    <p:cNvPr id="1959" name=""/>
                    <p:cNvSpPr/>
                    <p:nvPr/>
                  </p:nvSpPr>
                  <p:spPr>
                    <a:xfrm>
                      <a:off x="2743200" y="5791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0" name=""/>
                    <p:cNvSpPr/>
                    <p:nvPr/>
                  </p:nvSpPr>
                  <p:spPr>
                    <a:xfrm>
                      <a:off x="2743200" y="60199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61" name=""/>
                  <p:cNvSpPr/>
                  <p:nvPr/>
                </p:nvSpPr>
                <p:spPr>
                  <a:xfrm>
                    <a:off x="2796840" y="58294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62" name=""/>
                  <p:cNvGrpSpPr/>
                  <p:nvPr/>
                </p:nvGrpSpPr>
                <p:grpSpPr>
                  <a:xfrm>
                    <a:off x="2863440" y="5867640"/>
                    <a:ext cx="304560" cy="75960"/>
                    <a:chOff x="2863440" y="5867640"/>
                    <a:chExt cx="304560" cy="75960"/>
                  </a:xfrm>
                </p:grpSpPr>
                <p:sp>
                  <p:nvSpPr>
                    <p:cNvPr id="1963" name=""/>
                    <p:cNvSpPr/>
                    <p:nvPr/>
                  </p:nvSpPr>
                  <p:spPr>
                    <a:xfrm>
                      <a:off x="286344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4" name=""/>
                    <p:cNvSpPr/>
                    <p:nvPr/>
                  </p:nvSpPr>
                  <p:spPr>
                    <a:xfrm>
                      <a:off x="29394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5" name=""/>
                    <p:cNvSpPr/>
                    <p:nvPr/>
                  </p:nvSpPr>
                  <p:spPr>
                    <a:xfrm>
                      <a:off x="301572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6" name=""/>
                    <p:cNvSpPr/>
                    <p:nvPr/>
                  </p:nvSpPr>
                  <p:spPr>
                    <a:xfrm>
                      <a:off x="309168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7" name=""/>
                    <p:cNvSpPr/>
                    <p:nvPr/>
                  </p:nvSpPr>
                  <p:spPr>
                    <a:xfrm>
                      <a:off x="31680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68" name=""/>
                  <p:cNvSpPr/>
                  <p:nvPr/>
                </p:nvSpPr>
                <p:spPr>
                  <a:xfrm>
                    <a:off x="2822040" y="6067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2822040" y="6134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2822040" y="61977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1" name=""/>
                <p:cNvGrpSpPr/>
                <p:nvPr/>
              </p:nvGrpSpPr>
              <p:grpSpPr>
                <a:xfrm>
                  <a:off x="3276360" y="5791320"/>
                  <a:ext cx="533160" cy="457200"/>
                  <a:chOff x="3276360" y="5791320"/>
                  <a:chExt cx="533160" cy="457200"/>
                </a:xfrm>
              </p:grpSpPr>
              <p:grpSp>
                <p:nvGrpSpPr>
                  <p:cNvPr id="1972" name=""/>
                  <p:cNvGrpSpPr/>
                  <p:nvPr/>
                </p:nvGrpSpPr>
                <p:grpSpPr>
                  <a:xfrm>
                    <a:off x="3276360" y="5791320"/>
                    <a:ext cx="533160" cy="457200"/>
                    <a:chOff x="3276360" y="5791320"/>
                    <a:chExt cx="533160" cy="457200"/>
                  </a:xfrm>
                </p:grpSpPr>
                <p:sp>
                  <p:nvSpPr>
                    <p:cNvPr id="1973" name=""/>
                    <p:cNvSpPr/>
                    <p:nvPr/>
                  </p:nvSpPr>
                  <p:spPr>
                    <a:xfrm>
                      <a:off x="3276360" y="5791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4" name=""/>
                    <p:cNvSpPr/>
                    <p:nvPr/>
                  </p:nvSpPr>
                  <p:spPr>
                    <a:xfrm>
                      <a:off x="3276360" y="60199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5" name=""/>
                  <p:cNvSpPr/>
                  <p:nvPr/>
                </p:nvSpPr>
                <p:spPr>
                  <a:xfrm>
                    <a:off x="3330000" y="58294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76" name=""/>
                  <p:cNvGrpSpPr/>
                  <p:nvPr/>
                </p:nvGrpSpPr>
                <p:grpSpPr>
                  <a:xfrm>
                    <a:off x="3396600" y="5867640"/>
                    <a:ext cx="304560" cy="75960"/>
                    <a:chOff x="3396600" y="5867640"/>
                    <a:chExt cx="304560" cy="75960"/>
                  </a:xfrm>
                </p:grpSpPr>
                <p:sp>
                  <p:nvSpPr>
                    <p:cNvPr id="1977" name=""/>
                    <p:cNvSpPr/>
                    <p:nvPr/>
                  </p:nvSpPr>
                  <p:spPr>
                    <a:xfrm>
                      <a:off x="33966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8" name=""/>
                    <p:cNvSpPr/>
                    <p:nvPr/>
                  </p:nvSpPr>
                  <p:spPr>
                    <a:xfrm>
                      <a:off x="347256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9" name=""/>
                    <p:cNvSpPr/>
                    <p:nvPr/>
                  </p:nvSpPr>
                  <p:spPr>
                    <a:xfrm>
                      <a:off x="354888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0" name=""/>
                    <p:cNvSpPr/>
                    <p:nvPr/>
                  </p:nvSpPr>
                  <p:spPr>
                    <a:xfrm>
                      <a:off x="362484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1" name=""/>
                    <p:cNvSpPr/>
                    <p:nvPr/>
                  </p:nvSpPr>
                  <p:spPr>
                    <a:xfrm>
                      <a:off x="370116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82" name=""/>
                  <p:cNvSpPr/>
                  <p:nvPr/>
                </p:nvSpPr>
                <p:spPr>
                  <a:xfrm>
                    <a:off x="3355200" y="6067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3355200" y="6134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355200" y="61977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5" name=""/>
                <p:cNvGrpSpPr/>
                <p:nvPr/>
              </p:nvGrpSpPr>
              <p:grpSpPr>
                <a:xfrm>
                  <a:off x="2743200" y="5791320"/>
                  <a:ext cx="533160" cy="457200"/>
                  <a:chOff x="2743200" y="5791320"/>
                  <a:chExt cx="533160" cy="457200"/>
                </a:xfrm>
              </p:grpSpPr>
              <p:grpSp>
                <p:nvGrpSpPr>
                  <p:cNvPr id="1986" name=""/>
                  <p:cNvGrpSpPr/>
                  <p:nvPr/>
                </p:nvGrpSpPr>
                <p:grpSpPr>
                  <a:xfrm>
                    <a:off x="2743200" y="5791320"/>
                    <a:ext cx="533160" cy="457200"/>
                    <a:chOff x="2743200" y="5791320"/>
                    <a:chExt cx="533160" cy="457200"/>
                  </a:xfrm>
                </p:grpSpPr>
                <p:sp>
                  <p:nvSpPr>
                    <p:cNvPr id="1987" name=""/>
                    <p:cNvSpPr/>
                    <p:nvPr/>
                  </p:nvSpPr>
                  <p:spPr>
                    <a:xfrm>
                      <a:off x="2743200" y="5791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8" name=""/>
                    <p:cNvSpPr/>
                    <p:nvPr/>
                  </p:nvSpPr>
                  <p:spPr>
                    <a:xfrm>
                      <a:off x="2743200" y="60199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89" name=""/>
                  <p:cNvSpPr/>
                  <p:nvPr/>
                </p:nvSpPr>
                <p:spPr>
                  <a:xfrm>
                    <a:off x="2796840" y="58294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90" name=""/>
                  <p:cNvGrpSpPr/>
                  <p:nvPr/>
                </p:nvGrpSpPr>
                <p:grpSpPr>
                  <a:xfrm>
                    <a:off x="2863440" y="5867640"/>
                    <a:ext cx="304560" cy="75960"/>
                    <a:chOff x="2863440" y="5867640"/>
                    <a:chExt cx="304560" cy="75960"/>
                  </a:xfrm>
                </p:grpSpPr>
                <p:sp>
                  <p:nvSpPr>
                    <p:cNvPr id="1991" name=""/>
                    <p:cNvSpPr/>
                    <p:nvPr/>
                  </p:nvSpPr>
                  <p:spPr>
                    <a:xfrm>
                      <a:off x="286344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2" name=""/>
                    <p:cNvSpPr/>
                    <p:nvPr/>
                  </p:nvSpPr>
                  <p:spPr>
                    <a:xfrm>
                      <a:off x="29394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3" name=""/>
                    <p:cNvSpPr/>
                    <p:nvPr/>
                  </p:nvSpPr>
                  <p:spPr>
                    <a:xfrm>
                      <a:off x="301572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4" name=""/>
                    <p:cNvSpPr/>
                    <p:nvPr/>
                  </p:nvSpPr>
                  <p:spPr>
                    <a:xfrm>
                      <a:off x="309168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5" name=""/>
                    <p:cNvSpPr/>
                    <p:nvPr/>
                  </p:nvSpPr>
                  <p:spPr>
                    <a:xfrm>
                      <a:off x="31680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96" name=""/>
                  <p:cNvSpPr/>
                  <p:nvPr/>
                </p:nvSpPr>
                <p:spPr>
                  <a:xfrm>
                    <a:off x="2822040" y="6067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2822040" y="6134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2822040" y="61977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9" name=""/>
              <p:cNvGrpSpPr/>
              <p:nvPr/>
            </p:nvGrpSpPr>
            <p:grpSpPr>
              <a:xfrm>
                <a:off x="3809880" y="5791320"/>
                <a:ext cx="1067040" cy="457200"/>
                <a:chOff x="3809880" y="5791320"/>
                <a:chExt cx="1067040" cy="457200"/>
              </a:xfrm>
            </p:grpSpPr>
            <p:grpSp>
              <p:nvGrpSpPr>
                <p:cNvPr id="2000" name=""/>
                <p:cNvGrpSpPr/>
                <p:nvPr/>
              </p:nvGrpSpPr>
              <p:grpSpPr>
                <a:xfrm>
                  <a:off x="3809880" y="5791320"/>
                  <a:ext cx="533520" cy="457200"/>
                  <a:chOff x="3809880" y="5791320"/>
                  <a:chExt cx="533520" cy="457200"/>
                </a:xfrm>
              </p:grpSpPr>
              <p:grpSp>
                <p:nvGrpSpPr>
                  <p:cNvPr id="2001" name=""/>
                  <p:cNvGrpSpPr/>
                  <p:nvPr/>
                </p:nvGrpSpPr>
                <p:grpSpPr>
                  <a:xfrm>
                    <a:off x="3809880" y="5791320"/>
                    <a:ext cx="533520" cy="457200"/>
                    <a:chOff x="3809880" y="5791320"/>
                    <a:chExt cx="533520" cy="457200"/>
                  </a:xfrm>
                </p:grpSpPr>
                <p:sp>
                  <p:nvSpPr>
                    <p:cNvPr id="2002" name=""/>
                    <p:cNvSpPr/>
                    <p:nvPr/>
                  </p:nvSpPr>
                  <p:spPr>
                    <a:xfrm>
                      <a:off x="3809880" y="5791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3" name=""/>
                    <p:cNvSpPr/>
                    <p:nvPr/>
                  </p:nvSpPr>
                  <p:spPr>
                    <a:xfrm>
                      <a:off x="3809880" y="60199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4" name=""/>
                  <p:cNvSpPr/>
                  <p:nvPr/>
                </p:nvSpPr>
                <p:spPr>
                  <a:xfrm>
                    <a:off x="3863880" y="58294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05" name=""/>
                  <p:cNvGrpSpPr/>
                  <p:nvPr/>
                </p:nvGrpSpPr>
                <p:grpSpPr>
                  <a:xfrm>
                    <a:off x="3930480" y="5867640"/>
                    <a:ext cx="304920" cy="75960"/>
                    <a:chOff x="3930480" y="5867640"/>
                    <a:chExt cx="304920" cy="75960"/>
                  </a:xfrm>
                </p:grpSpPr>
                <p:sp>
                  <p:nvSpPr>
                    <p:cNvPr id="2006" name=""/>
                    <p:cNvSpPr/>
                    <p:nvPr/>
                  </p:nvSpPr>
                  <p:spPr>
                    <a:xfrm>
                      <a:off x="393048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7" name=""/>
                    <p:cNvSpPr/>
                    <p:nvPr/>
                  </p:nvSpPr>
                  <p:spPr>
                    <a:xfrm>
                      <a:off x="40068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8" name=""/>
                    <p:cNvSpPr/>
                    <p:nvPr/>
                  </p:nvSpPr>
                  <p:spPr>
                    <a:xfrm>
                      <a:off x="408312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9" name=""/>
                    <p:cNvSpPr/>
                    <p:nvPr/>
                  </p:nvSpPr>
                  <p:spPr>
                    <a:xfrm>
                      <a:off x="415908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0" name=""/>
                    <p:cNvSpPr/>
                    <p:nvPr/>
                  </p:nvSpPr>
                  <p:spPr>
                    <a:xfrm>
                      <a:off x="42354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11" name=""/>
                  <p:cNvSpPr/>
                  <p:nvPr/>
                </p:nvSpPr>
                <p:spPr>
                  <a:xfrm>
                    <a:off x="3889080" y="60674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3889080" y="61344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3889080" y="6197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4" name=""/>
                <p:cNvGrpSpPr/>
                <p:nvPr/>
              </p:nvGrpSpPr>
              <p:grpSpPr>
                <a:xfrm>
                  <a:off x="4343400" y="5791320"/>
                  <a:ext cx="533520" cy="457200"/>
                  <a:chOff x="4343400" y="5791320"/>
                  <a:chExt cx="533520" cy="457200"/>
                </a:xfrm>
              </p:grpSpPr>
              <p:grpSp>
                <p:nvGrpSpPr>
                  <p:cNvPr id="2015" name=""/>
                  <p:cNvGrpSpPr/>
                  <p:nvPr/>
                </p:nvGrpSpPr>
                <p:grpSpPr>
                  <a:xfrm>
                    <a:off x="4343400" y="5791320"/>
                    <a:ext cx="533520" cy="457200"/>
                    <a:chOff x="4343400" y="5791320"/>
                    <a:chExt cx="533520" cy="457200"/>
                  </a:xfrm>
                </p:grpSpPr>
                <p:sp>
                  <p:nvSpPr>
                    <p:cNvPr id="2016" name=""/>
                    <p:cNvSpPr/>
                    <p:nvPr/>
                  </p:nvSpPr>
                  <p:spPr>
                    <a:xfrm>
                      <a:off x="4343400" y="5791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7" name=""/>
                    <p:cNvSpPr/>
                    <p:nvPr/>
                  </p:nvSpPr>
                  <p:spPr>
                    <a:xfrm>
                      <a:off x="4343400" y="60199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18" name=""/>
                  <p:cNvSpPr/>
                  <p:nvPr/>
                </p:nvSpPr>
                <p:spPr>
                  <a:xfrm>
                    <a:off x="4397400" y="58294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19" name=""/>
                  <p:cNvGrpSpPr/>
                  <p:nvPr/>
                </p:nvGrpSpPr>
                <p:grpSpPr>
                  <a:xfrm>
                    <a:off x="4464000" y="5867640"/>
                    <a:ext cx="304920" cy="75960"/>
                    <a:chOff x="4464000" y="5867640"/>
                    <a:chExt cx="304920" cy="75960"/>
                  </a:xfrm>
                </p:grpSpPr>
                <p:sp>
                  <p:nvSpPr>
                    <p:cNvPr id="2020" name=""/>
                    <p:cNvSpPr/>
                    <p:nvPr/>
                  </p:nvSpPr>
                  <p:spPr>
                    <a:xfrm>
                      <a:off x="44640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1" name=""/>
                    <p:cNvSpPr/>
                    <p:nvPr/>
                  </p:nvSpPr>
                  <p:spPr>
                    <a:xfrm>
                      <a:off x="454032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2" name=""/>
                    <p:cNvSpPr/>
                    <p:nvPr/>
                  </p:nvSpPr>
                  <p:spPr>
                    <a:xfrm>
                      <a:off x="461664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3" name=""/>
                    <p:cNvSpPr/>
                    <p:nvPr/>
                  </p:nvSpPr>
                  <p:spPr>
                    <a:xfrm>
                      <a:off x="46926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4" name=""/>
                    <p:cNvSpPr/>
                    <p:nvPr/>
                  </p:nvSpPr>
                  <p:spPr>
                    <a:xfrm>
                      <a:off x="476892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25" name=""/>
                  <p:cNvSpPr/>
                  <p:nvPr/>
                </p:nvSpPr>
                <p:spPr>
                  <a:xfrm>
                    <a:off x="4422600" y="60674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4422600" y="61344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4422600" y="6197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8" name=""/>
                <p:cNvGrpSpPr/>
                <p:nvPr/>
              </p:nvGrpSpPr>
              <p:grpSpPr>
                <a:xfrm>
                  <a:off x="3809880" y="5791320"/>
                  <a:ext cx="533520" cy="457200"/>
                  <a:chOff x="3809880" y="5791320"/>
                  <a:chExt cx="533520" cy="457200"/>
                </a:xfrm>
              </p:grpSpPr>
              <p:grpSp>
                <p:nvGrpSpPr>
                  <p:cNvPr id="2029" name=""/>
                  <p:cNvGrpSpPr/>
                  <p:nvPr/>
                </p:nvGrpSpPr>
                <p:grpSpPr>
                  <a:xfrm>
                    <a:off x="3809880" y="5791320"/>
                    <a:ext cx="533520" cy="457200"/>
                    <a:chOff x="3809880" y="5791320"/>
                    <a:chExt cx="533520" cy="457200"/>
                  </a:xfrm>
                </p:grpSpPr>
                <p:sp>
                  <p:nvSpPr>
                    <p:cNvPr id="2030" name=""/>
                    <p:cNvSpPr/>
                    <p:nvPr/>
                  </p:nvSpPr>
                  <p:spPr>
                    <a:xfrm>
                      <a:off x="3809880" y="5791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1" name=""/>
                    <p:cNvSpPr/>
                    <p:nvPr/>
                  </p:nvSpPr>
                  <p:spPr>
                    <a:xfrm>
                      <a:off x="3809880" y="60199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32" name=""/>
                  <p:cNvSpPr/>
                  <p:nvPr/>
                </p:nvSpPr>
                <p:spPr>
                  <a:xfrm>
                    <a:off x="3863880" y="58294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33" name=""/>
                  <p:cNvGrpSpPr/>
                  <p:nvPr/>
                </p:nvGrpSpPr>
                <p:grpSpPr>
                  <a:xfrm>
                    <a:off x="3930480" y="5867640"/>
                    <a:ext cx="304920" cy="75960"/>
                    <a:chOff x="3930480" y="5867640"/>
                    <a:chExt cx="304920" cy="75960"/>
                  </a:xfrm>
                </p:grpSpPr>
                <p:sp>
                  <p:nvSpPr>
                    <p:cNvPr id="2034" name=""/>
                    <p:cNvSpPr/>
                    <p:nvPr/>
                  </p:nvSpPr>
                  <p:spPr>
                    <a:xfrm>
                      <a:off x="393048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5" name=""/>
                    <p:cNvSpPr/>
                    <p:nvPr/>
                  </p:nvSpPr>
                  <p:spPr>
                    <a:xfrm>
                      <a:off x="40068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6" name=""/>
                    <p:cNvSpPr/>
                    <p:nvPr/>
                  </p:nvSpPr>
                  <p:spPr>
                    <a:xfrm>
                      <a:off x="408312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7" name=""/>
                    <p:cNvSpPr/>
                    <p:nvPr/>
                  </p:nvSpPr>
                  <p:spPr>
                    <a:xfrm>
                      <a:off x="415908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8" name=""/>
                    <p:cNvSpPr/>
                    <p:nvPr/>
                  </p:nvSpPr>
                  <p:spPr>
                    <a:xfrm>
                      <a:off x="42354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39" name=""/>
                  <p:cNvSpPr/>
                  <p:nvPr/>
                </p:nvSpPr>
                <p:spPr>
                  <a:xfrm>
                    <a:off x="3889080" y="60674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3889080" y="61344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3889080" y="6197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2042" name=""/>
              <p:cNvCxnSpPr>
                <a:stCxn id="2043" idx="2"/>
                <a:endCxn id="2044" idx="0"/>
              </p:cNvCxnSpPr>
              <p:nvPr/>
            </p:nvCxnSpPr>
            <p:spPr>
              <a:xfrm rot="5400000">
                <a:off x="4037760" y="3733920"/>
                <a:ext cx="610560" cy="3505680"/>
              </a:xfrm>
              <a:prstGeom prst="bentConnector3">
                <a:avLst>
                  <a:gd name="adj1" fmla="val 49970"/>
                </a:avLst>
              </a:prstGeom>
              <a:ln w="28440">
                <a:solidFill>
                  <a:srgbClr val="ff6600"/>
                </a:solidFill>
                <a:miter/>
              </a:ln>
            </p:spPr>
          </p:cxnSp>
          <p:grpSp>
            <p:nvGrpSpPr>
              <p:cNvPr id="2045" name=""/>
              <p:cNvGrpSpPr/>
              <p:nvPr/>
            </p:nvGrpSpPr>
            <p:grpSpPr>
              <a:xfrm>
                <a:off x="5943600" y="4724280"/>
                <a:ext cx="304560" cy="457200"/>
                <a:chOff x="5943600" y="4724280"/>
                <a:chExt cx="304560" cy="457200"/>
              </a:xfrm>
            </p:grpSpPr>
            <p:sp>
              <p:nvSpPr>
                <p:cNvPr id="2046" name=""/>
                <p:cNvSpPr/>
                <p:nvPr/>
              </p:nvSpPr>
              <p:spPr>
                <a:xfrm>
                  <a:off x="5943600" y="472428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5943600" y="495288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6019560" y="502920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6095880" y="502920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9" name=""/>
              <p:cNvGrpSpPr/>
              <p:nvPr/>
            </p:nvGrpSpPr>
            <p:grpSpPr>
              <a:xfrm>
                <a:off x="2438280" y="5791320"/>
                <a:ext cx="304560" cy="457200"/>
                <a:chOff x="2438280" y="5791320"/>
                <a:chExt cx="304560" cy="457200"/>
              </a:xfrm>
            </p:grpSpPr>
            <p:sp>
              <p:nvSpPr>
                <p:cNvPr id="2044" name=""/>
                <p:cNvSpPr/>
                <p:nvPr/>
              </p:nvSpPr>
              <p:spPr>
                <a:xfrm>
                  <a:off x="2438280" y="579132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2438280" y="601992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2514240" y="60962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2590560" y="60962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53" name=""/>
          <p:cNvGrpSpPr/>
          <p:nvPr/>
        </p:nvGrpSpPr>
        <p:grpSpPr>
          <a:xfrm>
            <a:off x="2866680" y="1523880"/>
            <a:ext cx="1451880" cy="4299840"/>
            <a:chOff x="2866680" y="1523880"/>
            <a:chExt cx="1451880" cy="4299840"/>
          </a:xfrm>
        </p:grpSpPr>
        <p:sp>
          <p:nvSpPr>
            <p:cNvPr id="2054" name=""/>
            <p:cNvSpPr/>
            <p:nvPr/>
          </p:nvSpPr>
          <p:spPr>
            <a:xfrm>
              <a:off x="2943000" y="1523880"/>
              <a:ext cx="137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gmento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943000" y="2940120"/>
              <a:ext cx="137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gmento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866680" y="4387680"/>
              <a:ext cx="137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gmento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866680" y="5486400"/>
              <a:ext cx="137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gmento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2819520" y="1143000"/>
            <a:ext cx="5257800" cy="337320"/>
            <a:chOff x="2819520" y="1143000"/>
            <a:chExt cx="5257800" cy="337320"/>
          </a:xfrm>
        </p:grpSpPr>
        <p:sp>
          <p:nvSpPr>
            <p:cNvPr id="2059" name=""/>
            <p:cNvSpPr/>
            <p:nvPr/>
          </p:nvSpPr>
          <p:spPr>
            <a:xfrm>
              <a:off x="2819520" y="1295280"/>
              <a:ext cx="1523880" cy="0"/>
            </a:xfrm>
            <a:prstGeom prst="line">
              <a:avLst/>
            </a:prstGeom>
            <a:ln w="2232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553080" y="1295280"/>
              <a:ext cx="1524240" cy="0"/>
            </a:xfrm>
            <a:prstGeom prst="line">
              <a:avLst/>
            </a:prstGeom>
            <a:ln w="2232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595760" y="1143000"/>
              <a:ext cx="174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té 10 módul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2" name=""/>
          <p:cNvGrpSpPr/>
          <p:nvPr/>
        </p:nvGrpSpPr>
        <p:grpSpPr>
          <a:xfrm>
            <a:off x="632160" y="2057400"/>
            <a:ext cx="1306800" cy="4267080"/>
            <a:chOff x="632160" y="2057400"/>
            <a:chExt cx="1306800" cy="4267080"/>
          </a:xfrm>
        </p:grpSpPr>
        <p:sp>
          <p:nvSpPr>
            <p:cNvPr id="2063" name=""/>
            <p:cNvSpPr/>
            <p:nvPr/>
          </p:nvSpPr>
          <p:spPr>
            <a:xfrm>
              <a:off x="632160" y="3809880"/>
              <a:ext cx="13068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té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gmen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295280" y="2057400"/>
              <a:ext cx="0" cy="1752480"/>
            </a:xfrm>
            <a:prstGeom prst="line">
              <a:avLst/>
            </a:prstGeom>
            <a:ln w="2232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1295280" y="4495680"/>
              <a:ext cx="0" cy="1828800"/>
            </a:xfrm>
            <a:prstGeom prst="line">
              <a:avLst/>
            </a:prstGeom>
            <a:ln w="2232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6" name=""/>
          <p:cNvSpPr/>
          <p:nvPr/>
        </p:nvSpPr>
        <p:spPr>
          <a:xfrm>
            <a:off x="6627600" y="4599000"/>
            <a:ext cx="1918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áximo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0 mód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6T11:51:05Z</dcterms:created>
  <dc:creator>Luiz Francisco Gerbase</dc:creator>
  <dc:description/>
  <dc:language>en-US</dc:language>
  <cp:lastModifiedBy>Luiz Francisco Gerbase</cp:lastModifiedBy>
  <cp:lastPrinted>1999-12-31T13:48:09Z</cp:lastPrinted>
  <dcterms:modified xsi:type="dcterms:W3CDTF">2000-05-27T21:20:23Z</dcterms:modified>
  <cp:revision>265</cp:revision>
  <dc:subject/>
  <dc:title>Slide sem título </dc:title>
</cp:coreProperties>
</file>